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25.png" ContentType="image/png"/>
  <Override PartName="/ppt/media/image19.jpeg" ContentType="image/jpeg"/>
  <Override PartName="/ppt/media/image20.png" ContentType="image/png"/>
  <Override PartName="/ppt/media/image18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5.jpeg" ContentType="image/jpeg"/>
  <Override PartName="/ppt/media/image13.png" ContentType="image/png"/>
  <Override PartName="/ppt/media/image37.png" ContentType="image/png"/>
  <Override PartName="/ppt/media/image40.png" ContentType="image/png"/>
  <Override PartName="/ppt/media/image31.jpeg" ContentType="image/jpeg"/>
  <Override PartName="/ppt/media/image41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38.png" ContentType="image/png"/>
  <Override PartName="/ppt/media/image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9.jpeg" ContentType="image/jpeg"/>
  <Override PartName="/ppt/media/image11.png" ContentType="image/png"/>
  <Override PartName="/ppt/media/image2.png" ContentType="image/png"/>
  <Override PartName="/ppt/media/image3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8DD7-ADD9-4B1E-BD2E-A1F84762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75F9-D8A9-4024-B74B-0BC52261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D82B03-9956-42EB-8B15-9021CB38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AC7805-C54C-47D0-BF99-0A5ED79A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A523E0-2943-427A-81E4-0EAED735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B2277A-21CC-40EF-911B-DBAC3A20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4D8123-4545-4F04-A1F9-1680145C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E481E1-6328-4A2B-BC10-C0154C8C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68B089-C10F-4CF2-ACEA-8617EF17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26F13B-3121-4415-A3BC-F204A077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E5C1A1-5E3D-4A98-A921-E819FDFB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9BE2-7759-49C9-A20D-182DB39D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A121-5319-4AB2-97D7-9C665847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73B1A-109C-4227-8225-09E3A4EB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1C918-FB97-47FC-92C2-754A3C71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B8DAF-F88E-4AD7-9FE3-9DBDAADA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6D0C9-E480-4776-9F29-49FF6AA9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7BCC9-D0EF-4E77-B8D3-8415F2C3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FCB87-B1A0-427E-AADB-224B0C3D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A72FF-0C76-4BB4-9F59-BFC44D18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40F9-D451-43DC-A9B9-83663027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B3DE6-7714-43ED-BB10-D3C9F5EF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507CC-D27B-4AB0-B94B-7FEE27FC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4256E-DB22-43A7-A787-9848B2AA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AC0B9-B20B-441C-AF67-1752B644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084B1-4726-46CA-9A0A-8C50C535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0DE5F-483C-4976-B2BA-9136AB39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EC147-5919-478D-AEA4-EBCCECE2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0D505-17D4-4052-9779-9935D1F5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FF3BF-D5F9-4DD3-8711-E5AC4D2A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EA7F6-3E22-49E5-B406-A79143DA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DE43-23B6-4559-A745-95C7E125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BADF0-64F7-434F-BE37-FBB35D9C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67D67-9BAA-404B-841D-81737DA5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A6919-AF9E-43CB-9212-BD5E4E9D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94B4E-E9F6-4CDA-87EC-1304218A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9293C-318A-4143-8982-519379C9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3A5C0-2E1E-448A-B9E4-8B4A217A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ACD2B-CD50-4DC8-9FC0-FA00FE04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AB2F3E-BD9C-4778-9AC7-B2736D43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8A179A-44E7-4733-83C6-4526344C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030AF0-05C7-428F-AFEB-7EE783EC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DB6F-DCD9-48E0-BB0C-F05F0DC5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D290BE-C201-48CF-ADFD-B0F916D8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FDFBC3-F16E-4F23-BF59-48F7A6EA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115594-A878-4DBC-ACC3-8E940D52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4F785A-AB7C-466C-AC9F-CD625313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3377A4-0E2B-4791-8D26-0ABF3C9F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BD446B-9BF8-4024-AB25-E6D34574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1D166A-1326-4F97-B2A4-487EF078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C21927-9BCC-4362-B2AD-3ACBE446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6B2381-3A31-4A16-96C5-E966ADA8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93750-E508-4009-B8AB-A7BC4ED0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786F-1AEF-458A-B2BD-C16251E1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EF63C-5F71-4860-B5EB-2BE96416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F54CD-56AD-4F13-BEB9-EFEB6169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C1A07-1A22-49A8-A9CE-79C6B466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27A38-0C7A-47A2-9F8B-32B1FB7B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112F8-9428-4064-8DAC-BC45A627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0CE89-7194-488D-8641-1917A5F9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7E795-C5FC-428E-90D8-3A6F38A4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135B6-2B48-4901-8AE0-E84AA4FD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68904-3E91-4BFF-B92F-EE48FE06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D6A03-D93B-46C1-9114-B196326C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51F4-4B30-4C5F-BE75-818E9CB2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F626A-8DCB-4F48-9CEE-F96D5E86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E785B-5422-4550-B605-F566A2FE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D328A-5C17-4F9E-854D-AD815212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12BBF-BF98-4AD0-90D6-F263032B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1894E-7F21-4227-AFF8-E2433A74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1516B-C7C6-43C1-8A2B-D52061F3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62425-6984-4BBD-AF8E-046401DE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AC214-8D6E-400C-A82B-89E0BD99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8A3BB-19A1-4ACB-AF32-829F5C8C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D146C-629E-4CEB-9826-5E13A668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C585-CECD-4659-95D8-6AC71178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9D671-D3B2-4A2A-A168-14CFC2F6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DD569-BA7D-4915-A14F-5225B136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5B6C7-6FE4-4189-B34F-764ED6C08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5A1A5-EF4B-4F99-8089-E063EBC7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9C7CE-789B-406C-B70C-ACC06973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8F829-AF5E-4CC5-8078-BE0D8138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ECFD7-0FA7-469C-B587-0EC9D1FF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876E3-B249-44F2-9918-A4A49FDA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95DF1-40F9-424D-8343-4324C18E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738AF-5642-4472-9386-8DCE1EF0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1B47-AC6F-4C50-AD61-F3C6879B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D2FDF-D813-4B96-97B2-36762DAD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BB796-F030-4B1A-A70E-CFDB1E6C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84D5E-9BE1-4454-9E49-A903CE4C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9411F-BF6D-4DDE-AAE2-BBCD9D0C5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F2D9A-0837-4CD4-A2CD-E759C8CE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EF4BF5-3F7B-40CD-91D1-42CC13C0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13D251-26AB-4F94-AB7A-B738838C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90391F-F078-401B-9F56-B1DE6EBD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4F2277-AF0A-47CF-B9F9-31EFDC65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3FD5C6-D236-4ED9-8DFF-AC6D2E84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C235-C41A-4C78-AE2B-DA6513B5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5C4863-9FC5-4E48-8206-F4AA508A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423118-5D4F-48A5-8597-08C1B019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59C55C-D628-4B50-9B19-D270FD52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E77037-A8EE-401B-B6CF-ECF15DA5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58F0F3-C504-44F6-BBCC-0A7045E8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180FF0-32BD-48C9-BC4D-34F5EDDA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C596D7-AFC2-40F8-90D3-C90B9127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17446D-BAC0-40A1-BB18-43214990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686FBD-877F-4602-92A7-ECD70CD8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51DE57-38EF-4DF8-A0D5-57B29318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E7EB-C88C-475C-BB53-BA6D46AFA46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C727-5823-473D-BB1D-9C2F156A60B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E58B-874F-4A9E-9692-A3F55CE5349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AA22-34AA-4DB7-9AB3-A550AB231EA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1FE8-C7E4-41A4-8F12-C96FB35CDE9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7EE7-E75F-4707-BA3E-449B0C7D6F6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7B14-B133-467F-BC18-023A75B760D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3561-FF04-45DB-8712-8214C7B6BE0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21F1-75D6-4C54-975C-E46A801F669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2"/>
          <a:stretch/>
        </p:blipFill>
        <p:spPr>
          <a:xfrm>
            <a:off x="457200" y="378000"/>
            <a:ext cx="8680320" cy="22428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ГБОУ детский сад № 2545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Старший воспитатель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Козлова О.В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3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3306960" cy="3006720"/>
          </a:xfrm>
          <a:prstGeom prst="rect">
            <a:avLst/>
          </a:prstGeom>
          <a:ln w="0">
            <a:noFill/>
          </a:ln>
        </p:spPr>
      </p:pic>
      <p:sp>
        <p:nvSpPr>
          <p:cNvPr id="426" name="Прямоугольник 3"/>
          <p:cNvSpPr/>
          <p:nvPr/>
        </p:nvSpPr>
        <p:spPr>
          <a:xfrm>
            <a:off x="395280" y="2205000"/>
            <a:ext cx="264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емёновские матреш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3"/>
          <a:stretch/>
        </p:blipFill>
        <p:spPr>
          <a:xfrm>
            <a:off x="4716360" y="3933720"/>
            <a:ext cx="3254400" cy="2481480"/>
          </a:xfrm>
          <a:prstGeom prst="rect">
            <a:avLst/>
          </a:prstGeom>
          <a:ln w="0">
            <a:noFill/>
          </a:ln>
        </p:spPr>
      </p:pic>
      <p:sp>
        <p:nvSpPr>
          <p:cNvPr id="428" name="Прямоугольник 5"/>
          <p:cNvSpPr/>
          <p:nvPr/>
        </p:nvSpPr>
        <p:spPr>
          <a:xfrm>
            <a:off x="4284720" y="2492280"/>
            <a:ext cx="42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лхов-майданские матреш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Rectangle 2" descr=""/>
          <p:cNvPicPr/>
          <p:nvPr/>
        </p:nvPicPr>
        <p:blipFill>
          <a:blip r:embed="rId4"/>
          <a:stretch/>
        </p:blipFill>
        <p:spPr>
          <a:xfrm>
            <a:off x="-468360" y="189000"/>
            <a:ext cx="8650440" cy="12380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2"/>
          <a:stretch/>
        </p:blipFill>
        <p:spPr>
          <a:xfrm>
            <a:off x="208080" y="249120"/>
            <a:ext cx="2315880" cy="11588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" descr=""/>
          <p:cNvPicPr/>
          <p:nvPr/>
        </p:nvPicPr>
        <p:blipFill>
          <a:blip r:embed="rId3"/>
          <a:stretch/>
        </p:blipFill>
        <p:spPr>
          <a:xfrm>
            <a:off x="357120" y="2143080"/>
            <a:ext cx="1963800" cy="26892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" descr=""/>
          <p:cNvPicPr/>
          <p:nvPr/>
        </p:nvPicPr>
        <p:blipFill>
          <a:blip r:embed="rId4"/>
          <a:stretch/>
        </p:blipFill>
        <p:spPr>
          <a:xfrm>
            <a:off x="2571840" y="2143080"/>
            <a:ext cx="2921040" cy="260820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оугольник 4"/>
          <p:cNvSpPr/>
          <p:nvPr/>
        </p:nvSpPr>
        <p:spPr>
          <a:xfrm>
            <a:off x="2643120" y="428760"/>
            <a:ext cx="307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горская или сергиево-посадская матреш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5"/>
          <a:stretch/>
        </p:blipFill>
        <p:spPr>
          <a:xfrm>
            <a:off x="6286680" y="2214720"/>
            <a:ext cx="2428560" cy="3417840"/>
          </a:xfrm>
          <a:prstGeom prst="rect">
            <a:avLst/>
          </a:prstGeom>
          <a:ln w="0">
            <a:noFill/>
          </a:ln>
        </p:spPr>
      </p:pic>
      <p:sp>
        <p:nvSpPr>
          <p:cNvPr id="435" name="Прямоугольник 7"/>
          <p:cNvSpPr/>
          <p:nvPr/>
        </p:nvSpPr>
        <p:spPr>
          <a:xfrm>
            <a:off x="6675840" y="642960"/>
            <a:ext cx="206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вторск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треш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3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3960720" cy="2971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"/>
          <p:cNvPicPr/>
          <p:nvPr/>
        </p:nvPicPr>
        <p:blipFill>
          <a:blip r:embed="rId3"/>
          <a:stretch/>
        </p:blipFill>
        <p:spPr>
          <a:xfrm>
            <a:off x="5076720" y="3213000"/>
            <a:ext cx="3583080" cy="2105280"/>
          </a:xfrm>
          <a:prstGeom prst="rect">
            <a:avLst/>
          </a:prstGeom>
          <a:ln w="0">
            <a:noFill/>
          </a:ln>
        </p:spPr>
      </p:pic>
      <p:pic>
        <p:nvPicPr>
          <p:cNvPr id="438" name="Rectangle 2" descr=""/>
          <p:cNvPicPr/>
          <p:nvPr/>
        </p:nvPicPr>
        <p:blipFill>
          <a:blip r:embed="rId4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500040" y="928800"/>
            <a:ext cx="3673440" cy="48560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"/>
          <p:cNvPicPr/>
          <p:nvPr/>
        </p:nvPicPr>
        <p:blipFill>
          <a:blip r:embed="rId3"/>
          <a:stretch/>
        </p:blipFill>
        <p:spPr>
          <a:xfrm>
            <a:off x="4500720" y="1643040"/>
            <a:ext cx="4254480" cy="36212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2"/>
          <a:stretch/>
        </p:blipFill>
        <p:spPr>
          <a:xfrm>
            <a:off x="-757080" y="1700280"/>
            <a:ext cx="8532720" cy="1800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56760" y="356760"/>
            <a:ext cx="81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На Руси во что играют в доме или на подворье?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Там, где люди обитают в мире русского раздолья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-как давно, так и недавно на груди земли бескрайней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-детям мастерят забавных куколок с начинкой тайной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Ах, давайте приглядимся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к вере предков, их понятьям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К ним с вниманьем обратимся,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распахнём для них объятья.</a:t>
            </a: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7" name="Picture 6" descr=""/>
          <p:cNvPicPr/>
          <p:nvPr/>
        </p:nvPicPr>
        <p:blipFill>
          <a:blip r:embed="rId2"/>
          <a:stretch/>
        </p:blipFill>
        <p:spPr>
          <a:xfrm>
            <a:off x="4788000" y="3429000"/>
            <a:ext cx="3450960" cy="23526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3144960" cy="20415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игрушка  кукла народная []"/>
          <p:cNvPicPr/>
          <p:nvPr/>
        </p:nvPicPr>
        <p:blipFill>
          <a:blip r:embed="rId3"/>
          <a:stretch/>
        </p:blipFill>
        <p:spPr>
          <a:xfrm>
            <a:off x="468360" y="342900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2"/>
          <p:cNvPicPr/>
          <p:nvPr/>
        </p:nvPicPr>
        <p:blipFill>
          <a:blip r:embed="rId4"/>
          <a:stretch/>
        </p:blipFill>
        <p:spPr>
          <a:xfrm>
            <a:off x="3851280" y="3284640"/>
            <a:ext cx="2022480" cy="2952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401" name="TextBox 7"/>
          <p:cNvSpPr/>
          <p:nvPr/>
        </p:nvSpPr>
        <p:spPr>
          <a:xfrm>
            <a:off x="3276720" y="1484280"/>
            <a:ext cx="30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Cambria"/>
              </a:rPr>
              <a:t>десятируч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Picture 5" descr="DSCN1742"/>
          <p:cNvPicPr/>
          <p:nvPr/>
        </p:nvPicPr>
        <p:blipFill>
          <a:blip r:embed="rId5"/>
          <a:stretch/>
        </p:blipFill>
        <p:spPr>
          <a:xfrm>
            <a:off x="6443640" y="3141720"/>
            <a:ext cx="2316240" cy="3095640"/>
          </a:xfrm>
          <a:prstGeom prst="rect">
            <a:avLst/>
          </a:prstGeom>
          <a:ln w="9360">
            <a:solidFill>
              <a:srgbClr val="b0ccb0"/>
            </a:solidFill>
            <a:miter/>
          </a:ln>
        </p:spPr>
      </p:pic>
      <p:sp>
        <p:nvSpPr>
          <p:cNvPr id="403" name="TextBox 9"/>
          <p:cNvSpPr/>
          <p:nvPr/>
        </p:nvSpPr>
        <p:spPr>
          <a:xfrm>
            <a:off x="6300720" y="1628640"/>
            <a:ext cx="257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пеленаш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Заголовок 1" descr=""/>
          <p:cNvPicPr/>
          <p:nvPr/>
        </p:nvPicPr>
        <p:blipFill>
          <a:blip r:embed="rId6"/>
          <a:stretch/>
        </p:blipFill>
        <p:spPr>
          <a:xfrm>
            <a:off x="-612720" y="0"/>
            <a:ext cx="8540640" cy="11653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2"/>
          <a:stretch/>
        </p:blipFill>
        <p:spPr>
          <a:xfrm>
            <a:off x="523800" y="1413000"/>
            <a:ext cx="8620200" cy="14810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3"/>
          <a:stretch/>
        </p:blipFill>
        <p:spPr>
          <a:xfrm>
            <a:off x="4643280" y="3716280"/>
            <a:ext cx="3929400" cy="27100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"/>
          <p:cNvPicPr/>
          <p:nvPr/>
        </p:nvPicPr>
        <p:blipFill>
          <a:blip r:embed="rId4"/>
          <a:stretch/>
        </p:blipFill>
        <p:spPr>
          <a:xfrm>
            <a:off x="250920" y="3068640"/>
            <a:ext cx="2496960" cy="3436920"/>
          </a:xfrm>
          <a:prstGeom prst="rect">
            <a:avLst/>
          </a:prstGeom>
          <a:ln w="0">
            <a:noFill/>
          </a:ln>
        </p:spPr>
      </p:pic>
      <p:pic>
        <p:nvPicPr>
          <p:cNvPr id="408" name="Заголовок 1" descr=""/>
          <p:cNvPicPr/>
          <p:nvPr/>
        </p:nvPicPr>
        <p:blipFill>
          <a:blip r:embed="rId5"/>
          <a:stretch/>
        </p:blipFill>
        <p:spPr>
          <a:xfrm>
            <a:off x="603360" y="260280"/>
            <a:ext cx="8540640" cy="11653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620200" cy="14810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"/>
          <p:cNvPicPr/>
          <p:nvPr/>
        </p:nvPicPr>
        <p:blipFill>
          <a:blip r:embed="rId3"/>
          <a:stretch/>
        </p:blipFill>
        <p:spPr>
          <a:xfrm>
            <a:off x="900000" y="234936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"/>
          <p:cNvPicPr/>
          <p:nvPr/>
        </p:nvPicPr>
        <p:blipFill>
          <a:blip r:embed="rId4"/>
          <a:stretch/>
        </p:blipFill>
        <p:spPr>
          <a:xfrm>
            <a:off x="5786280" y="178596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"/>
          <p:cNvPicPr/>
          <p:nvPr/>
        </p:nvPicPr>
        <p:blipFill>
          <a:blip r:embed="rId3"/>
          <a:stretch/>
        </p:blipFill>
        <p:spPr>
          <a:xfrm>
            <a:off x="755640" y="2060640"/>
            <a:ext cx="2700360" cy="33336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4"/>
          <a:stretch/>
        </p:blipFill>
        <p:spPr>
          <a:xfrm>
            <a:off x="4788000" y="2276640"/>
            <a:ext cx="3143160" cy="31017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8540640" cy="11653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игрушка погремушка народная []"/>
          <p:cNvPicPr/>
          <p:nvPr/>
        </p:nvPicPr>
        <p:blipFill>
          <a:blip r:embed="rId3"/>
          <a:stretch/>
        </p:blipFill>
        <p:spPr>
          <a:xfrm>
            <a:off x="5435640" y="2997360"/>
            <a:ext cx="2678040" cy="34970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игрушка свистульки народная []"/>
          <p:cNvPicPr/>
          <p:nvPr/>
        </p:nvPicPr>
        <p:blipFill>
          <a:blip r:embed="rId4"/>
          <a:stretch/>
        </p:blipFill>
        <p:spPr>
          <a:xfrm>
            <a:off x="755640" y="3068640"/>
            <a:ext cx="3311640" cy="3371760"/>
          </a:xfrm>
          <a:prstGeom prst="rect">
            <a:avLst/>
          </a:prstGeom>
          <a:ln w="0">
            <a:noFill/>
          </a:ln>
        </p:spPr>
      </p:pic>
      <p:pic>
        <p:nvPicPr>
          <p:cNvPr id="418" name="Заголовок 1" descr=""/>
          <p:cNvPicPr/>
          <p:nvPr/>
        </p:nvPicPr>
        <p:blipFill>
          <a:blip r:embed="rId5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"/>
          <p:cNvPicPr/>
          <p:nvPr/>
        </p:nvPicPr>
        <p:blipFill>
          <a:blip r:embed="rId3"/>
          <a:stretch/>
        </p:blipFill>
        <p:spPr>
          <a:xfrm>
            <a:off x="6300720" y="2781360"/>
            <a:ext cx="2139840" cy="3220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"/>
          <p:cNvPicPr/>
          <p:nvPr/>
        </p:nvPicPr>
        <p:blipFill>
          <a:blip r:embed="rId4"/>
          <a:stretch/>
        </p:blipFill>
        <p:spPr>
          <a:xfrm>
            <a:off x="1143000" y="2786040"/>
            <a:ext cx="3346560" cy="31687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2"/>
          <a:stretch/>
        </p:blipFill>
        <p:spPr>
          <a:xfrm>
            <a:off x="438120" y="249120"/>
            <a:ext cx="8553600" cy="11653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бирюльки игрушка дети []"/>
          <p:cNvPicPr/>
          <p:nvPr/>
        </p:nvPicPr>
        <p:blipFill>
          <a:blip r:embed="rId3"/>
          <a:stretch/>
        </p:blipFill>
        <p:spPr>
          <a:xfrm>
            <a:off x="5148360" y="2928960"/>
            <a:ext cx="3208320" cy="32385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птица счастья игрушка дети []"/>
          <p:cNvPicPr/>
          <p:nvPr/>
        </p:nvPicPr>
        <p:blipFill>
          <a:blip r:embed="rId4"/>
          <a:stretch/>
        </p:blipFill>
        <p:spPr>
          <a:xfrm>
            <a:off x="642960" y="3429000"/>
            <a:ext cx="3351240" cy="25210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3:48:06Z</dcterms:created>
  <dc:creator>методист</dc:creator>
  <dc:description/>
  <dc:language>en-US</dc:language>
  <cp:lastModifiedBy>методист</cp:lastModifiedBy>
  <dcterms:modified xsi:type="dcterms:W3CDTF">2012-06-28T15:15:07Z</dcterms:modified>
  <cp:revision>20</cp:revision>
  <dc:subject/>
  <dc:title>Русская народная игрушка</dc:title>
</cp:coreProperties>
</file>