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3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C81-28CD-45E1-B5C1-65EFB4DC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BAC-4263-40A7-A841-32AC4B32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5DA9F-7C2E-46B8-A539-60736401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1D597C-D8F2-4A2A-BD9C-64666D59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DBEED0-5123-4533-AEE1-6778F64F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D13C3B-7445-45E9-BA08-99DCD5FC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42033-073F-4835-B7DE-4FB89CB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EE6AC-A064-4FF1-9399-7A66E88D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90A9F-2983-43C2-94F1-F99211E4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E06416-1867-4C08-B469-16250359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126DE-223F-4432-A4B2-13832DD6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740-346F-47FC-981B-5DF278BA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1C6-7C52-45E6-8705-DE12AAE1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D00DC-9278-4CAD-91CA-4B182C43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5BD13-58D3-4DAC-8E97-A4EEC784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AE36-014C-45F6-A145-509E4407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1BD93-C659-45F1-8F32-58EE37F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B014E-530F-44AA-A36F-714375ED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3B494-9169-4159-AA04-E9AAD28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D51C9-F767-46CE-981B-502EDAA0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63A-1752-403E-9EF1-9B05771C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19EBA-0B2E-4E1C-BD2D-981ACD2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0B95B-2F6E-4A6F-8859-DF76801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0E6BB-8DC6-456B-B9E2-AB950E6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99BA0-4229-4EB7-BC1E-135924AC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44FB-C709-42BC-8E81-CB71F328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1B36-0808-42B3-9C1C-8A3254B0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4FA1-5563-42C7-B1D2-F023E9E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8888-B999-4B8F-BA89-F5A6284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6837-6C08-439E-A73A-92C43F0A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4AFC-1F04-4136-B997-B09B9116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2BA-6E0E-4642-A6BB-0CDFBE64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7FBF-C8EB-4A5B-AAC4-8BE1C9B0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4023-47DF-4E4A-9C52-353A9C0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CCE8-D962-449F-8653-187D814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BD44-58DC-4F11-8B60-D81D1F0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B17C-5BD7-415D-A287-6D004D8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D240-674A-41F4-B41B-DF8A058E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5CDD-C9A1-4532-8CBD-1DEE4A2E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07E06-A2AC-49FF-AF0B-CB8DE4FA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68AD1-7E6A-49E4-B60A-1E1EBEC2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99527-36FC-4E3F-ACE2-18DF6631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063-8426-40DA-9114-A1B5868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04560-B893-4FDB-93A1-9303165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C7BF9-3D73-4793-9FE4-B5BE1F8F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6C454-7DEA-40DD-BBA4-527434A9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9D151-7F00-4B15-93B4-302C4445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E8904-FE73-4429-B0EC-065274F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72E2E-80BE-4514-BF5A-7B7E9C0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E4E5F-3596-47AB-91A7-824E6F5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2C9A4-5B90-4E1C-9969-45682574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62314-A559-41E3-AA9F-139FE4D1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88AE-33D6-4737-8EFC-4C055F43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78C-8BAF-4949-817A-C3DAD5C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7AC30-A924-4555-866C-593D9F6E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BEF1-E2BF-42A1-AA34-19D4DEA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82542-F511-469D-B871-04754F3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97F3-F8AF-47B1-B0A5-D1E09CC6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A58F-26F0-498F-BF03-63FDE983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75ACC-9744-497C-89B6-211E49D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BEC9-E52F-40F6-BDAC-40B2F53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E451-A349-473D-92E9-87F19ABE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7169-1E34-49D2-A548-C2FECAFC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8A57-DBD5-4610-A152-1A29AAD5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014-6591-40CF-B1FC-3DA4D370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AC15-CE5A-43F6-9AD7-45F4EBA6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31D12-973F-4E93-A913-18C96AAC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BBFDC-36AC-40FA-B8BF-5288E234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B42B-5D4C-4BA2-830F-C2326B2B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E933-8CF3-4E12-8819-CCEA596B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11F7-B224-4727-B24D-6548FCE2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2A20E-402B-4672-8DCA-33BF627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099C-C058-459C-890A-EB53DC3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E58C-C36A-4FEA-8D24-EBAE3E07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278F-870A-4C17-A7A7-43F1128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CAE-50F0-4BEE-B0DD-F33DCF0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F635-5E95-4F8B-AEFF-75369161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AEF23-FE80-4664-8597-499901DC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466BE-129B-4604-9D2D-17870A94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EAD24-573B-4B3E-91DE-77C45968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5982C-CEDC-441D-B9C6-98FF622A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B20E-91AF-4FDC-9877-0C834F76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99076-D361-43BC-9815-C5895A99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DB97A-9EBC-461A-8AC5-FD8A3E0F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ACB6D-D1C8-4952-B0BA-E051E588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708F-BD14-4B3B-9C97-BE36B2B3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A28-4E04-42EB-98DD-890DD6F6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7851-1AF7-4B2F-A991-EB858A2F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7A1F6-9DFD-4E5E-85B0-C038655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1BA4C-6ADF-4F68-B82B-95F7CC5F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14DE-2D94-4D8B-A6E4-058F571C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9D73-F1D7-4AE7-A1CE-2357CF1A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FC8D7-C5AD-4D6F-9AC0-833601D0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06903-8E0E-4344-B4C1-CBAF1AD0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DF7F58-CF70-4250-A310-C3831FB7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9D428-524A-4320-B8DB-15EBDFB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6D1B7-25B1-4C77-8969-6AD96463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138-BA2F-43A0-B899-C923556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AA81A-56BC-488F-8AB7-43328F0A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5BCC67-8422-4F81-9E15-E5A511B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4194E-D4E7-4DA0-A0C7-8F23F9A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B7C82-0875-4F01-AC07-B538296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66B0F3-8FC4-4306-8967-40AC239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EA8DC-ABC9-4B32-8EB9-F388C216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244E9-38C6-45E5-8FF6-192AB3C0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0B19DA-4751-433E-AB22-A97D1B1B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BB1D0-784B-4EB0-AC15-323D67E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E896A6-C8D2-4DA3-B21C-77ACFAB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A30-2D8C-4701-B418-097C13BEC24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13FF-69F2-4E84-ABAF-C03F3C7E3D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FFB1-415D-4DF4-BCA0-CBB0AF863D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7CA1-3444-4706-A3B8-A073069411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285C-8155-44E2-AAE2-F13DFCB2AC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DD26-49F5-456F-B299-4E2F51DAB2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2432-2FC1-4282-BAF3-D0A80BE441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377-DE97-4668-ABEC-723B35557F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D689-6E76-48EA-8E9B-1667243E36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6803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ГБОУ детский сад № 2545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тарший воспитател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озлова О.В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3306960" cy="3006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395280" y="220500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мёнов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3254400" cy="24814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5"/>
          <p:cNvSpPr/>
          <p:nvPr/>
        </p:nvSpPr>
        <p:spPr>
          <a:xfrm>
            <a:off x="4284720" y="249228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лхов-майдан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4"/>
          <a:stretch/>
        </p:blipFill>
        <p:spPr>
          <a:xfrm>
            <a:off x="-468360" y="189000"/>
            <a:ext cx="8650440" cy="12380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2"/>
          <a:stretch/>
        </p:blipFill>
        <p:spPr>
          <a:xfrm>
            <a:off x="208080" y="249120"/>
            <a:ext cx="2315880" cy="1158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3"/>
          <a:stretch/>
        </p:blipFill>
        <p:spPr>
          <a:xfrm>
            <a:off x="357120" y="2143080"/>
            <a:ext cx="1963800" cy="2689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4"/>
          <a:stretch/>
        </p:blipFill>
        <p:spPr>
          <a:xfrm>
            <a:off x="2571840" y="2143080"/>
            <a:ext cx="2921040" cy="26082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2643120" y="42876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горская или сергиево-посадская матр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5"/>
          <a:stretch/>
        </p:blipFill>
        <p:spPr>
          <a:xfrm>
            <a:off x="6286680" y="2214720"/>
            <a:ext cx="2428560" cy="341784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7"/>
          <p:cNvSpPr/>
          <p:nvPr/>
        </p:nvSpPr>
        <p:spPr>
          <a:xfrm>
            <a:off x="6675840" y="642960"/>
            <a:ext cx="20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втор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ре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3583080" cy="210528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2" descr=""/>
          <p:cNvPicPr/>
          <p:nvPr/>
        </p:nvPicPr>
        <p:blipFill>
          <a:blip r:embed="rId4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500040" y="928800"/>
            <a:ext cx="3673440" cy="4856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4500720" y="1643040"/>
            <a:ext cx="4254480" cy="3621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2"/>
          <a:stretch/>
        </p:blipFill>
        <p:spPr>
          <a:xfrm>
            <a:off x="-757080" y="1700280"/>
            <a:ext cx="8532720" cy="180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56760" y="356760"/>
            <a:ext cx="81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На Руси во что играют в доме или на подворье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Там, где люди обитают в мире русского раздолья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-как давно, так и недавно на груди земли бескрайней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-детям мастерят забавных куколок с начинкой тайной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х, давайте приглядимс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 вере предков, их понятья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 ним с вниманьем обратимся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распахнём для них объятья.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3450960" cy="2352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144960" cy="2041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игрушка  кукла народная []"/>
          <p:cNvPicPr/>
          <p:nvPr/>
        </p:nvPicPr>
        <p:blipFill>
          <a:blip r:embed="rId3"/>
          <a:stretch/>
        </p:blipFill>
        <p:spPr>
          <a:xfrm>
            <a:off x="468360" y="34290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2"/>
          <p:cNvPicPr/>
          <p:nvPr/>
        </p:nvPicPr>
        <p:blipFill>
          <a:blip r:embed="rId4"/>
          <a:stretch/>
        </p:blipFill>
        <p:spPr>
          <a:xfrm>
            <a:off x="3851280" y="3284640"/>
            <a:ext cx="2022480" cy="2952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01" name="TextBox 7"/>
          <p:cNvSpPr/>
          <p:nvPr/>
        </p:nvSpPr>
        <p:spPr>
          <a:xfrm>
            <a:off x="3276720" y="148428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Cambria"/>
              </a:rPr>
              <a:t>десятируч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DSCN1742"/>
          <p:cNvPicPr/>
          <p:nvPr/>
        </p:nvPicPr>
        <p:blipFill>
          <a:blip r:embed="rId5"/>
          <a:stretch/>
        </p:blipFill>
        <p:spPr>
          <a:xfrm>
            <a:off x="6443640" y="3141720"/>
            <a:ext cx="2316240" cy="3095640"/>
          </a:xfrm>
          <a:prstGeom prst="rect">
            <a:avLst/>
          </a:prstGeom>
          <a:ln w="9360">
            <a:solidFill>
              <a:srgbClr val="b0ccb0"/>
            </a:solidFill>
            <a:miter/>
          </a:ln>
        </p:spPr>
      </p:pic>
      <p:sp>
        <p:nvSpPr>
          <p:cNvPr id="403" name="TextBox 9"/>
          <p:cNvSpPr/>
          <p:nvPr/>
        </p:nvSpPr>
        <p:spPr>
          <a:xfrm>
            <a:off x="6300720" y="162864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еленаш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6"/>
          <a:stretch/>
        </p:blipFill>
        <p:spPr>
          <a:xfrm>
            <a:off x="-612720" y="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523800" y="141300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3929400" cy="2710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2496960" cy="3436920"/>
          </a:xfrm>
          <a:prstGeom prst="rect">
            <a:avLst/>
          </a:prstGeom>
          <a:ln w="0">
            <a:noFill/>
          </a:ln>
        </p:spPr>
      </p:pic>
      <p:pic>
        <p:nvPicPr>
          <p:cNvPr id="408" name="Заголовок 1" descr=""/>
          <p:cNvPicPr/>
          <p:nvPr/>
        </p:nvPicPr>
        <p:blipFill>
          <a:blip r:embed="rId5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4"/>
          <a:stretch/>
        </p:blipFill>
        <p:spPr>
          <a:xfrm>
            <a:off x="5786280" y="17859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2700360" cy="3333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4"/>
          <a:stretch/>
        </p:blipFill>
        <p:spPr>
          <a:xfrm>
            <a:off x="4788000" y="2276640"/>
            <a:ext cx="3143160" cy="3101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54064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игрушка погремушка народная []"/>
          <p:cNvPicPr/>
          <p:nvPr/>
        </p:nvPicPr>
        <p:blipFill>
          <a:blip r:embed="rId3"/>
          <a:stretch/>
        </p:blipFill>
        <p:spPr>
          <a:xfrm>
            <a:off x="5435640" y="2997360"/>
            <a:ext cx="2678040" cy="3497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игрушка свистульки народная []"/>
          <p:cNvPicPr/>
          <p:nvPr/>
        </p:nvPicPr>
        <p:blipFill>
          <a:blip r:embed="rId4"/>
          <a:stretch/>
        </p:blipFill>
        <p:spPr>
          <a:xfrm>
            <a:off x="755640" y="3068640"/>
            <a:ext cx="3311640" cy="337176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5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2139840" cy="322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4"/>
          <a:stretch/>
        </p:blipFill>
        <p:spPr>
          <a:xfrm>
            <a:off x="1143000" y="2786040"/>
            <a:ext cx="3346560" cy="3168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38120" y="249120"/>
            <a:ext cx="8553600" cy="1165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бирюльки игрушка дети []"/>
          <p:cNvPicPr/>
          <p:nvPr/>
        </p:nvPicPr>
        <p:blipFill>
          <a:blip r:embed="rId3"/>
          <a:stretch/>
        </p:blipFill>
        <p:spPr>
          <a:xfrm>
            <a:off x="5148360" y="2928960"/>
            <a:ext cx="3208320" cy="3238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птица счастья игрушка дети []"/>
          <p:cNvPicPr/>
          <p:nvPr/>
        </p:nvPicPr>
        <p:blipFill>
          <a:blip r:embed="rId4"/>
          <a:stretch/>
        </p:blipFill>
        <p:spPr>
          <a:xfrm>
            <a:off x="642960" y="3429000"/>
            <a:ext cx="3351240" cy="2521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48:06Z</dcterms:created>
  <dc:creator>методист</dc:creator>
  <dc:description/>
  <dc:language>en-US</dc:language>
  <cp:lastModifiedBy>методист</cp:lastModifiedBy>
  <dcterms:modified xsi:type="dcterms:W3CDTF">2012-06-28T15:15:07Z</dcterms:modified>
  <cp:revision>20</cp:revision>
  <dc:subject/>
  <dc:title>Русская народная игрушка</dc:title>
</cp:coreProperties>
</file>