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8.jpeg" ContentType="image/jpeg"/>
  <Override PartName="/ppt/media/image27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DA5-AD13-45CD-A004-B63CA71E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317-22D5-44EE-89BB-614FBAA3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773-45BC-49C3-935C-B4101239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1F9-EEBC-455E-813C-12324C35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1ED0-5796-4E6C-B353-4D7E0ABB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B74F-08B7-4C84-9952-09762986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93F-6807-438B-9FBF-3D77EEB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55FB-C9F6-41BC-9A87-460E4CF3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BC4E-46F7-40E6-86D3-5A8371BE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3BFB-4886-40AA-8FB9-CC211DC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7A47-2BEE-4DAF-951C-8445DB3E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F65-2F4E-4A66-9A89-449937EB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491C-FFC0-4850-9478-40312630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6C88-D4E6-4C98-BA17-453A4DF9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D22F-33AD-4D16-8156-3FE5AF64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DA63-0986-4603-BAA8-9AD5F0D2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A13C-8964-4D54-8DAE-F5117047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AAC58-27E8-45D6-B57E-61CAC991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A9D2-3235-42F9-8F5F-B8618A67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5447-64F6-4BCD-959D-FCC6D671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AF6BC-4E8C-490B-9C72-EFC29F5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F79B-BCD1-4F56-930C-8A1A1BCE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9F0-CFE5-4567-84AD-E040E22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BDEA3-6EA4-4EAA-8BF5-1B60ABAB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FB50-2DF8-4085-BEC5-EFE4448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A102-700F-48AC-A56C-239F552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1F17-A963-4139-8A58-DA288E1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B443-40C1-42B8-ACF7-FFD87E30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C8A92-351B-4E38-A39A-5C231F05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4C23-C834-47EB-9FF7-02D07AFC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732B-4C7A-4C32-9E9A-79A5C945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3905-7116-45F6-8A5F-64133ABE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59B37-EE44-4D7E-8278-59A83FD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C14-A05B-472F-A2DA-25F1C47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CB89-57CB-4E2F-B1B0-6327E3A5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933C-195A-4BA7-822A-A3193AD1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6EDC-6BC5-4C82-A658-895E90E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D271-E98E-405D-BB8A-20FEE3A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E0EA-913C-4139-B805-52CF480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73A6C-CC0C-496B-81B8-E6BAACD1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9C88-792A-4668-91A5-842B6D7A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2FA6-FA84-4B63-89D6-BEE8CA64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8F3A-1C65-472C-AB70-4C7B86D9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03A2-0511-4E9A-AD66-BA2A938F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C3F-B9B7-4829-B897-64647482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309E-7B14-48AF-AE24-13AD4F0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F6D8C-7611-4EBE-95FA-0E2FEB50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52D2-595A-4FCC-9B15-37AAE039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D2EC-6735-4D90-817C-E1352C3F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E9FB-DDB3-4853-B9AA-4D82790D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4B7B2-5D1D-48B1-8813-166646F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F00F7-3FDF-4422-8C18-3ACE323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F6CB-D546-4A33-B622-8E66E0B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CDB8-5275-4CB3-A97A-CE82BA9D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502DD-3D5D-4268-B631-E390948B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36C-127E-4651-8539-69E5A95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76B3-B8D3-4D1D-923F-DB7D0D51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F1A-6AC9-4F0D-A586-5F89F275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A84-7D09-49E0-92C8-E188DE1C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C83B-447A-4E61-9D16-DCE9112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210C-2E4B-426D-AA93-299496B4660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748E-FF78-472D-A7A5-F88F10C517D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4F23-E555-4A37-ADCC-F408BF410F09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D00E-0F9B-45F6-B68B-DAEC1A92F2D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8E81-F706-429E-A92D-D8563CA1918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facweb.cs.depaul.edu/sgrais/images/Proportion/0602003.jpg" TargetMode="External"/><Relationship Id="rId2" Type="http://schemas.openxmlformats.org/officeDocument/2006/relationships/hyperlink" Target="http://facweb.cs.depaul.edu/sgrais/images/Proportion/0602003.jpg" TargetMode="External"/><Relationship Id="rId3" Type="http://schemas.openxmlformats.org/officeDocument/2006/relationships/hyperlink" Target="http://facweb.cs.depaul.edu/sgrais/images/Proportion/0602003.jpg" TargetMode="External"/><Relationship Id="rId4" Type="http://schemas.openxmlformats.org/officeDocument/2006/relationships/hyperlink" Target="http://facweb.cs.depaul.edu/sgrais/images/Proportion/0602003.jpg" TargetMode="External"/><Relationship Id="rId5" Type="http://schemas.openxmlformats.org/officeDocument/2006/relationships/hyperlink" Target="http://facweb.cs.depaul.edu/sgrais/images/Proportion/0602003.jpg" TargetMode="External"/><Relationship Id="rId6" Type="http://schemas.openxmlformats.org/officeDocument/2006/relationships/hyperlink" Target="http://facweb.cs.depaul.edu/sgrais/images/Proportion/0602003.jpg" TargetMode="External"/><Relationship Id="rId7" Type="http://schemas.openxmlformats.org/officeDocument/2006/relationships/hyperlink" Target="http://facweb.cs.depaul.edu/sgrais/images/Proportion/0602003.jpg" TargetMode="External"/><Relationship Id="rId8" Type="http://schemas.openxmlformats.org/officeDocument/2006/relationships/hyperlink" Target="http://facweb.cs.depaul.edu/sgrais/images/Proportion/0602003.jpg" TargetMode="External"/><Relationship Id="rId9" Type="http://schemas.openxmlformats.org/officeDocument/2006/relationships/hyperlink" Target="http://facweb.cs.depaul.edu/sgrais/images/Proportion/0602003.jpg" TargetMode="External"/><Relationship Id="rId10" Type="http://schemas.openxmlformats.org/officeDocument/2006/relationships/hyperlink" Target="http://facweb.cs.depaul.edu/sgrais/images/Proportion/0602003.jpg" TargetMode="External"/><Relationship Id="rId11" Type="http://schemas.openxmlformats.org/officeDocument/2006/relationships/hyperlink" Target="http://im4-tub-ru.yandex.net/i?id=311553490-48-72" TargetMode="External"/><Relationship Id="rId12" Type="http://schemas.openxmlformats.org/officeDocument/2006/relationships/hyperlink" Target="http://im4-tub-ru.yandex.net/i?id=311553490-48-72" TargetMode="External"/><Relationship Id="rId13" Type="http://schemas.openxmlformats.org/officeDocument/2006/relationships/hyperlink" Target="http://pthumbnails.5min.com/5036637/251831837_c.jpg" TargetMode="External"/><Relationship Id="rId14" Type="http://schemas.openxmlformats.org/officeDocument/2006/relationships/hyperlink" Target="http://pthumbnails.5min.com/5036637/251831837_c.jpg" TargetMode="External"/><Relationship Id="rId15" Type="http://schemas.openxmlformats.org/officeDocument/2006/relationships/hyperlink" Target="http://im4-tub-ru.yandex.net/i?id=171051495-15-72" TargetMode="External"/><Relationship Id="rId16" Type="http://schemas.openxmlformats.org/officeDocument/2006/relationships/hyperlink" Target="http://im4-tub-ru.yandex.net/i?id=171051495-15-72" TargetMode="External"/><Relationship Id="rId17" Type="http://schemas.openxmlformats.org/officeDocument/2006/relationships/hyperlink" Target="http://im3-tub-ru.yandex.net/i?id=468196098-32-72" TargetMode="External"/><Relationship Id="rId18" Type="http://schemas.openxmlformats.org/officeDocument/2006/relationships/hyperlink" Target="http://im3-tub-ru.yandex.net/i?id=468196098-32-72" TargetMode="External"/><Relationship Id="rId19" Type="http://schemas.openxmlformats.org/officeDocument/2006/relationships/hyperlink" Target="http://img-fotki.yandex.ru/get/4903/corex.14/0_3fc9e_c71ec4b_L" TargetMode="External"/><Relationship Id="rId20" Type="http://schemas.openxmlformats.org/officeDocument/2006/relationships/hyperlink" Target="http://img-fotki.yandex.ru/get/4903/corex.14/0_3fc9e_c71ec4b_L" TargetMode="External"/><Relationship Id="rId21" Type="http://schemas.openxmlformats.org/officeDocument/2006/relationships/hyperlink" Target="http://img-fotki.yandex.ru/get/4903/corex.14/0_3fc9e_c71ec4b_L" TargetMode="External"/><Relationship Id="rId22" Type="http://schemas.openxmlformats.org/officeDocument/2006/relationships/hyperlink" Target="http://img-fotki.yandex.ru/get/4903/corex.14/0_3fc9e_c71ec4b_L" TargetMode="External"/><Relationship Id="rId23" Type="http://schemas.openxmlformats.org/officeDocument/2006/relationships/hyperlink" Target="http://img-fotki.yandex.ru/get/4903/corex.14/0_3fc9e_c71ec4b_L" TargetMode="External"/><Relationship Id="rId24" Type="http://schemas.openxmlformats.org/officeDocument/2006/relationships/hyperlink" Target="http://img-fotki.yandex.ru/get/4903/corex.14/0_3fc9e_c71ec4b_L" TargetMode="External"/><Relationship Id="rId25" Type="http://schemas.openxmlformats.org/officeDocument/2006/relationships/hyperlink" Target="http://alemix-forex.ru/&#1073;&#1080;&#1086;&#1075;&#1088;&#1072;&#1092;&#1080;&#1103;%20&#1092;&#1080;&#1073;&#1086;&#1085;&#1072;&#1095;&#1095;&#1080;" TargetMode="External"/><Relationship Id="rId26" Type="http://schemas.openxmlformats.org/officeDocument/2006/relationships/hyperlink" Target="http://im4-tub-ru.yandex.net/i?id=76447688-22-72" TargetMode="External"/><Relationship Id="rId27" Type="http://schemas.openxmlformats.org/officeDocument/2006/relationships/hyperlink" Target="http://im4-tub-ru.yandex.net/i?id=76447688-22-72" TargetMode="External"/><Relationship Id="rId28" Type="http://schemas.openxmlformats.org/officeDocument/2006/relationships/hyperlink" Target="http://im7-tub-ru.yandex.net/i?id=136064359-52-72" TargetMode="External"/><Relationship Id="rId29" Type="http://schemas.openxmlformats.org/officeDocument/2006/relationships/hyperlink" Target="http://im7-tub-ru.yandex.net/i?id=136064359-52-72" TargetMode="External"/><Relationship Id="rId30" Type="http://schemas.openxmlformats.org/officeDocument/2006/relationships/hyperlink" Target="http://im7-tub-ru.yandex.net/i?id=379143481-36-72" TargetMode="External"/><Relationship Id="rId31" Type="http://schemas.openxmlformats.org/officeDocument/2006/relationships/hyperlink" Target="http://im7-tub-ru.yandex.net/i?id=379143481-36-72" TargetMode="External"/><Relationship Id="rId32" Type="http://schemas.openxmlformats.org/officeDocument/2006/relationships/hyperlink" Target="http://im2-tub-ru.yandex.net/i?id=277195420-28-72" TargetMode="External"/><Relationship Id="rId33" Type="http://schemas.openxmlformats.org/officeDocument/2006/relationships/hyperlink" Target="http://im2-tub-ru.yandex.net/i?id=277195420-28-72" TargetMode="External"/><Relationship Id="rId34" Type="http://schemas.openxmlformats.org/officeDocument/2006/relationships/hyperlink" Target="http://im8-tub-ru.yandex.net/i?id=355862324-12-72" TargetMode="External"/><Relationship Id="rId35" Type="http://schemas.openxmlformats.org/officeDocument/2006/relationships/hyperlink" Target="http://im8-tub-ru.yandex.net/i?id=355862324-12-72" TargetMode="External"/><Relationship Id="rId36" Type="http://schemas.openxmlformats.org/officeDocument/2006/relationships/hyperlink" Target="http://im3-tub-ru.yandex.net/i?id=352682289-01-72" TargetMode="External"/><Relationship Id="rId37" Type="http://schemas.openxmlformats.org/officeDocument/2006/relationships/hyperlink" Target="http://media.log-in.ru/images/articles/article_432/14.gif" TargetMode="External"/><Relationship Id="rId3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011.radikal.ru/i316/1104/a1/2daf4ed83765.jpg" TargetMode="External"/><Relationship Id="rId2" Type="http://schemas.openxmlformats.org/officeDocument/2006/relationships/hyperlink" Target="http://s011.radikal.ru/i316/1104/a1/2daf4ed83765.jpg" TargetMode="External"/><Relationship Id="rId3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4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5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6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7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8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9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10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11" Type="http://schemas.openxmlformats.org/officeDocument/2006/relationships/hyperlink" Target="http://turkmenistan.karakum.net/albums/kamma/7-plugin-to/?vob=examples-of-fibonacci-sequence-in-art-5XDCDqJJY/WYw8b3u0i7rOYRmRyzfqSAkGK0iX3x3pZ2NxhdW2/0zoGiHaquhPkd3jnAK7orDtPNIRDk3UhHwOPNbqh4dnvj7HfXec7k1ToN4RNBiNEExHFMtTQuYlk=3e8.jpg" TargetMode="External"/><Relationship Id="rId12" Type="http://schemas.openxmlformats.org/officeDocument/2006/relationships/hyperlink" Target="http://vova1001.narod.ru/images/00006157.jpg" TargetMode="External"/><Relationship Id="rId13" Type="http://schemas.openxmlformats.org/officeDocument/2006/relationships/hyperlink" Target="http://vova1001.narod.ru/images/00006157.jpg" TargetMode="External"/><Relationship Id="rId14" Type="http://schemas.openxmlformats.org/officeDocument/2006/relationships/hyperlink" Target="http://vova1001.narod.ru/images/00006157.jpg" TargetMode="External"/><Relationship Id="rId15" Type="http://schemas.openxmlformats.org/officeDocument/2006/relationships/hyperlink" Target="http://vova1001.narod.ru/images/00006157.jpg" TargetMode="External"/><Relationship Id="rId16" Type="http://schemas.openxmlformats.org/officeDocument/2006/relationships/hyperlink" Target="http://kartcent.ru/zagadka-chisel-fibonachchi/" TargetMode="External"/><Relationship Id="rId17" Type="http://schemas.openxmlformats.org/officeDocument/2006/relationships/hyperlink" Target="http://kartcent.ru/zagadka-chisel-fibonachchi/" TargetMode="External"/><Relationship Id="rId18" Type="http://schemas.openxmlformats.org/officeDocument/2006/relationships/hyperlink" Target="http://kartcent.ru/zagadka-chisel-fibonachchi/" TargetMode="External"/><Relationship Id="rId19" Type="http://schemas.openxmlformats.org/officeDocument/2006/relationships/hyperlink" Target="http://kartcent.ru/zagadka-chisel-fibonachchi/" TargetMode="External"/><Relationship Id="rId20" Type="http://schemas.openxmlformats.org/officeDocument/2006/relationships/hyperlink" Target="http://kartcent.ru/zagadka-chisel-fibonachchi/" TargetMode="External"/><Relationship Id="rId21" Type="http://schemas.openxmlformats.org/officeDocument/2006/relationships/hyperlink" Target="http://kartcent.ru/zagadka-chisel-fibonachchi/" TargetMode="External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7760" y="1142640"/>
            <a:ext cx="609588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ЗОЛОТАЯ МАТЕМАТИКА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ОНАРДО ФИБОНАЧЧИ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7432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полнили: ученицы 6 «А» класса МОУ «СОШ № 48» г.Астрахан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азина Крис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косырская Виктор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йбекова Анастасия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ководитель: учитель математики МОУ «СОШ № 48» г.Астрахан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креу Наталия Николаев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4" descr="img123766_1-3_Fibonachchi_i_rakushka"/>
          <p:cNvPicPr/>
          <p:nvPr/>
        </p:nvPicPr>
        <p:blipFill>
          <a:blip r:embed="rId2"/>
          <a:stretch/>
        </p:blipFill>
        <p:spPr>
          <a:xfrm>
            <a:off x="0" y="0"/>
            <a:ext cx="26668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ЕМЕНА И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ПИРАЛЬ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Семена в подсолнухе, в шишке располагаются так же в виде спирали</a:t>
            </a:r>
            <a:r>
              <a:rPr b="0" lang="en-US" sz="2600" spc="-1" strike="noStrike">
                <a:solidFill>
                  <a:srgbClr val="993300"/>
                </a:solidFill>
                <a:latin typeface="Trebuchet MS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icture 7" descr="11"/>
          <p:cNvPicPr/>
          <p:nvPr/>
        </p:nvPicPr>
        <p:blipFill>
          <a:blip r:embed="rId1"/>
          <a:stretch/>
        </p:blipFill>
        <p:spPr>
          <a:xfrm>
            <a:off x="5486400" y="320040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12"/>
          <p:cNvPicPr/>
          <p:nvPr/>
        </p:nvPicPr>
        <p:blipFill>
          <a:blip r:embed="rId2"/>
          <a:stretch/>
        </p:blipFill>
        <p:spPr>
          <a:xfrm>
            <a:off x="4971960" y="0"/>
            <a:ext cx="4172040" cy="29210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13"/>
          <p:cNvPicPr/>
          <p:nvPr/>
        </p:nvPicPr>
        <p:blipFill>
          <a:blip r:embed="rId3"/>
          <a:stretch/>
        </p:blipFill>
        <p:spPr>
          <a:xfrm>
            <a:off x="5334120" y="2514600"/>
            <a:ext cx="3809880" cy="2749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sunflower"/>
          <p:cNvPicPr/>
          <p:nvPr/>
        </p:nvPicPr>
        <p:blipFill>
          <a:blip r:embed="rId4"/>
          <a:stretch/>
        </p:blipFill>
        <p:spPr>
          <a:xfrm>
            <a:off x="380880" y="1523880"/>
            <a:ext cx="5715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ПИРАЛЬ И ПАУК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Пауки плетут свою сеть и стадо на которое нападает хищник, тоже разбегаются по спирал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7" descr="8"/>
          <p:cNvPicPr/>
          <p:nvPr/>
        </p:nvPicPr>
        <p:blipFill>
          <a:blip r:embed="rId1"/>
          <a:stretch/>
        </p:blipFill>
        <p:spPr>
          <a:xfrm>
            <a:off x="4038480" y="14479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9"/>
          <p:cNvPicPr/>
          <p:nvPr/>
        </p:nvPicPr>
        <p:blipFill>
          <a:blip r:embed="rId2"/>
          <a:stretch/>
        </p:blipFill>
        <p:spPr>
          <a:xfrm>
            <a:off x="6477120" y="1523880"/>
            <a:ext cx="2120760" cy="2743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10"/>
          <p:cNvPicPr/>
          <p:nvPr/>
        </p:nvPicPr>
        <p:blipFill>
          <a:blip r:embed="rId3"/>
          <a:stretch/>
        </p:blipFill>
        <p:spPr>
          <a:xfrm>
            <a:off x="3048120" y="4114800"/>
            <a:ext cx="3276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320760"/>
            <a:ext cx="724212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РЯД ФИБОНАЧИ И ЯЩЕРИЦ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1523520"/>
            <a:ext cx="380988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Ящерица – если поделить ящерицу на хвост и тело, то соотношение их будет 0,62 к 0,3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6" descr="3818"/>
          <p:cNvPicPr/>
          <p:nvPr/>
        </p:nvPicPr>
        <p:blipFill>
          <a:blip r:embed="rId1"/>
          <a:stretch/>
        </p:blipFill>
        <p:spPr>
          <a:xfrm>
            <a:off x="4038480" y="1981080"/>
            <a:ext cx="3816360" cy="3733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ReSaLaLaAgA0018"/>
          <p:cNvPicPr/>
          <p:nvPr/>
        </p:nvPicPr>
        <p:blipFill>
          <a:blip r:embed="rId2"/>
          <a:stretch/>
        </p:blipFill>
        <p:spPr>
          <a:xfrm>
            <a:off x="4038480" y="1981080"/>
            <a:ext cx="40388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ООТНОШЕНИЕ ДЛИНЫ РЕБРА ПИРАМИДЫ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Пирамиды – длина ребра пирамиды равна 783.3 футам, а высота пирамиды равна 484.4 футам. Соотношение длины ребра/высота пирамиды составляет 1,61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7" descr="16"/>
          <p:cNvPicPr/>
          <p:nvPr/>
        </p:nvPicPr>
        <p:blipFill>
          <a:blip r:embed="rId1"/>
          <a:stretch/>
        </p:blipFill>
        <p:spPr>
          <a:xfrm>
            <a:off x="4419720" y="17524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320400"/>
            <a:ext cx="7165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РЯД ФИБОНАЧЧИ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И ГАЛАКТИК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rebuchet MS"/>
              </a:rPr>
              <a:t>Как видно, числовой ряд Фибоначчи широко представлен в нашей жизни: в строении живых существ, сооружений, с его помощью даже описывается устройство Галактик. Все это свидетельствует об универсальности математической загадки числового ряда Фибонач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7" descr="14"/>
          <p:cNvPicPr/>
          <p:nvPr/>
        </p:nvPicPr>
        <p:blipFill>
          <a:blip r:embed="rId1"/>
          <a:stretch/>
        </p:blipFill>
        <p:spPr>
          <a:xfrm>
            <a:off x="4343400" y="365760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15"/>
          <p:cNvPicPr/>
          <p:nvPr/>
        </p:nvPicPr>
        <p:blipFill>
          <a:blip r:embed="rId2"/>
          <a:stretch/>
        </p:blipFill>
        <p:spPr>
          <a:xfrm>
            <a:off x="4419720" y="1143000"/>
            <a:ext cx="36576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ЧЕЛОВЕК И ЗОЛОТОЕ СЕЧЕНИЕ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Части т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ел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 человека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аходятся в соотношении золотого се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4" descr="img123769_1-6_Posledovatelnost_na_primere_cheloveka"/>
          <p:cNvPicPr/>
          <p:nvPr/>
        </p:nvPicPr>
        <p:blipFill>
          <a:blip r:embed="rId1"/>
          <a:stretch/>
        </p:blipFill>
        <p:spPr>
          <a:xfrm>
            <a:off x="3733920" y="1828800"/>
            <a:ext cx="4038480" cy="4254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img123777_1-14_Spiral_Fibonachchi_na_cheloveka"/>
          <p:cNvPicPr/>
          <p:nvPr/>
        </p:nvPicPr>
        <p:blipFill>
          <a:blip r:embed="rId2"/>
          <a:stretch/>
        </p:blipFill>
        <p:spPr>
          <a:xfrm>
            <a:off x="3733920" y="1752480"/>
            <a:ext cx="4386240" cy="5105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3"/>
          <a:stretch/>
        </p:blipFill>
        <p:spPr>
          <a:xfrm>
            <a:off x="373392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В современной науке существует много научных групп, профессионально изучающих Золотое Сечение, числа Фибоначчи и их многочисленные приложения в математике, физике, философии, ботанике, биологии, медицине, компьютерной наук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Множество художников, поэтов, музыкантов используют в своем творчестве «Принцип Золотого Сечения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В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настоящее время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 сделан ряд выдающихся открытий, основанных на числах Фибоначчи и Золотом Сечени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Используемые ресурсы Интернета: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facweb.cs.depaul.edu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5"/>
              </a:rPr>
              <a:t>sgrai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7"/>
              </a:rPr>
              <a:t>image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9"/>
              </a:rPr>
              <a:t>Proportion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0"/>
              </a:rPr>
              <a:t>/0602003.jpg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1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2"/>
              </a:rPr>
              <a:t>://im4-tub-ru.yandex.net/i?id=311553490-48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3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4"/>
              </a:rPr>
              <a:t>://pthumbnails.5min.com/5036637/251831837_c.jpg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5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6"/>
              </a:rPr>
              <a:t>://im4-tub-ru.yandex.net/i?id=171051495-15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7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8"/>
              </a:rPr>
              <a:t>://im3-tub-ru.yandex.net/i?id=468196098-32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19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0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1"/>
              </a:rPr>
              <a:t>img-fotki.yandex.ru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2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3"/>
              </a:rPr>
              <a:t>get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4"/>
              </a:rPr>
              <a:t>/4903/corex.14/0_3fc9e_c71ec4b_L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25"/>
              </a:rPr>
              <a:t>http://alemix-forex.ru/биография%20фибоначч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6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7"/>
              </a:rPr>
              <a:t>://im4-tub-ru.yandex.net/i?id=76447688-22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8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29"/>
              </a:rPr>
              <a:t>://im7-tub-ru.yandex.net/i?id=136064359-52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0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1"/>
              </a:rPr>
              <a:t>://im7-tub-ru.yandex.net/i?id=379143481-36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2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3"/>
              </a:rPr>
              <a:t>://im2-tub-ru.yandex.net/i?id=277195420-28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4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Trebuchet MS"/>
                <a:hlinkClick r:id="rId35"/>
              </a:rPr>
              <a:t>://im8-tub-ru.yandex.net/i?id=355862324-12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36"/>
              </a:rPr>
              <a:t>http://im3-tub-ru.yandex.net/i?id=352682289-01-7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Trebuchet MS"/>
                <a:hlinkClick r:id="rId37"/>
              </a:rPr>
              <a:t>http://media.log-in.ru/images/articles/article_432/14.gif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754380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2"/>
              </a:rPr>
              <a:t>://s011.radikal.ru/i316/1104/a1/2daf4ed83765.jp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5"/>
              </a:rPr>
              <a:t>turkmenistan.karakum.net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7"/>
              </a:rPr>
              <a:t>album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9"/>
              </a:rPr>
              <a:t>kamma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0"/>
              </a:rPr>
              <a:t>/7-plugin-to/?vob=examples-of-fibonacci-sequence-in-art-5XDCDqJJY/WYw8b3u0i7rOYRmRyzfqSAkGK0iX3x3pZ2NxhdW2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1"/>
              </a:rPr>
              <a:t>0zoGiHaquhPkd3jnAK7orDtPNIRDk3UhHwOPNbqh4dnvj7HfXec7k1ToN4RNBiNEExHFMtTQuYlk=3e8.jp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3"/>
              </a:rPr>
              <a:t>://vova1001.narod.ru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4"/>
              </a:rPr>
              <a:t>images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5"/>
              </a:rPr>
              <a:t>/00006157.jpg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7"/>
              </a:rPr>
              <a:t>:/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8"/>
              </a:rPr>
              <a:t>kartcent.ru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19"/>
              </a:rPr>
              <a:t>/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20"/>
              </a:rPr>
              <a:t>zagadka-chisel-fibonachchi</a:t>
            </a:r>
            <a:r>
              <a:rPr b="0" lang="ru-RU" sz="1600" spc="-1" strike="noStrike" u="sng">
                <a:solidFill>
                  <a:srgbClr val="ffde66"/>
                </a:solidFill>
                <a:uFillTx/>
                <a:latin typeface="Arial"/>
                <a:hlinkClick r:id="rId21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5.pixs.ru/storage/9/0/3/3jpg_7040654_3032903.jpg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7-tub-ru.yandex.net/i?id=464665397-05-72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3-tub-ru.yandex.net/i?id=69997937-33-72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4-tub-ru.yandex.net/i?id=240120133-59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im5-tub-ru.yandex.net/i?id=496247041-60-72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www.cio.arcticsu.ru/projects/pr1620/_derived/index.htm_cmp_radial010_bnr.gif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13f9a"/>
                </a:solidFill>
                <a:latin typeface="Arial"/>
              </a:rPr>
              <a:t>ЗА  ВНИМАНИЕ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Picture 5" descr="C:\Users\2.6\Documents\Папка обмена Bluetooth\DSC00872.JPG"/>
          <p:cNvPicPr/>
          <p:nvPr/>
        </p:nvPicPr>
        <p:blipFill>
          <a:blip r:embed="rId1"/>
          <a:stretch/>
        </p:blipFill>
        <p:spPr>
          <a:xfrm>
            <a:off x="4648320" y="2895480"/>
            <a:ext cx="35049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4800600" cy="127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Посвящается математикам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2361960"/>
            <a:ext cx="723888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Спасибо вам за красоту науки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За ясность цифр, за формулы игр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Решая каждый раз задачу лишь от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скуки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rebuchet MS"/>
              </a:rPr>
              <a:t>Я вдохновенье непременно нахож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img123766_1-3_Fibonachchi_i_rakushka"/>
          <p:cNvPicPr/>
          <p:nvPr/>
        </p:nvPicPr>
        <p:blipFill>
          <a:blip r:embed="rId1"/>
          <a:stretch/>
        </p:blipFill>
        <p:spPr>
          <a:xfrm>
            <a:off x="0" y="0"/>
            <a:ext cx="266688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img123765_1-2_Pamyatnik_Fibonachchi"/>
          <p:cNvPicPr/>
          <p:nvPr/>
        </p:nvPicPr>
        <p:blipFill>
          <a:blip r:embed="rId1"/>
          <a:stretch/>
        </p:blipFill>
        <p:spPr>
          <a:xfrm>
            <a:off x="4724280" y="1143000"/>
            <a:ext cx="3243240" cy="4876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Леонардо Фибоначчи родился в городе Пиза, к сожалению историки не сохранили точную дату его рождения. Родился Леонардо в семье купца и знатного вельможи, что дало ему свободу заниматься вещами интересными.      Заканчивается биография Фибоначчи предположительно в 1228 году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440" y="99036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38080" y="2286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ЛЕОНАРДО ФИБОНАЧ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ТРУДЫ  ЛЕОНАРДО ФИБОНАЧЧ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80920" y="1218960"/>
            <a:ext cx="4496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15160" indent="-22608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rebuchet MS"/>
              </a:rPr>
              <a:t>Фибоначчи создал несколько книг посвященных математическому искусству. В 1202 и 1228 годах вышла в свет книга </a:t>
            </a: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«Liber abaci» («</a:t>
            </a:r>
            <a:r>
              <a:rPr b="1" lang="ru-RU" sz="2400" spc="-1" strike="noStrike">
                <a:solidFill>
                  <a:srgbClr val="993300"/>
                </a:solidFill>
                <a:latin typeface="Trebuchet MS"/>
              </a:rPr>
              <a:t>Книга абака</a:t>
            </a:r>
            <a:r>
              <a:rPr b="1" lang="en-US" sz="2400" spc="-1" strike="noStrike">
                <a:solidFill>
                  <a:srgbClr val="993300"/>
                </a:solidFill>
                <a:latin typeface="Trebuchet MS"/>
              </a:rPr>
              <a:t>»). </a:t>
            </a:r>
            <a:r>
              <a:rPr b="1" lang="ru-RU" sz="2400" spc="-1" strike="noStrike">
                <a:solidFill>
                  <a:srgbClr val="993300"/>
                </a:solidFill>
                <a:latin typeface="Trebuchet MS"/>
              </a:rPr>
              <a:t>Данный труд вместил в себя все знания в области арифметики и алгебры той эпохи. Математики пришедшие на смену Фибоначчи использовали ее как настольную книгу.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Picture 4" descr="img123766_1-3_Fibonachchi_i_rakushka"/>
          <p:cNvPicPr/>
          <p:nvPr/>
        </p:nvPicPr>
        <p:blipFill>
          <a:blip r:embed="rId1"/>
          <a:stretch/>
        </p:blipFill>
        <p:spPr>
          <a:xfrm>
            <a:off x="914400" y="1219320"/>
            <a:ext cx="2514600" cy="1950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501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ЗОЛОТАЯ   МАТЕМАТИК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2438280" cy="35812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971440" y="1218960"/>
            <a:ext cx="47242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Наверняка вам не раз приходилось задумываться, почему Природа способна создавать такие удивительные гармоничные структуры, которые восхищают и радуют глаз. Почему художники, поэты, композиторы, архитекторы создают восхитительные произведения искусства из столетия в столетие. В чем же секрет и какие законы лежат в основе этих гармоничных созданий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6905880" cy="1143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1609200"/>
            <a:ext cx="3543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И все же история донесла до наших дней его главное творение - числовой ряд Фибоначчи уникальности и универсальности которого, мы не перестаем удивлять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РЯД ФИБОНАЧЧИ – ЭТО НЕ ТОЛЬКО МАТЕМАТИЧЕСКАЯ ЗАГАДКА, МЫ ВСТРЕЧАЕМСЯ С НИМ КАЖДЫЙ ДЕНЬ В ПОВСЕДНЕВНОЙ ЖИЗ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РЯД   ФИБОНАЧЧ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Ряд Фибоначчи выглядит следующим образом:  0, 1, 1, 2, 3, 5, 8, 13, 21, 34, 55 и т.д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Его особенность заключается в следующем – каждое число в ряду, начиная с третьего, складывается из суммы двух предшествующи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и этом отношение соседних чисел стремится к золотому сечению: 21:34 = 0,617; 34:55 = 0,61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Это отношение обозначается символом Ф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Только это отношение - 0,618:0,382 – дает непрерывное деление отрезка прямой в золотой пропорци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ЗОЛОТОЙ ПРЯМОУГОЛЬНИК </a:t>
            </a:r>
            <a:br>
              <a:rPr sz="2900"/>
            </a:b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И СПИРАЛЬ</a:t>
            </a:r>
            <a:endParaRPr b="1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ямоугольник с пропорциями золотого сечения называется идеальный прямоугольник или золотой прямоугольни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Если его разбить на более мелкие прямоугольники в точной последовательности Фибоначчи, а потом каждый из них разделить в таких пропорциях еще и еще, то получится система, которая называется спираль Фибоначч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Эту спираль мы можем увидеть в самых неожиданных предметах и явлениях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09480" y="1797120"/>
            <a:ext cx="8001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3352680" cy="105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РАКОВИНА И </a:t>
            </a:r>
            <a:br>
              <a:rPr sz="3200"/>
            </a:br>
            <a:r>
              <a:rPr b="1" lang="en-US" sz="3200" spc="-1" strike="noStrike">
                <a:solidFill>
                  <a:srgbClr val="b13f9a"/>
                </a:solidFill>
                <a:latin typeface="Arial"/>
              </a:rPr>
              <a:t>СПИРАЛЬ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2133360"/>
            <a:ext cx="3543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rebuchet MS"/>
              </a:rPr>
              <a:t>Раковина в форме спирали - форма раковины заинтересовала Архимеда и он выяснил, что увеличение длины завитков раковины – это постоянная величина и равна она 1,61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52960" y="1609200"/>
            <a:ext cx="35431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5" descr="2"/>
          <p:cNvPicPr/>
          <p:nvPr/>
        </p:nvPicPr>
        <p:blipFill>
          <a:blip r:embed="rId1"/>
          <a:stretch/>
        </p:blipFill>
        <p:spPr>
          <a:xfrm>
            <a:off x="4267080" y="4676760"/>
            <a:ext cx="2895840" cy="2181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3"/>
          <p:cNvPicPr/>
          <p:nvPr/>
        </p:nvPicPr>
        <p:blipFill>
          <a:blip r:embed="rId2"/>
          <a:stretch/>
        </p:blipFill>
        <p:spPr>
          <a:xfrm>
            <a:off x="5867280" y="380880"/>
            <a:ext cx="3124440" cy="2521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5"/>
          <p:cNvPicPr/>
          <p:nvPr/>
        </p:nvPicPr>
        <p:blipFill>
          <a:blip r:embed="rId3"/>
          <a:stretch/>
        </p:blipFill>
        <p:spPr>
          <a:xfrm>
            <a:off x="4038480" y="228600"/>
            <a:ext cx="2279880" cy="2390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6"/>
          <p:cNvPicPr/>
          <p:nvPr/>
        </p:nvPicPr>
        <p:blipFill>
          <a:blip r:embed="rId4"/>
          <a:stretch/>
        </p:blipFill>
        <p:spPr>
          <a:xfrm>
            <a:off x="6114960" y="4475160"/>
            <a:ext cx="3029040" cy="2382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7"/>
          <p:cNvPicPr/>
          <p:nvPr/>
        </p:nvPicPr>
        <p:blipFill>
          <a:blip r:embed="rId5"/>
          <a:stretch/>
        </p:blipFill>
        <p:spPr>
          <a:xfrm>
            <a:off x="4191120" y="2514600"/>
            <a:ext cx="2641320" cy="269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0602003"/>
          <p:cNvPicPr/>
          <p:nvPr/>
        </p:nvPicPr>
        <p:blipFill>
          <a:blip r:embed="rId6"/>
          <a:stretch/>
        </p:blipFill>
        <p:spPr>
          <a:xfrm>
            <a:off x="6248520" y="2362320"/>
            <a:ext cx="2895480" cy="2274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0_3fc9e_c71ec4b_L"/>
          <p:cNvPicPr/>
          <p:nvPr/>
        </p:nvPicPr>
        <p:blipFill>
          <a:blip r:embed="rId7"/>
          <a:stretch/>
        </p:blipFill>
        <p:spPr>
          <a:xfrm>
            <a:off x="4191120" y="457200"/>
            <a:ext cx="4686120" cy="3305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"/>
          <p:cNvPicPr/>
          <p:nvPr/>
        </p:nvPicPr>
        <p:blipFill>
          <a:blip r:embed="rId8"/>
          <a:stretch/>
        </p:blipFill>
        <p:spPr>
          <a:xfrm>
            <a:off x="838080" y="16002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2-06-28T06:32:36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