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22.jpeg" ContentType="image/jpeg"/>
  <Override PartName="/ppt/media/image9.png" ContentType="image/png"/>
  <Override PartName="/ppt/media/image7.png" ContentType="image/png"/>
  <Override PartName="/ppt/media/image34.jpeg" ContentType="image/jpeg"/>
  <Override PartName="/ppt/media/image28.jpeg" ContentType="image/jpeg"/>
  <Override PartName="/ppt/media/image27.jpeg" ContentType="image/jpeg"/>
  <Override PartName="/ppt/media/image10.png" ContentType="image/png"/>
  <Override PartName="/ppt/media/image18.png" ContentType="image/png"/>
  <Override PartName="/ppt/media/image6.jpeg" ContentType="image/jpeg"/>
  <Override PartName="/ppt/media/image12.jpeg" ContentType="image/jpeg"/>
  <Override PartName="/ppt/media/image13.jpeg" ContentType="image/jpeg"/>
  <Override PartName="/ppt/media/image30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31.png" ContentType="image/png"/>
  <Override PartName="/ppt/media/image1.png" ContentType="image/png"/>
  <Override PartName="/ppt/media/image15.jpeg" ContentType="image/jpeg"/>
  <Override PartName="/ppt/media/image1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2983-76B0-411E-B152-E3DCA2491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6170-2C9D-4401-94B8-ED5F2C23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19E2-08DF-48A9-B22F-89C6B502C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487A-012E-4C50-A200-C11E17B34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5921E-27AF-4EB2-B04A-00C854519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9FA73-91B7-4853-BDC5-2D8AAE301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7A8DF-0EA2-4C0F-80BA-033B7DF51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0389A-232A-4CCE-A52E-523863BEA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828C5-5CB7-458E-811E-AB047910A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66CC5-C736-4156-A2CD-BADBB01A2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30234-E08D-4C79-BD59-7085AEF4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6A6C-8F85-458A-997C-B70485512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93D65-90C4-410C-8DD3-AD55C83E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D7A7C-28E2-4214-88B3-B887F962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751C1-C1FD-4BAE-921B-0EAA28B9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645A3-C6C3-4ED9-A013-17BA8A420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A4CB5-4CBE-4500-A827-63A601BFA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D49F4-EFD0-4E9F-8D9C-ACD510FF1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F7E85-8FA5-482D-89C7-CA9484D3F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30A8D-5A5B-4886-8F98-7872FCE95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0D23B-A6B0-433A-8887-154F1E596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5F008-A7D6-4DF5-A3B0-61363A6EB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7299-D04F-44DE-BE96-45DC983C2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4391F-E929-4141-BFC5-352AE2485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30658-9E2B-4F20-990F-C2BFA4AD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21422-3EE2-4142-AB85-FE8EE35E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2F233-D486-4348-897D-C5776842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9B967-2AFD-4D61-8D71-5AB61DCDA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10446-4833-4609-9CE3-6F55AADF2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2A261-194D-4571-8C44-BF24F617D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827D5-0B30-4070-AE88-FE5344D26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FF642-94D9-4A3B-949E-134DBE6C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D2494-A3A1-45B8-9A38-2135457CD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5917-5AF5-413C-B0B5-2EEFB5D42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6C272-E3DE-4CAF-B843-F66C766DB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D8F12-66A0-4E20-9318-0B363DE1F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A8DBA-1A9B-4BA8-84A3-1757A3929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4A6F4-FFEB-4C55-BD79-3F365450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690F7-481C-4429-A974-55591CF8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F4383-F317-4A41-AA5A-111D5A25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0F4A6-380A-473B-86EE-2F3A2BA73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6BD4D-51FE-4D2F-B5B7-D7877AD7F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729F9-3528-4916-A30B-A92C1B3C2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EE447-BC09-4E0B-94AD-B6EB633A6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5CBA-131D-4CFB-B65B-8F16F72C9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9C3A6-E98D-4AAB-B7D3-C7F0B1E11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8028F-A8F6-4E11-9CC8-FFEB710DD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63753-0B74-4362-B25A-CFBF7BF92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80B14-BAE2-4663-AA98-2414A63CD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3B713-8850-42DE-ADE6-DC257819A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70FBF-7D53-4587-ABAB-D031C63F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E9347-6B37-46C4-BFB3-491F2454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CAF32-7559-4194-BDFB-F7E79416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D01DA-A257-45F6-B231-1746BB83A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15ED0-E1C6-42D7-960F-CD41AB92A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72C1-0D26-4BA3-91A2-5179A039F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7B0CF-C196-41EA-AB94-7F91D66EA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B2A1-C37C-4107-BBBC-0662A274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DDAB-0471-4ADE-B7FB-B5548855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6150-B815-4B56-9A4B-88D9603B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28B76-D106-4CE6-B586-2ADA59219859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3547E-07AE-4251-96AF-615339BB7787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1010D-7D03-475A-9029-17279674EBD9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BEA00-E2BD-4EAB-BD60-5E3BA70BA802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91AAE-3EDF-40AD-9A14-9393F0CD78C5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facweb.cs.depaul.edu/sgrais/images/Proportion/0602003.jpg" TargetMode="External"/><Relationship Id="rId2" Type="http://schemas.openxmlformats.org/officeDocument/2006/relationships/hyperlink" Target="http://facweb.cs.depaul.edu/sgrais/images/Proportion/0602003.jpg" TargetMode="External"/><Relationship Id="rId3" Type="http://schemas.openxmlformats.org/officeDocument/2006/relationships/hyperlink" Target="http://facweb.cs.depaul.edu/sgrais/images/Proportion/0602003.jpg" TargetMode="External"/><Relationship Id="rId4" Type="http://schemas.openxmlformats.org/officeDocument/2006/relationships/hyperlink" Target="http://facweb.cs.depaul.edu/sgrais/images/Proportion/0602003.jpg" TargetMode="External"/><Relationship Id="rId5" Type="http://schemas.openxmlformats.org/officeDocument/2006/relationships/hyperlink" Target="http://facweb.cs.depaul.edu/sgrais/images/Proportion/0602003.jpg" TargetMode="External"/><Relationship Id="rId6" Type="http://schemas.openxmlformats.org/officeDocument/2006/relationships/hyperlink" Target="http://facweb.cs.depaul.edu/sgrais/images/Proportion/0602003.jpg" TargetMode="External"/><Relationship Id="rId7" Type="http://schemas.openxmlformats.org/officeDocument/2006/relationships/hyperlink" Target="http://facweb.cs.depaul.edu/sgrais/images/Proportion/0602003.jpg" TargetMode="External"/><Relationship Id="rId8" Type="http://schemas.openxmlformats.org/officeDocument/2006/relationships/hyperlink" Target="http://facweb.cs.depaul.edu/sgrais/images/Proportion/0602003.jpg" TargetMode="External"/><Relationship Id="rId9" Type="http://schemas.openxmlformats.org/officeDocument/2006/relationships/hyperlink" Target="http://facweb.cs.depaul.edu/sgrais/images/Proportion/0602003.jpg" TargetMode="External"/><Relationship Id="rId10" Type="http://schemas.openxmlformats.org/officeDocument/2006/relationships/hyperlink" Target="http://facweb.cs.depaul.edu/sgrais/images/Proportion/0602003.jpg" TargetMode="External"/><Relationship Id="rId11" Type="http://schemas.openxmlformats.org/officeDocument/2006/relationships/hyperlink" Target="http://im4-tub-ru.yandex.net/i?id=311553490-48-72" TargetMode="External"/><Relationship Id="rId12" Type="http://schemas.openxmlformats.org/officeDocument/2006/relationships/hyperlink" Target="http://im4-tub-ru.yandex.net/i?id=311553490-48-72" TargetMode="External"/><Relationship Id="rId13" Type="http://schemas.openxmlformats.org/officeDocument/2006/relationships/hyperlink" Target="http://pthumbnails.5min.com/5036637/251831837_c.jpg" TargetMode="External"/><Relationship Id="rId14" Type="http://schemas.openxmlformats.org/officeDocument/2006/relationships/hyperlink" Target="http://pthumbnails.5min.com/5036637/251831837_c.jpg" TargetMode="External"/><Relationship Id="rId15" Type="http://schemas.openxmlformats.org/officeDocument/2006/relationships/hyperlink" Target="http://im4-tub-ru.yandex.net/i?id=171051495-15-72" TargetMode="External"/><Relationship Id="rId16" Type="http://schemas.openxmlformats.org/officeDocument/2006/relationships/hyperlink" Target="http://im4-tub-ru.yandex.net/i?id=171051495-15-72" TargetMode="External"/><Relationship Id="rId17" Type="http://schemas.openxmlformats.org/officeDocument/2006/relationships/hyperlink" Target="http://im3-tub-ru.yandex.net/i?id=468196098-32-72" TargetMode="External"/><Relationship Id="rId18" Type="http://schemas.openxmlformats.org/officeDocument/2006/relationships/hyperlink" Target="http://im3-tub-ru.yandex.net/i?id=468196098-32-72" TargetMode="External"/><Relationship Id="rId19" Type="http://schemas.openxmlformats.org/officeDocument/2006/relationships/hyperlink" Target="http://img-fotki.yandex.ru/get/4903/corex.14/0_3fc9e_c71ec4b_L" TargetMode="External"/><Relationship Id="rId20" Type="http://schemas.openxmlformats.org/officeDocument/2006/relationships/hyperlink" Target="http://img-fotki.yandex.ru/get/4903/corex.14/0_3fc9e_c71ec4b_L" TargetMode="External"/><Relationship Id="rId21" Type="http://schemas.openxmlformats.org/officeDocument/2006/relationships/hyperlink" Target="http://img-fotki.yandex.ru/get/4903/corex.14/0_3fc9e_c71ec4b_L" TargetMode="External"/><Relationship Id="rId22" Type="http://schemas.openxmlformats.org/officeDocument/2006/relationships/hyperlink" Target="http://img-fotki.yandex.ru/get/4903/corex.14/0_3fc9e_c71ec4b_L" TargetMode="External"/><Relationship Id="rId23" Type="http://schemas.openxmlformats.org/officeDocument/2006/relationships/hyperlink" Target="http://img-fotki.yandex.ru/get/4903/corex.14/0_3fc9e_c71ec4b_L" TargetMode="External"/><Relationship Id="rId24" Type="http://schemas.openxmlformats.org/officeDocument/2006/relationships/hyperlink" Target="http://img-fotki.yandex.ru/get/4903/corex.14/0_3fc9e_c71ec4b_L" TargetMode="External"/><Relationship Id="rId25" Type="http://schemas.openxmlformats.org/officeDocument/2006/relationships/hyperlink" Target="http://alemix-forex.ru/&#1073;&#1080;&#1086;&#1075;&#1088;&#1072;&#1092;&#1080;&#1103;%20&#1092;&#1080;&#1073;&#1086;&#1085;&#1072;&#1095;&#1095;&#1080;" TargetMode="External"/><Relationship Id="rId26" Type="http://schemas.openxmlformats.org/officeDocument/2006/relationships/hyperlink" Target="http://im4-tub-ru.yandex.net/i?id=76447688-22-72" TargetMode="External"/><Relationship Id="rId27" Type="http://schemas.openxmlformats.org/officeDocument/2006/relationships/hyperlink" Target="http://im4-tub-ru.yandex.net/i?id=76447688-22-72" TargetMode="External"/><Relationship Id="rId28" Type="http://schemas.openxmlformats.org/officeDocument/2006/relationships/hyperlink" Target="http://im7-tub-ru.yandex.net/i?id=136064359-52-72" TargetMode="External"/><Relationship Id="rId29" Type="http://schemas.openxmlformats.org/officeDocument/2006/relationships/hyperlink" Target="http://im7-tub-ru.yandex.net/i?id=136064359-52-72" TargetMode="External"/><Relationship Id="rId30" Type="http://schemas.openxmlformats.org/officeDocument/2006/relationships/hyperlink" Target="http://im7-tub-ru.yandex.net/i?id=379143481-36-72" TargetMode="External"/><Relationship Id="rId31" Type="http://schemas.openxmlformats.org/officeDocument/2006/relationships/hyperlink" Target="http://im7-tub-ru.yandex.net/i?id=379143481-36-72" TargetMode="External"/><Relationship Id="rId32" Type="http://schemas.openxmlformats.org/officeDocument/2006/relationships/hyperlink" Target="http://im2-tub-ru.yandex.net/i?id=277195420-28-72" TargetMode="External"/><Relationship Id="rId33" Type="http://schemas.openxmlformats.org/officeDocument/2006/relationships/hyperlink" Target="http://im2-tub-ru.yandex.net/i?id=277195420-28-72" TargetMode="External"/><Relationship Id="rId34" Type="http://schemas.openxmlformats.org/officeDocument/2006/relationships/hyperlink" Target="http://im8-tub-ru.yandex.net/i?id=355862324-12-72" TargetMode="External"/><Relationship Id="rId35" Type="http://schemas.openxmlformats.org/officeDocument/2006/relationships/hyperlink" Target="http://im8-tub-ru.yandex.net/i?id=355862324-12-72" TargetMode="External"/><Relationship Id="rId36" Type="http://schemas.openxmlformats.org/officeDocument/2006/relationships/hyperlink" Target="http://im3-tub-ru.yandex.net/i?id=352682289-01-72" TargetMode="External"/><Relationship Id="rId37" Type="http://schemas.openxmlformats.org/officeDocument/2006/relationships/hyperlink" Target="http://media.log-in.ru/images/articles/article_432/14.gif" TargetMode="External"/><Relationship Id="rId3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s011.radikal.ru/i316/1104/a1/2daf4ed83765.jpg" TargetMode="External"/><Relationship Id="rId2" Type="http://schemas.openxmlformats.org/officeDocument/2006/relationships/hyperlink" Target="http://s011.radikal.ru/i316/1104/a1/2daf4ed83765.jpg" TargetMode="External"/><Relationship Id="rId3" Type="http://schemas.openxmlformats.org/officeDocument/2006/relationships/hyperlink" Target="http://turkmenistan.karakum.net/albums/kamma/7-plugin-to/?vob=examples-of-fibonacci-sequence-in-art-5XDCDqJJY/WYw8b3u0i7rOYRmRyzfqSAkGK0iX3x3pZ2NxhdW2/0zoGiHaquhPkd3jnAK7orDtPNIRDk3UhHwOPNbqh4dnvj7HfXec7k1ToN4RNBiNEExHFMtTQuYlk=3e8.jpg" TargetMode="External"/><Relationship Id="rId4" Type="http://schemas.openxmlformats.org/officeDocument/2006/relationships/hyperlink" Target="http://turkmenistan.karakum.net/albums/kamma/7-plugin-to/?vob=examples-of-fibonacci-sequence-in-art-5XDCDqJJY/WYw8b3u0i7rOYRmRyzfqSAkGK0iX3x3pZ2NxhdW2/0zoGiHaquhPkd3jnAK7orDtPNIRDk3UhHwOPNbqh4dnvj7HfXec7k1ToN4RNBiNEExHFMtTQuYlk=3e8.jpg" TargetMode="External"/><Relationship Id="rId5" Type="http://schemas.openxmlformats.org/officeDocument/2006/relationships/hyperlink" Target="http://turkmenistan.karakum.net/albums/kamma/7-plugin-to/?vob=examples-of-fibonacci-sequence-in-art-5XDCDqJJY/WYw8b3u0i7rOYRmRyzfqSAkGK0iX3x3pZ2NxhdW2/0zoGiHaquhPkd3jnAK7orDtPNIRDk3UhHwOPNbqh4dnvj7HfXec7k1ToN4RNBiNEExHFMtTQuYlk=3e8.jpg" TargetMode="External"/><Relationship Id="rId6" Type="http://schemas.openxmlformats.org/officeDocument/2006/relationships/hyperlink" Target="http://turkmenistan.karakum.net/albums/kamma/7-plugin-to/?vob=examples-of-fibonacci-sequence-in-art-5XDCDqJJY/WYw8b3u0i7rOYRmRyzfqSAkGK0iX3x3pZ2NxhdW2/0zoGiHaquhPkd3jnAK7orDtPNIRDk3UhHwOPNbqh4dnvj7HfXec7k1ToN4RNBiNEExHFMtTQuYlk=3e8.jpg" TargetMode="External"/><Relationship Id="rId7" Type="http://schemas.openxmlformats.org/officeDocument/2006/relationships/hyperlink" Target="http://turkmenistan.karakum.net/albums/kamma/7-plugin-to/?vob=examples-of-fibonacci-sequence-in-art-5XDCDqJJY/WYw8b3u0i7rOYRmRyzfqSAkGK0iX3x3pZ2NxhdW2/0zoGiHaquhPkd3jnAK7orDtPNIRDk3UhHwOPNbqh4dnvj7HfXec7k1ToN4RNBiNEExHFMtTQuYlk=3e8.jpg" TargetMode="External"/><Relationship Id="rId8" Type="http://schemas.openxmlformats.org/officeDocument/2006/relationships/hyperlink" Target="http://turkmenistan.karakum.net/albums/kamma/7-plugin-to/?vob=examples-of-fibonacci-sequence-in-art-5XDCDqJJY/WYw8b3u0i7rOYRmRyzfqSAkGK0iX3x3pZ2NxhdW2/0zoGiHaquhPkd3jnAK7orDtPNIRDk3UhHwOPNbqh4dnvj7HfXec7k1ToN4RNBiNEExHFMtTQuYlk=3e8.jpg" TargetMode="External"/><Relationship Id="rId9" Type="http://schemas.openxmlformats.org/officeDocument/2006/relationships/hyperlink" Target="http://turkmenistan.karakum.net/albums/kamma/7-plugin-to/?vob=examples-of-fibonacci-sequence-in-art-5XDCDqJJY/WYw8b3u0i7rOYRmRyzfqSAkGK0iX3x3pZ2NxhdW2/0zoGiHaquhPkd3jnAK7orDtPNIRDk3UhHwOPNbqh4dnvj7HfXec7k1ToN4RNBiNEExHFMtTQuYlk=3e8.jpg" TargetMode="External"/><Relationship Id="rId10" Type="http://schemas.openxmlformats.org/officeDocument/2006/relationships/hyperlink" Target="http://turkmenistan.karakum.net/albums/kamma/7-plugin-to/?vob=examples-of-fibonacci-sequence-in-art-5XDCDqJJY/WYw8b3u0i7rOYRmRyzfqSAkGK0iX3x3pZ2NxhdW2/0zoGiHaquhPkd3jnAK7orDtPNIRDk3UhHwOPNbqh4dnvj7HfXec7k1ToN4RNBiNEExHFMtTQuYlk=3e8.jpg" TargetMode="External"/><Relationship Id="rId11" Type="http://schemas.openxmlformats.org/officeDocument/2006/relationships/hyperlink" Target="http://turkmenistan.karakum.net/albums/kamma/7-plugin-to/?vob=examples-of-fibonacci-sequence-in-art-5XDCDqJJY/WYw8b3u0i7rOYRmRyzfqSAkGK0iX3x3pZ2NxhdW2/0zoGiHaquhPkd3jnAK7orDtPNIRDk3UhHwOPNbqh4dnvj7HfXec7k1ToN4RNBiNEExHFMtTQuYlk=3e8.jpg" TargetMode="External"/><Relationship Id="rId12" Type="http://schemas.openxmlformats.org/officeDocument/2006/relationships/hyperlink" Target="http://vova1001.narod.ru/images/00006157.jpg" TargetMode="External"/><Relationship Id="rId13" Type="http://schemas.openxmlformats.org/officeDocument/2006/relationships/hyperlink" Target="http://vova1001.narod.ru/images/00006157.jpg" TargetMode="External"/><Relationship Id="rId14" Type="http://schemas.openxmlformats.org/officeDocument/2006/relationships/hyperlink" Target="http://vova1001.narod.ru/images/00006157.jpg" TargetMode="External"/><Relationship Id="rId15" Type="http://schemas.openxmlformats.org/officeDocument/2006/relationships/hyperlink" Target="http://vova1001.narod.ru/images/00006157.jpg" TargetMode="External"/><Relationship Id="rId16" Type="http://schemas.openxmlformats.org/officeDocument/2006/relationships/hyperlink" Target="http://kartcent.ru/zagadka-chisel-fibonachchi/" TargetMode="External"/><Relationship Id="rId17" Type="http://schemas.openxmlformats.org/officeDocument/2006/relationships/hyperlink" Target="http://kartcent.ru/zagadka-chisel-fibonachchi/" TargetMode="External"/><Relationship Id="rId18" Type="http://schemas.openxmlformats.org/officeDocument/2006/relationships/hyperlink" Target="http://kartcent.ru/zagadka-chisel-fibonachchi/" TargetMode="External"/><Relationship Id="rId19" Type="http://schemas.openxmlformats.org/officeDocument/2006/relationships/hyperlink" Target="http://kartcent.ru/zagadka-chisel-fibonachchi/" TargetMode="External"/><Relationship Id="rId20" Type="http://schemas.openxmlformats.org/officeDocument/2006/relationships/hyperlink" Target="http://kartcent.ru/zagadka-chisel-fibonachchi/" TargetMode="External"/><Relationship Id="rId21" Type="http://schemas.openxmlformats.org/officeDocument/2006/relationships/hyperlink" Target="http://kartcent.ru/zagadka-chisel-fibonachchi/" TargetMode="External"/><Relationship Id="rId2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7760" y="1142640"/>
            <a:ext cx="6095880" cy="2133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ЗОЛОТАЯ МАТЕМАТИКА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ЛЕОНАРДО ФИБОНАЧЧИ</a:t>
            </a:r>
            <a:br>
              <a:rPr sz="3600"/>
            </a:b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27432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ыполнили: ученицы 6 «А» класса МОУ «СОШ № 48» г.Астрахани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азина Кристина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косырская Виктория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айбекова Анастасия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уководитель: учитель математики МОУ «СОШ № 48» г.Астрахани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акреу Наталия Николаевна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2" name="Picture 4" descr="img123766_1-3_Fibonachchi_i_rakushka"/>
          <p:cNvPicPr/>
          <p:nvPr/>
        </p:nvPicPr>
        <p:blipFill>
          <a:blip r:embed="rId2"/>
          <a:stretch/>
        </p:blipFill>
        <p:spPr>
          <a:xfrm>
            <a:off x="0" y="0"/>
            <a:ext cx="266688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32040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f9a"/>
                </a:solidFill>
                <a:latin typeface="Arial"/>
              </a:rPr>
              <a:t>СЕМЕНА И </a:t>
            </a:r>
            <a:br>
              <a:rPr sz="3200"/>
            </a:br>
            <a:r>
              <a:rPr b="1" lang="en-US" sz="3200" spc="-1" strike="noStrike">
                <a:solidFill>
                  <a:srgbClr val="b13f9a"/>
                </a:solidFill>
                <a:latin typeface="Arial"/>
              </a:rPr>
              <a:t>СПИРАЛЬ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609200"/>
            <a:ext cx="35434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rebuchet MS"/>
              </a:rPr>
              <a:t>Семена в подсолнухе, в шишке располагаются так же в виде спирали</a:t>
            </a:r>
            <a:r>
              <a:rPr b="0" lang="en-US" sz="2600" spc="-1" strike="noStrike">
                <a:solidFill>
                  <a:srgbClr val="993300"/>
                </a:solidFill>
                <a:latin typeface="Trebuchet MS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152960" y="1609200"/>
            <a:ext cx="35431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9" name="Picture 7" descr="11"/>
          <p:cNvPicPr/>
          <p:nvPr/>
        </p:nvPicPr>
        <p:blipFill>
          <a:blip r:embed="rId1"/>
          <a:stretch/>
        </p:blipFill>
        <p:spPr>
          <a:xfrm>
            <a:off x="5486400" y="320040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12"/>
          <p:cNvPicPr/>
          <p:nvPr/>
        </p:nvPicPr>
        <p:blipFill>
          <a:blip r:embed="rId2"/>
          <a:stretch/>
        </p:blipFill>
        <p:spPr>
          <a:xfrm>
            <a:off x="4971960" y="0"/>
            <a:ext cx="4172040" cy="29210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9" descr="13"/>
          <p:cNvPicPr/>
          <p:nvPr/>
        </p:nvPicPr>
        <p:blipFill>
          <a:blip r:embed="rId3"/>
          <a:stretch/>
        </p:blipFill>
        <p:spPr>
          <a:xfrm>
            <a:off x="5334120" y="2514600"/>
            <a:ext cx="3809880" cy="27496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0" descr="sunflower"/>
          <p:cNvPicPr/>
          <p:nvPr/>
        </p:nvPicPr>
        <p:blipFill>
          <a:blip r:embed="rId4"/>
          <a:stretch/>
        </p:blipFill>
        <p:spPr>
          <a:xfrm>
            <a:off x="380880" y="1523880"/>
            <a:ext cx="57150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7242120" cy="74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f9a"/>
                </a:solidFill>
                <a:latin typeface="Arial"/>
              </a:rPr>
              <a:t>СПИРАЛЬ И ПАУКИ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rebuchet MS"/>
              </a:rPr>
              <a:t>Пауки плетут свою сеть и стадо на которое нападает хищник, тоже разбегаются по спирал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6" name="Picture 7" descr="8"/>
          <p:cNvPicPr/>
          <p:nvPr/>
        </p:nvPicPr>
        <p:blipFill>
          <a:blip r:embed="rId1"/>
          <a:stretch/>
        </p:blipFill>
        <p:spPr>
          <a:xfrm>
            <a:off x="4038480" y="1447920"/>
            <a:ext cx="2362320" cy="22096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8" descr="9"/>
          <p:cNvPicPr/>
          <p:nvPr/>
        </p:nvPicPr>
        <p:blipFill>
          <a:blip r:embed="rId2"/>
          <a:stretch/>
        </p:blipFill>
        <p:spPr>
          <a:xfrm>
            <a:off x="6477120" y="1523880"/>
            <a:ext cx="2120760" cy="27432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9" descr="10"/>
          <p:cNvPicPr/>
          <p:nvPr/>
        </p:nvPicPr>
        <p:blipFill>
          <a:blip r:embed="rId3"/>
          <a:stretch/>
        </p:blipFill>
        <p:spPr>
          <a:xfrm>
            <a:off x="3048120" y="4114800"/>
            <a:ext cx="32763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7242120" cy="74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f9a"/>
                </a:solidFill>
                <a:latin typeface="Arial"/>
              </a:rPr>
              <a:t>РЯД ФИБОНАЧИ И ЯЩЕРИЦА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-360" y="1523520"/>
            <a:ext cx="3809880" cy="48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rebuchet MS"/>
              </a:rPr>
              <a:t>Ящерица – если поделить ящерицу на хвост и тело, то соотношение их будет 0,62 к 0,38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2" name="Picture 6" descr="3818"/>
          <p:cNvPicPr/>
          <p:nvPr/>
        </p:nvPicPr>
        <p:blipFill>
          <a:blip r:embed="rId1"/>
          <a:stretch/>
        </p:blipFill>
        <p:spPr>
          <a:xfrm>
            <a:off x="4038480" y="1981080"/>
            <a:ext cx="3816360" cy="37339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ReSaLaLaAgA0018"/>
          <p:cNvPicPr/>
          <p:nvPr/>
        </p:nvPicPr>
        <p:blipFill>
          <a:blip r:embed="rId2"/>
          <a:stretch/>
        </p:blipFill>
        <p:spPr>
          <a:xfrm>
            <a:off x="4038480" y="1981080"/>
            <a:ext cx="403884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8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0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320400"/>
            <a:ext cx="72421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f9a"/>
                </a:solidFill>
                <a:latin typeface="Arial"/>
              </a:rPr>
              <a:t>СООТНОШЕНИЕ ДЛИНЫ РЕБРА ПИРАМИДЫ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rebuchet MS"/>
              </a:rPr>
              <a:t>Пирамиды – длина ребра пирамиды равна 783.3 футам, а высота пирамиды равна 484.4 футам. Соотношение длины ребра/высота пирамиды составляет 1,618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7" name="Picture 7" descr="16"/>
          <p:cNvPicPr/>
          <p:nvPr/>
        </p:nvPicPr>
        <p:blipFill>
          <a:blip r:embed="rId1"/>
          <a:stretch/>
        </p:blipFill>
        <p:spPr>
          <a:xfrm>
            <a:off x="4419720" y="1752480"/>
            <a:ext cx="32004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1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3160" y="320400"/>
            <a:ext cx="71658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f9a"/>
                </a:solidFill>
                <a:latin typeface="Arial"/>
              </a:rPr>
              <a:t>РЯД ФИБОНАЧЧИ </a:t>
            </a:r>
            <a:br>
              <a:rPr sz="3200"/>
            </a:br>
            <a:r>
              <a:rPr b="1" lang="en-US" sz="3200" spc="-1" strike="noStrike">
                <a:solidFill>
                  <a:srgbClr val="b13f9a"/>
                </a:solidFill>
                <a:latin typeface="Arial"/>
              </a:rPr>
              <a:t>И ГАЛАКТИКА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Trebuchet MS"/>
              </a:rPr>
              <a:t>Как видно, числовой ряд Фибоначчи широко представлен в нашей жизни: в строении живых существ, сооружений, с его помощью даже описывается устройство Галактик. Все это свидетельствует об универсальности математической загадки числового ряда Фибоначч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1" name="Picture 7" descr="14"/>
          <p:cNvPicPr/>
          <p:nvPr/>
        </p:nvPicPr>
        <p:blipFill>
          <a:blip r:embed="rId1"/>
          <a:stretch/>
        </p:blipFill>
        <p:spPr>
          <a:xfrm>
            <a:off x="4343400" y="3657600"/>
            <a:ext cx="3733920" cy="27432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8" descr="15"/>
          <p:cNvPicPr/>
          <p:nvPr/>
        </p:nvPicPr>
        <p:blipFill>
          <a:blip r:embed="rId2"/>
          <a:stretch/>
        </p:blipFill>
        <p:spPr>
          <a:xfrm>
            <a:off x="4419720" y="1143000"/>
            <a:ext cx="3657600" cy="30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320400"/>
            <a:ext cx="7242120" cy="517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f9a"/>
                </a:solidFill>
                <a:latin typeface="Arial"/>
              </a:rPr>
              <a:t>ЧЕЛОВЕК И ЗОЛОТОЕ СЕЧЕНИЕ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6840" y="1600200"/>
            <a:ext cx="3048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Части т</a:t>
            </a:r>
            <a:r>
              <a:rPr b="0" lang="en-US" sz="2400" spc="-1" strike="noStrike">
                <a:solidFill>
                  <a:srgbClr val="993300"/>
                </a:solidFill>
                <a:latin typeface="Trebuchet MS"/>
              </a:rPr>
              <a:t>ел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993300"/>
                </a:solidFill>
                <a:latin typeface="Trebuchet MS"/>
              </a:rPr>
              <a:t> человека 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находятся в соотношении золотого сечени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5" name="Picture 4" descr="img123769_1-6_Posledovatelnost_na_primere_cheloveka"/>
          <p:cNvPicPr/>
          <p:nvPr/>
        </p:nvPicPr>
        <p:blipFill>
          <a:blip r:embed="rId1"/>
          <a:stretch/>
        </p:blipFill>
        <p:spPr>
          <a:xfrm>
            <a:off x="3733920" y="1828800"/>
            <a:ext cx="4038480" cy="42544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img123777_1-14_Spiral_Fibonachchi_na_cheloveka"/>
          <p:cNvPicPr/>
          <p:nvPr/>
        </p:nvPicPr>
        <p:blipFill>
          <a:blip r:embed="rId2"/>
          <a:stretch/>
        </p:blipFill>
        <p:spPr>
          <a:xfrm>
            <a:off x="3733920" y="1752480"/>
            <a:ext cx="4386240" cy="51055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7" descr=""/>
          <p:cNvPicPr/>
          <p:nvPr/>
        </p:nvPicPr>
        <p:blipFill>
          <a:blip r:embed="rId3"/>
          <a:stretch/>
        </p:blipFill>
        <p:spPr>
          <a:xfrm>
            <a:off x="3733920" y="1371600"/>
            <a:ext cx="4343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4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9" dur="20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3300"/>
                </a:solidFill>
                <a:latin typeface="Arial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3300"/>
                </a:solidFill>
                <a:latin typeface="Trebuchet MS"/>
              </a:rPr>
              <a:t>В современной науке существует много научных групп, профессионально изучающих Золотое Сечение, числа Фибоначчи и их многочисленные приложения в математике, физике, философии, ботанике, биологии, медицине, компьютерной науке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993300"/>
                </a:solidFill>
                <a:latin typeface="Trebuchet MS"/>
              </a:rPr>
              <a:t>Множество художников, поэтов, музыкантов используют в своем творчестве «Принцип Золотого Сечения»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993300"/>
                </a:solidFill>
                <a:latin typeface="Trebuchet MS"/>
              </a:rPr>
              <a:t>В 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настоящее время </a:t>
            </a:r>
            <a:r>
              <a:rPr b="0" lang="en-US" sz="2400" spc="-1" strike="noStrike">
                <a:solidFill>
                  <a:srgbClr val="993300"/>
                </a:solidFill>
                <a:latin typeface="Trebuchet MS"/>
              </a:rPr>
              <a:t> сделан ряд выдающихся открытий, основанных на числах Фибоначчи и Золотом Сечении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3" dur="2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8" dur="20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3" dur="20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8" dur="20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Используемые ресурсы Интернета: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de66"/>
                </a:solidFill>
                <a:uFillTx/>
                <a:latin typeface="Trebuchet MS"/>
                <a:hlinkClick r:id="rId1"/>
              </a:rPr>
              <a:t>http</a:t>
            </a:r>
            <a:r>
              <a:rPr b="0" lang="ru-RU" sz="1600" spc="-1" strike="noStrike" u="sng">
                <a:solidFill>
                  <a:srgbClr val="ffde66"/>
                </a:solidFill>
                <a:uFillTx/>
                <a:latin typeface="Trebuchet MS"/>
                <a:hlinkClick r:id="rId2"/>
              </a:rPr>
              <a:t>://</a:t>
            </a:r>
            <a:r>
              <a:rPr b="0" lang="ru-RU" sz="1600" spc="-1" strike="noStrike" u="sng">
                <a:solidFill>
                  <a:srgbClr val="ffde66"/>
                </a:solidFill>
                <a:uFillTx/>
                <a:latin typeface="Trebuchet MS"/>
                <a:hlinkClick r:id="rId3"/>
              </a:rPr>
              <a:t>facweb.cs.depaul.edu</a:t>
            </a:r>
            <a:r>
              <a:rPr b="0" lang="ru-RU" sz="1600" spc="-1" strike="noStrike" u="sng">
                <a:solidFill>
                  <a:srgbClr val="ffde66"/>
                </a:solidFill>
                <a:uFillTx/>
                <a:latin typeface="Trebuchet MS"/>
                <a:hlinkClick r:id="rId4"/>
              </a:rPr>
              <a:t>/</a:t>
            </a:r>
            <a:r>
              <a:rPr b="0" lang="ru-RU" sz="1600" spc="-1" strike="noStrike" u="sng">
                <a:solidFill>
                  <a:srgbClr val="ffde66"/>
                </a:solidFill>
                <a:uFillTx/>
                <a:latin typeface="Trebuchet MS"/>
                <a:hlinkClick r:id="rId5"/>
              </a:rPr>
              <a:t>sgrais</a:t>
            </a:r>
            <a:r>
              <a:rPr b="0" lang="ru-RU" sz="1600" spc="-1" strike="noStrike" u="sng">
                <a:solidFill>
                  <a:srgbClr val="ffde66"/>
                </a:solidFill>
                <a:uFillTx/>
                <a:latin typeface="Trebuchet MS"/>
                <a:hlinkClick r:id="rId6"/>
              </a:rPr>
              <a:t>/</a:t>
            </a:r>
            <a:r>
              <a:rPr b="0" lang="ru-RU" sz="1600" spc="-1" strike="noStrike" u="sng">
                <a:solidFill>
                  <a:srgbClr val="ffde66"/>
                </a:solidFill>
                <a:uFillTx/>
                <a:latin typeface="Trebuchet MS"/>
                <a:hlinkClick r:id="rId7"/>
              </a:rPr>
              <a:t>images</a:t>
            </a:r>
            <a:r>
              <a:rPr b="0" lang="ru-RU" sz="1600" spc="-1" strike="noStrike" u="sng">
                <a:solidFill>
                  <a:srgbClr val="ffde66"/>
                </a:solidFill>
                <a:uFillTx/>
                <a:latin typeface="Trebuchet MS"/>
                <a:hlinkClick r:id="rId8"/>
              </a:rPr>
              <a:t>/</a:t>
            </a:r>
            <a:r>
              <a:rPr b="0" lang="ru-RU" sz="1600" spc="-1" strike="noStrike" u="sng">
                <a:solidFill>
                  <a:srgbClr val="ffde66"/>
                </a:solidFill>
                <a:uFillTx/>
                <a:latin typeface="Trebuchet MS"/>
                <a:hlinkClick r:id="rId9"/>
              </a:rPr>
              <a:t>Proportion</a:t>
            </a:r>
            <a:r>
              <a:rPr b="0" lang="ru-RU" sz="1600" spc="-1" strike="noStrike" u="sng">
                <a:solidFill>
                  <a:srgbClr val="ffde66"/>
                </a:solidFill>
                <a:uFillTx/>
                <a:latin typeface="Trebuchet MS"/>
                <a:hlinkClick r:id="rId10"/>
              </a:rPr>
              <a:t>/0602003.jpg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de66"/>
                </a:solidFill>
                <a:uFillTx/>
                <a:latin typeface="Trebuchet MS"/>
                <a:hlinkClick r:id="rId11"/>
              </a:rPr>
              <a:t>http</a:t>
            </a:r>
            <a:r>
              <a:rPr b="0" lang="ru-RU" sz="1600" spc="-1" strike="noStrike" u="sng">
                <a:solidFill>
                  <a:srgbClr val="ffde66"/>
                </a:solidFill>
                <a:uFillTx/>
                <a:latin typeface="Trebuchet MS"/>
                <a:hlinkClick r:id="rId12"/>
              </a:rPr>
              <a:t>://im4-tub-ru.yandex.net/i?id=311553490-48-72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de66"/>
                </a:solidFill>
                <a:uFillTx/>
                <a:latin typeface="Trebuchet MS"/>
                <a:hlinkClick r:id="rId13"/>
              </a:rPr>
              <a:t>http</a:t>
            </a:r>
            <a:r>
              <a:rPr b="0" lang="ru-RU" sz="1600" spc="-1" strike="noStrike" u="sng">
                <a:solidFill>
                  <a:srgbClr val="ffde66"/>
                </a:solidFill>
                <a:uFillTx/>
                <a:latin typeface="Trebuchet MS"/>
                <a:hlinkClick r:id="rId14"/>
              </a:rPr>
              <a:t>://pthumbnails.5min.com/5036637/251831837_c.jpg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de66"/>
                </a:solidFill>
                <a:uFillTx/>
                <a:latin typeface="Trebuchet MS"/>
                <a:hlinkClick r:id="rId15"/>
              </a:rPr>
              <a:t>http</a:t>
            </a:r>
            <a:r>
              <a:rPr b="0" lang="ru-RU" sz="1600" spc="-1" strike="noStrike" u="sng">
                <a:solidFill>
                  <a:srgbClr val="ffde66"/>
                </a:solidFill>
                <a:uFillTx/>
                <a:latin typeface="Trebuchet MS"/>
                <a:hlinkClick r:id="rId16"/>
              </a:rPr>
              <a:t>://im4-tub-ru.yandex.net/i?id=171051495-15-72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de66"/>
                </a:solidFill>
                <a:uFillTx/>
                <a:latin typeface="Trebuchet MS"/>
                <a:hlinkClick r:id="rId17"/>
              </a:rPr>
              <a:t>http</a:t>
            </a:r>
            <a:r>
              <a:rPr b="0" lang="ru-RU" sz="1600" spc="-1" strike="noStrike" u="sng">
                <a:solidFill>
                  <a:srgbClr val="ffde66"/>
                </a:solidFill>
                <a:uFillTx/>
                <a:latin typeface="Trebuchet MS"/>
                <a:hlinkClick r:id="rId18"/>
              </a:rPr>
              <a:t>://im3-tub-ru.yandex.net/i?id=468196098-32-72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de66"/>
                </a:solidFill>
                <a:uFillTx/>
                <a:latin typeface="Trebuchet MS"/>
                <a:hlinkClick r:id="rId19"/>
              </a:rPr>
              <a:t>http</a:t>
            </a:r>
            <a:r>
              <a:rPr b="0" lang="ru-RU" sz="1600" spc="-1" strike="noStrike" u="sng">
                <a:solidFill>
                  <a:srgbClr val="ffde66"/>
                </a:solidFill>
                <a:uFillTx/>
                <a:latin typeface="Trebuchet MS"/>
                <a:hlinkClick r:id="rId20"/>
              </a:rPr>
              <a:t>://</a:t>
            </a:r>
            <a:r>
              <a:rPr b="0" lang="ru-RU" sz="1600" spc="-1" strike="noStrike" u="sng">
                <a:solidFill>
                  <a:srgbClr val="ffde66"/>
                </a:solidFill>
                <a:uFillTx/>
                <a:latin typeface="Trebuchet MS"/>
                <a:hlinkClick r:id="rId21"/>
              </a:rPr>
              <a:t>img-fotki.yandex.ru</a:t>
            </a:r>
            <a:r>
              <a:rPr b="0" lang="ru-RU" sz="1600" spc="-1" strike="noStrike" u="sng">
                <a:solidFill>
                  <a:srgbClr val="ffde66"/>
                </a:solidFill>
                <a:uFillTx/>
                <a:latin typeface="Trebuchet MS"/>
                <a:hlinkClick r:id="rId22"/>
              </a:rPr>
              <a:t>/</a:t>
            </a:r>
            <a:r>
              <a:rPr b="0" lang="ru-RU" sz="1600" spc="-1" strike="noStrike" u="sng">
                <a:solidFill>
                  <a:srgbClr val="ffde66"/>
                </a:solidFill>
                <a:uFillTx/>
                <a:latin typeface="Trebuchet MS"/>
                <a:hlinkClick r:id="rId23"/>
              </a:rPr>
              <a:t>get</a:t>
            </a:r>
            <a:r>
              <a:rPr b="0" lang="ru-RU" sz="1600" spc="-1" strike="noStrike" u="sng">
                <a:solidFill>
                  <a:srgbClr val="ffde66"/>
                </a:solidFill>
                <a:uFillTx/>
                <a:latin typeface="Trebuchet MS"/>
                <a:hlinkClick r:id="rId24"/>
              </a:rPr>
              <a:t>/4903/corex.14/0_3fc9e_c71ec4b_L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de66"/>
                </a:solidFill>
                <a:uFillTx/>
                <a:latin typeface="Trebuchet MS"/>
                <a:hlinkClick r:id="rId25"/>
              </a:rPr>
              <a:t>http://alemix-forex.ru/биография%20фибоначчи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de66"/>
                </a:solidFill>
                <a:uFillTx/>
                <a:latin typeface="Trebuchet MS"/>
                <a:hlinkClick r:id="rId26"/>
              </a:rPr>
              <a:t>http</a:t>
            </a:r>
            <a:r>
              <a:rPr b="0" lang="ru-RU" sz="1600" spc="-1" strike="noStrike" u="sng">
                <a:solidFill>
                  <a:srgbClr val="ffde66"/>
                </a:solidFill>
                <a:uFillTx/>
                <a:latin typeface="Trebuchet MS"/>
                <a:hlinkClick r:id="rId27"/>
              </a:rPr>
              <a:t>://im4-tub-ru.yandex.net/i?id=76447688-22-72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de66"/>
                </a:solidFill>
                <a:uFillTx/>
                <a:latin typeface="Trebuchet MS"/>
                <a:hlinkClick r:id="rId28"/>
              </a:rPr>
              <a:t>http</a:t>
            </a:r>
            <a:r>
              <a:rPr b="0" lang="ru-RU" sz="1600" spc="-1" strike="noStrike" u="sng">
                <a:solidFill>
                  <a:srgbClr val="ffde66"/>
                </a:solidFill>
                <a:uFillTx/>
                <a:latin typeface="Trebuchet MS"/>
                <a:hlinkClick r:id="rId29"/>
              </a:rPr>
              <a:t>://im7-tub-ru.yandex.net/i?id=136064359-52-72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de66"/>
                </a:solidFill>
                <a:uFillTx/>
                <a:latin typeface="Trebuchet MS"/>
                <a:hlinkClick r:id="rId30"/>
              </a:rPr>
              <a:t>http</a:t>
            </a:r>
            <a:r>
              <a:rPr b="0" lang="ru-RU" sz="1600" spc="-1" strike="noStrike" u="sng">
                <a:solidFill>
                  <a:srgbClr val="ffde66"/>
                </a:solidFill>
                <a:uFillTx/>
                <a:latin typeface="Trebuchet MS"/>
                <a:hlinkClick r:id="rId31"/>
              </a:rPr>
              <a:t>://im7-tub-ru.yandex.net/i?id=379143481-36-72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de66"/>
                </a:solidFill>
                <a:uFillTx/>
                <a:latin typeface="Trebuchet MS"/>
                <a:hlinkClick r:id="rId32"/>
              </a:rPr>
              <a:t>http</a:t>
            </a:r>
            <a:r>
              <a:rPr b="0" lang="ru-RU" sz="1600" spc="-1" strike="noStrike" u="sng">
                <a:solidFill>
                  <a:srgbClr val="ffde66"/>
                </a:solidFill>
                <a:uFillTx/>
                <a:latin typeface="Trebuchet MS"/>
                <a:hlinkClick r:id="rId33"/>
              </a:rPr>
              <a:t>://im2-tub-ru.yandex.net/i?id=277195420-28-72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de66"/>
                </a:solidFill>
                <a:uFillTx/>
                <a:latin typeface="Trebuchet MS"/>
                <a:hlinkClick r:id="rId34"/>
              </a:rPr>
              <a:t>http</a:t>
            </a:r>
            <a:r>
              <a:rPr b="0" lang="ru-RU" sz="1600" spc="-1" strike="noStrike" u="sng">
                <a:solidFill>
                  <a:srgbClr val="ffde66"/>
                </a:solidFill>
                <a:uFillTx/>
                <a:latin typeface="Trebuchet MS"/>
                <a:hlinkClick r:id="rId35"/>
              </a:rPr>
              <a:t>://im8-tub-ru.yandex.net/i?id=355862324-12-72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de66"/>
                </a:solidFill>
                <a:uFillTx/>
                <a:latin typeface="Trebuchet MS"/>
                <a:hlinkClick r:id="rId36"/>
              </a:rPr>
              <a:t>http://im3-tub-ru.yandex.net/i?id=352682289-01-72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de66"/>
                </a:solidFill>
                <a:uFillTx/>
                <a:latin typeface="Trebuchet MS"/>
                <a:hlinkClick r:id="rId37"/>
              </a:rPr>
              <a:t>http://media.log-in.ru/images/articles/article_432/14.gif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456840" y="457200"/>
            <a:ext cx="7543800" cy="59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de66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1600" spc="-1" strike="noStrike" u="sng">
                <a:solidFill>
                  <a:srgbClr val="ffde66"/>
                </a:solidFill>
                <a:uFillTx/>
                <a:latin typeface="Arial"/>
                <a:hlinkClick r:id="rId2"/>
              </a:rPr>
              <a:t>://s011.radikal.ru/i316/1104/a1/2daf4ed83765.jpg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de66"/>
                </a:solidFill>
                <a:uFillTx/>
                <a:latin typeface="Arial"/>
                <a:hlinkClick r:id="rId3"/>
              </a:rPr>
              <a:t>http</a:t>
            </a:r>
            <a:r>
              <a:rPr b="0" lang="ru-RU" sz="1600" spc="-1" strike="noStrike" u="sng">
                <a:solidFill>
                  <a:srgbClr val="ffde66"/>
                </a:solidFill>
                <a:uFillTx/>
                <a:latin typeface="Arial"/>
                <a:hlinkClick r:id="rId4"/>
              </a:rPr>
              <a:t>://</a:t>
            </a:r>
            <a:r>
              <a:rPr b="0" lang="ru-RU" sz="1600" spc="-1" strike="noStrike" u="sng">
                <a:solidFill>
                  <a:srgbClr val="ffde66"/>
                </a:solidFill>
                <a:uFillTx/>
                <a:latin typeface="Arial"/>
                <a:hlinkClick r:id="rId5"/>
              </a:rPr>
              <a:t>turkmenistan.karakum.net</a:t>
            </a:r>
            <a:r>
              <a:rPr b="0" lang="ru-RU" sz="1600" spc="-1" strike="noStrike" u="sng">
                <a:solidFill>
                  <a:srgbClr val="ffde66"/>
                </a:solidFill>
                <a:uFillTx/>
                <a:latin typeface="Arial"/>
                <a:hlinkClick r:id="rId6"/>
              </a:rPr>
              <a:t>/</a:t>
            </a:r>
            <a:r>
              <a:rPr b="0" lang="ru-RU" sz="1600" spc="-1" strike="noStrike" u="sng">
                <a:solidFill>
                  <a:srgbClr val="ffde66"/>
                </a:solidFill>
                <a:uFillTx/>
                <a:latin typeface="Arial"/>
                <a:hlinkClick r:id="rId7"/>
              </a:rPr>
              <a:t>albums</a:t>
            </a:r>
            <a:r>
              <a:rPr b="0" lang="ru-RU" sz="1600" spc="-1" strike="noStrike" u="sng">
                <a:solidFill>
                  <a:srgbClr val="ffde66"/>
                </a:solidFill>
                <a:uFillTx/>
                <a:latin typeface="Arial"/>
                <a:hlinkClick r:id="rId8"/>
              </a:rPr>
              <a:t>/</a:t>
            </a:r>
            <a:r>
              <a:rPr b="0" lang="ru-RU" sz="1600" spc="-1" strike="noStrike" u="sng">
                <a:solidFill>
                  <a:srgbClr val="ffde66"/>
                </a:solidFill>
                <a:uFillTx/>
                <a:latin typeface="Arial"/>
                <a:hlinkClick r:id="rId9"/>
              </a:rPr>
              <a:t>kamma</a:t>
            </a:r>
            <a:r>
              <a:rPr b="0" lang="ru-RU" sz="1600" spc="-1" strike="noStrike" u="sng">
                <a:solidFill>
                  <a:srgbClr val="ffde66"/>
                </a:solidFill>
                <a:uFillTx/>
                <a:latin typeface="Arial"/>
                <a:hlinkClick r:id="rId10"/>
              </a:rPr>
              <a:t>/7-plugin-to/?vob=examples-of-fibonacci-sequence-in-art-5XDCDqJJY/WYw8b3u0i7rOYRmRyzfqSAkGK0iX3x3pZ2NxhdW2/</a:t>
            </a:r>
            <a:r>
              <a:rPr b="0" lang="ru-RU" sz="1600" spc="-1" strike="noStrike" u="sng">
                <a:solidFill>
                  <a:srgbClr val="ffde66"/>
                </a:solidFill>
                <a:uFillTx/>
                <a:latin typeface="Arial"/>
                <a:hlinkClick r:id="rId11"/>
              </a:rPr>
              <a:t>0zoGiHaquhPkd3jnAK7orDtPNIRDk3UhHwOPNbqh4dnvj7HfXec7k1ToN4RNBiNEExHFMtTQuYlk=3e8.jpg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de66"/>
                </a:solidFill>
                <a:uFillTx/>
                <a:latin typeface="Arial"/>
                <a:hlinkClick r:id="rId12"/>
              </a:rPr>
              <a:t>http</a:t>
            </a:r>
            <a:r>
              <a:rPr b="0" lang="ru-RU" sz="1600" spc="-1" strike="noStrike" u="sng">
                <a:solidFill>
                  <a:srgbClr val="ffde66"/>
                </a:solidFill>
                <a:uFillTx/>
                <a:latin typeface="Arial"/>
                <a:hlinkClick r:id="rId13"/>
              </a:rPr>
              <a:t>://vova1001.narod.ru/</a:t>
            </a:r>
            <a:r>
              <a:rPr b="0" lang="ru-RU" sz="1600" spc="-1" strike="noStrike" u="sng">
                <a:solidFill>
                  <a:srgbClr val="ffde66"/>
                </a:solidFill>
                <a:uFillTx/>
                <a:latin typeface="Arial"/>
                <a:hlinkClick r:id="rId14"/>
              </a:rPr>
              <a:t>images</a:t>
            </a:r>
            <a:r>
              <a:rPr b="0" lang="ru-RU" sz="1600" spc="-1" strike="noStrike" u="sng">
                <a:solidFill>
                  <a:srgbClr val="ffde66"/>
                </a:solidFill>
                <a:uFillTx/>
                <a:latin typeface="Arial"/>
                <a:hlinkClick r:id="rId15"/>
              </a:rPr>
              <a:t>/00006157.jpg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de66"/>
                </a:solidFill>
                <a:uFillTx/>
                <a:latin typeface="Arial"/>
                <a:hlinkClick r:id="rId16"/>
              </a:rPr>
              <a:t>http</a:t>
            </a:r>
            <a:r>
              <a:rPr b="0" lang="ru-RU" sz="1600" spc="-1" strike="noStrike" u="sng">
                <a:solidFill>
                  <a:srgbClr val="ffde66"/>
                </a:solidFill>
                <a:uFillTx/>
                <a:latin typeface="Arial"/>
                <a:hlinkClick r:id="rId17"/>
              </a:rPr>
              <a:t>://</a:t>
            </a:r>
            <a:r>
              <a:rPr b="0" lang="ru-RU" sz="1600" spc="-1" strike="noStrike" u="sng">
                <a:solidFill>
                  <a:srgbClr val="ffde66"/>
                </a:solidFill>
                <a:uFillTx/>
                <a:latin typeface="Arial"/>
                <a:hlinkClick r:id="rId18"/>
              </a:rPr>
              <a:t>kartcent.ru</a:t>
            </a:r>
            <a:r>
              <a:rPr b="0" lang="ru-RU" sz="1600" spc="-1" strike="noStrike" u="sng">
                <a:solidFill>
                  <a:srgbClr val="ffde66"/>
                </a:solidFill>
                <a:uFillTx/>
                <a:latin typeface="Arial"/>
                <a:hlinkClick r:id="rId19"/>
              </a:rPr>
              <a:t>/</a:t>
            </a:r>
            <a:r>
              <a:rPr b="0" lang="ru-RU" sz="1600" spc="-1" strike="noStrike" u="sng">
                <a:solidFill>
                  <a:srgbClr val="ffde66"/>
                </a:solidFill>
                <a:uFillTx/>
                <a:latin typeface="Arial"/>
                <a:hlinkClick r:id="rId20"/>
              </a:rPr>
              <a:t>zagadka-chisel-fibonachchi</a:t>
            </a:r>
            <a:r>
              <a:rPr b="0" lang="ru-RU" sz="1600" spc="-1" strike="noStrike" u="sng">
                <a:solidFill>
                  <a:srgbClr val="ffde66"/>
                </a:solidFill>
                <a:uFillTx/>
                <a:latin typeface="Arial"/>
                <a:hlinkClick r:id="rId21"/>
              </a:rPr>
              <a:t>/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i5.pixs.ru/storage/9/0/3/3jpg_7040654_3032903.jpg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im7-tub-ru.yandex.net/i?id=464665397-05-72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im3-tub-ru.yandex.net/i?id=69997937-33-72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im4-tub-ru.yandex.net/i?id=240120133-59-72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im5-tub-ru.yandex.net/i?id=496247041-60-72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www.cio.arcticsu.ru/projects/pr1620/_derived/index.htm_cmp_radial010_bnr.gif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077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13f9a"/>
                </a:solidFill>
                <a:latin typeface="Arial"/>
              </a:rPr>
              <a:t>СПАСИБО 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13f9a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13f9a"/>
                </a:solidFill>
                <a:latin typeface="Arial"/>
              </a:rPr>
              <a:t>ЗА  ВНИМАНИЕ!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4" name="Picture 5" descr="C:\Users\2.6\Documents\Папка обмена Bluetooth\DSC00872.JPG"/>
          <p:cNvPicPr/>
          <p:nvPr/>
        </p:nvPicPr>
        <p:blipFill>
          <a:blip r:embed="rId1"/>
          <a:stretch/>
        </p:blipFill>
        <p:spPr>
          <a:xfrm>
            <a:off x="4648320" y="2895480"/>
            <a:ext cx="3504960" cy="31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3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3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3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3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3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3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742840" y="380520"/>
            <a:ext cx="4800600" cy="127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f9a"/>
                </a:solidFill>
                <a:latin typeface="Arial"/>
              </a:rPr>
              <a:t>Посвящается математикам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533520" y="2361960"/>
            <a:ext cx="7238880" cy="42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rebuchet MS"/>
              </a:rPr>
              <a:t>Спасибо вам за красоту науки,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rebuchet MS"/>
              </a:rPr>
              <a:t>За ясность цифр, за формулы игру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rebuchet MS"/>
              </a:rPr>
              <a:t>Решая каждый раз задачу лишь от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rebuchet MS"/>
              </a:rPr>
              <a:t>скуки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rebuchet MS"/>
              </a:rPr>
              <a:t>Я вдохновенье непременно нахожу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5" name="Picture 4" descr="img123766_1-3_Fibonachchi_i_rakushka"/>
          <p:cNvPicPr/>
          <p:nvPr/>
        </p:nvPicPr>
        <p:blipFill>
          <a:blip r:embed="rId1"/>
          <a:stretch/>
        </p:blipFill>
        <p:spPr>
          <a:xfrm>
            <a:off x="0" y="0"/>
            <a:ext cx="266688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img123765_1-2_Pamyatnik_Fibonachchi"/>
          <p:cNvPicPr/>
          <p:nvPr/>
        </p:nvPicPr>
        <p:blipFill>
          <a:blip r:embed="rId1"/>
          <a:stretch/>
        </p:blipFill>
        <p:spPr>
          <a:xfrm>
            <a:off x="4724280" y="1143000"/>
            <a:ext cx="3243240" cy="48769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7200" y="121896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rebuchet MS"/>
              </a:rPr>
              <a:t>Леонардо Фибоначчи родился в городе Пиза, к сожалению историки не сохранили точную дату его рождения. Родился Леонардо в семье купца и знатного вельможи, что дало ему свободу заниматься вещами интересными.      Заканчивается биография Фибоначчи предположительно в 1228 году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85440" y="990360"/>
            <a:ext cx="3886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838080" y="22860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ЛЕОНАРДО ФИБОНАЧ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593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ТРУДЫ  ЛЕОНАРДО ФИБОНАЧЧИ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580920" y="1218960"/>
            <a:ext cx="44960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515160" indent="-22608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rebuchet MS"/>
              </a:rPr>
              <a:t>Фибоначчи создал несколько книг посвященных математическому искусству. В 1202 и 1228 годах вышла в свет книга </a:t>
            </a:r>
            <a:r>
              <a:rPr b="1" lang="en-US" sz="2400" spc="-1" strike="noStrike">
                <a:solidFill>
                  <a:srgbClr val="993300"/>
                </a:solidFill>
                <a:latin typeface="Trebuchet MS"/>
              </a:rPr>
              <a:t>«Liber abaci» («</a:t>
            </a:r>
            <a:r>
              <a:rPr b="1" lang="ru-RU" sz="2400" spc="-1" strike="noStrike">
                <a:solidFill>
                  <a:srgbClr val="993300"/>
                </a:solidFill>
                <a:latin typeface="Trebuchet MS"/>
              </a:rPr>
              <a:t>Книга абака</a:t>
            </a:r>
            <a:r>
              <a:rPr b="1" lang="en-US" sz="2400" spc="-1" strike="noStrike">
                <a:solidFill>
                  <a:srgbClr val="993300"/>
                </a:solidFill>
                <a:latin typeface="Trebuchet MS"/>
              </a:rPr>
              <a:t>»). </a:t>
            </a:r>
            <a:r>
              <a:rPr b="1" lang="ru-RU" sz="2400" spc="-1" strike="noStrike">
                <a:solidFill>
                  <a:srgbClr val="993300"/>
                </a:solidFill>
                <a:latin typeface="Trebuchet MS"/>
              </a:rPr>
              <a:t>Данный труд вместил в себя все знания в области арифметики и алгебры той эпохи. Математики пришедшие на смену Фибоначчи использовали ее как настольную книгу.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2" name="Picture 4" descr="img123766_1-3_Fibonachchi_i_rakushka"/>
          <p:cNvPicPr/>
          <p:nvPr/>
        </p:nvPicPr>
        <p:blipFill>
          <a:blip r:embed="rId1"/>
          <a:stretch/>
        </p:blipFill>
        <p:spPr>
          <a:xfrm>
            <a:off x="914400" y="1219320"/>
            <a:ext cx="2514600" cy="19508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8" descr=""/>
          <p:cNvPicPr/>
          <p:nvPr/>
        </p:nvPicPr>
        <p:blipFill>
          <a:blip r:embed="rId2"/>
          <a:stretch/>
        </p:blipFill>
        <p:spPr>
          <a:xfrm>
            <a:off x="990720" y="3276720"/>
            <a:ext cx="250164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593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ЗОЛОТАЯ   МАТЕМАТИКА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Picture 5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2438280" cy="358128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971440" y="1218960"/>
            <a:ext cx="4724280" cy="52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993300"/>
                </a:solidFill>
                <a:latin typeface="Trebuchet MS"/>
              </a:rPr>
              <a:t>Наверняка вам не раз приходилось задумываться, почему Природа способна создавать такие удивительные гармоничные структуры, которые восхищают и радуют глаз. Почему художники, поэты, композиторы, архитекторы создают восхитительные произведения искусства из столетия в столетие. В чем же секрет и какие законы лежат в основе этих гармоничных созданий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Rectangle 2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6905880" cy="114300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56840" y="1609200"/>
            <a:ext cx="35434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rebuchet MS"/>
              </a:rPr>
              <a:t>И все же история донесла до наших дней его главное творение - числовой ряд Фибоначчи уникальности и универсальности которого, мы не перестаем удивляться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152960" y="1609200"/>
            <a:ext cx="354312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РЯД ФИБОНАЧЧИ – ЭТО НЕ ТОЛЬКО МАТЕМАТИЧЕСКАЯ ЗАГАДКА, МЫ ВСТРЕЧАЕМСЯ С НИМ КАЖДЫЙ ДЕНЬ В ПОВСЕДНЕВНОЙ ЖИЗНИ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РЯД   ФИБОНАЧЧИ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762012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Ряд Фибоначчи выглядит следующим образом:  0, 1, 1, 2, 3, 5, 8, 13, 21, 34, 55 и т.д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Его особенность заключается в следующем – каждое число в ряду, начиная с третьего, складывается из суммы двух предшествующих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При этом отношение соседних чисел стремится к золотому сечению: 21:34 = 0,617; 34:55 = 0,618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Это отношение обозначается символом Ф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Только это отношение - 0,618:0,382 – дает непрерывное деление отрезка прямой в золотой пропорци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822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6600"/>
                </a:solidFill>
                <a:latin typeface="Arial"/>
              </a:rPr>
              <a:t>ЗОЛОТОЙ ПРЯМОУГОЛЬНИК </a:t>
            </a:r>
            <a:br>
              <a:rPr sz="2900"/>
            </a:br>
            <a:r>
              <a:rPr b="1" lang="en-US" sz="2900" spc="-1" strike="noStrike">
                <a:solidFill>
                  <a:srgbClr val="ff6600"/>
                </a:solidFill>
                <a:latin typeface="Arial"/>
              </a:rPr>
              <a:t>И СПИРАЛЬ</a:t>
            </a:r>
            <a:endParaRPr b="1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Прямоугольник с пропорциями золотого сечения называется идеальный прямоугольник или золотой прямоугольник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Если его разбить на более мелкие прямоугольники в точной последовательности Фибоначчи, а потом каждый из них разделить в таких пропорциях еще и еще, то получится система, которая называется спираль Фибоначчи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Эту спираль мы можем увидеть в самых неожиданных предметах и явлениях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4" name="Picture 4" descr=""/>
          <p:cNvPicPr/>
          <p:nvPr/>
        </p:nvPicPr>
        <p:blipFill>
          <a:blip r:embed="rId1"/>
          <a:stretch/>
        </p:blipFill>
        <p:spPr>
          <a:xfrm>
            <a:off x="609480" y="1797120"/>
            <a:ext cx="8001000" cy="50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320400"/>
            <a:ext cx="3352680" cy="1050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f9a"/>
                </a:solidFill>
                <a:latin typeface="Arial"/>
              </a:rPr>
              <a:t>РАКОВИНА И </a:t>
            </a:r>
            <a:br>
              <a:rPr sz="3200"/>
            </a:br>
            <a:r>
              <a:rPr b="1" lang="en-US" sz="3200" spc="-1" strike="noStrike">
                <a:solidFill>
                  <a:srgbClr val="b13f9a"/>
                </a:solidFill>
                <a:latin typeface="Arial"/>
              </a:rPr>
              <a:t>СПИРАЛЬ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6840" y="2133360"/>
            <a:ext cx="354348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rebuchet MS"/>
              </a:rPr>
              <a:t>Раковина в форме спирали - форма раковины заинтересовала Архимеда и он выяснил, что увеличение длины завитков раковины – это постоянная величина и равна она 1,618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152960" y="1609200"/>
            <a:ext cx="35431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8" name="Picture 5" descr="2"/>
          <p:cNvPicPr/>
          <p:nvPr/>
        </p:nvPicPr>
        <p:blipFill>
          <a:blip r:embed="rId1"/>
          <a:stretch/>
        </p:blipFill>
        <p:spPr>
          <a:xfrm>
            <a:off x="4267080" y="4676760"/>
            <a:ext cx="2895840" cy="21812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3"/>
          <p:cNvPicPr/>
          <p:nvPr/>
        </p:nvPicPr>
        <p:blipFill>
          <a:blip r:embed="rId2"/>
          <a:stretch/>
        </p:blipFill>
        <p:spPr>
          <a:xfrm>
            <a:off x="5867280" y="380880"/>
            <a:ext cx="3124440" cy="25210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7" descr="5"/>
          <p:cNvPicPr/>
          <p:nvPr/>
        </p:nvPicPr>
        <p:blipFill>
          <a:blip r:embed="rId3"/>
          <a:stretch/>
        </p:blipFill>
        <p:spPr>
          <a:xfrm>
            <a:off x="4038480" y="228600"/>
            <a:ext cx="2279880" cy="23907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6"/>
          <p:cNvPicPr/>
          <p:nvPr/>
        </p:nvPicPr>
        <p:blipFill>
          <a:blip r:embed="rId4"/>
          <a:stretch/>
        </p:blipFill>
        <p:spPr>
          <a:xfrm>
            <a:off x="6114960" y="4475160"/>
            <a:ext cx="3029040" cy="23828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9" descr="7"/>
          <p:cNvPicPr/>
          <p:nvPr/>
        </p:nvPicPr>
        <p:blipFill>
          <a:blip r:embed="rId5"/>
          <a:stretch/>
        </p:blipFill>
        <p:spPr>
          <a:xfrm>
            <a:off x="4191120" y="2514600"/>
            <a:ext cx="2641320" cy="2695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0" descr="0602003"/>
          <p:cNvPicPr/>
          <p:nvPr/>
        </p:nvPicPr>
        <p:blipFill>
          <a:blip r:embed="rId6"/>
          <a:stretch/>
        </p:blipFill>
        <p:spPr>
          <a:xfrm>
            <a:off x="6248520" y="2362320"/>
            <a:ext cx="2895480" cy="22748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6" descr="0_3fc9e_c71ec4b_L"/>
          <p:cNvPicPr/>
          <p:nvPr/>
        </p:nvPicPr>
        <p:blipFill>
          <a:blip r:embed="rId7"/>
          <a:stretch/>
        </p:blipFill>
        <p:spPr>
          <a:xfrm>
            <a:off x="4191120" y="457200"/>
            <a:ext cx="4686120" cy="33051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7" descr=""/>
          <p:cNvPicPr/>
          <p:nvPr/>
        </p:nvPicPr>
        <p:blipFill>
          <a:blip r:embed="rId8"/>
          <a:stretch/>
        </p:blipFill>
        <p:spPr>
          <a:xfrm>
            <a:off x="838080" y="1600200"/>
            <a:ext cx="80773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2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4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9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4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лья</cp:lastModifiedBy>
  <dcterms:modified xsi:type="dcterms:W3CDTF">2012-06-28T06:32:36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