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365E-00B9-4A61-A23D-BBB3CCCCC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6015-891D-4F71-9C3F-6E142104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3865-178F-45B7-80EF-1FF0D26B8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3992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124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3992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124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839D-6336-430E-976C-B0CECCA2D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F5E4-AA61-4B2C-B274-C7F286BB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3992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5124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3992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5124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F824-A470-43AA-B446-B46F7B4C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5E74-6E4E-44D1-BEE5-BC2E6DB8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5644-C6EE-4619-B544-0C12C9E6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6BB3-1E0A-4173-BFDB-7F4CF0B2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BD72-0462-4106-8CB0-3418B503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D55B-9EAF-4F7D-A7F9-938D539E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6B34-3C34-40CD-AEE5-BBDDB713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0" y="907920"/>
            <a:ext cx="9144000" cy="595008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100000">
                <a:srgbClr val="000066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6c0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99c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99c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10C9-293F-4B65-8639-F36AA1B8B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7" name="Rectangle 19"/>
          <p:cNvSpPr/>
          <p:nvPr/>
        </p:nvSpPr>
        <p:spPr>
          <a:xfrm flipV="1">
            <a:off x="0" y="837720"/>
            <a:ext cx="9144000" cy="76320"/>
          </a:xfrm>
          <a:prstGeom prst="rect">
            <a:avLst/>
          </a:prstGeom>
          <a:gradFill rotWithShape="0">
            <a:gsLst>
              <a:gs pos="0">
                <a:srgbClr val="184776"/>
              </a:gs>
              <a:gs pos="50000">
                <a:srgbClr val="3399ff"/>
              </a:gs>
              <a:gs pos="100000">
                <a:srgbClr val="1847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4"/>
          <p:cNvSpPr/>
          <p:nvPr/>
        </p:nvSpPr>
        <p:spPr>
          <a:xfrm>
            <a:off x="3657600" y="5562720"/>
            <a:ext cx="1841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6c0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99c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99c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2711/mistina.5/0_1bab1_45926e19_XL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ff"/>
                </a:solidFill>
                <a:latin typeface="Verdana"/>
              </a:rPr>
              <a:t>ИГРАЕМ, ИГРАЕМ…ИГРАЕМ!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680" y="15714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Методическая разработк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5520" y="214308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«Подвижные игры на уроках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физической  культуры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1019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урочкина Н.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Учитель физической культуры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ГБОУ СОШ № 201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анкт-Петербург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WordArt 7"/>
          <p:cNvSpPr txBox="1"/>
          <p:nvPr/>
        </p:nvSpPr>
        <p:spPr>
          <a:xfrm>
            <a:off x="539640" y="2708280"/>
            <a:ext cx="828036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i="1" lang="en-US" sz="36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8" name="" descr="Картинка 1 из 17149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1628640"/>
            <a:ext cx="2970360" cy="2224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900000" y="3933720"/>
            <a:ext cx="316872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Физкульт-привет!</a:t>
            </a:r>
            <a:br>
              <a:rPr sz="3200"/>
            </a:b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Дидактическая задача: закрепление сведений о пользе зарядк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Двигательная задача: развитие координационных способностей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Содержание: ведущий выбирает двух детей. Это две «лягушки», которые становятся в центр круга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«Лягушки» читают слова, все остальные дети за ними повторяют, имитируя движения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а болоте две подружки,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Две зеленые лягушк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Рано утром умывались,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олотенцем растирались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ожками топали,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Ручками хлопал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право, влево наклонялись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И обратно возвращались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от здоровья в чем секрет –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сем друзьям физкульт-привет!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Затем на счет «Раз, два, три» все бегут врассыпную, а «лягушки» догоняют. Те, кого «лягушки» догнали, становятся в центр круга. Игра продолжается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55640" y="3213000"/>
            <a:ext cx="2808360" cy="20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ремена года</a:t>
            </a:r>
            <a:br>
              <a:rPr sz="3200"/>
            </a:b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Дидактическая задача: формирование умения согласовывать действие в группе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Содержание: класс делится на 4 группы, каждая группа должна, пройдя через препятствие (обруч, бег в мешках, ползание по скамейке, лазание по гимнастической стенке), завладеть карточкой с заданием, в котором будет указано время года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осле непродолжительного обсуждения (1–2 минуты) группа пантомимой изображает, что делают дети в это время года (зима – катание на лыжах, коньках; лето – плавание, велосипед, футбол; весна – бег, прыжки, волейбол, футбол; осень – бег, прыжки через скакалку, футбол и т. д.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остроимся</a:t>
            </a:r>
            <a:br>
              <a:rPr sz="3200"/>
            </a:b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Дидактическая задача: выработка умения сотрудничать с помощью невербальных средств общения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Содержание: во время игры можно общаться только посредством мимики и жестов. Под музыку дети гуляют по залу, ведущий выключает музыку, дети замирают на месте, звучит команда ведущего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остроились в шеренгу по росту!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се выполняют команду под счет до 10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Далее игра продолжается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) построение по алфавиту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2) по длине волос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3) по длине рукава одежды, по длине брюк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4) по цвету одежды от светлого до темного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5) по цвету глаз от темного до светлого и т. д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867280" y="3789360"/>
            <a:ext cx="309744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ff"/>
                </a:solidFill>
                <a:latin typeface="Verdana"/>
              </a:rPr>
              <a:t>Динамические игры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-1800360" y="1712880"/>
            <a:ext cx="12746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ccff"/>
                </a:solidFill>
                <a:latin typeface="Arial"/>
              </a:rPr>
              <a:t>Задачи: </a:t>
            </a:r>
            <a:r>
              <a:rPr b="0" lang="ru-RU" sz="1800" spc="-1" strike="noStrike">
                <a:solidFill>
                  <a:srgbClr val="99ccff"/>
                </a:solidFill>
                <a:latin typeface="Arial"/>
              </a:rPr>
              <a:t>развитие</a:t>
            </a:r>
            <a:r>
              <a:rPr b="0" lang="ru-RU" sz="36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99ccff"/>
                </a:solidFill>
                <a:latin typeface="Arial"/>
              </a:rPr>
              <a:t>физических качеств(скорость,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99ccff"/>
                </a:solidFill>
                <a:latin typeface="Arial"/>
              </a:rPr>
              <a:t>сила, гибкость, выносливость, и координация;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ccff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99ccff"/>
                </a:solidFill>
                <a:latin typeface="Arial"/>
              </a:rPr>
              <a:t>накопление и обогащение двигательного опыта детей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ccff"/>
                </a:solidFill>
                <a:latin typeface="Arial"/>
              </a:rPr>
              <a:t>(овладение основными движениями);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ccff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99ccff"/>
                </a:solidFill>
                <a:latin typeface="Arial"/>
              </a:rPr>
              <a:t>формирование у воспитанников потребности в двигательной 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ccff"/>
                </a:solidFill>
                <a:latin typeface="Arial"/>
              </a:rPr>
              <a:t>активности и физическом совершенствовании.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492360" y="3789360"/>
            <a:ext cx="19846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Море волнуется</a:t>
            </a:r>
            <a:br>
              <a:rPr sz="3200"/>
            </a:b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Цель: учить детей ходить и бегать змейкой по кругу, уметь ориентироваться в пространстве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Описание игры. Дети становятся в круг на расстоянии одного шага друг от друга, и каждый чертит на своем месте кружок. Стоя в кружке, участники произносят слова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Море волнуется! Передо мной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Бьется о берег волна за волной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Эта волна не очень сильна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А эта волна – сильнее слона!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о сигналу «Море волнуется!» один из играющих – водящий – начинает движение, обходя змейкой кружки (в руках у него голубые ленточки). Те дети, которым он дает ленточки, становятся позади него; все они двигаются и имитируют движение волны. По сигналу «Море спокойно» ребята бегут занимать свои кружки. Оставшийся без места становится водящим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равила. Выбегать из кружков можно только по получении ленточки. Занимать свободное место можно только по сигналу «Море спокойно»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Два мороза</a:t>
            </a:r>
            <a:br>
              <a:rPr sz="3200"/>
            </a:b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Цель: с помощью игры упражнять в беге врассыпную; развивать пространственную ориентировку, формировать двигательные качества: быстроту, ловкость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Описание игры. Играющие располагаются в «домике» на одной стороне площадки. Двое водящих – Мороз Красный нос и Мороз Синий нос –  обращаются к детям со словами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Мы два брата молодые,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Два Мороза удалые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Я – Мороз Красный нос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Я – Мороз Синий нос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то из вас решитс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 путь-дороженьку пуститься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Дети хором отвечают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е боимся мы угроз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И не страшен нам мороз!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осле чего по сигналу «Мороз» перебегают в «домик» напротив, а оба  Мороза стараются их «заморозить» – коснуться рукой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Правила. Перебегать в дом можно только после окончания слов текста. «Морозить» игроков за чертой дома нельзя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Быстрые превращения </a:t>
            </a:r>
            <a:br>
              <a:rPr sz="3200"/>
            </a:b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Цель: с помощью метода креативного движения дать детям возможность выразить свои фантазии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Материалы: в качестве сопровождения использовать бодрую инструментальную музыку. (Магнитофон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Инструкция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–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Сейчас зазвучит музыка, и вы начнете ходить по залу. Когда музыка остановится, вы тоже должны остановиться. В этот момент я скажу вам, кого вы должны изобразить...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(Включить музыку и остановить ее примерно через одну минуту.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–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Теперь вы все должны превратиться в грустного клоуна.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(Снова включить музыку на 30 секунд.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–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Теперь вы все – веселые танцоры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овушка</a:t>
            </a:r>
            <a:br>
              <a:rPr sz="3200"/>
            </a:b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Игра проводится на площадке (в зале). Специальный инвентарь для игры не требуется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Играющие располагаются на площадке произвольно. Выбирается совушка. Ее гнездо в стороне от площадки. По сигналу учителя (ведущего) «День наступает – все оживает» дети ходят, бегают, подражая полету бабочек, птиц, жуков. После слов «Ночь наступает – все замирает» играющие останавливаются в той позе, в какой их застал сигнал учителя. Совушка выходит охотиться: шевельнувшихся уводит в свое гнездо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Снова учитель произносит: «День наступает – все оживает». Совушка уходит в гнездо, играющие оживают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У медведя во бору</a:t>
            </a:r>
            <a:br>
              <a:rPr sz="3200"/>
            </a:b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Цель: в процессе игры учить ходить равномерным шагом, ловко бегать с изменением направления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Описание игры. Дети ходят по площадке и произносят слова: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У медведя во бору грибы, ягоды беру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А медведь сидит и на нас рычит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осле слова «рычит» дети убегают, стараясь попасть в дом, а медведь ловит их (играющий, до которого медведь дотронулся, считается пойманным). Один из пойманных игроков становится медведем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равила. Медведь начинает ловить детей только после окончания слов текста. Дети должны ходить и бегать по всей площадке. Ловить детей за линией дома нельзя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Хитрая лиса</a:t>
            </a:r>
            <a:br>
              <a:rPr sz="3200"/>
            </a:b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Цель: в процессе игры упражнять детей в быстром беге, лазании, спрыгивании; развивать наблюдательность, выдержку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Описание игры. Дети становятся в круг, держа руки за спиной. Водящий, идя по кругу, незаметно кладет в руки ребенка игрушку – лисичку. По сигналу «Хитрая лиса, где ты?» (дети произносят 3 раза) лиса (ребенок с игрушкой) вбегает в круг и говорит: «Я здесь!» После слов «Я здесь!» дети разбегаются, а лиса ловит их. По сигналу «Раз, два, три – в круг быстрей беги!» дети становятся в круг. Игра повторяется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Вариант. Дети закрывают глаза, а водящий, идя по кругу, дотрагивается рукой до ребенка, который и будет «хитрой лисой»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равила. Лиса выбегает в круг только после третьего вопроса и начинает ловить после слов «Я здесь!». Играющий, до которого дотронулись, считается пойманным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Лягушки и цапля</a:t>
            </a:r>
            <a:br>
              <a:rPr sz="3200"/>
            </a:b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Цель: в ходе игры упражнять в быстром беге и прыжках в длину; развивать физические качества: ловкость, быстроту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Описание игры. В середине площадки обозначают болото, в котором живут лягушки. По сторонам площадки очерчен ручей. В стороне – гнездо цапли. По сигналу ведущего: «Лягушки прыгают в болоте» – играющие бегают и прыгают по площадке, изображая лягушек. По сигналу «Цапля идет!» цапля, перешагнув ручей, прыгает и начинает искать лягушек. Лягушки, спасаясь от цапли, перепрыгивают через ручей, стараясь спрятаться. Новая цапля выбирается после того, как будут пойманы 2–3 лягушк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Вариант. По сторонам площадки может быть протянута веревка, обозначающая болото, через которое лягушки должны перепрыгнуть, убегая от цапл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равила. Цапля может ловить лягушек только в болоте. Лягушки должны перепрыгивать через ручей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09:06:55Z</dcterms:created>
  <dc:creator>Светлана</dc:creator>
  <dc:description/>
  <dc:language>en-US</dc:language>
  <cp:lastModifiedBy>user</cp:lastModifiedBy>
  <dcterms:modified xsi:type="dcterms:W3CDTF">2011-11-14T19:31:11Z</dcterms:modified>
  <cp:revision>21</cp:revision>
  <dc:subject/>
  <dc:title>Слайд 1</dc:title>
</cp:coreProperties>
</file>