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639-51E8-4B8F-A31D-1FD0997F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5D0-19A2-4B1F-8606-018E9AA4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59B-7A96-46F5-AC1C-4E317CCF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8A3-9B2B-4A86-9467-8E515D71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932-FCEF-4776-A319-AD56316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992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1240" y="3884400"/>
            <a:ext cx="27723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8C8-35EB-4B5E-BB45-9E38EA43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7C1-4C2A-4C2B-9F2B-36574F2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4CF-95FB-4592-9CE8-971C6073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1048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CF21-CD63-4A43-8949-8A714E9F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0E3-0F0D-4D52-8736-009AD92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88440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416-BD7C-41E0-A5E2-BD5B8A2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884400"/>
            <a:ext cx="86104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452D-1BC7-4CFA-BC98-ED4FE9F1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100000">
                <a:srgbClr val="0000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84DC-02F5-469F-A097-F6BE35A37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7" name="Rectangle 19"/>
          <p:cNvSpPr/>
          <p:nvPr/>
        </p:nvSpPr>
        <p:spPr>
          <a:xfrm flipV="1">
            <a:off x="0" y="837720"/>
            <a:ext cx="9144000" cy="76320"/>
          </a:xfrm>
          <a:prstGeom prst="rect">
            <a:avLst/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6576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6c0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99c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2711/mistina.5/0_1bab1_45926e19_XL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ИГРАЕМ, ИГРАЕМ…ИГРАЕМ!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571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етодическая разработк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5520" y="2143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Подвижные игры на уроках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физической  культуры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урочкина Н.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читель физической куль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ГБОУ СОШ № 2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539640" y="2708280"/>
            <a:ext cx="8280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8" name="" descr="Картинка 1 из 1714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628640"/>
            <a:ext cx="2970360" cy="222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900000" y="3933720"/>
            <a:ext cx="316872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изкульт-привет!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идактическая задача: закрепление сведений о пользе зарядк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Двигательная задача: развитие координационных способносте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одержание: ведущий выбирает двух детей. Это две «лягушки», которые становятся в центр круга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«Лягушки» читают слова, все остальные дети за ними повторяют, имитируя движения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а болоте две подружки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ве зеленые лягушк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ано утром умывались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лотенцем растирались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ожками топали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Ручками хлопа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право, влево наклонялис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обратно возвращалис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от здоровья в чем секрет –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сем друзьям физкульт-привет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атем на счет «Раз, два, три» все бегут врассыпную, а «лягушки» догоняют. Те, кого «лягушки» догнали, становятся в центр круга. Игра продолжаетс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280836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ремена год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идактическая задача: формирование умения согласовывать действие в групп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держание: класс делится на 4 группы, каждая группа должна, пройдя через препятствие (обруч, бег в мешках, ползание по скамейке, лазание по гимнастической стенке), завладеть карточкой с заданием, в котором будет указано время год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ле непродолжительного обсуждения (1–2 минуты) группа пантомимой изображает, что делают дети в это время года (зима – катание на лыжах, коньках; лето – плавание, велосипед, футбол; весна – бег, прыжки, волейбол, футбол; осень – бег, прыжки через скакалку, футбол и т. д.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троимся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идактическая задача: выработка умения сотрудничать с помощью невербальных средств общ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держание: во время игры можно общаться только посредством мимики и жестов. Под музыку дети гуляют по залу, ведущий выключает музыку, дети замирают на месте, звучит команда ведущего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троились в шеренгу по росту!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се выполняют команду под счет до 10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Далее игра продолжаетс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) построение по алфавиту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2) по длине волос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3) по длине рукава одежды, по длине брюк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4) по цвету одежды от светлого до темного;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5) по цвету глаз от темного до светлого и т. д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867280" y="3789360"/>
            <a:ext cx="30974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ff"/>
                </a:solidFill>
                <a:latin typeface="Verdana"/>
              </a:rPr>
              <a:t>Динамические игры</a:t>
            </a: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-1800360" y="1712880"/>
            <a:ext cx="1274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Arial"/>
              </a:rPr>
              <a:t>Задачи: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развитие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физических качеств(скорость,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сила, гибкость, выносливость, и координация;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накопление и обогащение двигательного опыта детей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(овладение основными движениями);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формирование у воспитанников потребности в двигательной 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ff"/>
                </a:solidFill>
                <a:latin typeface="Arial"/>
              </a:rPr>
              <a:t>активности и физическом совершенствовании.</a:t>
            </a:r>
            <a:endParaRPr b="0" lang="en-US" sz="1800" spc="-1" strike="noStrike">
              <a:solidFill>
                <a:srgbClr val="99cc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1984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Море волнуется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учить детей ходить и бегать змейкой по кругу, уметь ориентироваться в пространств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Дети становятся в круг на расстоянии одного шага друг от друга, и каждый чертит на своем месте кружок. Стоя в кружке, участники произносят слов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оре волнуется! Передо мной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ьется о берег волна за волно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а волна не очень сильн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 эта волна – сильнее слона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 сигналу «Море волнуется!» один из играющих – водящий – начинает движение, обходя змейкой кружки (в руках у него голубые ленточки). Те дети, которым он дает ленточки, становятся позади него; все они двигаются и имитируют движение волны. По сигналу «Море спокойно» ребята бегут занимать свои кружки. Оставшийся без места становится водящи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Выбегать из кружков можно только по получении ленточки. Занимать свободное место можно только по сигналу «Море спокойно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ва мороз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Цель: с помощью игры упражнять в беге врассыпную; развивать пространственную ориентировку, формировать двигательные качества: быстроту, ловкость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Описание игры. Играющие располагаются в «домике» на одной стороне площадки. Двое водящих – Мороз Красный нос и Мороз Синий нос –  обращаются к детям со словами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ы два брата молодые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ва Мороза удалые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– Мороз Красный нос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 – Мороз Синий нос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то из вас решитс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путь-дороженьку пуститься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ти хором отвечают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е боимся мы угроз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не страшен нам мороз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осле чего по сигналу «Мороз» перебегают в «домик» напротив, а оба  Мороза стараются их «заморозить» – коснуться рукой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равила. Перебегать в дом можно только после окончания слов текста. «Морозить» игроков за чертой дома нельзя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стрые превращения 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с помощью метода креативного движения дать детям возможность выразить свои фантази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Материалы: в качестве сопровождения использовать бодрую инструментальную музыку. (Магнитофон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Инструкция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ейчас зазвучит музыка, и вы начнете ходить по залу. Когда музыка остановится, вы тоже должны остановиться. В этот момент я скажу вам, кого вы должны изобразить...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Включить музыку и остановить ее примерно через одну минуту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перь вы все должны превратиться в грустного клоуна. </a:t>
            </a:r>
            <a:r>
              <a:rPr b="0" i="1" lang="ru-RU" sz="1600" spc="-1" strike="noStrike">
                <a:solidFill>
                  <a:srgbClr val="ffffff"/>
                </a:solidFill>
                <a:latin typeface="Verdana"/>
              </a:rPr>
              <a:t>(Снова включить музыку на 30 секунд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еперь вы все – веселые танцоры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овушк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 проводится на площадке (в зале). Специальный инвентарь для игры не требует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грающие располагаются на площадке произвольно. Выбирается совушка. Ее гнездо в стороне от площадки. По сигналу учителя (ведущего) «День наступает – все оживает» дети ходят, бегают, подражая полету бабочек, птиц, жуков. После слов «Ночь наступает – все замирает» играющие останавливаются в той позе, в какой их застал сигнал учителя. Совушка выходит охотиться: шевельнувшихся уводит в свое гнездо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нова учитель произносит: «День наступает – все оживает». Совушка уходит в гнездо, играющие оживаю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 медведя во бору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в процессе игры учить ходить равномерным шагом, ловко бегать с изменением направлени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Дети ходят по площадке и произносят слова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У медведя во бору грибы, ягоды беру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А медведь сидит и на нас рычи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осле слова «рычит» дети убегают, стараясь попасть в дом, а медведь ловит их (играющий, до которого медведь дотронулся, считается пойманным). Один из пойманных игроков становится медведе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Медведь начинает ловить детей только после окончания слов текста. Дети должны ходить и бегать по всей площадке. Ловить детей за линией дома нельз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итрая лиса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в процессе игры упражнять детей в быстром беге, лазании, спрыгивании; развивать наблюдательность, выдержк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Дети становятся в круг, держа руки за спиной. Водящий, идя по кругу, незаметно кладет в руки ребенка игрушку – лисичку. По сигналу «Хитрая лиса, где ты?» (дети произносят 3 раза) лиса (ребенок с игрушкой) вбегает в круг и говорит: «Я здесь!» После слов «Я здесь!» дети разбегаются, а лиса ловит их. По сигналу «Раз, два, три – в круг быстрей беги!» дети становятся в круг. Игра повторяется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ариант. Дети закрывают глаза, а водящий, идя по кругу, дотрагивается рукой до ребенка, который и будет «хитрой лисой»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Лиса выбегает в круг только после третьего вопроса и начинает ловить после слов «Я здесь!». Играющий, до которого дотронулись, считается пойманны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ягушки и цапля</a:t>
            </a:r>
            <a:br>
              <a:rPr sz="3200"/>
            </a:br>
            <a:endParaRPr b="0" lang="en-US" sz="3200" spc="-1" strike="noStrike">
              <a:solidFill>
                <a:srgbClr val="99cc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8600" y="1142640"/>
            <a:ext cx="86104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Цель: в ходе игры упражнять в быстром беге и прыжках в длину; развивать физические качества: ловкость, быстрот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писание игры. В середине площадки обозначают болото, в котором живут лягушки. По сторонам площадки очерчен ручей. В стороне – гнездо цапли. По сигналу ведущего: «Лягушки прыгают в болоте» – играющие бегают и прыгают по площадке, изображая лягушек. По сигналу «Цапля идет!» цапля, перешагнув ручей, прыгает и начинает искать лягушек. Лягушки, спасаясь от цапли, перепрыгивают через ручей, стараясь спрятаться. Новая цапля выбирается после того, как будут пойманы 2–3 лягушк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Вариант. По сторонам площадки может быть протянута веревка, обозначающая болото, через которое лягушки должны перепрыгнуть, убегая от цап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авила. Цапля может ловить лягушек только в болоте. Лягушки должны перепрыгивать через руч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9:06:55Z</dcterms:created>
  <dc:creator>Светлана</dc:creator>
  <dc:description/>
  <dc:language>en-US</dc:language>
  <cp:lastModifiedBy>user</cp:lastModifiedBy>
  <dcterms:modified xsi:type="dcterms:W3CDTF">2011-11-14T19:31:11Z</dcterms:modified>
  <cp:revision>21</cp:revision>
  <dc:subject/>
  <dc:title>Слайд 1</dc:title>
</cp:coreProperties>
</file>