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09C-1519-4328-99A6-EC286854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D96-5EAC-42EF-B8F6-498980B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D26-DDCD-40CA-8232-40AF8EF3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D14-9866-48CE-B138-96EC6F02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FFA-3243-41F4-9E7C-B6205887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C5D-CE82-4760-9962-21A1917B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D340-BD07-48DA-8CA5-79D7BF8E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B9B-5382-42F6-B1E1-9628F7FF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8DF-0A69-4E75-926C-140CEA3C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40B-3AD0-4AA5-886B-8866DDA3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6B4-D97F-4858-A689-555C81C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7B2-5AF1-46DA-9B90-A26A7F67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327E-1968-45F9-9B14-86116E9E88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оробейникова Н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8B6E-B828-48C2-8434-BC30692EC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45;&#1075;&#1080;&#1087;&#1077;&#1090;" TargetMode="External"/><Relationship Id="rId2" Type="http://schemas.openxmlformats.org/officeDocument/2006/relationships/hyperlink" Target="http://ru.wikipedia.org/wiki/&#1042;&#1072;&#1074;&#1080;&#1083;&#1086;&#1085;&#1080;&#1103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273120" cy="39290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785880" y="214200"/>
            <a:ext cx="7786800" cy="131292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14 марта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о всем мире отмечается 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143240" y="2214720"/>
            <a:ext cx="4214880" cy="26535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Число Пи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ематическая константа, выражающая отношение длины окружности к длине ее ди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ижний колонтитул 7"/>
          <p:cNvSpPr/>
          <p:nvPr/>
        </p:nvSpPr>
        <p:spPr>
          <a:xfrm>
            <a:off x="3000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4143240" y="1214280"/>
            <a:ext cx="4572000" cy="532620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о, что отношение длины окружности к диаметру одинаково для любой окружности, и то, что это отношение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немногим более 3,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ыло известно ещё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древнеегипетски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вавилонски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древнеиндийским и древнегреческим геометр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3273480" cy="3929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214280" y="4429080"/>
            <a:ext cx="7000920" cy="19227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имвол Пи впервые употребил в 1706 году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ильям Джон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днако настоящую популярность он приобрел после того, как его начал использовать в своих работах математик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Леонард Эйлер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737 год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000160" y="1143000"/>
            <a:ext cx="2148120" cy="3029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19px-Leonhard_Euler_2"/>
          <p:cNvPicPr/>
          <p:nvPr/>
        </p:nvPicPr>
        <p:blipFill>
          <a:blip r:embed="rId2"/>
          <a:stretch/>
        </p:blipFill>
        <p:spPr>
          <a:xfrm>
            <a:off x="4572000" y="1143000"/>
            <a:ext cx="2330280" cy="29289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000680" y="1428840"/>
            <a:ext cx="4572000" cy="43599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цифровом выражении </a:t>
            </a: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Пи начинается как 3,14159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имеет бесконечную математическую продолжительность. В настоящее время вычислено </a:t>
            </a: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более триллиона знаков после запя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27348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785880" y="21420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ень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а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071720" y="1263960"/>
            <a:ext cx="6711840" cy="5031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510 знаков после запятой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π ≈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,14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 592 653 589 793 238 462 643 3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79 502 884 197 169 399 375 105 820 974 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92 307 816 406 286 208 998 628 034 825 3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7 067 982 148 086 513 282 306 647 093 8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09 550 582 231 725 359 408 128 481 117 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84 102 701 938 521 105 559 644 622 948 9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30 381 964 428 810 975 665 933 446 128 4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48 233 786 783 165 271 201 909 145 648 5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23 460 348 610 454 326 648 213 393 607 2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49 141 273 724 587 006 606 315 588 174 8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20 920 962 829 254 091 715 364 367 892 5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60 011 330 530 548 820 466 521 384 146 95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41 511 609 433 057 270 365 759 591 953 0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6 117 381 932 611 793 105 118 548 074 4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79 962 749 567 351 885 752 724 891 227 9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3 011 949 129 833 673 36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00040" y="357120"/>
            <a:ext cx="778680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4432320" cy="3643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24160" y="5214960"/>
            <a:ext cx="7310160" cy="9471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мятник числу «пи» на ступенях пер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данием Музея искусств в Сиэт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1928880" y="214200"/>
            <a:ext cx="528624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71720" y="1357200"/>
            <a:ext cx="7429320" cy="5213160"/>
          </a:xfrm>
          <a:prstGeom prst="rect">
            <a:avLst/>
          </a:prstGeom>
          <a:solidFill>
            <a:srgbClr val="ccc1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читается, что праздник придумал в 1987 году физик из Сан-Франциско Ларри Шоу, обративший внимание на то, что 14 марта (в американском написании – 3.14) ровно в 01:59 дата и время совпадут с первыми разрядами числа Пи = 3,14159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4 марта 1879 года также родился создатель теории относительности Альберт Эйнштейн, что делает этот день еще более привлекательным для всех любителей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286000" y="214200"/>
            <a:ext cx="4714920" cy="7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Число 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3:30:19Z</dcterms:created>
  <dc:creator>Admin</dc:creator>
  <dc:description/>
  <dc:language>en-US</dc:language>
  <cp:lastModifiedBy>student12_2</cp:lastModifiedBy>
  <dcterms:modified xsi:type="dcterms:W3CDTF">2012-06-29T09:36:47Z</dcterms:modified>
  <cp:revision>23</cp:revision>
  <dc:subject/>
  <dc:title>Слайд 1</dc:title>
</cp:coreProperties>
</file>