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6AFD-A0CF-4619-BD0E-2CE528B12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AF1C-01F8-430A-8CDB-36ED83F59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370F-3F2F-40F0-B376-B5646A89A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FD58-3ADB-45C2-BBD3-246A33582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E847-E7AA-4880-AEBE-706653D39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48AF-2B3C-4461-80D4-6E5849372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12E0-05CB-4056-93EF-422A24F81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F862-9F6D-4264-ACBD-C9DA4B8FC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A50C-AD30-4DC2-A99A-0FA787E46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6C0E-51B9-4387-86C3-E9C57D54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09A1-0732-4A73-89E6-07DC9D4B2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0440-F6B7-4BE2-9CF3-218CE1A60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1BB26-5D09-4E78-A65B-9B097E3F2EA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(c) </a:t>
            </a: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Коробейникова Н.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52598-BBCD-4054-93A1-AFA9A0E11F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4;&#1088;&#1077;&#1074;&#1085;&#1080;&#1081;_&#1045;&#1075;&#1080;&#1087;&#1077;&#1090;" TargetMode="External"/><Relationship Id="rId2" Type="http://schemas.openxmlformats.org/officeDocument/2006/relationships/hyperlink" Target="http://ru.wikipedia.org/wiki/&#1042;&#1072;&#1074;&#1080;&#1083;&#1086;&#1085;&#1080;&#1103;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571680" y="1785960"/>
            <a:ext cx="3273120" cy="392904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4"/>
          <p:cNvSpPr/>
          <p:nvPr/>
        </p:nvSpPr>
        <p:spPr>
          <a:xfrm>
            <a:off x="785880" y="214200"/>
            <a:ext cx="7786800" cy="1312920"/>
          </a:xfrm>
          <a:prstGeom prst="rect">
            <a:avLst/>
          </a:prstGeom>
          <a:solidFill>
            <a:srgbClr val="fcd5b5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omic Sans MS"/>
              </a:rPr>
              <a:t>14 марта 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во всем мире отмечается День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000" spc="-1" strike="noStrike">
                <a:solidFill>
                  <a:srgbClr val="c00000"/>
                </a:solidFill>
                <a:latin typeface="Comic Sans MS"/>
              </a:rPr>
              <a:t>числа П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5"/>
          <p:cNvSpPr/>
          <p:nvPr/>
        </p:nvSpPr>
        <p:spPr>
          <a:xfrm>
            <a:off x="4143240" y="2214720"/>
            <a:ext cx="4214880" cy="2653560"/>
          </a:xfrm>
          <a:prstGeom prst="rect">
            <a:avLst/>
          </a:prstGeom>
          <a:solidFill>
            <a:srgbClr val="ccc1da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Число Пи 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атематическая константа, выражающая отношение длины окружности к длине ее диамет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Нижний колонтитул 7"/>
          <p:cNvSpPr/>
          <p:nvPr/>
        </p:nvSpPr>
        <p:spPr>
          <a:xfrm>
            <a:off x="300024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1"/>
          <p:cNvSpPr/>
          <p:nvPr/>
        </p:nvSpPr>
        <p:spPr>
          <a:xfrm>
            <a:off x="4143240" y="1214280"/>
            <a:ext cx="4572000" cy="5326200"/>
          </a:xfrm>
          <a:prstGeom prst="rect">
            <a:avLst/>
          </a:prstGeom>
          <a:solidFill>
            <a:srgbClr val="ccc1da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о, что отношение длины окружности к диаметру одинаково для любой окружности, и то, что это отношение </a:t>
            </a:r>
            <a:r>
              <a:rPr b="1" lang="ru-RU" sz="2800" spc="-1" strike="noStrike">
                <a:solidFill>
                  <a:srgbClr val="c00000"/>
                </a:solidFill>
                <a:latin typeface="Comic Sans MS"/>
              </a:rPr>
              <a:t>немногим более 3,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было известно ещё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omic Sans MS"/>
                <a:hlinkClick r:id="rId1"/>
              </a:rPr>
              <a:t>древнеегипетским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omic Sans MS"/>
                <a:hlinkClick r:id="rId2"/>
              </a:rPr>
              <a:t>вавилонским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, древнеиндийским и древнегреческим геометра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3"/>
          <a:stretch/>
        </p:blipFill>
        <p:spPr>
          <a:xfrm>
            <a:off x="642960" y="1643040"/>
            <a:ext cx="3273480" cy="392904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5"/>
          <p:cNvSpPr/>
          <p:nvPr/>
        </p:nvSpPr>
        <p:spPr>
          <a:xfrm>
            <a:off x="785880" y="214200"/>
            <a:ext cx="7786800" cy="703440"/>
          </a:xfrm>
          <a:prstGeom prst="rect">
            <a:avLst/>
          </a:prstGeom>
          <a:solidFill>
            <a:srgbClr val="fcd5b5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День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000" spc="-1" strike="noStrike">
                <a:solidFill>
                  <a:srgbClr val="c00000"/>
                </a:solidFill>
                <a:latin typeface="Comic Sans MS"/>
              </a:rPr>
              <a:t>числа П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1214280" y="4429080"/>
            <a:ext cx="7000920" cy="1922760"/>
          </a:xfrm>
          <a:prstGeom prst="rect">
            <a:avLst/>
          </a:prstGeom>
          <a:solidFill>
            <a:srgbClr val="ccc1da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имвол Пи впервые употребил в 1706 году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Уильям Джонс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однако настоящую популярность он приобрел после того, как его начал использовать в своих работах математик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Леонард Эйлер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1737 году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2000160" y="1143000"/>
            <a:ext cx="2148120" cy="3029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219px-Leonhard_Euler_2"/>
          <p:cNvPicPr/>
          <p:nvPr/>
        </p:nvPicPr>
        <p:blipFill>
          <a:blip r:embed="rId2"/>
          <a:stretch/>
        </p:blipFill>
        <p:spPr>
          <a:xfrm>
            <a:off x="4572000" y="1143000"/>
            <a:ext cx="2330280" cy="292896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6"/>
          <p:cNvSpPr/>
          <p:nvPr/>
        </p:nvSpPr>
        <p:spPr>
          <a:xfrm>
            <a:off x="785880" y="214200"/>
            <a:ext cx="7786800" cy="703440"/>
          </a:xfrm>
          <a:prstGeom prst="rect">
            <a:avLst/>
          </a:prstGeom>
          <a:solidFill>
            <a:srgbClr val="fcd5b5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День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000" spc="-1" strike="noStrike">
                <a:solidFill>
                  <a:srgbClr val="c00000"/>
                </a:solidFill>
                <a:latin typeface="Comic Sans MS"/>
              </a:rPr>
              <a:t>числа П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4000680" y="1428840"/>
            <a:ext cx="4572000" cy="4359960"/>
          </a:xfrm>
          <a:prstGeom prst="rect">
            <a:avLst/>
          </a:prstGeom>
          <a:solidFill>
            <a:srgbClr val="ccc1da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цифровом выражении </a:t>
            </a:r>
            <a:r>
              <a:rPr b="1" lang="ru-RU" sz="2800" spc="-1" strike="noStrike">
                <a:solidFill>
                  <a:srgbClr val="c00000"/>
                </a:solidFill>
                <a:latin typeface="Comic Sans MS"/>
              </a:rPr>
              <a:t>Пи начинается как 3,141592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и имеет бесконечную математическую продолжительность. В настоящее время вычислено </a:t>
            </a:r>
            <a:r>
              <a:rPr b="0" lang="ru-RU" sz="2800" spc="-1" strike="noStrike">
                <a:solidFill>
                  <a:srgbClr val="c00000"/>
                </a:solidFill>
                <a:latin typeface="Comic Sans MS"/>
              </a:rPr>
              <a:t>более триллиона знаков после запят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500040" y="1643040"/>
            <a:ext cx="3273480" cy="392904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5"/>
          <p:cNvSpPr/>
          <p:nvPr/>
        </p:nvSpPr>
        <p:spPr>
          <a:xfrm>
            <a:off x="785880" y="214200"/>
            <a:ext cx="7786800" cy="703440"/>
          </a:xfrm>
          <a:prstGeom prst="rect">
            <a:avLst/>
          </a:prstGeom>
          <a:solidFill>
            <a:srgbClr val="fcd5b5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День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000" spc="-1" strike="noStrike">
                <a:solidFill>
                  <a:srgbClr val="c00000"/>
                </a:solidFill>
                <a:latin typeface="Comic Sans MS"/>
              </a:rPr>
              <a:t>числа П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"/>
          <p:cNvSpPr/>
          <p:nvPr/>
        </p:nvSpPr>
        <p:spPr>
          <a:xfrm>
            <a:off x="1071720" y="1263960"/>
            <a:ext cx="6711840" cy="5031720"/>
          </a:xfrm>
          <a:prstGeom prst="rect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omic Sans MS"/>
              </a:rPr>
              <a:t>510 знаков после запятой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omic Sans MS"/>
              </a:rPr>
              <a:t>π ≈ </a:t>
            </a: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3,14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 592 653 589 793 238 462 643 38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279 502 884 197 169 399 375 105 820 974 9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592 307 816 406 286 208 998 628 034 825 34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17 067 982 148 086 513 282 306 647 093 84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609 550 582 231 725 359 408 128 481 117 4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284 102 701 938 521 105 559 644 622 948 95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930 381 964 428 810 975 665 933 446 128 4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648 233 786 783 165 271 201 909 145 648 5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923 460 348 610 454 326 648 213 393 607 26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249 141 273 724 587 006 606 315 588 174 88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520 920 962 829 254 091 715 364 367 892 5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360 011 330 530 548 820 466 521 384 146 95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941 511 609 433 057 270 365 759 591 953 09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86 117 381 932 611 793 105 118 548 074 46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379 962 749 567 351 885 752 724 891 227 93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83 011 949 129 833 673 362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3"/>
          <p:cNvSpPr/>
          <p:nvPr/>
        </p:nvSpPr>
        <p:spPr>
          <a:xfrm>
            <a:off x="500040" y="357120"/>
            <a:ext cx="7786800" cy="703440"/>
          </a:xfrm>
          <a:prstGeom prst="rect">
            <a:avLst/>
          </a:prstGeom>
          <a:solidFill>
            <a:srgbClr val="fcd5b5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omic Sans MS"/>
              </a:rPr>
              <a:t>Число П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2143080" y="1214280"/>
            <a:ext cx="4432320" cy="3643560"/>
          </a:xfrm>
          <a:prstGeom prst="rect">
            <a:avLst/>
          </a:prstGeom>
          <a:ln w="0">
            <a:noFill/>
          </a:ln>
        </p:spPr>
      </p:pic>
      <p:sp>
        <p:nvSpPr>
          <p:cNvPr id="58" name="TextBox 2"/>
          <p:cNvSpPr/>
          <p:nvPr/>
        </p:nvSpPr>
        <p:spPr>
          <a:xfrm>
            <a:off x="1424160" y="5214960"/>
            <a:ext cx="7310160" cy="947160"/>
          </a:xfrm>
          <a:prstGeom prst="rect">
            <a:avLst/>
          </a:prstGeom>
          <a:solidFill>
            <a:srgbClr val="ccc1da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амятник числу «пи» на ступенях пере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зданием Музея искусств в Сиэт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4"/>
          <p:cNvSpPr/>
          <p:nvPr/>
        </p:nvSpPr>
        <p:spPr>
          <a:xfrm>
            <a:off x="1928880" y="214200"/>
            <a:ext cx="5286240" cy="703440"/>
          </a:xfrm>
          <a:prstGeom prst="rect">
            <a:avLst/>
          </a:prstGeom>
          <a:solidFill>
            <a:srgbClr val="fcd5b5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omic Sans MS"/>
              </a:rPr>
              <a:t>Число П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1"/>
          <p:cNvSpPr/>
          <p:nvPr/>
        </p:nvSpPr>
        <p:spPr>
          <a:xfrm>
            <a:off x="1071720" y="1357200"/>
            <a:ext cx="7429320" cy="5213160"/>
          </a:xfrm>
          <a:prstGeom prst="rect">
            <a:avLst/>
          </a:prstGeom>
          <a:solidFill>
            <a:srgbClr val="ccc1da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читается, что праздник придумал в 1987 году физик из Сан-Франциско Ларри Шоу, обративший внимание на то, что 14 марта (в американском написании – 3.14) ровно в 01:59 дата и время совпадут с первыми разрядами числа Пи = 3,14159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4 марта 1879 года также родился создатель теории относительности Альберт Эйнштейн, что делает этот день еще более привлекательным для всех любителей математ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3"/>
          <p:cNvSpPr/>
          <p:nvPr/>
        </p:nvSpPr>
        <p:spPr>
          <a:xfrm>
            <a:off x="2286000" y="214200"/>
            <a:ext cx="4714920" cy="703440"/>
          </a:xfrm>
          <a:prstGeom prst="rect">
            <a:avLst/>
          </a:prstGeom>
          <a:solidFill>
            <a:srgbClr val="fcd5b5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omic Sans MS"/>
              </a:rPr>
              <a:t>Число П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4T13:30:19Z</dcterms:created>
  <dc:creator>Admin</dc:creator>
  <dc:description/>
  <dc:language>en-US</dc:language>
  <cp:lastModifiedBy>student12_2</cp:lastModifiedBy>
  <dcterms:modified xsi:type="dcterms:W3CDTF">2012-06-29T09:36:47Z</dcterms:modified>
  <cp:revision>23</cp:revision>
  <dc:subject/>
  <dc:title>Слайд 1</dc:title>
</cp:coreProperties>
</file>