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D5AF-0E99-4402-A4B7-0D445048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CA58-245E-4DE0-B089-78F208BE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6B95A0-B4F6-43F7-845C-D1916397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10A565-36FB-44B3-B547-646BAA6D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9FF0E0-BC6C-461E-8650-87AB2693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10E34B-A9B7-439E-9F48-2BEBEFB9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C71F67-AB44-492B-9743-4C86EFBB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263A62-31AC-44BD-BB64-65857A18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722106-B3F4-4207-8EAE-1E7C7D1E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2D129D-64CA-40F6-9D12-56E5D6EE2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5FE87B-62AE-4F48-9FBC-437E4717D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10B8-C265-4C10-81A7-9951CB1C7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C8A8-0D06-4433-B55E-813FC8365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BAB02-46BA-478A-B315-0661A5D86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DB637-996A-4A4D-B936-7F9F560A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72B27-0D76-4B05-8C3A-6B2285EE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56903-A407-4B91-9171-CC6D5FF9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059C5-2573-425D-8C06-9F74F143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E5946-9059-4BAF-A568-FAD2759F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D8835-F2C0-411A-AC1B-2E04718F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130B-FA7F-467D-8D76-33B95C94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E11C2-A8F1-4F06-ADD1-F97782AE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3701E-8E2B-4AD1-AFBB-E082C338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D2EDB-E096-4309-B509-5B04373F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686C5-76A4-4CB4-9BAE-16BDF56F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B51B3-AE50-46FF-A786-489863BDB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2FD87-85F7-4412-8F4B-18511C656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FED6C-1F92-4B7C-B2D2-AA584792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5C144-FE73-46B9-BC5F-306C8F0F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B30BD-00DA-46AE-A614-380FB907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F6C4F-AC55-4298-9A0B-90A189EF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4F9D-CDA1-4E0D-8BF7-2D30F186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1A493-7FE4-4EDF-BA6D-A5BF3D13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B1C2D-36D8-4BBD-9663-B364E7DC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E6E80-4F2F-4590-9188-F17EAB52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FD06A-B02E-4732-B4F8-D79B62B5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78360-671E-47ED-A3B8-23F3A9CE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39855-204A-408F-AADA-7F2215E3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D2247-99E8-4A08-9815-C9C2AB3A3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54F5F5-CBB0-4144-9428-D39213333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2D5ADF-1A51-4E70-A959-D4577D73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C4A495-D240-4223-8F00-32800418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E2A5-344F-46A8-9AD6-6854D596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2E096A-D6A5-4F9D-A0C9-87F3714B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42616B-B413-43B3-9833-B2304E4C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A94EEE-0409-4D46-A4AD-52A17E2B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3D1861-E41F-4431-9E26-F0FEB2A0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491735-3DD8-4DD7-871F-E50FE3BC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3198D6-E77B-485C-A881-39D52303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619E32-361C-447E-82E1-18E19045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898C38-603E-4B85-A07C-43DB3F09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89F483-DBE4-4CCF-9DA7-F74436E4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C5397-D471-4AE4-A7CC-D3E99872A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EE99-B6A2-4B38-8BB6-3F5F4372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A227F-6494-49A5-9A00-D9438B8E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D2583-A966-42F2-99F0-4F0D2599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597D4-E8D2-46EC-B6D0-09CD4706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9B891-3BC8-4310-941D-1C21EF91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A1119-707A-4220-8B99-A08A45DE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599AB-C03E-43FB-80DF-98C88723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C0C5C-70A3-46BD-9FE4-8157D8F8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C7317-1F69-4025-B604-85AA4FD9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9CD47-57D9-44C7-99C6-E8E9DF6A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82F2C-5FE3-4EFA-87BD-10D12211F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1D60-DCB4-4B51-A604-FC6B0988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03F22-7FA7-4458-AFA1-035C0EABA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4B252-A329-46A2-86E3-CAB6E5A0C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8438D-0036-4B65-B9E7-4C950532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01205-133E-49EA-87BF-F8C63CE5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09F92-551C-4371-B0C2-193AB06D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7AEDE-E9A8-4DFE-A0D8-D6C5813F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39839-E0CB-43E7-8C5C-C12DC50D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210CA-3FCA-49C7-B2D1-3B28DB51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A6383-1F95-48BE-A3BA-C5777D01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44882-40C7-4EF8-8902-3E260E26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83B4-D379-475E-8714-55AF5E72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4B5E4-435C-4F15-BE5F-93DC28A5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71346-9CC6-45DD-AF7D-896CDFA6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6D376-4EA8-45D0-BA6D-9609D833D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02DDC-321C-495F-BED1-FE01274D0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F527A-9EFA-42B9-B806-3F3C6AB0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32C14-E968-498F-82CA-617805ED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D1A01-EA10-4D44-9C1D-E3829BC8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84EA7-BC41-45E5-8FB0-4BC0AFDE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4D684-A61D-47E4-B2CE-E70C850C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411E8-6D28-4D22-ADE3-BD9663BB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94E8-27C5-4C7B-AA29-6396A36C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59F54-28B5-4BA5-A1CE-A04A49C5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40A80-66FE-4553-B77D-28BC0C1A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C977F-830F-41C2-BE97-174A8D26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C32F9-37CD-4843-8921-479986CD8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E71CF-237C-4B52-A2ED-0B7B12D26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D7567B-1957-4FF3-8E6E-7F6B602EF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125EAB-43F0-4C24-9610-739298AA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793E72-31EE-48B0-853D-F73B1F9D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E47628-AC1E-4E98-9A4B-A5AA2040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626214-006A-413B-862F-5B8A8A39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DB5D-D014-4BF8-8652-CC1EDBEB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CE00E7-F9C9-40F4-A03D-65638EB7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4E08E5-FA41-4E2C-B503-A78072C1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F9A2DB-20B4-4832-85AB-70F440EC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7BA2E8-6F27-48BB-84AA-D0219396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CEA2F2-04A9-4BCE-969B-8F26F732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01A951-5DDB-4107-9919-197F390F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A645B8-5BD1-47B1-B354-D4C7E836B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E5380C-B650-4B68-A1DB-EA6EF5265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2EFAC2-69DA-4EF1-98B2-DDBD7443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A319D4-720A-4761-864A-234DA231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aca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6020-5114-4BFF-8538-812223E4D3A7}" type="slidenum">
              <a:rPr b="0" lang="ru-RU" sz="1600" spc="-1" strike="noStrike">
                <a:solidFill>
                  <a:srgbClr val="cacacc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9c9ce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0ad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60b5cc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9c9ce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0ad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60b5cc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aca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8FF7-764F-4F54-BE9E-39C8B378E70F}" type="slidenum">
              <a:rPr b="0" lang="ru-RU" sz="1600" spc="-1" strike="noStrike">
                <a:solidFill>
                  <a:srgbClr val="cacacc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f0ad0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9c9ce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0ad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60b5cc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aca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594B-EDCC-48C6-A13E-138268E17E30}" type="slidenum">
              <a:rPr b="0" lang="ru-RU" sz="1600" spc="-1" strike="noStrike">
                <a:solidFill>
                  <a:srgbClr val="cacacc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f0ad0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9c9ce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0ad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60b5cc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aca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0154-8C24-42AB-877D-37D8A17283FC}" type="slidenum">
              <a:rPr b="0" lang="ru-RU" sz="1600" spc="-1" strike="noStrike">
                <a:solidFill>
                  <a:srgbClr val="cacacc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f0ad0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9c9ce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0ad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60b5cc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aca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86DE-B143-4264-B79E-4082AE0C773F}" type="slidenum">
              <a:rPr b="0" lang="ru-RU" sz="1600" spc="-1" strike="noStrike">
                <a:solidFill>
                  <a:srgbClr val="cacacc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f0ad0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f0ad0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9c9ce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0ad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60b5cc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aca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330B-A0FF-4033-BC9E-CAD3BE4C4321}" type="slidenum">
              <a:rPr b="0" lang="ru-RU" sz="1600" spc="-1" strike="noStrike">
                <a:solidFill>
                  <a:srgbClr val="cacacc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f0ad0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9c9ce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0ad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60b5cc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aca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75ED-9908-4A88-A433-5729E89687E7}" type="slidenum">
              <a:rPr b="0" lang="ru-RU" sz="1600" spc="-1" strike="noStrike">
                <a:solidFill>
                  <a:srgbClr val="cacacc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f0ad0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9c9ce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0ad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60b5cc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aca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EB00-1EA8-49C5-A453-2F216353E7E7}" type="slidenum">
              <a:rPr b="0" lang="ru-RU" sz="1600" spc="-1" strike="noStrike">
                <a:solidFill>
                  <a:srgbClr val="cacacc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9c9ce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c9c9ce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0ad0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60b5cc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e66c7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aca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7F20-A5D8-418B-BEEF-7AB94184AFB4}" type="slidenum">
              <a:rPr b="0" lang="ru-RU" sz="1600" spc="-1" strike="noStrike">
                <a:solidFill>
                  <a:srgbClr val="cacacc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4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Picture 5" descr=""/>
          <p:cNvPicPr/>
          <p:nvPr/>
        </p:nvPicPr>
        <p:blipFill>
          <a:blip r:embed="rId1"/>
          <a:stretch/>
        </p:blipFill>
        <p:spPr>
          <a:xfrm>
            <a:off x="500040" y="1459080"/>
            <a:ext cx="4210200" cy="510984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6"/>
          <p:cNvSpPr/>
          <p:nvPr/>
        </p:nvSpPr>
        <p:spPr>
          <a:xfrm>
            <a:off x="357120" y="5572080"/>
            <a:ext cx="4896000" cy="1008720"/>
          </a:xfrm>
          <a:prstGeom prst="rect">
            <a:avLst/>
          </a:prstGeom>
          <a:solidFill>
            <a:srgbClr val="379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ерковь Покрова на Нер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мый совершенный храм, созданный на Рус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WordArt 7"/>
          <p:cNvSpPr txBox="1"/>
          <p:nvPr/>
        </p:nvSpPr>
        <p:spPr>
          <a:xfrm>
            <a:off x="826920" y="260280"/>
            <a:ext cx="763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9a313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ревнерусская математика</a:t>
            </a:r>
            <a:endParaRPr b="0" lang="en-US" sz="4400" spc="1" strike="noStrike">
              <a:ln w="0">
                <a:noFill/>
              </a:ln>
              <a:solidFill>
                <a:srgbClr val="9a313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8" name="Rectangle 8"/>
          <p:cNvSpPr/>
          <p:nvPr/>
        </p:nvSpPr>
        <p:spPr>
          <a:xfrm>
            <a:off x="5000760" y="1731240"/>
            <a:ext cx="37479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Первые сведения о развитии математики на Руси относятся к IX-XII вв. (древнерусская нумерация, метрология, первые системы дробей и др.). В Древней Руси времен Ярослава Мудрого (978-1054) уже существовали общеобразовательные школ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4" descr=""/>
          <p:cNvPicPr/>
          <p:nvPr/>
        </p:nvPicPr>
        <p:blipFill>
          <a:blip r:embed="rId1"/>
          <a:stretch/>
        </p:blipFill>
        <p:spPr>
          <a:xfrm>
            <a:off x="500040" y="2000160"/>
            <a:ext cx="3889440" cy="350532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6"/>
          <p:cNvSpPr/>
          <p:nvPr/>
        </p:nvSpPr>
        <p:spPr>
          <a:xfrm>
            <a:off x="4643280" y="1484280"/>
            <a:ext cx="3889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ри Петре 1, в 1703 году была издана книга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"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Арифметика, сиречь наука числительная. С разных диалектов на славянский язык переведенная, и воедино собрана и на две части разделенная"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написанная Л.Ф. Магницким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WordArt 7"/>
          <p:cNvSpPr txBox="1"/>
          <p:nvPr/>
        </p:nvSpPr>
        <p:spPr>
          <a:xfrm>
            <a:off x="1071720" y="500040"/>
            <a:ext cx="726264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a313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онтий Филиппович Магницкий</a:t>
            </a:r>
            <a:endParaRPr b="0" lang="en-US" sz="1800" spc="1" strike="noStrike">
              <a:ln w="0">
                <a:noFill/>
              </a:ln>
              <a:solidFill>
                <a:srgbClr val="9a313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3" name="Rectangle 10"/>
          <p:cNvSpPr/>
          <p:nvPr/>
        </p:nvSpPr>
        <p:spPr>
          <a:xfrm>
            <a:off x="-900000" y="5877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4"/>
          <p:cNvSpPr/>
          <p:nvPr/>
        </p:nvSpPr>
        <p:spPr>
          <a:xfrm>
            <a:off x="642960" y="1589760"/>
            <a:ext cx="7777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Где получил Леонтий Филиппович свои знания, особенно математические, неизвестно. Ими он настолько привлек к себе Петра I, что тот назвал его "магнитом" и дал ему прозвище-фамилию Магницкий (</a:t>
            </a: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 неизвестна его фамилия до этого времени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 ), с назначением на должность учителя в московскую вновь организованную школу "математических и навигационных наук", где он и прослужил много лет, вплоть до своей смерти. Научными предметами, преподаваемыми в Математико-Навигацкой школе, были: арифметика, геометрия, тригонометрия, с практическими приложениями их к геодезии и мореплаванию, навигация и часть астроном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WordArt 5"/>
          <p:cNvSpPr txBox="1"/>
          <p:nvPr/>
        </p:nvSpPr>
        <p:spPr>
          <a:xfrm>
            <a:off x="971640" y="260280"/>
            <a:ext cx="726264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a313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онтий Филиппович Магницкий</a:t>
            </a:r>
            <a:endParaRPr b="0" lang="en-US" sz="1800" spc="1" strike="noStrike">
              <a:ln w="0">
                <a:noFill/>
              </a:ln>
              <a:solidFill>
                <a:srgbClr val="9a313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4"/>
          <p:cNvSpPr/>
          <p:nvPr/>
        </p:nvSpPr>
        <p:spPr>
          <a:xfrm>
            <a:off x="1332000" y="3500280"/>
            <a:ext cx="7127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Характерно, что в тексте «Арифметики» цифры употребляются  современные  –  арабские,  а год издания  книги и нумерация листов в славянской. Это был период замены устаревшей нумерации на более современну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826920" y="53006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 России  учение о десятичных дробях впервые изложил Магницкий в своем учебнике.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Picture 7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2448000" cy="220680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8"/>
          <p:cNvSpPr/>
          <p:nvPr/>
        </p:nvSpPr>
        <p:spPr>
          <a:xfrm>
            <a:off x="3348000" y="1341360"/>
            <a:ext cx="525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Эта «Арифметика долгое время была настольной книгой всех образованных русских людей. М.В. Ломоносов знал ее наизусть и называл ее «вратами своей ученост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WordArt 9"/>
          <p:cNvSpPr txBox="1"/>
          <p:nvPr/>
        </p:nvSpPr>
        <p:spPr>
          <a:xfrm>
            <a:off x="3429000" y="500040"/>
            <a:ext cx="4981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a313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рифметика Магницкого</a:t>
            </a:r>
            <a:endParaRPr b="0" lang="en-US" sz="1800" spc="1" strike="noStrike">
              <a:ln w="0">
                <a:noFill/>
              </a:ln>
              <a:solidFill>
                <a:srgbClr val="9a313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4"/>
          <p:cNvSpPr/>
          <p:nvPr/>
        </p:nvSpPr>
        <p:spPr>
          <a:xfrm>
            <a:off x="2771640" y="1353960"/>
            <a:ext cx="608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Магницкий впервые ввел термины "множитель", "делитель", "произведение", "извлечение корня", а также заменил устаревшие слова "тьма, легион" словами "миллион, биллион, триллион, квадриллион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"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Picture 6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2448000" cy="220680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7"/>
          <p:cNvSpPr/>
          <p:nvPr/>
        </p:nvSpPr>
        <p:spPr>
          <a:xfrm>
            <a:off x="1285920" y="3929040"/>
            <a:ext cx="741672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Удовлетворяя тем требованиям, которые могли быть предъявлены к учебнику математики в России в первую половину XVIII столетия, "Арифметика" Магницкого долгое время пользовалась широким распространением и вышла из употребления около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середины 50-х годов XVIII столет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WordArt 8"/>
          <p:cNvSpPr txBox="1"/>
          <p:nvPr/>
        </p:nvSpPr>
        <p:spPr>
          <a:xfrm>
            <a:off x="3643200" y="500040"/>
            <a:ext cx="4981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a313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рифметика Магницкого</a:t>
            </a:r>
            <a:endParaRPr b="0" lang="en-US" sz="1800" spc="1" strike="noStrike">
              <a:ln w="0">
                <a:noFill/>
              </a:ln>
              <a:solidFill>
                <a:srgbClr val="9a313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4"/>
          <p:cNvSpPr/>
          <p:nvPr/>
        </p:nvSpPr>
        <p:spPr>
          <a:xfrm>
            <a:off x="2643120" y="1276200"/>
            <a:ext cx="6265800" cy="47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3120" rIns="228600" tIns="880920" bIns="2286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Скворцы (из арифметики Магницкого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Летели скворцы и встретились им деревья. Когда сели они по одному на дерево, то одному скворцу не хватило дерева, а когда на каждое дерево сели по два скворца, то одно дерево осталось не заняты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Сколько было скворцов и сколько было деревьев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WordArt 5"/>
          <p:cNvSpPr txBox="1"/>
          <p:nvPr/>
        </p:nvSpPr>
        <p:spPr>
          <a:xfrm>
            <a:off x="642960" y="571680"/>
            <a:ext cx="8048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a313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а из арифметики Л. Ф. Магницкого</a:t>
            </a:r>
            <a:endParaRPr b="0" lang="en-US" sz="1800" spc="1" strike="noStrike">
              <a:ln w="0">
                <a:noFill/>
              </a:ln>
              <a:solidFill>
                <a:srgbClr val="9a313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7" name="Picture 6" descr=""/>
          <p:cNvPicPr/>
          <p:nvPr/>
        </p:nvPicPr>
        <p:blipFill>
          <a:blip r:embed="rId1"/>
          <a:stretch/>
        </p:blipFill>
        <p:spPr>
          <a:xfrm>
            <a:off x="571680" y="2286000"/>
            <a:ext cx="2514600" cy="251928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7"/>
          <p:cNvSpPr/>
          <p:nvPr/>
        </p:nvSpPr>
        <p:spPr>
          <a:xfrm flipV="1">
            <a:off x="3851280" y="616536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(4 скворца, 3 дерева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9" descr=""/>
          <p:cNvPicPr/>
          <p:nvPr/>
        </p:nvPicPr>
        <p:blipFill>
          <a:blip r:embed="rId1"/>
          <a:stretch/>
        </p:blipFill>
        <p:spPr>
          <a:xfrm>
            <a:off x="500040" y="2000160"/>
            <a:ext cx="2736720" cy="250848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10"/>
          <p:cNvSpPr/>
          <p:nvPr/>
        </p:nvSpPr>
        <p:spPr>
          <a:xfrm>
            <a:off x="3500280" y="2081520"/>
            <a:ext cx="511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Один человек выпьет кадь пития в 14 дней, а со женою выпьет ту же кадь в 10 дней, и ведательно есть, в колико дней жена его особо выпьет ту же кад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WordArt 11"/>
          <p:cNvSpPr txBox="1"/>
          <p:nvPr/>
        </p:nvSpPr>
        <p:spPr>
          <a:xfrm>
            <a:off x="642960" y="428760"/>
            <a:ext cx="81932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a313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а из арифметики Л. Ф. Магницкого</a:t>
            </a:r>
            <a:endParaRPr b="0" lang="en-US" sz="1800" spc="1" strike="noStrike">
              <a:ln w="0">
                <a:noFill/>
              </a:ln>
              <a:solidFill>
                <a:srgbClr val="9a313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WordArt 5"/>
          <p:cNvSpPr txBox="1"/>
          <p:nvPr/>
        </p:nvSpPr>
        <p:spPr>
          <a:xfrm>
            <a:off x="714240" y="357120"/>
            <a:ext cx="8048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a313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а из арифметики Л. Ф. Магницкого</a:t>
            </a:r>
            <a:endParaRPr b="0" lang="en-US" sz="1800" spc="1" strike="noStrike">
              <a:ln w="0">
                <a:noFill/>
              </a:ln>
              <a:solidFill>
                <a:srgbClr val="9a313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3214800" y="1000080"/>
            <a:ext cx="568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Реш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римем за 1 кадь пит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усть  за х дней выпьет жена кадь пит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1/14 часть пития - выпьет человек за 1 ден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1/х часть пития – выпьет жена за 1 ден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1/10 часть пития – выпьют вместе за 1 ден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Составим уравнен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1/14+1/х=1/1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Х=35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Ответ. За 35 дн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4" name="Picture 7" descr=""/>
          <p:cNvPicPr/>
          <p:nvPr/>
        </p:nvPicPr>
        <p:blipFill>
          <a:blip r:embed="rId1"/>
          <a:stretch/>
        </p:blipFill>
        <p:spPr>
          <a:xfrm>
            <a:off x="428760" y="1928880"/>
            <a:ext cx="2449440" cy="2652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4" descr=""/>
          <p:cNvPicPr/>
          <p:nvPr/>
        </p:nvPicPr>
        <p:blipFill>
          <a:blip r:embed="rId1"/>
          <a:stretch/>
        </p:blipFill>
        <p:spPr>
          <a:xfrm>
            <a:off x="2268360" y="3460680"/>
            <a:ext cx="4680000" cy="263232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5"/>
          <p:cNvSpPr/>
          <p:nvPr/>
        </p:nvSpPr>
        <p:spPr>
          <a:xfrm>
            <a:off x="1285920" y="1578240"/>
            <a:ext cx="712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В жаркий день 6 косцов выпили бочонок кваса за 8 часов. Нужно узнать, сколько косцов за 3 часа выпьют такой же бочонок квас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WordArt 6"/>
          <p:cNvSpPr txBox="1"/>
          <p:nvPr/>
        </p:nvSpPr>
        <p:spPr>
          <a:xfrm>
            <a:off x="642960" y="642960"/>
            <a:ext cx="8048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a313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а из арифметики Л. Ф. Магницкого</a:t>
            </a:r>
            <a:endParaRPr b="0" lang="en-US" sz="1800" spc="1" strike="noStrike">
              <a:ln w="0">
                <a:noFill/>
              </a:ln>
              <a:solidFill>
                <a:srgbClr val="9a313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4"/>
          <p:cNvSpPr/>
          <p:nvPr/>
        </p:nvSpPr>
        <p:spPr>
          <a:xfrm>
            <a:off x="1428840" y="1435320"/>
            <a:ext cx="640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Решение. 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Поскольку за 8 часов 6 человек выпивают бочонок кваса, то за один час такой же бочонок кваса выпьют 48 человек, а тогда за 3 часа этот бочонок кваса выпьют 16 человек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WordArt 5"/>
          <p:cNvSpPr txBox="1"/>
          <p:nvPr/>
        </p:nvSpPr>
        <p:spPr>
          <a:xfrm>
            <a:off x="928800" y="571680"/>
            <a:ext cx="7616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a313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а из арифметики Л. Ф. Магницкого</a:t>
            </a:r>
            <a:endParaRPr b="0" lang="en-US" sz="1800" spc="1" strike="noStrike">
              <a:ln w="0">
                <a:noFill/>
              </a:ln>
              <a:solidFill>
                <a:srgbClr val="9a313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1143000" y="3357720"/>
            <a:ext cx="7364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2 способ. Решение. Обратная пропорциональность. В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сколько раз уменьшится количество часов во столько раз увеличится количество косц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8/3=х/6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Х=1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Ответ. 16 косц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1" name="Picture 7" descr=""/>
          <p:cNvPicPr/>
          <p:nvPr/>
        </p:nvPicPr>
        <p:blipFill>
          <a:blip r:embed="rId1"/>
          <a:stretch/>
        </p:blipFill>
        <p:spPr>
          <a:xfrm>
            <a:off x="3643200" y="4429080"/>
            <a:ext cx="3743280" cy="2156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4" descr=""/>
          <p:cNvPicPr/>
          <p:nvPr/>
        </p:nvPicPr>
        <p:blipFill>
          <a:blip r:embed="rId1"/>
          <a:stretch/>
        </p:blipFill>
        <p:spPr>
          <a:xfrm>
            <a:off x="3059280" y="4149720"/>
            <a:ext cx="3097080" cy="190512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5"/>
          <p:cNvSpPr/>
          <p:nvPr/>
        </p:nvSpPr>
        <p:spPr>
          <a:xfrm>
            <a:off x="1357200" y="2149560"/>
            <a:ext cx="69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Купил некто трёх сукон 105 аршин; единого взял 12-ю больше перед другим, а другого 9-ю больше перед третьим, и ведательно есть, колико коего сукна взято был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WordArt 6"/>
          <p:cNvSpPr txBox="1"/>
          <p:nvPr/>
        </p:nvSpPr>
        <p:spPr>
          <a:xfrm>
            <a:off x="785880" y="714240"/>
            <a:ext cx="7616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a313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а из арифметики Л. Ф. Магницкого</a:t>
            </a:r>
            <a:endParaRPr b="0" lang="en-US" sz="1800" spc="1" strike="noStrike">
              <a:ln w="0">
                <a:noFill/>
              </a:ln>
              <a:solidFill>
                <a:srgbClr val="9a313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WordArt 4"/>
          <p:cNvSpPr txBox="1"/>
          <p:nvPr/>
        </p:nvSpPr>
        <p:spPr>
          <a:xfrm>
            <a:off x="1428840" y="428760"/>
            <a:ext cx="626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a313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лавянская нумерация</a:t>
            </a:r>
            <a:endParaRPr b="0" lang="en-US" sz="1800" spc="1" strike="noStrike">
              <a:ln w="0">
                <a:noFill/>
              </a:ln>
              <a:solidFill>
                <a:srgbClr val="9a313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00" name="Picture 5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3673800" cy="478944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6"/>
          <p:cNvSpPr/>
          <p:nvPr/>
        </p:nvSpPr>
        <p:spPr>
          <a:xfrm>
            <a:off x="4643280" y="1413000"/>
            <a:ext cx="3816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Эта нумерация была создана вместе со славянской алфавитной системой для переписки священных книг для славян греческими монахами братьями Кириллом (Константином) и Мефодием в IX веке.  До XVII века эта форма записи чиcел была официальной на территории современной России, Белоруссии, Украины, Болгарии, Венгрии, Сербии и Хорватии. До сих пор православные церковные книги используют эту нумерацию.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4"/>
          <p:cNvSpPr/>
          <p:nvPr/>
        </p:nvSpPr>
        <p:spPr>
          <a:xfrm>
            <a:off x="2195640" y="162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WordArt 5"/>
          <p:cNvSpPr txBox="1"/>
          <p:nvPr/>
        </p:nvSpPr>
        <p:spPr>
          <a:xfrm>
            <a:off x="785880" y="500040"/>
            <a:ext cx="7616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a313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а из арифметики Л. Ф. Магницкого</a:t>
            </a:r>
            <a:endParaRPr b="0" lang="en-US" sz="1800" spc="1" strike="noStrike">
              <a:ln w="0">
                <a:noFill/>
              </a:ln>
              <a:solidFill>
                <a:srgbClr val="9a313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7" name="Text Box 6"/>
          <p:cNvSpPr/>
          <p:nvPr/>
        </p:nvSpPr>
        <p:spPr>
          <a:xfrm>
            <a:off x="928800" y="1857240"/>
            <a:ext cx="655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еш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усть х аршин купил трет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(х+9) аршин купил второ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(х+9+12) аршин купил перв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Составим уравнен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Х+х+9+х+21=105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Х=25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твет.25;34;4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8" name="Picture 7" descr=""/>
          <p:cNvPicPr/>
          <p:nvPr/>
        </p:nvPicPr>
        <p:blipFill>
          <a:blip r:embed="rId1"/>
          <a:stretch/>
        </p:blipFill>
        <p:spPr>
          <a:xfrm>
            <a:off x="4429080" y="3643200"/>
            <a:ext cx="3097080" cy="1905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7" descr=""/>
          <p:cNvPicPr/>
          <p:nvPr/>
        </p:nvPicPr>
        <p:blipFill>
          <a:blip r:embed="rId1"/>
          <a:stretch/>
        </p:blipFill>
        <p:spPr>
          <a:xfrm>
            <a:off x="2195640" y="3068640"/>
            <a:ext cx="4032000" cy="280836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11"/>
          <p:cNvSpPr/>
          <p:nvPr/>
        </p:nvSpPr>
        <p:spPr>
          <a:xfrm>
            <a:off x="611280" y="476280"/>
            <a:ext cx="78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Замечательной книгой Магницк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WordArt 12"/>
          <p:cNvSpPr txBox="1"/>
          <p:nvPr/>
        </p:nvSpPr>
        <p:spPr>
          <a:xfrm>
            <a:off x="755640" y="1700280"/>
            <a:ext cx="56768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a313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ревнерусской математики</a:t>
            </a:r>
            <a:endParaRPr b="0" lang="en-US" sz="1800" spc="1" strike="noStrike">
              <a:ln w="0">
                <a:noFill/>
              </a:ln>
              <a:solidFill>
                <a:srgbClr val="9a313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2" name="Rectangle 13"/>
          <p:cNvSpPr/>
          <p:nvPr/>
        </p:nvSpPr>
        <p:spPr>
          <a:xfrm>
            <a:off x="611280" y="1073160"/>
            <a:ext cx="896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закончилась многовековая исто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4" descr="Числа в Древней руси"/>
          <p:cNvPicPr/>
          <p:nvPr/>
        </p:nvPicPr>
        <p:blipFill>
          <a:blip r:embed="rId1"/>
          <a:stretch/>
        </p:blipFill>
        <p:spPr>
          <a:xfrm>
            <a:off x="2071800" y="3000240"/>
            <a:ext cx="6429240" cy="361152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5"/>
          <p:cNvSpPr/>
          <p:nvPr/>
        </p:nvSpPr>
        <p:spPr>
          <a:xfrm>
            <a:off x="3500280" y="978840"/>
            <a:ext cx="5400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Единицы, десятки и сотни изображались славянскими буквами с поставленным над ними знаком ~ , называемым "титло", для отличия цифр от букв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6" descr=""/>
          <p:cNvPicPr/>
          <p:nvPr/>
        </p:nvPicPr>
        <p:blipFill>
          <a:blip r:embed="rId2"/>
          <a:stretch/>
        </p:blipFill>
        <p:spPr>
          <a:xfrm>
            <a:off x="285840" y="1071720"/>
            <a:ext cx="2914560" cy="1919160"/>
          </a:xfrm>
          <a:prstGeom prst="rect">
            <a:avLst/>
          </a:prstGeom>
          <a:ln w="0">
            <a:noFill/>
          </a:ln>
        </p:spPr>
      </p:pic>
      <p:pic>
        <p:nvPicPr>
          <p:cNvPr id="405" name="WordArt 7" descr=""/>
          <p:cNvPicPr/>
          <p:nvPr/>
        </p:nvPicPr>
        <p:blipFill>
          <a:blip r:embed="rId3"/>
          <a:stretch/>
        </p:blipFill>
        <p:spPr>
          <a:xfrm>
            <a:off x="3206880" y="281160"/>
            <a:ext cx="5729040" cy="58392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8"/>
          <p:cNvSpPr/>
          <p:nvPr/>
        </p:nvSpPr>
        <p:spPr>
          <a:xfrm>
            <a:off x="285840" y="2500200"/>
            <a:ext cx="3384360" cy="520200"/>
          </a:xfrm>
          <a:prstGeom prst="rect">
            <a:avLst/>
          </a:prstGeom>
          <a:solidFill>
            <a:srgbClr val="379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omic Sans MS"/>
              </a:rPr>
              <a:t>Церковь Благовещения Пресвятой Богородицы.14 ве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4" descr=""/>
          <p:cNvPicPr/>
          <p:nvPr/>
        </p:nvPicPr>
        <p:blipFill>
          <a:blip r:embed="rId1"/>
          <a:stretch/>
        </p:blipFill>
        <p:spPr>
          <a:xfrm>
            <a:off x="4572000" y="4797360"/>
            <a:ext cx="3673440" cy="79236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5"/>
          <p:cNvSpPr/>
          <p:nvPr/>
        </p:nvSpPr>
        <p:spPr>
          <a:xfrm>
            <a:off x="5798520" y="306792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ро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5651640" y="4004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л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WordArt 7"/>
          <p:cNvSpPr txBox="1"/>
          <p:nvPr/>
        </p:nvSpPr>
        <p:spPr>
          <a:xfrm>
            <a:off x="4000680" y="214200"/>
            <a:ext cx="481932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a313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лавянская нумерация</a:t>
            </a:r>
            <a:endParaRPr b="0" lang="en-US" sz="1800" spc="1" strike="noStrike">
              <a:ln w="0">
                <a:noFill/>
              </a:ln>
              <a:solidFill>
                <a:srgbClr val="9a313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1332000" y="192384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Для обозначения чисел больших, чем 900 использовались специальные значки, которые дорисовывались к букве. Так образовывались числ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9" descr=""/>
          <p:cNvPicPr/>
          <p:nvPr/>
        </p:nvPicPr>
        <p:blipFill>
          <a:blip r:embed="rId2"/>
          <a:stretch/>
        </p:blipFill>
        <p:spPr>
          <a:xfrm>
            <a:off x="1116000" y="2852640"/>
            <a:ext cx="646200" cy="64764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10"/>
          <p:cNvSpPr/>
          <p:nvPr/>
        </p:nvSpPr>
        <p:spPr>
          <a:xfrm>
            <a:off x="2050920" y="3067920"/>
            <a:ext cx="11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ысяч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11"/>
          <p:cNvSpPr/>
          <p:nvPr/>
        </p:nvSpPr>
        <p:spPr>
          <a:xfrm>
            <a:off x="3276720" y="310140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0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Picture 12" descr=""/>
          <p:cNvPicPr/>
          <p:nvPr/>
        </p:nvPicPr>
        <p:blipFill>
          <a:blip r:embed="rId3"/>
          <a:stretch/>
        </p:blipFill>
        <p:spPr>
          <a:xfrm>
            <a:off x="1187280" y="3716280"/>
            <a:ext cx="615960" cy="64944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13"/>
          <p:cNvSpPr/>
          <p:nvPr/>
        </p:nvSpPr>
        <p:spPr>
          <a:xfrm>
            <a:off x="2124000" y="385992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ьм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14"/>
          <p:cNvSpPr/>
          <p:nvPr/>
        </p:nvSpPr>
        <p:spPr>
          <a:xfrm>
            <a:off x="3061800" y="38599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 00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15" descr=""/>
          <p:cNvPicPr/>
          <p:nvPr/>
        </p:nvPicPr>
        <p:blipFill>
          <a:blip r:embed="rId4"/>
          <a:stretch/>
        </p:blipFill>
        <p:spPr>
          <a:xfrm>
            <a:off x="1187280" y="4437000"/>
            <a:ext cx="649440" cy="61920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16"/>
          <p:cNvSpPr/>
          <p:nvPr/>
        </p:nvSpPr>
        <p:spPr>
          <a:xfrm>
            <a:off x="2124000" y="4652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гио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17"/>
          <p:cNvSpPr/>
          <p:nvPr/>
        </p:nvSpPr>
        <p:spPr>
          <a:xfrm>
            <a:off x="3206160" y="46522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0 00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Picture 18" descr=""/>
          <p:cNvPicPr/>
          <p:nvPr/>
        </p:nvPicPr>
        <p:blipFill>
          <a:blip r:embed="rId5"/>
          <a:stretch/>
        </p:blipFill>
        <p:spPr>
          <a:xfrm>
            <a:off x="1187280" y="5157720"/>
            <a:ext cx="792360" cy="74304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19"/>
          <p:cNvSpPr/>
          <p:nvPr/>
        </p:nvSpPr>
        <p:spPr>
          <a:xfrm>
            <a:off x="2195640" y="547776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од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20"/>
          <p:cNvSpPr/>
          <p:nvPr/>
        </p:nvSpPr>
        <p:spPr>
          <a:xfrm>
            <a:off x="3206160" y="55159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 000 00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Picture 21" descr=""/>
          <p:cNvPicPr/>
          <p:nvPr/>
        </p:nvPicPr>
        <p:blipFill>
          <a:blip r:embed="rId6"/>
          <a:stretch/>
        </p:blipFill>
        <p:spPr>
          <a:xfrm>
            <a:off x="5003640" y="2924280"/>
            <a:ext cx="729000" cy="73980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22"/>
          <p:cNvSpPr/>
          <p:nvPr/>
        </p:nvSpPr>
        <p:spPr>
          <a:xfrm>
            <a:off x="6732720" y="30679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 000 00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Picture 23" descr=""/>
          <p:cNvPicPr/>
          <p:nvPr/>
        </p:nvPicPr>
        <p:blipFill>
          <a:blip r:embed="rId7"/>
          <a:stretch/>
        </p:blipFill>
        <p:spPr>
          <a:xfrm>
            <a:off x="5148360" y="3860640"/>
            <a:ext cx="560160" cy="72072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24"/>
          <p:cNvSpPr/>
          <p:nvPr/>
        </p:nvSpPr>
        <p:spPr>
          <a:xfrm>
            <a:off x="6659640" y="4004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0 000 00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25" descr=""/>
          <p:cNvPicPr/>
          <p:nvPr/>
        </p:nvPicPr>
        <p:blipFill>
          <a:blip r:embed="rId8"/>
          <a:stretch/>
        </p:blipFill>
        <p:spPr>
          <a:xfrm>
            <a:off x="0" y="0"/>
            <a:ext cx="2928960" cy="185256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26"/>
          <p:cNvSpPr/>
          <p:nvPr/>
        </p:nvSpPr>
        <p:spPr>
          <a:xfrm>
            <a:off x="0" y="1643040"/>
            <a:ext cx="3071880" cy="580680"/>
          </a:xfrm>
          <a:prstGeom prst="rect">
            <a:avLst/>
          </a:prstGeom>
          <a:solidFill>
            <a:srgbClr val="379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Мирожский монастырь. </a:t>
            </a: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12в</a:t>
            </a: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27"/>
          <p:cNvSpPr/>
          <p:nvPr/>
        </p:nvSpPr>
        <p:spPr>
          <a:xfrm>
            <a:off x="324000" y="5891760"/>
            <a:ext cx="882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     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О последнем из этих чисел, то есть о колоде, говорилось: "И более сего несть человеческому уму разумевати"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4" descr=""/>
          <p:cNvPicPr/>
          <p:nvPr/>
        </p:nvPicPr>
        <p:blipFill>
          <a:blip r:embed="rId1"/>
          <a:stretch/>
        </p:blipFill>
        <p:spPr>
          <a:xfrm>
            <a:off x="857160" y="500040"/>
            <a:ext cx="2008440" cy="278604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5"/>
          <p:cNvSpPr/>
          <p:nvPr/>
        </p:nvSpPr>
        <p:spPr>
          <a:xfrm>
            <a:off x="3276720" y="341712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428760" y="3687840"/>
            <a:ext cx="849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     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Наряду с элементарными школами, в которых дети обучались закону божьему, чтению, письму, церковному пению и простейшему счету, существовали школы повышенного типа, дававшие систематическое образование. Многие русские князья были лучше и разностороннее образованы, чем западные короли и императоры. Характерно, что грамотность была распространена даже в среде мелких ремесленников. Многие женщины тоже были грамотны. Внучка Ярослава Мудрого - Янка Всеволодовна - открыла первое в Европе женское училищ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3059280" y="476280"/>
            <a:ext cx="56163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В X в., в княжение Владимира Святославича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 (?-1015), древнерусское государство (Киевская Русь) достигло наибольшего расцвета и могущества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     По развитию культуры оно занимало одно из видных мест среди государств Европы. В эту эпоху в его наиболее крупных городах (Киеве, Новгороде и др.) уже создавались школы различного типа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4"/>
          <p:cNvSpPr/>
          <p:nvPr/>
        </p:nvSpPr>
        <p:spPr>
          <a:xfrm>
            <a:off x="1187280" y="3751920"/>
            <a:ext cx="734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Picture 5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735280" cy="2089080"/>
          </a:xfrm>
          <a:prstGeom prst="rect">
            <a:avLst/>
          </a:prstGeom>
          <a:ln w="0">
            <a:noFill/>
          </a:ln>
        </p:spPr>
      </p:pic>
      <p:sp>
        <p:nvSpPr>
          <p:cNvPr id="437" name="WordArt 6"/>
          <p:cNvSpPr txBox="1"/>
          <p:nvPr/>
        </p:nvSpPr>
        <p:spPr>
          <a:xfrm>
            <a:off x="3276720" y="-895320"/>
            <a:ext cx="5486400" cy="17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a313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9a313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a313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овгородский монах Кирик</a:t>
            </a:r>
            <a:endParaRPr b="0" lang="en-US" sz="1800" spc="1" strike="noStrike">
              <a:ln w="0">
                <a:noFill/>
              </a:ln>
              <a:solidFill>
                <a:srgbClr val="9a313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357120" y="2571840"/>
            <a:ext cx="849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до настоящего времени считается рукописное сочинение новгородского монаха Кирика, написанное им в 1136 г. и носящее заголовок "Кирика диакона и доместика Новгородского Антониева монастыря учение имже ведати человеку числа всех лет".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     В этом сочинении Кирик выявил себя весьма искусным счетчиком и великим числолюбцем. Основные задачи, которые разрешаются Кириком, хронологического порядка: вычисление времени, протекшего между какими-либо событи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8"/>
          <p:cNvSpPr/>
          <p:nvPr/>
        </p:nvSpPr>
        <p:spPr>
          <a:xfrm>
            <a:off x="3214800" y="1428840"/>
            <a:ext cx="576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omic Sans MS"/>
              </a:rPr>
              <a:t>Первым русским памятником математического содерж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WordArt 4" descr=""/>
          <p:cNvPicPr/>
          <p:nvPr/>
        </p:nvPicPr>
        <p:blipFill>
          <a:blip r:embed="rId1"/>
          <a:stretch/>
        </p:blipFill>
        <p:spPr>
          <a:xfrm>
            <a:off x="3200400" y="-396720"/>
            <a:ext cx="5522760" cy="18288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5" descr=""/>
          <p:cNvPicPr/>
          <p:nvPr/>
        </p:nvPicPr>
        <p:blipFill>
          <a:blip r:embed="rId2"/>
          <a:stretch/>
        </p:blipFill>
        <p:spPr>
          <a:xfrm rot="20588400">
            <a:off x="407880" y="612720"/>
            <a:ext cx="2546280" cy="19447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6"/>
          <p:cNvSpPr/>
          <p:nvPr/>
        </p:nvSpPr>
        <p:spPr>
          <a:xfrm>
            <a:off x="592200" y="3000240"/>
            <a:ext cx="8198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Вычисления Кирика никому, кроме него самог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не были нужны; они не могли прине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никакой практической пользы людям. А во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для нас рукопись Кирика очень важ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Она ясно показывает, что славяне тысяч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лет назад отлично владели четырьм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действиями Арифметики, свободно обращалис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с очень большими целыми числами и с очен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маленькими дроб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4"/>
          <p:cNvSpPr/>
          <p:nvPr/>
        </p:nvSpPr>
        <p:spPr>
          <a:xfrm>
            <a:off x="2844720" y="4755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WordArt 5"/>
          <p:cNvSpPr txBox="1"/>
          <p:nvPr/>
        </p:nvSpPr>
        <p:spPr>
          <a:xfrm>
            <a:off x="2214720" y="500040"/>
            <a:ext cx="5448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a313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а Кирика Новгородца</a:t>
            </a:r>
            <a:endParaRPr b="0" lang="en-US" sz="1800" spc="1" strike="noStrike">
              <a:ln w="0">
                <a:noFill/>
              </a:ln>
              <a:solidFill>
                <a:srgbClr val="9a313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3851280" y="1998720"/>
            <a:ext cx="4792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Сколько месяцев, недель, дней и часов прожил человек, которому в 1136 г. Исполнилось 26 ле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7" descr=""/>
          <p:cNvPicPr/>
          <p:nvPr/>
        </p:nvPicPr>
        <p:blipFill>
          <a:blip r:embed="rId1"/>
          <a:stretch/>
        </p:blipFill>
        <p:spPr>
          <a:xfrm>
            <a:off x="642960" y="1785960"/>
            <a:ext cx="2736720" cy="3743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4"/>
          <p:cNvSpPr/>
          <p:nvPr/>
        </p:nvSpPr>
        <p:spPr>
          <a:xfrm>
            <a:off x="3929040" y="2060640"/>
            <a:ext cx="4138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еш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2*26=312 месяц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65*26+7=9497 дн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9497:7=1356 нед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4*9497=227928 час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WordArt 5"/>
          <p:cNvSpPr txBox="1"/>
          <p:nvPr/>
        </p:nvSpPr>
        <p:spPr>
          <a:xfrm>
            <a:off x="2214720" y="500040"/>
            <a:ext cx="5448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a313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а Кирика Новгородца</a:t>
            </a:r>
            <a:endParaRPr b="0" lang="en-US" sz="1800" spc="1" strike="noStrike">
              <a:ln w="0">
                <a:noFill/>
              </a:ln>
              <a:solidFill>
                <a:srgbClr val="9a313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9" name="Picture 6" descr=""/>
          <p:cNvPicPr/>
          <p:nvPr/>
        </p:nvPicPr>
        <p:blipFill>
          <a:blip r:embed="rId1"/>
          <a:stretch/>
        </p:blipFill>
        <p:spPr>
          <a:xfrm>
            <a:off x="642960" y="1643040"/>
            <a:ext cx="2736720" cy="3743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15:01:06Z</dcterms:created>
  <dc:creator>Эвольвента</dc:creator>
  <dc:description/>
  <dc:language>en-US</dc:language>
  <cp:lastModifiedBy>student12_2</cp:lastModifiedBy>
  <dcterms:modified xsi:type="dcterms:W3CDTF">2012-06-29T09:55:07Z</dcterms:modified>
  <cp:revision>7</cp:revision>
  <dc:subject/>
  <dc:title>Слайд 1</dc:title>
</cp:coreProperties>
</file>