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78F-CA6F-4023-A142-1BB677E9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E1A-4A86-4AE1-AF78-25E5CABB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FA0D65-E7D0-4004-A70A-80EEE4AA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524192-AD63-4770-A8BE-5E8ABAAD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D47432-0A5F-4DBB-808D-03455F93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9FE41B-2D90-4368-9873-80CFE75A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A3ACA0-C6B3-436A-ADAF-F8BE9158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292EA4-FC95-4006-BD95-3F6D5061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9CD439-948D-4012-B8CF-3EC17BDE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4EAD1D-3C70-41D7-8852-13412C9D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12A4EB-C334-434E-ABC0-911E6450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997-934C-43A2-994E-D22029A6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631-04E0-4855-9511-EBD52085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868B1-3E4E-4FD3-8C46-D1222C1C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7D2EB-C381-4CD8-BF98-D54096F5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02C61-736C-4931-B2D2-2C059240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E6211-0560-4995-9BF2-F8DFE2AA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90779-E210-4C2D-B795-A1DABDCB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1FBDA-214B-407F-BB39-E088A9DF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F8EC6-E7B4-4F30-A979-B31C23F6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47B-0733-4D7B-BFF2-350ED1F5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EE89E-19BF-442D-8BCE-6B2334A6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74013-AE52-4C6E-B08B-A5993758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C81C8-5071-4512-BCEA-8B21CF5C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8C4EB-4DDF-4F30-9314-EECCB874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2854F-D706-4992-8557-EE2E6663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138B-6A9B-4875-833A-C83483D0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EAA01-8B7C-4536-ACB3-CA8D71D4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9BA01-5A2B-4B8E-A6F9-A063CCB1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08AB-15A2-41D5-8F95-0458E2FC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80B6-E446-4B18-8493-114DE37E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AD0-2619-45DF-A52F-66C6B543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18A9-812F-4692-BB04-46F7F688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3853-4852-4F38-86EE-883F1AA8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F0ED-7496-4C4E-92CD-26373AE4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B1FC7-8DA7-4633-9C08-16449E12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90A5-61B7-45D3-8D08-F70F10C9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65E6-14EC-4C86-AA50-FFCA9CAD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468B7-70B8-46D9-B967-9F9EB200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10257-A97B-41C1-BA25-6138876E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E2A074-447B-451A-B6A9-8369F81E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4661D7-AA0C-4F33-B10D-C581A5BC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F0E-6C0A-483D-9D7B-99135B26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A15AE-1F9D-434E-8F4C-C2D80027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C6EF9-3BBA-427E-9138-53A437D5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234F4-EAF2-4888-9D7C-8DDEDE74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CD659-7DD3-4783-BE05-0131FAE7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1767F-E039-4C3B-A155-C3ED0D4E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F74F6-2CA6-4B71-9F2A-88419DAC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E509BD-F3DF-4495-B314-78189CE2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877D9-0A29-41B3-8CC0-F7FB61B9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93BB5-91C9-45C9-B071-77FEE4A8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84A76-6990-4A9D-9BA5-3A88B305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8A1-E621-4C9E-B6D5-29A0F43C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E9F5D-38C9-42B6-A2FD-5F7EA177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15CBB-1563-4C54-8EA9-3B7D32D6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1672-85F1-4861-A5B7-3115BC8C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52F43-2F63-4686-A912-F6FED919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C0232-AAD9-41A5-9E9D-7634960B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AEA28-8F0B-4C68-BA0F-B5B31F9C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E977-D7DA-4EF0-8E40-E07C1E6E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19118-CE0C-42D5-8646-3B936BF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C90D9-D7E5-4D1A-973F-81082769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ECAF7-86E6-48A5-882F-E3024AD8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F93-DBDB-4B6E-8929-6FD2EC9A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5CEC4-CB31-47F9-A1BA-71B6B9AF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58D38-92E7-46C6-AE5A-483179A1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A893B-D771-47D4-ADCF-86D124B6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F00BB-EEAD-4F41-B2DA-ED7E2354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ACEC8-8906-4C85-81E9-EB30E46D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34EA3-4CA7-461F-AFFB-B81FAF8C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30CF8-F5C9-4994-890B-55D84622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C3408-74E9-4B6A-A0A9-EF7D68A4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631BD-D721-40EA-B53E-1453DB56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B53F1-CF1B-43EF-9988-B56F3D4B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470-F20A-4BAD-A814-30CA3A00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D0B15-9CA1-45D4-8C56-2346E0FD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D0C80-DD91-4763-BB78-69BF6FB7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E54C7-0624-4799-92BC-D0E850A6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8E59E-47CA-4441-B9D0-BCE8991A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4DC81-AEEF-4D42-A716-54DD9BC0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E81B0-1DCD-43D4-905D-4A313E31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B3F87-F4B3-42CE-BED4-1BDDA8D7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93D6F-704A-452D-BB61-79A7F0FD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ED060-61DF-4EBD-9FDB-39BDBA6F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1719C-BF63-4609-B0B3-044317A3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B97-E7F6-4F28-A901-E0499D0B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9DB4B-A35D-48FD-AE55-61632D99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7E102-5A7B-405B-8BA0-B3CC7C10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10085-58B6-4D2F-9FD4-48F54EBA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3244A-84CB-48A9-84B3-717A72BD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68947-ADF7-4D56-977B-13192A21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6D0951-2B7B-4810-B135-C7EDCB0C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22D278-41DF-4DB3-B516-479D2DAC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A50B04-1AC9-4D38-8D8E-3BF88AF8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B74AC-DC27-4535-A5D8-EF04C3FF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FA4B37-9CE9-46F2-8443-2998E86A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384-9F30-472A-94EC-61F2F07B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A0FE1C-938C-43B5-9D92-BFFEC013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ED61AF-C6E2-4E89-95F8-0A24003D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E56024-3AF4-4227-BF2C-4528C93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CAFB88-0604-4E85-8D73-E70CCF33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9F2C00-B91B-4F1F-9467-FEEE4800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1E0113-75E4-438B-A6A3-32C338A4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EC9F6B-F6D7-4DD3-9B9A-1919E1B5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ADDAEE-F61A-4F1E-9EB6-3422C8F0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CDE073-2E36-4635-AE55-F1A8BB59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77A368-EF97-4E8C-B574-A7B0F873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841A-5683-4EBE-B317-5ABBDC74F021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5CED-C0D4-4982-A8BD-E910B89A420C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9AC1-17EC-4ED0-B28A-8E0735A6B9AB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8E03-DDB3-469B-8320-439A113972C8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DC9E-407B-42EF-BE1A-5617F3C98ED3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99F5-5955-4F3A-BACE-FAF960216AFB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68CE-34C3-4BCE-8987-A9ABF533ABC2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5AF2-D340-4CDB-A430-855A4DB451B2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048A-F0EB-4AEE-A6AC-D4B08C75CC74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500040" y="1459080"/>
            <a:ext cx="4210200" cy="51098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57120" y="5572080"/>
            <a:ext cx="4896000" cy="1008720"/>
          </a:xfrm>
          <a:prstGeom prst="rect">
            <a:avLst/>
          </a:prstGeom>
          <a:solidFill>
            <a:srgbClr val="379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рковь Покрова на Нер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совершенный храм, созданный на Рус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WordArt 7"/>
          <p:cNvSpPr txBox="1"/>
          <p:nvPr/>
        </p:nvSpPr>
        <p:spPr>
          <a:xfrm>
            <a:off x="826920" y="26028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евнерусская математика</a:t>
            </a:r>
            <a:endParaRPr b="0" lang="en-US" sz="44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5000760" y="1731240"/>
            <a:ext cx="3747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ервые сведения о развитии математики на Руси относятся к IX-XII вв. (древнерусская нумерация, метрология, первые системы дробей и др.). В Древней Руси времен Ярослава Мудрого (978-1054) уже существовали общеобразовательные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3889440" cy="35053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6"/>
          <p:cNvSpPr/>
          <p:nvPr/>
        </p:nvSpPr>
        <p:spPr>
          <a:xfrm>
            <a:off x="4643280" y="1484280"/>
            <a:ext cx="388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и Петре 1, в 1703 году была издана книга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"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рифметика, сиречь наука числительная. С разных диалектов на славянский язык переведенная, и воедино собрана и на две части разделенная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писанная Л.Ф. Магницким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WordArt 7"/>
          <p:cNvSpPr txBox="1"/>
          <p:nvPr/>
        </p:nvSpPr>
        <p:spPr>
          <a:xfrm>
            <a:off x="1071720" y="500040"/>
            <a:ext cx="72626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онтий Филиппович Магницкий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-90000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4"/>
          <p:cNvSpPr/>
          <p:nvPr/>
        </p:nvSpPr>
        <p:spPr>
          <a:xfrm>
            <a:off x="642960" y="1589760"/>
            <a:ext cx="777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Где получил Леонтий Филиппович свои знания, особенно математические, неизвестно. Ими он настолько привлек к себе Петра I, что тот назвал его "магнитом" и дал ему прозвище-фамилию Магницкий (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 неизвестна его фамилия до этого времени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), с назначением на должность учителя в московскую вновь организованную школу "математических и навигационных наук", где он и прослужил много лет, вплоть до своей смерти. Научными предметами, преподаваемыми в Математико-Навигацкой школе, были: арифметика, геометрия, тригонометрия, с практическими приложениями их к геодезии и мореплаванию, навигация и часть астроном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WordArt 5"/>
          <p:cNvSpPr txBox="1"/>
          <p:nvPr/>
        </p:nvSpPr>
        <p:spPr>
          <a:xfrm>
            <a:off x="971640" y="260280"/>
            <a:ext cx="72626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онтий Филиппович Магницкий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1332000" y="3500280"/>
            <a:ext cx="71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Характерно, что в тексте «Арифметики» цифры употребляются  современные  –  арабские,  а год издания  книги и нумерация листов в славянской. Это был период замены устаревшей нумерации на более современну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826920" y="5300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России  учение о десятичных дробях впервые изложил Магницкий в своем учебнике.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448000" cy="22068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8"/>
          <p:cNvSpPr/>
          <p:nvPr/>
        </p:nvSpPr>
        <p:spPr>
          <a:xfrm>
            <a:off x="3348000" y="1341360"/>
            <a:ext cx="525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Эта «Арифметика долгое время была настольной книгой всех образованных русских людей. М.В. Ломоносов знал ее наизусть и называл ее «вратами своей учен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WordArt 9"/>
          <p:cNvSpPr txBox="1"/>
          <p:nvPr/>
        </p:nvSpPr>
        <p:spPr>
          <a:xfrm>
            <a:off x="3429000" y="500040"/>
            <a:ext cx="498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рифметика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4"/>
          <p:cNvSpPr/>
          <p:nvPr/>
        </p:nvSpPr>
        <p:spPr>
          <a:xfrm>
            <a:off x="2771640" y="1353960"/>
            <a:ext cx="60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Магницкий впервые ввел термины "множитель", "делитель", "произведение", "извлечение корня", а также заменил устаревшие слова "тьма, легион" словами "миллион, биллион, триллион, квадриллион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2448000" cy="22068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7"/>
          <p:cNvSpPr/>
          <p:nvPr/>
        </p:nvSpPr>
        <p:spPr>
          <a:xfrm>
            <a:off x="1285920" y="3929040"/>
            <a:ext cx="74167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довлетворяя тем требованиям, которые могли быть предъявлены к учебнику математики в России в первую половину XVIII столетия, "Арифметика" Магницкого долгое время пользовалась широким распространением и вышла из употребления около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ередины 50-х годов XVIII столе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WordArt 8"/>
          <p:cNvSpPr txBox="1"/>
          <p:nvPr/>
        </p:nvSpPr>
        <p:spPr>
          <a:xfrm>
            <a:off x="3643200" y="500040"/>
            <a:ext cx="498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рифметика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4"/>
          <p:cNvSpPr/>
          <p:nvPr/>
        </p:nvSpPr>
        <p:spPr>
          <a:xfrm>
            <a:off x="2643120" y="1276200"/>
            <a:ext cx="626580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3120" rIns="228600" tIns="880920" bIns="228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Скворцы (из арифметики Магницког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Летели скворцы и встретились им деревья. Когда сели они по одному на дерево, то одному скворцу не хватило дерева, а когда на каждое дерево сели по два скворца, то одно дерево осталось не занят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Сколько было скворцов и сколько было деревьев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WordArt 5"/>
          <p:cNvSpPr txBox="1"/>
          <p:nvPr/>
        </p:nvSpPr>
        <p:spPr>
          <a:xfrm>
            <a:off x="642960" y="571680"/>
            <a:ext cx="8048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7" name="Picture 6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514600" cy="25192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7"/>
          <p:cNvSpPr/>
          <p:nvPr/>
        </p:nvSpPr>
        <p:spPr>
          <a:xfrm flipV="1">
            <a:off x="3851280" y="616536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(4 скворца, 3 дерева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9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2736720" cy="25084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10"/>
          <p:cNvSpPr/>
          <p:nvPr/>
        </p:nvSpPr>
        <p:spPr>
          <a:xfrm>
            <a:off x="3500280" y="2081520"/>
            <a:ext cx="51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дин человек выпьет кадь пития в 14 дней, а со женою выпьет ту же кадь в 10 дней, и ведательно есть, в колико дней жена его особо выпьет ту же кад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WordArt 11"/>
          <p:cNvSpPr txBox="1"/>
          <p:nvPr/>
        </p:nvSpPr>
        <p:spPr>
          <a:xfrm>
            <a:off x="642960" y="428760"/>
            <a:ext cx="81932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5"/>
          <p:cNvSpPr txBox="1"/>
          <p:nvPr/>
        </p:nvSpPr>
        <p:spPr>
          <a:xfrm>
            <a:off x="714240" y="357120"/>
            <a:ext cx="8048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3214800" y="1000080"/>
            <a:ext cx="56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имем за 1 кадь п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усть  за х дней выпьет жена кадь пи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1/14 часть пития - выпьет человек за 1 ден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1/х часть пития – выпьет жена за 1 ден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1/10 часть пития – выпьют вместе за 1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оставим уравн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1/14+1/х=1/1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Х=3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твет. За 35 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Picture 7" descr=""/>
          <p:cNvPicPr/>
          <p:nvPr/>
        </p:nvPicPr>
        <p:blipFill>
          <a:blip r:embed="rId1"/>
          <a:stretch/>
        </p:blipFill>
        <p:spPr>
          <a:xfrm>
            <a:off x="428760" y="1928880"/>
            <a:ext cx="2449440" cy="2652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2268360" y="3460680"/>
            <a:ext cx="4680000" cy="263232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5"/>
          <p:cNvSpPr/>
          <p:nvPr/>
        </p:nvSpPr>
        <p:spPr>
          <a:xfrm>
            <a:off x="1285920" y="157824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 жаркий день 6 косцов выпили бочонок кваса за 8 часов. Нужно узнать, сколько косцов за 3 часа выпьют такой же бочонок ква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WordArt 6"/>
          <p:cNvSpPr txBox="1"/>
          <p:nvPr/>
        </p:nvSpPr>
        <p:spPr>
          <a:xfrm>
            <a:off x="642960" y="642960"/>
            <a:ext cx="8048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1428840" y="1435320"/>
            <a:ext cx="64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ешение.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оскольку за 8 часов 6 человек выпивают бочонок кваса, то за один час такой же бочонок кваса выпьют 48 человек, а тогда за 3 часа этот бочонок кваса выпьют 16 челове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WordArt 5"/>
          <p:cNvSpPr txBox="1"/>
          <p:nvPr/>
        </p:nvSpPr>
        <p:spPr>
          <a:xfrm>
            <a:off x="928800" y="571680"/>
            <a:ext cx="7616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143000" y="3357720"/>
            <a:ext cx="736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2 способ. Решение. Обратная пропорциональность. В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колько раз уменьшится количество часов во столько раз увеличится количество косц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8/3=х/6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Х=1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твет. 16 косц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7" descr=""/>
          <p:cNvPicPr/>
          <p:nvPr/>
        </p:nvPicPr>
        <p:blipFill>
          <a:blip r:embed="rId1"/>
          <a:stretch/>
        </p:blipFill>
        <p:spPr>
          <a:xfrm>
            <a:off x="3643200" y="4429080"/>
            <a:ext cx="3743280" cy="2156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"/>
          <p:cNvPicPr/>
          <p:nvPr/>
        </p:nvPicPr>
        <p:blipFill>
          <a:blip r:embed="rId1"/>
          <a:stretch/>
        </p:blipFill>
        <p:spPr>
          <a:xfrm>
            <a:off x="3059280" y="4149720"/>
            <a:ext cx="3097080" cy="190512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1357200" y="214956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упил некто трёх сукон 105 аршин; единого взял 12-ю больше перед другим, а другого 9-ю больше перед третьим, и ведательно есть, колико коего сукна взято был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WordArt 6"/>
          <p:cNvSpPr txBox="1"/>
          <p:nvPr/>
        </p:nvSpPr>
        <p:spPr>
          <a:xfrm>
            <a:off x="785880" y="714240"/>
            <a:ext cx="7616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4"/>
          <p:cNvSpPr txBox="1"/>
          <p:nvPr/>
        </p:nvSpPr>
        <p:spPr>
          <a:xfrm>
            <a:off x="1428840" y="42876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авянская нумерация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673800" cy="47894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4643280" y="1413000"/>
            <a:ext cx="3816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Эта нумерация была создана вместе со славянской алфавитной системой для переписки священных книг для славян греческими монахами братьями Кириллом (Константином) и Мефодием в IX веке.  До XVII века эта форма записи чиcел была официальной на территории современной России, Белоруссии, Украины, Болгарии, Венгрии, Сербии и Хорватии. До сих пор православные церковные книги используют эту нумерацию.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219564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WordArt 5"/>
          <p:cNvSpPr txBox="1"/>
          <p:nvPr/>
        </p:nvSpPr>
        <p:spPr>
          <a:xfrm>
            <a:off x="785880" y="500040"/>
            <a:ext cx="7616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928800" y="1857240"/>
            <a:ext cx="655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усть х аршин купил тре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(х+9) аршин купил втор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(х+9+12) аршин купил перв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оставим уравн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Х+х+9+х+21=105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Х=2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вет.25;34;4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7" descr=""/>
          <p:cNvPicPr/>
          <p:nvPr/>
        </p:nvPicPr>
        <p:blipFill>
          <a:blip r:embed="rId1"/>
          <a:stretch/>
        </p:blipFill>
        <p:spPr>
          <a:xfrm>
            <a:off x="4429080" y="3643200"/>
            <a:ext cx="3097080" cy="190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7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032000" cy="28083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1"/>
          <p:cNvSpPr/>
          <p:nvPr/>
        </p:nvSpPr>
        <p:spPr>
          <a:xfrm>
            <a:off x="611280" y="47628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Замечательной книгой Магниц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WordArt 12"/>
          <p:cNvSpPr txBox="1"/>
          <p:nvPr/>
        </p:nvSpPr>
        <p:spPr>
          <a:xfrm>
            <a:off x="755640" y="1700280"/>
            <a:ext cx="5676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евнерусской математики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611280" y="1073160"/>
            <a:ext cx="89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закончилась многовековая ис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Числа в Древней руси"/>
          <p:cNvPicPr/>
          <p:nvPr/>
        </p:nvPicPr>
        <p:blipFill>
          <a:blip r:embed="rId1"/>
          <a:stretch/>
        </p:blipFill>
        <p:spPr>
          <a:xfrm>
            <a:off x="2071800" y="3000240"/>
            <a:ext cx="6429240" cy="361152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5"/>
          <p:cNvSpPr/>
          <p:nvPr/>
        </p:nvSpPr>
        <p:spPr>
          <a:xfrm>
            <a:off x="3500280" y="978840"/>
            <a:ext cx="54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диницы, десятки и сотни изображались славянскими буквами с поставленным над ними знаком ~ , называемым "титло", для отличия цифр от букв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"/>
          <p:cNvPicPr/>
          <p:nvPr/>
        </p:nvPicPr>
        <p:blipFill>
          <a:blip r:embed="rId2"/>
          <a:stretch/>
        </p:blipFill>
        <p:spPr>
          <a:xfrm>
            <a:off x="285840" y="1071720"/>
            <a:ext cx="2914560" cy="1919160"/>
          </a:xfrm>
          <a:prstGeom prst="rect">
            <a:avLst/>
          </a:prstGeom>
          <a:ln w="0">
            <a:noFill/>
          </a:ln>
        </p:spPr>
      </p:pic>
      <p:pic>
        <p:nvPicPr>
          <p:cNvPr id="405" name="WordArt 7" descr=""/>
          <p:cNvPicPr/>
          <p:nvPr/>
        </p:nvPicPr>
        <p:blipFill>
          <a:blip r:embed="rId3"/>
          <a:stretch/>
        </p:blipFill>
        <p:spPr>
          <a:xfrm>
            <a:off x="3206880" y="281160"/>
            <a:ext cx="5729040" cy="5839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285840" y="2500200"/>
            <a:ext cx="3384360" cy="520200"/>
          </a:xfrm>
          <a:prstGeom prst="rect">
            <a:avLst/>
          </a:prstGeom>
          <a:solidFill>
            <a:srgbClr val="379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Церковь Благовещения Пресвятой Богородицы.14 ве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4572000" y="4797360"/>
            <a:ext cx="3673440" cy="7923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5798520" y="30679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ро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5651640" y="4004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WordArt 7"/>
          <p:cNvSpPr txBox="1"/>
          <p:nvPr/>
        </p:nvSpPr>
        <p:spPr>
          <a:xfrm>
            <a:off x="4000680" y="214200"/>
            <a:ext cx="48193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авянская нумерация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1332000" y="19238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ля обозначения чисел больших, чем 900 использовались специальные значки, которые дорисовывались к букве. Так образовывались чис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9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646200" cy="647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0"/>
          <p:cNvSpPr/>
          <p:nvPr/>
        </p:nvSpPr>
        <p:spPr>
          <a:xfrm>
            <a:off x="2050920" y="306792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ыся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3276720" y="31014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12" descr=""/>
          <p:cNvPicPr/>
          <p:nvPr/>
        </p:nvPicPr>
        <p:blipFill>
          <a:blip r:embed="rId3"/>
          <a:stretch/>
        </p:blipFill>
        <p:spPr>
          <a:xfrm>
            <a:off x="1187280" y="3716280"/>
            <a:ext cx="615960" cy="64944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3"/>
          <p:cNvSpPr/>
          <p:nvPr/>
        </p:nvSpPr>
        <p:spPr>
          <a:xfrm>
            <a:off x="2124000" y="385992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ь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3061800" y="38599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 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4"/>
          <a:stretch/>
        </p:blipFill>
        <p:spPr>
          <a:xfrm>
            <a:off x="1187280" y="4437000"/>
            <a:ext cx="649440" cy="6192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6"/>
          <p:cNvSpPr/>
          <p:nvPr/>
        </p:nvSpPr>
        <p:spPr>
          <a:xfrm>
            <a:off x="2124000" y="4652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гио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3206160" y="4652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0 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18" descr=""/>
          <p:cNvPicPr/>
          <p:nvPr/>
        </p:nvPicPr>
        <p:blipFill>
          <a:blip r:embed="rId5"/>
          <a:stretch/>
        </p:blipFill>
        <p:spPr>
          <a:xfrm>
            <a:off x="1187280" y="5157720"/>
            <a:ext cx="792360" cy="74304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9"/>
          <p:cNvSpPr/>
          <p:nvPr/>
        </p:nvSpPr>
        <p:spPr>
          <a:xfrm>
            <a:off x="2195640" y="54777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од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20"/>
          <p:cNvSpPr/>
          <p:nvPr/>
        </p:nvSpPr>
        <p:spPr>
          <a:xfrm>
            <a:off x="3206160" y="55159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 000 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21" descr=""/>
          <p:cNvPicPr/>
          <p:nvPr/>
        </p:nvPicPr>
        <p:blipFill>
          <a:blip r:embed="rId6"/>
          <a:stretch/>
        </p:blipFill>
        <p:spPr>
          <a:xfrm>
            <a:off x="5003640" y="2924280"/>
            <a:ext cx="729000" cy="739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22"/>
          <p:cNvSpPr/>
          <p:nvPr/>
        </p:nvSpPr>
        <p:spPr>
          <a:xfrm>
            <a:off x="6732720" y="3067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 000 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23" descr=""/>
          <p:cNvPicPr/>
          <p:nvPr/>
        </p:nvPicPr>
        <p:blipFill>
          <a:blip r:embed="rId7"/>
          <a:stretch/>
        </p:blipFill>
        <p:spPr>
          <a:xfrm>
            <a:off x="5148360" y="3860640"/>
            <a:ext cx="560160" cy="7207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4"/>
          <p:cNvSpPr/>
          <p:nvPr/>
        </p:nvSpPr>
        <p:spPr>
          <a:xfrm>
            <a:off x="6659640" y="400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0 000 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25" descr=""/>
          <p:cNvPicPr/>
          <p:nvPr/>
        </p:nvPicPr>
        <p:blipFill>
          <a:blip r:embed="rId8"/>
          <a:stretch/>
        </p:blipFill>
        <p:spPr>
          <a:xfrm>
            <a:off x="0" y="0"/>
            <a:ext cx="2928960" cy="185256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26"/>
          <p:cNvSpPr/>
          <p:nvPr/>
        </p:nvSpPr>
        <p:spPr>
          <a:xfrm>
            <a:off x="0" y="1643040"/>
            <a:ext cx="3071880" cy="580680"/>
          </a:xfrm>
          <a:prstGeom prst="rect">
            <a:avLst/>
          </a:prstGeom>
          <a:solidFill>
            <a:srgbClr val="379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Мирожский монастырь.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12в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324000" y="589176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    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О последнем из этих чисел, то есть о колоде, говорилось: "И более сего несть человеческому уму разумевати"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857160" y="500040"/>
            <a:ext cx="2008440" cy="27860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5"/>
          <p:cNvSpPr/>
          <p:nvPr/>
        </p:nvSpPr>
        <p:spPr>
          <a:xfrm>
            <a:off x="3276720" y="34171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428760" y="368784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Наряду с элементарными школами, в которых дети обучались закону божьему, чтению, письму, церковному пению и простейшему счету, существовали школы повышенного типа, дававшие систематическое образование. Многие русские князья были лучше и разностороннее образованы, чем западные короли и императоры. Характерно, что грамотность была распространена даже в среде мелких ремесленников. Многие женщины тоже были грамотны. Внучка Ярослава Мудрого - Янка Всеволодовна - открыла первое в Европе женское училищ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059280" y="476280"/>
            <a:ext cx="56163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 X в., в княжение Владимира Святославича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(?-1015), древнерусское государство (Киевская Русь) достигло наибольшего расцвета и могущества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     По развитию культуры оно занимало одно из видных мест среди государств Европы. В эту эпоху в его наиболее крупных городах (Киеве, Новгороде и др.) уже создавались школы различного типа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4"/>
          <p:cNvSpPr/>
          <p:nvPr/>
        </p:nvSpPr>
        <p:spPr>
          <a:xfrm>
            <a:off x="1187280" y="375192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735280" cy="2089080"/>
          </a:xfrm>
          <a:prstGeom prst="rect">
            <a:avLst/>
          </a:prstGeom>
          <a:ln w="0">
            <a:noFill/>
          </a:ln>
        </p:spPr>
      </p:pic>
      <p:sp>
        <p:nvSpPr>
          <p:cNvPr id="437" name="WordArt 6"/>
          <p:cNvSpPr txBox="1"/>
          <p:nvPr/>
        </p:nvSpPr>
        <p:spPr>
          <a:xfrm>
            <a:off x="3276720" y="-895320"/>
            <a:ext cx="548640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вгородский монах Кирик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357120" y="2571840"/>
            <a:ext cx="84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о настоящего времени считается рукописное сочинение новгородского монаха Кирика, написанное им в 1136 г. и носящее заголовок "Кирика диакона и доместика Новгородского Антониева монастыря учение имже ведати человеку числа всех лет"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     В этом сочинении Кирик выявил себя весьма искусным счетчиком и великим числолюбцем. Основные задачи, которые разрешаются Кириком, хронологического порядка: вычисление времени, протекшего между какими-либо событ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3214800" y="142884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Первым русским памятником математического содерж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WordArt 4" descr=""/>
          <p:cNvPicPr/>
          <p:nvPr/>
        </p:nvPicPr>
        <p:blipFill>
          <a:blip r:embed="rId1"/>
          <a:stretch/>
        </p:blipFill>
        <p:spPr>
          <a:xfrm>
            <a:off x="3200400" y="-396720"/>
            <a:ext cx="5522760" cy="1828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"/>
          <p:cNvPicPr/>
          <p:nvPr/>
        </p:nvPicPr>
        <p:blipFill>
          <a:blip r:embed="rId2"/>
          <a:stretch/>
        </p:blipFill>
        <p:spPr>
          <a:xfrm rot="20588400">
            <a:off x="407880" y="612720"/>
            <a:ext cx="2546280" cy="1944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92200" y="3000240"/>
            <a:ext cx="819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ычисления Кирика никому, кроме него самог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 были нужны; они не могли прин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икакой практической пользы людям. А в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ля нас рукопись Кирика очень важ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на ясно показывает, что славяне тысяч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лет назад отлично владели четырь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ействиями Арифметики, свободно обраща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 очень большими целыми числами и с оч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аленькими дроб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2844720" y="47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5"/>
          <p:cNvSpPr txBox="1"/>
          <p:nvPr/>
        </p:nvSpPr>
        <p:spPr>
          <a:xfrm>
            <a:off x="2214720" y="500040"/>
            <a:ext cx="544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Кирика Новгородца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3851280" y="1998720"/>
            <a:ext cx="479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колько месяцев, недель, дней и часов прожил человек, которому в 1136 г. Исполнилось 26 л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2736720" cy="37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4"/>
          <p:cNvSpPr/>
          <p:nvPr/>
        </p:nvSpPr>
        <p:spPr>
          <a:xfrm>
            <a:off x="3929040" y="2060640"/>
            <a:ext cx="413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2*26=312 месяц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65*26+7=9497 д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497:7=1356 нед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4*9497=227928 ча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WordArt 5"/>
          <p:cNvSpPr txBox="1"/>
          <p:nvPr/>
        </p:nvSpPr>
        <p:spPr>
          <a:xfrm>
            <a:off x="2214720" y="500040"/>
            <a:ext cx="544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Кирика Новгородца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2736720" cy="37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5:01:06Z</dcterms:created>
  <dc:creator>Эвольвента</dc:creator>
  <dc:description/>
  <dc:language>en-US</dc:language>
  <cp:lastModifiedBy>student12_2</cp:lastModifiedBy>
  <dcterms:modified xsi:type="dcterms:W3CDTF">2012-06-29T09:55:07Z</dcterms:modified>
  <cp:revision>7</cp:revision>
  <dc:subject/>
  <dc:title>Слайд 1</dc:title>
</cp:coreProperties>
</file>