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F11-B8BF-4018-B36E-8523E9B9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30E-8423-490D-A245-7D22836F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A3E-146F-4337-9544-50D85C01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670-0C4E-4196-9B30-D1B0B851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714-0BD4-498D-87EE-E7670B77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C77-CE7A-476F-880D-2F56C64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725-4877-4083-A572-A7DB0BEA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38B-9531-4A31-B8B9-F4686009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C95-FF1A-4FAB-8837-03536F25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8FA-1E55-46FB-AE27-A2E3D37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BCC-5DCB-45AB-B708-47D77A16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8A0-88F1-45DF-B7FE-EAF953B6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AF7E-1FF5-4CF9-9E50-798D112F8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ru.wikipedia.org/wiki/&#1047;&#1086;&#1083;&#1086;&#1090;&#1086;&#1077;_&#1089;&#1077;&#1095;&#1077;&#1085;&#1080;&#1077;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Леонардо Пизано Фибоначчи"/>
          <p:cNvPicPr/>
          <p:nvPr/>
        </p:nvPicPr>
        <p:blipFill>
          <a:blip r:embed="rId1"/>
          <a:stretch/>
        </p:blipFill>
        <p:spPr>
          <a:xfrm>
            <a:off x="285840" y="285840"/>
            <a:ext cx="487656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5021640" y="642960"/>
            <a:ext cx="437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Comic Sans MS"/>
              </a:rPr>
              <a:t>Леонард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Comic Sans MS"/>
              </a:rPr>
              <a:t>Пизан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Comic Sans MS"/>
              </a:rPr>
              <a:t>Фибонач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170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1928880" y="2500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14200" y="638640"/>
            <a:ext cx="8501040" cy="6128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Божественная пpопоpц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Cpеди его совpеменных названий есть такие, как 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Золотое сеч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Kеплеp назвал это соотношение одним из "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сокpовищ геометpии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".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</a:rPr>
              <a:t> Универсальный код Вселенной.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боначчи напомнил свою последовательность человечеству. Она была известна еще древним грекам и египтянам. И действительно, с тех пор в природе, архитектуре, изобразительном искусстве, математике, физике, астрономии, биологии и многих других областях были найдены закономерности, описываемые коэффициентами Фибонач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76092"/>
                </a:solidFill>
                <a:latin typeface="Comic Sans MS"/>
              </a:rPr>
              <a:t>Самое важное математическое выражение природных явлений из всех когда-либо откры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942280" y="0"/>
            <a:ext cx="23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Arial"/>
                <a:ea typeface="Times New Roman"/>
              </a:rPr>
              <a:t>Ф=1.6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57240" y="1143000"/>
            <a:ext cx="6357960" cy="1455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1000080" y="3071880"/>
            <a:ext cx="7858080" cy="19731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Золотая пропорция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— это такая пропорция, когда отрезок поделен на две части таким образом, что отношение большей части к меньшей равно отношению всего отрезка к большей части. Ил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285920" y="5143680"/>
            <a:ext cx="74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оби можно переворачивать. В любом случае получится величина равная либо 1.61803399.., либо 0.61803399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148760" y="142920"/>
            <a:ext cx="807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omic Sans MS"/>
              </a:rPr>
              <a:t>Золотая пропор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5500800" y="642960"/>
            <a:ext cx="3286080" cy="52131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дезь пропорций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ф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человек. Каждый зуб, губы и нос, глаза, пальцы рук и ног, основные чакры – все соотносится друг с другом согласно пропорциям Фибонач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50720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ф4"/>
          <p:cNvPicPr/>
          <p:nvPr/>
        </p:nvPicPr>
        <p:blipFill>
          <a:blip r:embed="rId1"/>
          <a:stretch/>
        </p:blipFill>
        <p:spPr>
          <a:xfrm>
            <a:off x="1071720" y="1571760"/>
            <a:ext cx="6715080" cy="49291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571680" y="285840"/>
            <a:ext cx="8572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интересно пропорц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является в </a:t>
            </a:r>
            <a:r>
              <a:rPr b="1" lang="ru-RU" sz="6000" spc="-1" strike="noStrike">
                <a:solidFill>
                  <a:srgbClr val="000000"/>
                </a:solidFill>
                <a:latin typeface="Arno Pro"/>
              </a:rPr>
              <a:t>спиральных структур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85840" y="107172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ковина улитки, цветок подсолнуха, рога животных, сосновые шишки и Галактика. </a:t>
            </a:r>
            <a:r>
              <a:rPr b="0" lang="ru-RU" sz="2400" spc="-1" strike="noStrike">
                <a:solidFill>
                  <a:srgbClr val="4f81bd"/>
                </a:solidFill>
                <a:latin typeface="Comic Sans MS"/>
              </a:rPr>
              <a:t>Саморазвитие жизни происходит по спирали, которая стала символом эволю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072120" y="2286000"/>
            <a:ext cx="2878200" cy="3357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3071880" cy="32144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-46800" y="214200"/>
            <a:ext cx="951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81bd"/>
                </a:solidFill>
                <a:latin typeface="Comic Sans MS"/>
              </a:rPr>
              <a:t>спиральные структ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00040" y="607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Все природные спирали – это спирали Фибонач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3214800" y="2286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3214800" y="4000680"/>
            <a:ext cx="287640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ib1"/>
          <p:cNvPicPr/>
          <p:nvPr/>
        </p:nvPicPr>
        <p:blipFill>
          <a:blip r:embed="rId1"/>
          <a:stretch/>
        </p:blipFill>
        <p:spPr>
          <a:xfrm>
            <a:off x="500040" y="428760"/>
            <a:ext cx="3865680" cy="3000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57120" y="3585960"/>
            <a:ext cx="85726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no Pro"/>
                <a:ea typeface="Times New Roman"/>
              </a:rPr>
              <a:t>«</a:t>
            </a:r>
            <a:r>
              <a:rPr b="0" i="1" lang="ru-RU" sz="3200" spc="-1" strike="noStrike">
                <a:solidFill>
                  <a:srgbClr val="c00000"/>
                </a:solidFill>
                <a:latin typeface="Arno Pro"/>
                <a:ea typeface="Times New Roman"/>
              </a:rPr>
              <a:t>В геометрии существует два сокровища</a:t>
            </a:r>
            <a:r>
              <a:rPr b="0" i="1" lang="ru-RU" sz="3200" spc="-1" strike="noStrike">
                <a:solidFill>
                  <a:srgbClr val="000000"/>
                </a:solidFill>
                <a:latin typeface="Arno Pro"/>
                <a:ea typeface="Times New Roman"/>
              </a:rPr>
              <a:t>: первое – теорема Пифагора, второе – золотое сечение. Первое можно сравнить с мерой золота, второе – с драгоценным камнем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еп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500720" y="294840"/>
            <a:ext cx="421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no Pro"/>
                <a:ea typeface="Times New Roman"/>
              </a:rPr>
              <a:t>«Будущие ученые во все времена "будут отдавать свой долг Леонардо Пизанскому, как одному из </a:t>
            </a:r>
            <a:r>
              <a:rPr b="1" i="1" lang="ru-RU" sz="2000" spc="-1" strike="noStrike">
                <a:solidFill>
                  <a:srgbClr val="c00000"/>
                </a:solidFill>
                <a:latin typeface="Arno Pro"/>
                <a:ea typeface="Times New Roman"/>
              </a:rPr>
              <a:t>величайших интеллектуальных первопроходцев мир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4572000" y="235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озеф Гиз, главный редактор Британской Энциклопед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Леонардо Пизано Фибоначчи"/>
          <p:cNvPicPr/>
          <p:nvPr/>
        </p:nvPicPr>
        <p:blipFill>
          <a:blip r:embed="rId1"/>
          <a:stretch/>
        </p:blipFill>
        <p:spPr>
          <a:xfrm>
            <a:off x="357120" y="1000080"/>
            <a:ext cx="2878200" cy="3500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428760" y="2142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omic Sans MS"/>
              </a:rPr>
              <a:t>Леонардо Пизано Фибонач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3571920" y="943920"/>
            <a:ext cx="5072040" cy="3385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 жизни Фибоначчи известно нем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известна даже точная дата его ро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  <a:ea typeface="Times New Roman"/>
              </a:rPr>
              <a:t>Предполагается, что Фибоначчи родился предположительно в 117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отец был купцом и государственным чиновн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357120" y="4572000"/>
            <a:ext cx="8501040" cy="15570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му удалось «устроить" своего сына, будущего математика Фибоначчи, в одно из арабских учебных заведений, где он и смог получить неплохое для того времени математическое образ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000240" y="450360"/>
            <a:ext cx="5861160" cy="49111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 эпохи Возрождения было еще далеко, однако история даровала Италии краткий промежуток времени, который вполне можно было назвать репетицией надвигающейся эпохи Ренессанса. Этой репетицией руководил </a:t>
            </a:r>
            <a:r>
              <a:rPr b="0" lang="ru-RU" sz="20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Фридрих II, император Священной Римской импе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ридрих II был внутренне глубоко далек от европейского христианского рыцарства. Рыцарские турниры Фридрих II совсем не признавал. Вместо этого он </a:t>
            </a:r>
            <a:r>
              <a:rPr b="0" lang="ru-RU" sz="2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культивировал математические соревнования, на которых противники обменивались не ударами, а задач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4200" y="571680"/>
            <a:ext cx="2540160" cy="43574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928800" y="5500800"/>
            <a:ext cx="7500960" cy="9471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аких турнирах и заблистал талан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еонардо Фибонач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000240" y="785880"/>
            <a:ext cx="5643720" cy="35697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которые проблемы, которые Император поставил перед знаменитым математиком, подробно изложены в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Книге абак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Фибоначчи, очевидно, решил проблемы, поставленные Императором, и навсегда стал желанным гостем при Королевском дворе. Когда Фибоначчи перерабатывал Книгу абака в 1228 году, он посвятил исправленную редакцию Фредерику II. Всего он написал три значительных математических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Леонардо Пизано Фибоначчи"/>
          <p:cNvPicPr/>
          <p:nvPr/>
        </p:nvPicPr>
        <p:blipFill>
          <a:blip r:embed="rId1"/>
          <a:stretch/>
        </p:blipFill>
        <p:spPr>
          <a:xfrm>
            <a:off x="428760" y="857160"/>
            <a:ext cx="2357280" cy="2867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-276120" y="0"/>
            <a:ext cx="97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Comic Sans MS"/>
              </a:rPr>
              <a:t>Леонардо Пизано Фибонач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14200" y="4357800"/>
            <a:ext cx="8715600" cy="228852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Книга аба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опубликованная в 1202 году и переизданная в 1228 году,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Практическая 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опубликованная в 1220 году, 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Книга квадрату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По этим книгам, превосходящим по своему уровню арабские и средневековые европейские сочинения, учили математику чуть ли не до времен Дека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Леонардо Пизано Фибоначчи"/>
          <p:cNvPicPr/>
          <p:nvPr/>
        </p:nvPicPr>
        <p:blipFill>
          <a:blip r:embed="rId1"/>
          <a:stretch/>
        </p:blipFill>
        <p:spPr>
          <a:xfrm>
            <a:off x="214200" y="1000080"/>
            <a:ext cx="2760840" cy="33577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8"/>
          <p:cNvSpPr/>
          <p:nvPr/>
        </p:nvSpPr>
        <p:spPr>
          <a:xfrm>
            <a:off x="1884600" y="0"/>
            <a:ext cx="502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Arno Pro Caption"/>
              </a:rPr>
              <a:t>Книга об аба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3071880" y="785880"/>
            <a:ext cx="5857920" cy="40579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нига состоит из 15 разделов, которые последовательно трактуют: </a:t>
            </a:r>
            <a:r>
              <a:rPr b="0" lang="ru-RU" sz="20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о новых знаках индусов и как с их помощью изображать числа; об умножении, сложении, вычитании и делении чисел; об умножении, сложении, вычитании и делении чисел с дробями; о нахождении цен товаров и об их обмене, правиле товарищества и о правиле "двойного ложного положения"; о нахождении квадратных и кубических корней; и, наконец, о правилах, относящихся к геометрии и о задачах алгебры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214200" y="4572000"/>
            <a:ext cx="8929800" cy="19227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ибоначчи задумывал свое сочинение 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как пособие для купц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однако по своему значению оно вышло далеко за пределы торговой практики, посуществу  представляло своеобразную 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математическую энциклопедию эпохи средневековья.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3997440" cy="3571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4500720" y="857160"/>
            <a:ext cx="4429080" cy="4214880"/>
          </a:xfrm>
          <a:prstGeom prst="rect">
            <a:avLst/>
          </a:prstGeom>
          <a:solidFill>
            <a:srgbClr val="ccc1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онардо Фибоначчи любил гулять по лесу и размышлять. Например, о том, с какой геометрической прогрессией рождаются кролики. Неизвестно, долго ли он над этим думал, но именно размышляя о кроликах, придумал числовой, рад, каждое последующее число которого являлось суммой двух предыдущих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, 1, 2, 3, 5, 8, 13, 21, 34, 55, 89, 144, 233, 377, 610, 987, 1597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так до бесконечности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00040" y="5214960"/>
            <a:ext cx="8429760" cy="11912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Arial"/>
              </a:rPr>
              <a:t>1, 1, 2, 3, 5, 8, 13, 21, 34, 55, 89, 144, 233, 377, 610, 987, 15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178596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1220760" y="0"/>
            <a:ext cx="562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Comic Sans MS"/>
              </a:rPr>
              <a:t>Числа Фибонач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7"/>
          <p:cNvSpPr/>
          <p:nvPr/>
        </p:nvSpPr>
        <p:spPr>
          <a:xfrm>
            <a:off x="500040" y="8571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1, 1, 2, 3, 5, 8, 13, 21, 34, 55, 89, 144, 233, 377, 610, 987, 15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143080" y="5214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1582920" y="0"/>
            <a:ext cx="699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omic Sans MS"/>
              </a:rPr>
              <a:t>Числа Фибонач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571680" y="1857240"/>
            <a:ext cx="8072280" cy="131364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ило Фибоначчи вывести эту закономерность, как ее проявления стали проявляться повсюду. Так как Фибоначчи любил гулять, первая закономерность бросилась ему в глаза на лесной поля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000080" y="3357720"/>
            <a:ext cx="1619280" cy="1214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500200" y="335772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4000680" y="3357720"/>
            <a:ext cx="1857240" cy="139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5715000" y="3357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1214280" y="4500720"/>
            <a:ext cx="2476800" cy="185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6"/>
          <a:stretch/>
        </p:blipFill>
        <p:spPr>
          <a:xfrm>
            <a:off x="3500280" y="4500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5429160" y="49291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7"/>
          <p:cNvSpPr/>
          <p:nvPr/>
        </p:nvSpPr>
        <p:spPr>
          <a:xfrm>
            <a:off x="357120" y="785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1, 1, 2, 3, 5, 8, 13, 21, 34, 55, 89, 144, 233, 377, 610, 987, 15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178596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1466280" y="0"/>
            <a:ext cx="699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omic Sans MS"/>
              </a:rPr>
              <a:t>Числа Фибонач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428760" y="164304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есной поля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2928960" cy="38350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9"/>
          <p:cNvSpPr/>
          <p:nvPr/>
        </p:nvSpPr>
        <p:spPr>
          <a:xfrm>
            <a:off x="3714840" y="2071800"/>
            <a:ext cx="4572000" cy="344664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аблюдав, как прорастает из земли </a:t>
            </a: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тысячелистник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й, к своему удивлению, обнаружил, что сначала появляется один листик, потом два, чуть позже – три, затем пять… восемь… тринадц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И никогда по-другом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0"/>
          <p:cNvSpPr/>
          <p:nvPr/>
        </p:nvSpPr>
        <p:spPr>
          <a:xfrm>
            <a:off x="857160" y="5572080"/>
            <a:ext cx="7643880" cy="10087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 тогда Фибоначчи даже не предполагал, насколько близ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му удалось приблизиться к разгадке одной из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величайш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тайн мироз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40719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7"/>
          <p:cNvSpPr/>
          <p:nvPr/>
        </p:nvSpPr>
        <p:spPr>
          <a:xfrm>
            <a:off x="285840" y="92880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</a:rPr>
              <a:t>1, 1, 2, 3, 5, 8, 13, 21, 34, 55, 89, 144, 233, 377, 610, 987, 15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178596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1466280" y="0"/>
            <a:ext cx="699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omic Sans MS"/>
              </a:rPr>
              <a:t>Числа Фибонач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00040" y="2214720"/>
            <a:ext cx="8286840" cy="35067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 последовательность, получившая название </a:t>
            </a: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ряда Фибоначч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обладает удивительными свойств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ношение двух соседних чисел приближенно равно </a:t>
            </a: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числу «фи»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чем дальше пара чисел находится от начала последовательности, тем точнее это приближ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374280" y="5717520"/>
            <a:ext cx="25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Arial"/>
                <a:ea typeface="Times New Roman"/>
              </a:rPr>
              <a:t>Ф=1.6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6:27:14Z</dcterms:created>
  <dc:creator>Admin</dc:creator>
  <dc:description/>
  <dc:language>en-US</dc:language>
  <cp:lastModifiedBy>student12_2</cp:lastModifiedBy>
  <dcterms:modified xsi:type="dcterms:W3CDTF">2012-06-29T11:31:20Z</dcterms:modified>
  <cp:revision>9</cp:revision>
  <dc:subject/>
  <dc:title>Слайд 1</dc:title>
</cp:coreProperties>
</file>