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589E-C080-45B9-A8C4-18BA48FC89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80B6-7FFB-4D32-BA60-23C4C0EF27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3DB-EC2B-4EEC-9C1E-993BCB54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2EA-B6DD-4DAD-9424-A5570B7C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635-B5EF-4525-BACE-2CDC2438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1FC-462F-4005-AA6F-1DDF921C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A758-4B80-4FB0-B55D-A639CE18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722F-29D8-4CBD-8522-823517F7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58E9-F64F-4A34-9951-A2FC105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54C9-9343-4194-A1F1-E92E2CA9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FBFC-3076-4634-B296-F96A8960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489B-AFF5-46CF-B8FF-C708F87F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DFFB-5DD5-4FC5-8D66-D171388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5D3-E766-4838-A936-7A64BF71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5103-76F1-4F04-B9A5-AAA17103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F098-05A7-43CD-930E-B00C82CA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A5C0-2F01-4161-87C5-5B1323A3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E0E-1F19-4913-A965-DE0C11D8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FB3C-88B0-4800-A1FF-B122804E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4AC0-6296-4712-AF1A-E8837113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538A-76F8-43BF-B0AD-0AB095D8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4F99-BF6C-411D-AEC4-0EA79812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54E3D-35B3-41F4-8FDF-0F1A917C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9A78-A18A-4414-B701-1D093CB3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2FF-49D3-44A8-AB02-5CACFA5B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7B08-F784-4C9A-BFEA-F13E2E1E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C0147-4367-4F77-A50F-98DECB2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05675-CC85-4087-A23C-EC9A3FE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E7BF-5661-4123-904A-BB1CFD1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BAB6-A2F0-4011-9997-8CB3520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A547-A237-418C-8F8D-5C9C5F41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8AD7-2CD8-4B38-BBCB-3E7FDE4F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9D833-5E07-4D42-8617-911117EF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79B81-94C2-4D1B-A832-B2F9194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AF42-5877-4A5A-BF5F-0961F9A9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CE1-0675-4903-8697-D3D72D0A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10AD-4F80-40C2-AD05-5ECAA2AF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345C-2F90-497D-88A3-6544D6FA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0CC1-C5C4-45EB-BBD6-DD7F794B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DE1EA-31C9-42EE-AFF1-25A94CB6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D0B8-E6E0-4B05-A79A-EE5EDBF9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C15A-969D-48FB-B7E3-F45E2E97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C56A-579C-4999-834A-2429252E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6BFEE-48E9-4989-88A0-1D4BF2A5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5226-94C4-41B0-957E-24498A79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D13-D488-4A80-B5D2-0E158469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39A-AA57-4160-908E-F09E0719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E74-73FC-48A8-890E-1F0A1423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336-502F-4686-B5DB-C59633CC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F63-C840-4240-96E8-34EF077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1479-82CF-4C83-AA57-ADD6FE5D2A2D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6F4-B221-49EF-9087-C25D5C255A42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3DA4-516D-4B33-903A-2DDD381B7B1A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0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475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0475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1FC-5C5E-4EE8-9FAB-ED9E23502192}" type="slidenum">
              <a:rPr b="0" lang="ru-RU" sz="1000" spc="-1" strike="noStrike">
                <a:solidFill>
                  <a:srgbClr val="40475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1550" TargetMode="External"/><Relationship Id="rId3" Type="http://schemas.openxmlformats.org/officeDocument/2006/relationships/hyperlink" Target="http://ru.wikipedia.org/wiki/1617" TargetMode="External"/><Relationship Id="rId4" Type="http://schemas.openxmlformats.org/officeDocument/2006/relationships/hyperlink" Target="http://ru.wikipedia.org/wiki/&#1064;&#1086;&#1090;&#1083;&#1072;&#1085;&#1076;&#1080;&#1103;" TargetMode="External"/><Relationship Id="rId5" Type="http://schemas.openxmlformats.org/officeDocument/2006/relationships/hyperlink" Target="http://ru.wikipedia.org/wiki/&#1052;&#1072;&#1090;&#1077;&#1084;&#1072;&#1090;&#1080;&#1082;" TargetMode="External"/><Relationship Id="rId6" Type="http://schemas.openxmlformats.org/officeDocument/2006/relationships/hyperlink" Target="http://ru.wikipedia.org/wiki/&#1051;&#1086;&#1075;&#1072;&#1088;&#1080;&#1092;&#1084;" TargetMode="External"/><Relationship Id="rId7" Type="http://schemas.openxmlformats.org/officeDocument/2006/relationships/hyperlink" Target="http://ru.wikipedia.org/wiki/&#1051;&#1086;&#1075;&#1072;&#1088;&#1080;&#1092;&#1084;&#1080;&#1095;&#1077;&#1089;&#1082;&#1080;&#1077;_&#1090;&#1072;&#1073;&#1083;&#1080;&#1094;&#1099;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ru.wikipedia.org/wiki/&#1040;&#1085;&#1072;&#1083;&#1086;&#1075;&#1086;&#1074;&#1086;&#1077;_&#1074;&#1099;&#1095;&#1080;&#1089;&#1083;&#1080;&#1090;&#1077;&#1083;&#1100;&#1085;&#1086;&#1077;_&#1091;&#1089;&#1090;&#1088;&#1086;&#1081;&#1089;&#1090;&#1074;&#1086;" TargetMode="External"/><Relationship Id="rId3" Type="http://schemas.openxmlformats.org/officeDocument/2006/relationships/hyperlink" Target="http://ru.wikipedia.org/wiki/&#1052;&#1072;&#1090;&#1077;&#1084;&#1072;&#1090;&#1080;&#1082;&#1072;" TargetMode="External"/><Relationship Id="rId4" Type="http://schemas.openxmlformats.org/officeDocument/2006/relationships/hyperlink" Target="http://ru.wikipedia.org/wiki/&#1059;&#1084;&#1085;&#1086;&#1078;&#1077;&#1085;&#1080;&#1077;" TargetMode="External"/><Relationship Id="rId5" Type="http://schemas.openxmlformats.org/officeDocument/2006/relationships/hyperlink" Target="http://ru.wikipedia.org/wiki/&#1044;&#1077;&#1083;&#1077;&#1085;&#1080;&#1077;_%28&#1084;&#1072;&#1090;&#1077;&#1084;&#1072;&#1090;&#1080;&#1082;&#1072;%29" TargetMode="External"/><Relationship Id="rId6" Type="http://schemas.openxmlformats.org/officeDocument/2006/relationships/hyperlink" Target="http://ru.wikipedia.org/wiki/&#1042;&#1086;&#1079;&#1074;&#1077;&#1076;&#1077;&#1085;&#1080;&#1077;_&#1074;_&#1089;&#1090;&#1077;&#1087;&#1077;&#1085;&#1100;" TargetMode="External"/><Relationship Id="rId7" Type="http://schemas.openxmlformats.org/officeDocument/2006/relationships/hyperlink" Target="http://ru.wikipedia.org/wiki/&#1051;&#1086;&#1075;&#1072;&#1088;&#1080;&#1092;&#1084;" TargetMode="External"/><Relationship Id="rId8" Type="http://schemas.openxmlformats.org/officeDocument/2006/relationships/hyperlink" Target="http://ru.wikipedia.org/wiki/&#1058;&#1088;&#1080;&#1075;&#1086;&#1085;&#1086;&#1084;&#1077;&#1090;&#1088;&#1080;&#1103;" TargetMode="External"/><Relationship Id="rId9" Type="http://schemas.openxmlformats.org/officeDocument/2006/relationships/image" Target="../media/image7.png"/><Relationship Id="rId10" Type="http://schemas.openxmlformats.org/officeDocument/2006/relationships/hyperlink" Target="http://ru.wikipedia.org/wiki/&#1054;&#1090;&#1088;&#1077;&#1076;,_&#1059;&#1080;&#1083;&#1100;&#1103;&#1084;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dic.academic.ru/dic.nsf/ruwiki/8180" TargetMode="External"/><Relationship Id="rId13" Type="http://schemas.openxmlformats.org/officeDocument/2006/relationships/hyperlink" Target="http://dic.academic.ru/dic.nsf/ruwiki/455" TargetMode="External"/><Relationship Id="rId14" Type="http://schemas.openxmlformats.org/officeDocument/2006/relationships/hyperlink" Target="http://dic.academic.ru/dic.nsf/ruwiki/2553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1623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3251160" cy="2357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6929280" y="4000680"/>
            <a:ext cx="1887840" cy="207144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3"/>
          <p:cNvSpPr/>
          <p:nvPr/>
        </p:nvSpPr>
        <p:spPr>
          <a:xfrm>
            <a:off x="3857760" y="785880"/>
            <a:ext cx="4572000" cy="3018600"/>
          </a:xfrm>
          <a:prstGeom prst="rect">
            <a:avLst/>
          </a:prstGeom>
          <a:solidFill>
            <a:srgbClr val="ffe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500 года нашей эры: изобретение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бак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четов) - инструмента вычислений, состоящего из костяшек, нанизанных на стерж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331920" y="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72020"/>
                </a:solidFill>
                <a:latin typeface="Comic Sans MS"/>
              </a:rPr>
              <a:t>История вычислительной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3"/>
          <a:stretch/>
        </p:blipFill>
        <p:spPr>
          <a:xfrm>
            <a:off x="785880" y="3929040"/>
            <a:ext cx="261936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4"/>
          <a:stretch/>
        </p:blipFill>
        <p:spPr>
          <a:xfrm>
            <a:off x="4071960" y="4071960"/>
            <a:ext cx="2286000" cy="179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3849840" cy="485748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2"/>
          <p:cNvSpPr/>
          <p:nvPr/>
        </p:nvSpPr>
        <p:spPr>
          <a:xfrm>
            <a:off x="2786040" y="52862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ткрытие вызвало гигантское облегчение труда вычисл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4357800" y="357120"/>
            <a:ext cx="45720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жон Не́пер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168bba"/>
                </a:solidFill>
                <a:uFillTx/>
                <a:latin typeface="Calibri"/>
                <a:hlinkClick r:id="rId2"/>
              </a:rPr>
              <a:t>1550</a:t>
            </a:r>
            <a:r>
              <a:rPr b="0" lang="ru-RU" sz="4000" spc="-1" strike="noStrike">
                <a:solidFill>
                  <a:srgbClr val="672020"/>
                </a:solidFill>
                <a:latin typeface="Calibri"/>
              </a:rPr>
              <a:t>—</a:t>
            </a:r>
            <a:r>
              <a:rPr b="0" lang="ru-RU" sz="4000" spc="-1" strike="noStrike" u="sng">
                <a:solidFill>
                  <a:srgbClr val="168bba"/>
                </a:solidFill>
                <a:uFillTx/>
                <a:latin typeface="Calibri"/>
                <a:hlinkClick r:id="rId3"/>
              </a:rPr>
              <a:t>1617</a:t>
            </a:r>
            <a:r>
              <a:rPr b="0" lang="ru-RU" sz="4000" spc="-1" strike="noStrike">
                <a:solidFill>
                  <a:srgbClr val="672020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202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4"/>
              </a:rPr>
              <a:t>шотландский</a:t>
            </a:r>
            <a:r>
              <a:rPr b="0" lang="ru-RU" sz="3200" spc="-1" strike="noStrike">
                <a:solidFill>
                  <a:srgbClr val="672020"/>
                </a:solidFill>
                <a:latin typeface="Calibri"/>
              </a:rPr>
              <a:t> барон),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5"/>
              </a:rPr>
              <a:t>математик</a:t>
            </a:r>
            <a:r>
              <a:rPr b="0" lang="ru-RU" sz="3200" spc="-1" strike="noStrike">
                <a:solidFill>
                  <a:srgbClr val="672020"/>
                </a:solidFill>
                <a:latin typeface="Calibri"/>
              </a:rPr>
              <a:t>, один из изобретателей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6"/>
              </a:rPr>
              <a:t>логарифмов</a:t>
            </a:r>
            <a:r>
              <a:rPr b="0" lang="ru-RU" sz="3200" spc="-1" strike="noStrike">
                <a:solidFill>
                  <a:srgbClr val="672020"/>
                </a:solidFill>
                <a:latin typeface="Calibri"/>
              </a:rPr>
              <a:t>, первый публикатор 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Calibri"/>
                <a:hlinkClick r:id="rId7"/>
              </a:rPr>
              <a:t>логарифмических таблиц</a:t>
            </a:r>
            <a:r>
              <a:rPr b="0" lang="ru-RU" sz="1800" spc="-1" strike="noStrike">
                <a:solidFill>
                  <a:srgbClr val="67202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571840" y="2643120"/>
            <a:ext cx="6308640" cy="18576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2"/>
          <p:cNvSpPr/>
          <p:nvPr/>
        </p:nvSpPr>
        <p:spPr>
          <a:xfrm>
            <a:off x="357120" y="450072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арифми́ческая лине́й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2"/>
              </a:rPr>
              <a:t>аналоговое вычислительное устрой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зволяющее выполнять несколько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математиче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ераций, в том числе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4"/>
              </a:rPr>
              <a:t>умн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5"/>
              </a:rPr>
              <a:t>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ел,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6"/>
              </a:rPr>
              <a:t>возведение в степе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чаще всего в квадрат и куб) и вычисление квадратных и кубических корней, вычисление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7"/>
              </a:rPr>
              <a:t>логариф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8"/>
              </a:rPr>
              <a:t>тригонометриче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ункций и другие оп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6"/>
          <p:cNvSpPr/>
          <p:nvPr/>
        </p:nvSpPr>
        <p:spPr>
          <a:xfrm>
            <a:off x="2714760" y="114300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математик. Известен как изобретатель логарифмической линейки (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622 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9"/>
          <a:stretch/>
        </p:blipFill>
        <p:spPr>
          <a:xfrm>
            <a:off x="428760" y="285840"/>
            <a:ext cx="2071440" cy="293040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8"/>
          <p:cNvSpPr/>
          <p:nvPr/>
        </p:nvSpPr>
        <p:spPr>
          <a:xfrm>
            <a:off x="3320280" y="21420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68bba"/>
                </a:solidFill>
                <a:uFillTx/>
                <a:latin typeface="Arial"/>
                <a:hlinkClick r:id="rId10"/>
              </a:rPr>
              <a:t>Уильям Отр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1"/>
          <a:stretch/>
        </p:blipFill>
        <p:spPr>
          <a:xfrm>
            <a:off x="571680" y="3000240"/>
            <a:ext cx="1809720" cy="15004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8"/>
          <p:cNvSpPr/>
          <p:nvPr/>
        </p:nvSpPr>
        <p:spPr>
          <a:xfrm>
            <a:off x="285840" y="6119640"/>
            <a:ext cx="85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арифмические линейки широко использовались для выполнения инженерных расчётов примерно до начала </a:t>
            </a:r>
            <a:r>
              <a:rPr b="0" lang="ru-RU" sz="1400" spc="-1" strike="noStrike" u="sng">
                <a:solidFill>
                  <a:srgbClr val="168bba"/>
                </a:solidFill>
                <a:uFillTx/>
                <a:latin typeface="Arial"/>
                <a:hlinkClick r:id="rId12"/>
              </a:rPr>
              <a:t>80-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одов </a:t>
            </a:r>
            <a:r>
              <a:rPr b="0" lang="ru-RU" sz="1400" spc="-1" strike="noStrike" u="sng">
                <a:solidFill>
                  <a:srgbClr val="168bba"/>
                </a:solidFill>
                <a:uFillTx/>
                <a:latin typeface="Arial"/>
                <a:hlinkClick r:id="rId13"/>
              </a:rPr>
              <a:t>X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гда они были вытеснены </a:t>
            </a:r>
            <a:r>
              <a:rPr b="0" lang="ru-RU" sz="1400" spc="-1" strike="noStrike" u="sng">
                <a:solidFill>
                  <a:srgbClr val="168bba"/>
                </a:solidFill>
                <a:uFillTx/>
                <a:latin typeface="Arial"/>
                <a:hlinkClick r:id="rId14"/>
              </a:rPr>
              <a:t>калькулятор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42920" y="357192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2"/>
          <p:cNvSpPr/>
          <p:nvPr/>
        </p:nvSpPr>
        <p:spPr>
          <a:xfrm>
            <a:off x="3000240" y="0"/>
            <a:ext cx="59295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лез Паскаль</a:t>
            </a:r>
            <a:r>
              <a:rPr b="1" lang="vi-V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 u="sng">
                <a:solidFill>
                  <a:srgbClr val="168bba"/>
                </a:solidFill>
                <a:uFillTx/>
                <a:latin typeface="Arial"/>
                <a:hlinkClick r:id="rId2"/>
              </a:rPr>
              <a:t>1623</a:t>
            </a: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—166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узский математик изобрел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ирующую машину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счетное устройство вошло в историю с именем «паскалево колесо», или «паскал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2643480" cy="322272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571680" y="648828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скал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 — высокоуровневый язык программирования общего на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4000680" y="29289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был ящик с многочисленными шестеренками. При работе на «паскалине» складываемые числа вводились путем соответствующего поворота наборных колесиков. Принцип, который он использовал в своих первых арифмометрах, стал основой, на которой строилось большинство вычислительных устройств на протяжении следующих трех столе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3571920" y="2786040"/>
            <a:ext cx="5286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ная в конструкцию движущаяся часть (прообраз подвижной каретки будущих настольных калькуляторов) и специальная рукоятка, позволявшая крутить ступенчатое колесо, позволя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корить повторяющиеся операции сложения, при помощи которых выполнялось деление и перемножение чисел. Необходимое число повторных сложений выполнялось автоматиче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2806200" y="214200"/>
            <a:ext cx="63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ейбниц, Готфрид Вильгель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214200" y="2857680"/>
            <a:ext cx="3281400" cy="3000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571840" cy="32702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8"/>
          <p:cNvSpPr/>
          <p:nvPr/>
        </p:nvSpPr>
        <p:spPr>
          <a:xfrm>
            <a:off x="3000240" y="857160"/>
            <a:ext cx="58579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 калькулятор был создан Лейбницем в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673 году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ение чисел выполнялось так же как на вычислительной машине Блеза Паскаля, — «Паскалин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4943520" cy="3286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2"/>
          <a:stretch/>
        </p:blipFill>
        <p:spPr>
          <a:xfrm>
            <a:off x="428760" y="0"/>
            <a:ext cx="4286160" cy="24163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214200" y="228600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Бэббидж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6"/>
          <p:cNvSpPr/>
          <p:nvPr/>
        </p:nvSpPr>
        <p:spPr>
          <a:xfrm>
            <a:off x="5357880" y="357120"/>
            <a:ext cx="3500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834г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Аналитическая машина Бэббиджа должна была производить разнообразные вычисления, следуя набору инструкций, записанных на перфокартах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овременные компьютеры, начиная от персоналки и заканчивая “мозгами” мобильного телефона – построены в основе своей точно так же, как это задумали упрямый математик и  светская молодая леди более ста пятидесяти лет назад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6"/>
          <p:cNvSpPr/>
          <p:nvPr/>
        </p:nvSpPr>
        <p:spPr>
          <a:xfrm>
            <a:off x="2651040" y="235728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авлей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4429080" cy="374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285840" y="44290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ервое поколение (1945-1954) - компьютеры на электронных лам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4500720" y="428760"/>
            <a:ext cx="4452840" cy="371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4:48:38Z</dcterms:created>
  <dc:creator>Admin</dc:creator>
  <dc:description/>
  <dc:language>en-US</dc:language>
  <cp:lastModifiedBy>student12_2</cp:lastModifiedBy>
  <dcterms:modified xsi:type="dcterms:W3CDTF">2012-06-29T11:55:52Z</dcterms:modified>
  <cp:revision>7</cp:revision>
  <dc:subject/>
  <dc:title>Слайд 1</dc:title>
</cp:coreProperties>
</file>