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34B2-41C0-4E4D-9FCA-5C4960076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4C2-5EB4-4379-B290-55DCEEEB5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4A8-FB6C-420F-9CB1-95F2DB9F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D1E-18F3-4C53-978D-06636CB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89D-30A3-4BD6-8EB6-3AAE73A3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D0B-C8C8-4BF7-840B-A08E7C2B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B739-AD11-4CB5-8801-AB99DFB0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9C5D-3ABB-4409-85F3-93A988E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81F-6E2A-454C-B233-98B97E9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64F0-690D-4260-92A3-02FE456F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820-25B4-4A04-A988-EC55339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3FE1-1BFE-4448-9A9F-FDECF8D5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E1F-FF42-48DE-AE53-EC66C86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8E7-D747-4667-9E09-DDEC81B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05C-B182-4A32-A5DD-176F339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2BD-2A96-4C23-BA5C-208CB03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CA96-EF1E-437C-96C1-95524CF0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F42-BF33-4E60-9369-91B16B65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3C4F-9558-4C7A-BBE3-6ADD37A9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B11A-0843-42D5-B6BF-7FE1D42F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7559-BAB8-4FEB-9FE2-1E05C82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185B-0B1B-4E01-B4E1-4EF3DAA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1AE55-3E2B-46BD-8697-7541A19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4547-9381-443B-BAC2-F20C59FD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B19-1991-4E4C-A1BA-6873E23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E0DB-69ED-4317-831D-5BBE0C4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3AA7-BDE9-48CE-8ADE-53BD9EED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2592-EBD4-48AC-921B-C927986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FD89-1D1F-4347-8E0A-2EEDDA3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3394-4A0C-47C9-9993-50E6A05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5167-B5C0-4C76-B540-773B8CDD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26C3-5E8F-4A15-AB52-4C2B26F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038D-5355-42C6-96C1-D9A3FB14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1E74-9939-4ABF-9AB8-A9893352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7F6F-F35F-45BD-876A-26ECBD4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A7-73B8-42A7-963E-CF2A9B10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1B59-1B80-45FD-BC18-6B5E517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C78C-615E-4E78-9115-EDE3C83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C394-B0AC-4358-9B27-C34DD28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E3E4-5022-4393-A27F-E61BB39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FF85-BDD9-4751-8B2D-4B83A04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5D26-72DB-495D-8E11-D13FEE4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F828-F351-48E0-A62E-42A7E066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A7C0-9593-469C-891E-A00F8219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F517-AF44-41C8-BC43-BD13C9AD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54D-F8C0-4083-A800-BC4C0A46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58A-6D76-4A8A-A31E-F18E4FD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572-D790-491C-BEE8-11A7E3C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7F2-D50D-409D-B5DD-C13C354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2E4-6B80-43AD-B387-2663F0A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552-10B2-42FE-BD39-D7931C74396B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6A37-5362-48C0-87B1-780598195F11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39AC-1636-4082-8571-133A7A40BF3C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02C5-BEAE-4D79-B07D-24DDE34AFAF0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1550" TargetMode="External"/><Relationship Id="rId3" Type="http://schemas.openxmlformats.org/officeDocument/2006/relationships/hyperlink" Target="http://ru.wikipedia.org/wiki/1617" TargetMode="External"/><Relationship Id="rId4" Type="http://schemas.openxmlformats.org/officeDocument/2006/relationships/hyperlink" Target="http://ru.wikipedia.org/wiki/&#1064;&#1086;&#1090;&#1083;&#1072;&#1085;&#1076;&#1080;&#1103;" TargetMode="External"/><Relationship Id="rId5" Type="http://schemas.openxmlformats.org/officeDocument/2006/relationships/hyperlink" Target="http://ru.wikipedia.org/wiki/&#1052;&#1072;&#1090;&#1077;&#1084;&#1072;&#1090;&#1080;&#1082;" TargetMode="External"/><Relationship Id="rId6" Type="http://schemas.openxmlformats.org/officeDocument/2006/relationships/hyperlink" Target="http://ru.wikipedia.org/wiki/&#1051;&#1086;&#1075;&#1072;&#1088;&#1080;&#1092;&#1084;" TargetMode="External"/><Relationship Id="rId7" Type="http://schemas.openxmlformats.org/officeDocument/2006/relationships/hyperlink" Target="http://ru.wikipedia.org/wiki/&#1051;&#1086;&#1075;&#1072;&#1088;&#1080;&#1092;&#1084;&#1080;&#1095;&#1077;&#1089;&#1082;&#1080;&#1077;_&#1090;&#1072;&#1073;&#1083;&#1080;&#1094;&#1099;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0;&#1085;&#1072;&#1083;&#1086;&#1075;&#1086;&#1074;&#1086;&#1077;_&#1074;&#1099;&#1095;&#1080;&#1089;&#1083;&#1080;&#1090;&#1077;&#1083;&#1100;&#1085;&#1086;&#1077;_&#1091;&#1089;&#1090;&#1088;&#1086;&#1081;&#1089;&#1090;&#1074;&#1086;" TargetMode="External"/><Relationship Id="rId3" Type="http://schemas.openxmlformats.org/officeDocument/2006/relationships/hyperlink" Target="http://ru.wikipedia.org/wiki/&#1052;&#1072;&#1090;&#1077;&#1084;&#1072;&#1090;&#1080;&#1082;&#1072;" TargetMode="External"/><Relationship Id="rId4" Type="http://schemas.openxmlformats.org/officeDocument/2006/relationships/hyperlink" Target="http://ru.wikipedia.org/wiki/&#1059;&#1084;&#1085;&#1086;&#1078;&#1077;&#1085;&#1080;&#1077;" TargetMode="External"/><Relationship Id="rId5" Type="http://schemas.openxmlformats.org/officeDocument/2006/relationships/hyperlink" Target="http://ru.wikipedia.org/wiki/&#1044;&#1077;&#1083;&#1077;&#1085;&#1080;&#1077;_%28&#1084;&#1072;&#1090;&#1077;&#1084;&#1072;&#1090;&#1080;&#1082;&#1072;%29" TargetMode="External"/><Relationship Id="rId6" Type="http://schemas.openxmlformats.org/officeDocument/2006/relationships/hyperlink" Target="http://ru.wikipedia.org/wiki/&#1042;&#1086;&#1079;&#1074;&#1077;&#1076;&#1077;&#1085;&#1080;&#1077;_&#1074;_&#1089;&#1090;&#1077;&#1087;&#1077;&#1085;&#1100;" TargetMode="External"/><Relationship Id="rId7" Type="http://schemas.openxmlformats.org/officeDocument/2006/relationships/hyperlink" Target="http://ru.wikipedia.org/wiki/&#1051;&#1086;&#1075;&#1072;&#1088;&#1080;&#1092;&#1084;" TargetMode="External"/><Relationship Id="rId8" Type="http://schemas.openxmlformats.org/officeDocument/2006/relationships/hyperlink" Target="http://ru.wikipedia.org/wiki/&#1058;&#1088;&#1080;&#1075;&#1086;&#1085;&#1086;&#1084;&#1077;&#1090;&#1088;&#1080;&#1103;" TargetMode="External"/><Relationship Id="rId9" Type="http://schemas.openxmlformats.org/officeDocument/2006/relationships/image" Target="../media/image7.png"/><Relationship Id="rId10" Type="http://schemas.openxmlformats.org/officeDocument/2006/relationships/hyperlink" Target="http://ru.wikipedia.org/wiki/&#1054;&#1090;&#1088;&#1077;&#1076;,_&#1059;&#1080;&#1083;&#1100;&#1103;&#1084;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dic.academic.ru/dic.nsf/ruwiki/8180" TargetMode="External"/><Relationship Id="rId13" Type="http://schemas.openxmlformats.org/officeDocument/2006/relationships/hyperlink" Target="http://dic.academic.ru/dic.nsf/ruwiki/455" TargetMode="External"/><Relationship Id="rId14" Type="http://schemas.openxmlformats.org/officeDocument/2006/relationships/hyperlink" Target="http://dic.academic.ru/dic.nsf/ruwiki/2553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1623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251160" cy="235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6929280" y="4000680"/>
            <a:ext cx="1887840" cy="20714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3857760" y="785880"/>
            <a:ext cx="4572000" cy="3018600"/>
          </a:xfrm>
          <a:prstGeom prst="rect">
            <a:avLst/>
          </a:prstGeom>
          <a:solidFill>
            <a:srgbClr val="ffe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500 года нашей эры: изобретени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бак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четов) - инструмента вычислений, состоящего из костяшек, нанизанных на стерж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331920" y="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omic Sans MS"/>
              </a:rPr>
              <a:t>История вычислитель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tretch/>
        </p:blipFill>
        <p:spPr>
          <a:xfrm>
            <a:off x="785880" y="3929040"/>
            <a:ext cx="261936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4071960" y="407196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3849840" cy="48574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2786040" y="5286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ткрытие вызвало гигантское облегчение труда вычисл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4357800" y="357120"/>
            <a:ext cx="4572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жон Не́пер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1550</a:t>
            </a:r>
            <a:r>
              <a:rPr b="0" lang="ru-RU" sz="4000" spc="-1" strike="noStrike">
                <a:solidFill>
                  <a:srgbClr val="672020"/>
                </a:solidFill>
                <a:latin typeface="Calibri"/>
              </a:rPr>
              <a:t>—</a:t>
            </a: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1617</a:t>
            </a:r>
            <a:r>
              <a:rPr b="0" lang="ru-RU" sz="4000" spc="-1" strike="noStrike">
                <a:solidFill>
                  <a:srgbClr val="67202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202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4"/>
              </a:rPr>
              <a:t>шотландский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 барон),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5"/>
              </a:rPr>
              <a:t>математик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, один из изобретателей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6"/>
              </a:rPr>
              <a:t>логарифмов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, первый публикатор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7"/>
              </a:rPr>
              <a:t>логарифмических таблиц</a:t>
            </a:r>
            <a:r>
              <a:rPr b="0" lang="ru-RU" sz="1800" spc="-1" strike="noStrike">
                <a:solidFill>
                  <a:srgbClr val="6720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571840" y="2643120"/>
            <a:ext cx="6308640" cy="18576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357120" y="450072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арифми́ческая лине́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аналоговое вычислительное устрой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зволяющее выполнять несколько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математ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ераций, в том числе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4"/>
              </a:rPr>
              <a:t>умн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5"/>
              </a:rPr>
              <a:t>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ел,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6"/>
              </a:rPr>
              <a:t>возведение в степ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чаще всего в квадрат и куб) и вычисление квадратных и кубических корней, вычисление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7"/>
              </a:rPr>
              <a:t>логариф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8"/>
              </a:rPr>
              <a:t>тригонометр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й и другие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2714760" y="114300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математик. Известен как изобретатель логарифмической линейки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622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9"/>
          <a:stretch/>
        </p:blipFill>
        <p:spPr>
          <a:xfrm>
            <a:off x="428760" y="285840"/>
            <a:ext cx="2071440" cy="29304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8"/>
          <p:cNvSpPr/>
          <p:nvPr/>
        </p:nvSpPr>
        <p:spPr>
          <a:xfrm>
            <a:off x="3320280" y="21420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68bba"/>
                </a:solidFill>
                <a:uFillTx/>
                <a:latin typeface="Arial"/>
                <a:hlinkClick r:id="rId10"/>
              </a:rPr>
              <a:t>Уильям От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1"/>
          <a:stretch/>
        </p:blipFill>
        <p:spPr>
          <a:xfrm>
            <a:off x="571680" y="3000240"/>
            <a:ext cx="1809720" cy="1500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285840" y="611964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арифмические линейки широко использовались для выполнения инженерных расчётов примерно до начала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2"/>
              </a:rPr>
              <a:t>80-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ов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3"/>
              </a:rPr>
              <a:t>X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гда они были вытеснены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4"/>
              </a:rPr>
              <a:t>калькулятор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42920" y="357192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3000240" y="0"/>
            <a:ext cx="5929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лез Паскаль</a:t>
            </a:r>
            <a:r>
              <a:rPr b="1" lang="vi-V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1623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—166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узский математик изобре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ирующую машину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счетное устройство вошло в историю с именем «паскалево колесо», или «паскал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643480" cy="32227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571680" y="6488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ка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 высокоуровневый язык программирования обще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000680" y="29289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был ящик с многочисленными шестеренками. При работе на «паскалине» складываемые числа вводились путем соответствующего поворота наборных колесиков. Принцип, который он использовал в своих первых арифмометрах, стал основой, на которой строилось большинство вычислительных устройств на протяжении следующих трех столе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3571920" y="2786040"/>
            <a:ext cx="5286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ная в конструкцию движущаяся часть (прообраз подвижной каретки будущих настольных калькуляторов) и специальная рукоятка, позволявшая крутить ступенчатое колесо, позволя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корить повторяющиеся операции сложения, при помощи которых выполнялось деление и перемножение чисел. Необходимое число повторных сложений выполнялось автоматиче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2806200" y="214200"/>
            <a:ext cx="63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ейбниц, Готфрид Вильгель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281400" cy="3000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571840" cy="32702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8"/>
          <p:cNvSpPr/>
          <p:nvPr/>
        </p:nvSpPr>
        <p:spPr>
          <a:xfrm>
            <a:off x="3000240" y="857160"/>
            <a:ext cx="5857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 калькулятор был создан Лейбницем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73 году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чисел выполнялось так же как на вычислительной машине Блеза Паскаля, — «Паскалин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4943520" cy="328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28760" y="0"/>
            <a:ext cx="4286160" cy="24163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214200" y="228600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Бэббидж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5357880" y="357120"/>
            <a:ext cx="3500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834г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налитическая машина Бэббиджа должна была производить разнообразные вычисления, следуя набору инструкций, записанных на перфокартах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временные компьютеры, начиная от персоналки и заканчивая “мозгами” мобильного телефона – построены в основе своей точно так же, как это задумали упрямый математик и  светская молодая леди более ста пятидесяти лет назад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651040" y="235728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авлей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4429080" cy="374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285840" y="44290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ервое поколение (1945-1954) - компьютеры на электронных лам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45284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48:38Z</dcterms:created>
  <dc:creator>Admin</dc:creator>
  <dc:description/>
  <dc:language>en-US</dc:language>
  <cp:lastModifiedBy>student12_2</cp:lastModifiedBy>
  <dcterms:modified xsi:type="dcterms:W3CDTF">2012-06-29T11:55:52Z</dcterms:modified>
  <cp:revision>7</cp:revision>
  <dc:subject/>
  <dc:title>Слайд 1</dc:title>
</cp:coreProperties>
</file>