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29F-FCB7-4845-A0B1-A23EDC7D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30C-82AE-4936-BCAC-F313D9B8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7DD6-FDFF-46E7-B02A-4F35E298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D05-1C87-4840-B139-39F25CE9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D0D-D60F-45C9-BED2-DC596DD7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6CD-B223-4A44-8FFC-2559BEEF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916-D0BD-4E92-A36E-9717637E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18B-1282-44EB-99E3-65B6AF33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878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79F-7ED6-42E2-8CC7-C1D7A4B5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FD5-C309-41B4-B8F2-1A387656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8E2-B253-4FEA-B7B5-563C67B7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527-B5CB-4592-A1FA-4FB7E196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21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6017"/>
                </a:moveTo>
                <a:lnTo>
                  <a:pt x="0" y="20000"/>
                </a:lnTo>
                <a:cubicBezTo>
                  <a:pt x="0" y="20000"/>
                  <a:pt x="20000" y="20000"/>
                  <a:pt x="20000" y="20000"/>
                </a:cubicBezTo>
                <a:cubicBezTo>
                  <a:pt x="20000" y="20000"/>
                  <a:pt x="20000" y="0"/>
                  <a:pt x="20000" y="0"/>
                </a:cubicBezTo>
                <a:cubicBezTo>
                  <a:pt x="11180" y="18121"/>
                  <a:pt x="7812" y="17220"/>
                  <a:pt x="0" y="16017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20000" y="40"/>
                </a:moveTo>
                <a:cubicBezTo>
                  <a:pt x="20000" y="40"/>
                  <a:pt x="20000" y="20000"/>
                  <a:pt x="20000" y="20000"/>
                </a:cubicBezTo>
                <a:cubicBezTo>
                  <a:pt x="20000" y="20000"/>
                  <a:pt x="2131" y="19990"/>
                  <a:pt x="2131" y="19990"/>
                </a:cubicBezTo>
                <a:cubicBezTo>
                  <a:pt x="13458" y="16511"/>
                  <a:pt x="16802" y="7345"/>
                  <a:pt x="0" y="0"/>
                </a:cubicBezTo>
                <a:lnTo>
                  <a:pt x="20000" y="40"/>
                </a:lnTo>
                <a:close/>
              </a:path>
            </a:pathLst>
          </a:custGeom>
          <a:solidFill>
            <a:srgbClr val="595959">
              <a:alpha val="39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buClr>
                <a:srgbClr val="4f81b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19040" indent="-382680">
              <a:buClr>
                <a:srgbClr val="ffffff"/>
              </a:buClr>
              <a:buFont typeface="Arial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419040" indent="-382680">
              <a:buClr>
                <a:srgbClr val="ffffff"/>
              </a:buClr>
              <a:buFont typeface="Arial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419040" indent="-382680">
              <a:buClr>
                <a:srgbClr val="000080"/>
              </a:buClr>
              <a:buFont typeface=""/>
              <a:buChar char="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419040" indent="-419040">
              <a:buClr>
                <a:srgbClr val="000080"/>
              </a:buClr>
              <a:buFont typeface="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419040" indent="-419040">
              <a:buClr>
                <a:srgbClr val="ffffff"/>
              </a:buClr>
              <a:buFont typeface="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419040" indent="-419040">
              <a:buClr>
                <a:srgbClr val="ffffff"/>
              </a:buClr>
              <a:buFont typeface="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sngStrike" u="sng">
                <a:solidFill>
                  <a:srgbClr val="000000"/>
                </a:solidFill>
                <a:uFillTx/>
                <a:latin typeface="Arial"/>
              </a:rPr>
              <a:t>&lt;date/time&gt;</a:t>
            </a:r>
            <a:endParaRPr b="1" i="1" lang="en-US" sz="1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DC4A-D293-4262-978B-A8F38B6C5C38}" type="slidenum">
              <a:rPr b="1" i="1" lang="en-US" sz="10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21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3336840"/>
            <a:ext cx="6480000" cy="230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Рисунок 3" descr="Nature_Other__005651_.jpg"/>
          <p:cNvPicPr/>
          <p:nvPr/>
        </p:nvPicPr>
        <p:blipFill>
          <a:blip r:embed="rId1"/>
          <a:stretch/>
        </p:blipFill>
        <p:spPr>
          <a:xfrm>
            <a:off x="-101520" y="-182520"/>
            <a:ext cx="9142200" cy="6856200"/>
          </a:xfrm>
          <a:prstGeom prst="rect">
            <a:avLst/>
          </a:prstGeom>
          <a:ln w="0">
            <a:noFill/>
          </a:ln>
        </p:spPr>
      </p:pic>
      <p:sp>
        <p:nvSpPr>
          <p:cNvPr id="46" name="БлокТекста1"/>
          <p:cNvSpPr/>
          <p:nvPr/>
        </p:nvSpPr>
        <p:spPr>
          <a:xfrm>
            <a:off x="2870280" y="216000"/>
            <a:ext cx="344484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sngStrike" u="sng">
                <a:solidFill>
                  <a:srgbClr val="012c61"/>
                </a:solidFill>
                <a:uFillTx/>
                <a:latin typeface="Arial"/>
              </a:rPr>
              <a:t>Антарктида</a:t>
            </a:r>
            <a:endParaRPr b="1" i="1" lang="en-US" sz="3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7" name="Картинка1" descr=""/>
          <p:cNvPicPr/>
          <p:nvPr/>
        </p:nvPicPr>
        <p:blipFill>
          <a:blip r:embed="rId2"/>
          <a:stretch/>
        </p:blipFill>
        <p:spPr>
          <a:xfrm>
            <a:off x="117360" y="117360"/>
            <a:ext cx="2327400" cy="2592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48" name="Картинка2" descr="Беллинсгазен Фаддей.jpg"/>
          <p:cNvPicPr/>
          <p:nvPr/>
        </p:nvPicPr>
        <p:blipFill>
          <a:blip r:embed="rId3">
            <a:alphaModFix amt="41000"/>
          </a:blip>
          <a:stretch/>
        </p:blipFill>
        <p:spPr>
          <a:xfrm>
            <a:off x="6673680" y="57240"/>
            <a:ext cx="2397240" cy="2741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49" name="БлокТекста2"/>
          <p:cNvSpPr/>
          <p:nvPr/>
        </p:nvSpPr>
        <p:spPr>
          <a:xfrm>
            <a:off x="287280" y="2368440"/>
            <a:ext cx="1857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012c61"/>
                </a:solidFill>
                <a:uFillTx/>
                <a:latin typeface="Arial"/>
              </a:rPr>
              <a:t>М.П. Лазарев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БлокТекста3"/>
          <p:cNvSpPr/>
          <p:nvPr/>
        </p:nvSpPr>
        <p:spPr>
          <a:xfrm>
            <a:off x="6289200" y="2440080"/>
            <a:ext cx="3228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012c61"/>
                </a:solidFill>
                <a:uFillTx/>
                <a:latin typeface="Arial"/>
              </a:rPr>
              <a:t>Ф.Ф. Беллинсгаузен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БлокТекста4"/>
          <p:cNvSpPr/>
          <p:nvPr/>
        </p:nvSpPr>
        <p:spPr>
          <a:xfrm>
            <a:off x="2870280" y="927000"/>
            <a:ext cx="33717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sngStrike" u="sng">
                <a:solidFill>
                  <a:srgbClr val="012c61"/>
                </a:solidFill>
                <a:uFillTx/>
                <a:latin typeface="Arial"/>
              </a:rPr>
              <a:t>1820 </a:t>
            </a:r>
            <a:r>
              <a:rPr b="1" i="1" lang="en-US" sz="2800" spc="-1" strike="sngStrike" u="sng">
                <a:solidFill>
                  <a:srgbClr val="012c61"/>
                </a:solidFill>
                <a:uFillTx/>
                <a:latin typeface="Arial"/>
              </a:rPr>
              <a:t>год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" name="БлокТекста5"/>
          <p:cNvSpPr/>
          <p:nvPr/>
        </p:nvSpPr>
        <p:spPr>
          <a:xfrm>
            <a:off x="6529320" y="4807080"/>
            <a:ext cx="24400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sngStrike" u="sng">
                <a:solidFill>
                  <a:srgbClr val="012c61"/>
                </a:solidFill>
                <a:uFillTx/>
                <a:latin typeface="Arial"/>
              </a:rPr>
              <a:t>-89,2°</a:t>
            </a:r>
            <a:endParaRPr b="1" i="1" lang="en-US" sz="4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3" name="БлокТекста6"/>
          <p:cNvSpPr/>
          <p:nvPr/>
        </p:nvSpPr>
        <p:spPr>
          <a:xfrm>
            <a:off x="6529320" y="5668920"/>
            <a:ext cx="24400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sngStrike" u="sng">
                <a:solidFill>
                  <a:srgbClr val="012c61"/>
                </a:solidFill>
                <a:uFillTx/>
                <a:latin typeface="Arial"/>
              </a:rPr>
              <a:t>90 м/с</a:t>
            </a:r>
            <a:endParaRPr b="1" i="1" lang="en-US" sz="4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54" name="Картинка5" descr=""/>
          <p:cNvPicPr/>
          <p:nvPr/>
        </p:nvPicPr>
        <p:blipFill>
          <a:blip r:embed="rId4"/>
          <a:stretch/>
        </p:blipFill>
        <p:spPr>
          <a:xfrm>
            <a:off x="6888240" y="3157560"/>
            <a:ext cx="2008080" cy="1434960"/>
          </a:xfrm>
          <a:prstGeom prst="rect">
            <a:avLst/>
          </a:prstGeom>
          <a:ln w="0">
            <a:noFill/>
          </a:ln>
        </p:spPr>
      </p:pic>
      <p:pic>
        <p:nvPicPr>
          <p:cNvPr id="55" name="Картинка3" descr="ribbon-815.jpg"/>
          <p:cNvPicPr/>
          <p:nvPr/>
        </p:nvPicPr>
        <p:blipFill>
          <a:blip r:embed="rId5"/>
          <a:stretch/>
        </p:blipFill>
        <p:spPr>
          <a:xfrm>
            <a:off x="114480" y="4305240"/>
            <a:ext cx="3186000" cy="2390760"/>
          </a:xfrm>
          <a:prstGeom prst="rect">
            <a:avLst/>
          </a:prstGeom>
          <a:ln w="0">
            <a:noFill/>
          </a:ln>
        </p:spPr>
      </p:pic>
      <p:pic>
        <p:nvPicPr>
          <p:cNvPr id="56" name="Картинка4" descr=""/>
          <p:cNvPicPr/>
          <p:nvPr/>
        </p:nvPicPr>
        <p:blipFill>
          <a:blip r:embed="rId6"/>
          <a:stretch/>
        </p:blipFill>
        <p:spPr>
          <a:xfrm>
            <a:off x="2511360" y="2081160"/>
            <a:ext cx="2941560" cy="1947960"/>
          </a:xfrm>
          <a:prstGeom prst="rect">
            <a:avLst/>
          </a:prstGeom>
          <a:ln w="0">
            <a:noFill/>
          </a:ln>
        </p:spPr>
      </p:pic>
      <p:pic>
        <p:nvPicPr>
          <p:cNvPr id="57" name="Картинка6" descr=""/>
          <p:cNvPicPr/>
          <p:nvPr/>
        </p:nvPicPr>
        <p:blipFill>
          <a:blip r:embed="rId7"/>
          <a:stretch/>
        </p:blipFill>
        <p:spPr>
          <a:xfrm>
            <a:off x="4592520" y="4089240"/>
            <a:ext cx="1878120" cy="25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35:50Z</dcterms:created>
  <dc:creator/>
  <dc:description/>
  <dc:language>en-US</dc:language>
  <cp:lastModifiedBy/>
  <dcterms:modified xsi:type="dcterms:W3CDTF">2010-01-24T18:09:31Z</dcterms:modified>
  <cp:revision>0</cp:revision>
  <dc:subject/>
  <dc:title/>
</cp:coreProperties>
</file>