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5.jpeg" ContentType="image/jpeg"/>
  <Override PartName="/ppt/media/image6.gif" ContentType="image/gif"/>
  <Override PartName="/ppt/media/image11.gif" ContentType="image/gif"/>
  <Override PartName="/ppt/media/image7.gif" ContentType="image/gif"/>
  <Override PartName="/ppt/media/image8.gif" ContentType="image/gi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5A16-45ED-46E1-9AC2-09CC24C27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8998-AB40-4723-875C-AF0FBA669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09D8-B15F-4C4D-9F76-F9846A305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E4EE-4368-432F-95E8-7FF4E8301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31AA0-5F43-4E09-9BD7-69F974C9E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5F173-9A8F-40D8-A57A-747D89908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0B2EF-0120-4A77-B213-ED95045A8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F4B16-B281-42A7-A8B9-39CC3A79C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ED8A1-665A-4F44-81AA-69936427D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50070-BFB8-4D08-B205-11E5A700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9877F-7D30-46E5-B1C9-B7729D13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42C9-5A01-4D96-8D1E-4BEF2615A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3FBD2-58F9-420D-BB68-0EF2E7EE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E5BE3-72FC-4C9D-AB4C-E43410EF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3D626-1678-4EAF-BDD3-A0B3FA32D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568C2-85FF-4BFD-9C0A-F37C0B895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ED270-7528-42D9-9BD3-8A1E7FCB4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50EC-F762-44DA-BDA4-94397576B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C6D4-FD93-4F38-B71F-CFA6664DA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45CD-51E8-4277-A91A-C1DF48998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18E1-BE0F-499D-895B-E3D14253B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4D97-546C-4BE5-8D0D-AD7650DB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A891-8F31-4132-8C5F-92C60A40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2BAD-8633-4B9F-852A-0C92F494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cff99"/>
                </a:gs>
                <a:gs pos="100000">
                  <a:srgbClr val="5c73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99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AFB65-F4F7-4FAE-983F-8AD8A01AC97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A4556-9B90-4763-9FB3-7B16C77360E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ccff99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799308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Заголовок 1"/>
          <p:cNvSpPr/>
          <p:nvPr/>
        </p:nvSpPr>
        <p:spPr>
          <a:xfrm>
            <a:off x="2050920" y="189000"/>
            <a:ext cx="8209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64a2"/>
                </a:solidFill>
                <a:latin typeface="Arial"/>
              </a:rPr>
              <a:t>    </a:t>
            </a:r>
            <a:r>
              <a:rPr b="1" lang="ru-RU" sz="4800" spc="-1" strike="noStrike">
                <a:solidFill>
                  <a:srgbClr val="ffcc00"/>
                </a:solidFill>
                <a:latin typeface="Arial"/>
              </a:rPr>
              <a:t>Правила хорошего</a:t>
            </a:r>
            <a:br>
              <a:rPr sz="4800"/>
            </a:br>
            <a:r>
              <a:rPr b="1" lang="ru-RU" sz="4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              </a:t>
            </a:r>
            <a:r>
              <a:rPr b="1" lang="ru-RU" sz="4800" spc="-1" strike="noStrike">
                <a:solidFill>
                  <a:srgbClr val="ffcc00"/>
                </a:solidFill>
                <a:latin typeface="Arial"/>
              </a:rPr>
              <a:t>тон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732720" y="5589720"/>
            <a:ext cx="30589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Times New Roman"/>
              </a:rPr>
              <a:t>Работу выполни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Times New Roman"/>
              </a:rPr>
              <a:t>ученица 8 класса 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Times New Roman"/>
              </a:rPr>
              <a:t>Бузова Ан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03640" y="18900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Arial"/>
              </a:rPr>
              <a:t>«Этикет в пословицах»</a:t>
            </a:r>
            <a:br>
              <a:rPr sz="3200"/>
            </a:br>
            <a:r>
              <a:rPr b="0" lang="en-US" sz="2000" spc="-1" strike="noStrike">
                <a:solidFill>
                  <a:srgbClr val="cc99ff"/>
                </a:solidFill>
                <a:latin typeface="Arial"/>
              </a:rPr>
              <a:t>Соедините половинки пословиц.</a:t>
            </a:r>
            <a:br>
              <a:rPr sz="2000"/>
            </a:br>
            <a:endParaRPr b="0" lang="en-US" sz="20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195640" y="1341360"/>
            <a:ext cx="396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его в другом не любиш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реги платье снову,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ил тот гость, 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думай быть  нарядным,   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11640" y="1268280"/>
            <a:ext cx="385740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 честь смол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ого и сам не дела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 думай быть опрят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что недолго гости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Прямая со стрелкой 7"/>
          <p:cNvCxnSpPr/>
          <p:nvPr/>
        </p:nvCxnSpPr>
        <p:spPr>
          <a:xfrm flipV="1">
            <a:off x="5148000" y="2997000"/>
            <a:ext cx="848520" cy="721440"/>
          </a:xfrm>
          <a:prstGeom prst="straightConnector1">
            <a:avLst/>
          </a:prstGeom>
          <a:ln w="38160">
            <a:solidFill>
              <a:srgbClr val="b7ca02"/>
            </a:solidFill>
            <a:miter/>
            <a:tailEnd len="med" type="arrow" w="med"/>
          </a:ln>
        </p:spPr>
      </p:cxnSp>
      <p:cxnSp>
        <p:nvCxnSpPr>
          <p:cNvPr id="109" name="Прямая со стрелкой 9"/>
          <p:cNvCxnSpPr/>
          <p:nvPr/>
        </p:nvCxnSpPr>
        <p:spPr>
          <a:xfrm>
            <a:off x="5219280" y="1699920"/>
            <a:ext cx="777240" cy="37836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arrow" w="med"/>
          </a:ln>
        </p:spPr>
      </p:cxnSp>
      <p:cxnSp>
        <p:nvCxnSpPr>
          <p:cNvPr id="110" name="Прямая со стрелкой 11"/>
          <p:cNvCxnSpPr/>
          <p:nvPr/>
        </p:nvCxnSpPr>
        <p:spPr>
          <a:xfrm>
            <a:off x="4066920" y="3068640"/>
            <a:ext cx="1856520" cy="59616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111" name="Прямая со стрелкой 13"/>
          <p:cNvCxnSpPr/>
          <p:nvPr/>
        </p:nvCxnSpPr>
        <p:spPr>
          <a:xfrm flipV="1">
            <a:off x="4787640" y="1773000"/>
            <a:ext cx="1137240" cy="421200"/>
          </a:xfrm>
          <a:prstGeom prst="straightConnector1">
            <a:avLst/>
          </a:prstGeom>
          <a:ln w="38160">
            <a:solidFill>
              <a:srgbClr val="9bbb59"/>
            </a:solidFill>
            <a:miter/>
            <a:tailEnd len="med" type="arrow" w="med"/>
          </a:ln>
        </p:spPr>
      </p:cxn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195640" y="765000"/>
            <a:ext cx="6588000" cy="734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Times New Roman"/>
              </a:rPr>
              <a:t>Человека, который знает все правила этикета и соблюдает их, называют культурным или воспитанным челове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3" descr="2.gif"/>
          <p:cNvPicPr/>
          <p:nvPr/>
        </p:nvPicPr>
        <p:blipFill>
          <a:blip r:embed="rId1"/>
          <a:stretch/>
        </p:blipFill>
        <p:spPr>
          <a:xfrm>
            <a:off x="4000680" y="3571920"/>
            <a:ext cx="1137960" cy="72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123640" y="189000"/>
            <a:ext cx="676908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Этикет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 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это французское слово, которое переводится так - порядок поведения где-либ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о придумали это всё совсем не француз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 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изошло это давным–дав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менно в то время наблюдаются первые попытки научить людей «красивому поведению» и девизом каждого грека провозглашается – жить разумно, просто, избегать излишеств и крайностей во всё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3" descr="1.gif"/>
          <p:cNvPicPr/>
          <p:nvPr/>
        </p:nvPicPr>
        <p:blipFill>
          <a:blip r:embed="rId1"/>
          <a:stretch/>
        </p:blipFill>
        <p:spPr>
          <a:xfrm>
            <a:off x="5715000" y="4214880"/>
            <a:ext cx="2206800" cy="178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86000" y="260280"/>
            <a:ext cx="667872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Что такое сленг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ленг одно из интересных и, одновременно, сложных явлений языка. Многие исследователи обычно относят сленг к социальным диалектам. Диалект в данном контексте это территориальная, временная или социальная разновидность языка, употребляемая более или менее ограниченным числом людей и отличающаяся по своему строю (будь то фонетика, грамматика, лексемный состав или семантика) от языкового стандарта. Диалект, в том числе и сленг, всегда противопоставляется языковой норме, стандарту. Языковой стандарт - образцовый, нормализованный язык, нормы которого воспринимаются как "правильные" и общеобязательные. В английской лексикографии термин «сленг» получил широкое распространение приблизительно в начале прошлого века. Датировка появления данного термина в литературе устанавливается по Большому Оксфордскому словарю, где указывается, что впервые термин «сленг» со значением «language of a low or vulgar type» засвидетельствован в 1756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68360" y="260280"/>
            <a:ext cx="6875640" cy="59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Правила хорошего тона гостей и хозяев при приё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аждый человек ходит в гости и принимает гостей у себя. И порой манеры хозяев или гостей оставляют желать лучш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тоит обратить внимание на то, что идя в гости, все же следует захватить с собой сменную обувь, чтобы хозяевам не пришлось долго отмывать полы и ковры после гост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паздывать можно на 10 — 15 минут, а вот приходить раньше времени не сто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е нужно просить гостей помочь накрыть на стол — это должны делать хозяе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одарки очень важный момент приема. Гостям не следует долго комментировать свои подарки, а хозяевам нужно развернуть подаренную вещь и похвал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Если гость принес угощение, его обязательно нужно выставить на сто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етей можно брать с собой лишь на детские или семейные праздники. И, конечно же, ничего нельзя трогать руками в чужом доме без спро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ходить из гостей тоже нужно уметь. Если нужно уйти раньше других, то это делают незаметно, извинившись перед хозяев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195640" y="189000"/>
            <a:ext cx="646272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Правила хорошего тона при посещении теа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ри посещении культурных мероприятий, в частности театра, многие забывают про правила хорошего тона и ведут себя «по-свински». Ниже представлен список основных «свинских» поступ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е принято входить после третьего зво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о ряду нужно проходить лицом к сидящим, а вот извиняться при этом — не обязатель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Громко разговари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е нужно разглядывать публику в бинок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 уж совсем неприглядно смотрится, если сразу после окончания финальной сцены, кто — то, сломя голову, бежит в гардеро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49640" y="0"/>
            <a:ext cx="6894360" cy="67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Деловая встреч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деловой встречи - в Европе ее чаще называют Business lunch, а в Америке Power lunch - выбирают рестора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мощники руководителя (ассистенты, секретари-референты) должны серьезно отнестись к подготовке встречи: ведь на карту поставлена репутация фирмы. Ваш партнер заинтересован не только в обсуждении деловых проблемы, ему важно узнать человека не за рабочим столом - способ мышления, поведения - и представить, каким он будет партнером, сотрудником, советчик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 многих странах существуют загородные рестораны и специальные деловые клубы, где предприниматели, имеющие членские билеты, в атмосфере, способствующей заключению сделок, могут радушно принять своих партнеров по бизнесу. Обслуживающий персонал таких заведений, досконально зная протокол подобных встреч, может обеспечить обстановку уюта и непринужденности, а также необходимый ореол респектабельности. Если же в вашем городе нет таких ресторанов или вы решили провести встречу с клиентом в чужом городе, то вам самим придется выбрать подходящее место для встречи и быть режиссером этого мероприятия.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оскольку гостю не принято выбирать место встреч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постарайтесь сами предварительно посетить два-три ресторана, чтобы познакомиться с меню и посмотреть, насколько это заведение удовлетворяет вашим запрос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896000" y="260280"/>
            <a:ext cx="424800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Русский царь Пётр I сам принимал участие в составлении первого сборника правил поведения.</a:t>
            </a:r>
            <a:endParaRPr b="0" lang="en-US" sz="24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268000" y="3645000"/>
            <a:ext cx="6588360" cy="29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а некоторое время я вам предлагаю стать переводчиками со старорусского языка на современный язык. Прочитайте правило из этого сборника и дайте его современное толко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Содержимое 6" descr="петр1.jpg"/>
          <p:cNvPicPr/>
          <p:nvPr/>
        </p:nvPicPr>
        <p:blipFill>
          <a:blip r:embed="rId1"/>
          <a:stretch/>
        </p:blipFill>
        <p:spPr>
          <a:xfrm>
            <a:off x="2195640" y="260280"/>
            <a:ext cx="2447640" cy="30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195280" y="189000"/>
            <a:ext cx="649116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 родителей речей перебивать не надлежит, не следует им прекословить… но ожидать пока они выговорят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шлять и подобные такие грубые действия в лице другого не чини, но всегда либо рукой закрой, или отворотя рот в сторону полотенцем прикрой, чтоб никого не коснуть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стретив знакомого, должно шляпу приятным образом снять, а не мимо прошедши и назад оглядываясь приветствовать ег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прилично отрокам руками или ногами по столу везде колобродить, но нужно смирно себя вести; а вилками и ножиком по тарелкам не стучать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шь, что перед тобой лежит, а иное не хватай, не бери перстами, не проглотя куска, не говор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3" descr="4.gif"/>
          <p:cNvPicPr/>
          <p:nvPr/>
        </p:nvPicPr>
        <p:blipFill>
          <a:blip r:embed="rId1"/>
          <a:stretch/>
        </p:blipFill>
        <p:spPr>
          <a:xfrm>
            <a:off x="2556000" y="566100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4" descr="5.gif"/>
          <p:cNvPicPr/>
          <p:nvPr/>
        </p:nvPicPr>
        <p:blipFill>
          <a:blip r:embed="rId2"/>
          <a:stretch/>
        </p:blipFill>
        <p:spPr>
          <a:xfrm>
            <a:off x="8101080" y="3068640"/>
            <a:ext cx="834840" cy="64296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5" descr="6.gif"/>
          <p:cNvPicPr/>
          <p:nvPr/>
        </p:nvPicPr>
        <p:blipFill>
          <a:blip r:embed="rId3"/>
          <a:stretch/>
        </p:blipFill>
        <p:spPr>
          <a:xfrm>
            <a:off x="7524720" y="692280"/>
            <a:ext cx="1143000" cy="57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2123640" y="189000"/>
            <a:ext cx="403884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романтические времена девизом рыцарей становятся слова – верность, мужество, отваг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105520" y="549360"/>
            <a:ext cx="403848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дел дамы - скромность, верность, покор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268360" y="3284640"/>
            <a:ext cx="2143440" cy="2143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516720" y="476280"/>
            <a:ext cx="1922400" cy="2363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14:57:44Z</dcterms:created>
  <dc:creator>Admin</dc:creator>
  <dc:description/>
  <dc:language>en-US</dc:language>
  <cp:lastModifiedBy>Admin</cp:lastModifiedBy>
  <dcterms:modified xsi:type="dcterms:W3CDTF">2011-09-09T00:25:50Z</dcterms:modified>
  <cp:revision>16</cp:revision>
  <dc:subject/>
  <dc:title>Правила хорошего тона.</dc:title>
</cp:coreProperties>
</file>