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2A0-C203-49C6-BC57-F420245B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556-4A2D-4794-801B-32DBA536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A6A-0CF1-4CBF-8064-5F88C70E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446-6A1F-4E01-97D4-2A339B6A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9BAC-FED8-41E5-9D81-5FF3678C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D7F7-9DCF-4C51-A5C0-68F420F4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8FA8-8A65-4843-B60C-3ADF49DC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D33D-D698-4889-B130-3D49150E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31C3-2001-4B02-92EA-51E4F73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1F83-614F-4E7E-AB76-AE39B42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52F-1CB4-4503-8D93-B3E57CB2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9AC-67EB-40CA-993E-3AD1C3CD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2384-D3FC-40B9-8703-3970CF1C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C671-982A-43AF-BD08-DE0F8034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B322-98FD-4190-8A21-85C65080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F73D-864A-49A4-907F-F2F9C395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14F0-174D-4882-8D97-E97EBD4E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FDD-FB78-4441-8B9E-801E7127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AC9-8239-4A23-A7BB-CB50A2B1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F83-6190-435E-B25C-A7E073F9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EDE-7BAA-4CF3-B1CF-5FBE2989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593-E555-48D9-96A5-E677B7E0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257-FC02-4B6E-BF85-A3F43C4F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D93-1E7E-4C1F-ADBC-655E2BC4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c73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65D1-2FD3-4465-9917-A720412F2E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ACD4-8B1C-4713-8579-B7268EBDB3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ccff99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993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1"/>
          <p:cNvSpPr/>
          <p:nvPr/>
        </p:nvSpPr>
        <p:spPr>
          <a:xfrm>
            <a:off x="2050920" y="189000"/>
            <a:ext cx="820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64a2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Правила хорошего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то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5589720"/>
            <a:ext cx="3058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Работу выполн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ученица 8 класса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Бузова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0364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«Этикет в пословицах»</a:t>
            </a:r>
            <a:br>
              <a:rPr sz="3200"/>
            </a:b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Соедините половинки пословиц.</a:t>
            </a:r>
            <a:br>
              <a:rPr sz="2000"/>
            </a:b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95640" y="134136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го в другом не любиш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еги платье снову,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л тот гость, 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думай быть  нарядным,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11640" y="1268280"/>
            <a:ext cx="38574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 честь смол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го и сам не 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 думай быть опря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 недолго гост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7"/>
          <p:cNvCxnSpPr/>
          <p:nvPr/>
        </p:nvCxnSpPr>
        <p:spPr>
          <a:xfrm flipV="1">
            <a:off x="5148000" y="2997000"/>
            <a:ext cx="848520" cy="721440"/>
          </a:xfrm>
          <a:prstGeom prst="straightConnector1">
            <a:avLst/>
          </a:prstGeom>
          <a:ln w="38160">
            <a:solidFill>
              <a:srgbClr val="b7ca02"/>
            </a:solidFill>
            <a:miter/>
            <a:tailEnd len="med" type="arrow" w="med"/>
          </a:ln>
        </p:spPr>
      </p:cxnSp>
      <p:cxnSp>
        <p:nvCxnSpPr>
          <p:cNvPr id="109" name="Прямая со стрелкой 9"/>
          <p:cNvCxnSpPr/>
          <p:nvPr/>
        </p:nvCxnSpPr>
        <p:spPr>
          <a:xfrm>
            <a:off x="5219280" y="1699920"/>
            <a:ext cx="777240" cy="3783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10" name="Прямая со стрелкой 11"/>
          <p:cNvCxnSpPr/>
          <p:nvPr/>
        </p:nvCxnSpPr>
        <p:spPr>
          <a:xfrm>
            <a:off x="4066920" y="3068640"/>
            <a:ext cx="1856520" cy="596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Прямая со стрелкой 13"/>
          <p:cNvCxnSpPr/>
          <p:nvPr/>
        </p:nvCxnSpPr>
        <p:spPr>
          <a:xfrm flipV="1">
            <a:off x="4787640" y="1773000"/>
            <a:ext cx="1137240" cy="4212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95640" y="765000"/>
            <a:ext cx="6588000" cy="73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Человека, который знает все правила этикета и соблюдает их, называют культурным или воспитанным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2.gif"/>
          <p:cNvPicPr/>
          <p:nvPr/>
        </p:nvPicPr>
        <p:blipFill>
          <a:blip r:embed="rId1"/>
          <a:stretch/>
        </p:blipFill>
        <p:spPr>
          <a:xfrm>
            <a:off x="4000680" y="3571920"/>
            <a:ext cx="1137960" cy="7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23640" y="189000"/>
            <a:ext cx="67690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Этикет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то французское слово, которое переводится так - порядок поведения где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придумали это всё совсем не францу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зошло это давным–да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нно в то время наблюдаются первые попытки научить людей «красивому поведению» и девизом каждого грека провозглашается – жить разумно, просто, избегать излишеств и крайностей в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1.gif"/>
          <p:cNvPicPr/>
          <p:nvPr/>
        </p:nvPicPr>
        <p:blipFill>
          <a:blip r:embed="rId1"/>
          <a:stretch/>
        </p:blipFill>
        <p:spPr>
          <a:xfrm>
            <a:off x="5715000" y="4214880"/>
            <a:ext cx="22068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260280"/>
            <a:ext cx="66787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Что такое сленг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нг одно из интересных и, одновременно, сложных явлений языка. Многие исследователи обычно относят сленг к социальным диалектам. Диалект в данном контексте это территориальная, временная или социальная разновидность языка, употребляемая более или менее ограниченным числом людей и отличающаяся по своему строю (будь то фонетика, грамматика, лексемный состав или семантика) от языкового стандарта. Диалект, в том числе и сленг, всегда противопоставляется языковой норме, стандарту. Языковой стандарт - образцовый, нормализованный язык, нормы которого воспринимаются как "правильные" и общеобязательные. В английской лексикографии термин «сленг» получил широкое распространение приблизительно в начале прошлого века. Датировка появления данного термина в литературе устанавливается по Большому Оксфордскому словарю, где указывается, что впервые термин «сленг» со значением «language of a low or vulgar type» засвидетельствован в 1756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68360" y="260280"/>
            <a:ext cx="687564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Правила хорошего тона гостей и хозяев при приё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ждый человек ходит в гости и принимает гостей у себя. И порой манеры хозяев или гостей оставляют желать луч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оит обратить внимание на то, что идя в гости, все же следует захватить с собой сменную обувь, чтобы хозяевам не пришлось долго отмывать полы и ковры после г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аздывать можно на 10 — 15 минут, а вот приходить раньше времени не сто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нужно просить гостей помочь накрыть на стол — это должны делать хозя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дарки очень важный момент приема. Гостям не следует долго комментировать свои подарки, а хозяевам нужно развернуть подаренную вещь и похвал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гость принес угощение, его обязательно нужно выставить на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тей можно брать с собой лишь на детские или семейные праздники. И, конечно же, ничего нельзя трогать руками в чужом доме без спр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ходить из гостей тоже нужно уметь. Если нужно уйти раньше других, то это делают незаметно, извинившись перед хозяе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189000"/>
            <a:ext cx="6462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Правила хорошего тона при посещении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посещении культурных мероприятий, в частности театра, многие забывают про правила хорошего тона и ведут себя «по-свински». Ниже представлен список основных «свинских»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принято входить после третьего зво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ряду нужно проходить лицом к сидящим, а вот извиняться при этом — не обяз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омко разговар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нужно разглядывать публику в бинок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уж совсем неприглядно смотрится, если сразу после окончания финальной сцены, кто — то, сломя голову, бежит в гардер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49640" y="0"/>
            <a:ext cx="689436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Деловая встреч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деловой встречи - в Европе ее чаще называют Business lunch, а в Америке Power lunch - выбирают рестор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ники руководителя (ассистенты, секретари-референты) должны серьезно отнестись к подготовке встречи: ведь на карту поставлена репутация фирмы. Ваш партнер заинтересован не только в обсуждении деловых проблемы, ему важно узнать человека не за рабочим столом - способ мышления, поведения - и представить, каким он будет партнером, сотрудником, советч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многих странах существуют загородные рестораны и специальные деловые клубы, где предприниматели, имеющие членские билеты, в атмосфере, способствующей заключению сделок, могут радушно принять своих партнеров по бизнесу. Обслуживающий персонал таких заведений, досконально зная протокол подобных встреч, может обеспечить обстановку уюта и непринужденности, а также необходимый ореол респектабельности. Если же в вашем городе нет таких ресторанов или вы решили провести встречу с клиентом в чужом городе, то вам самим придется выбрать подходящее место для встречи и быть режиссером этого мероприятия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кольку гостю не принято выбирать место встре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старайтесь сами предварительно посетить два-три ресторана, чтобы познакомиться с меню и посмотреть, насколько это заведение удовлетворяет вашим запро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96000" y="260280"/>
            <a:ext cx="42480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Русский царь Пётр I сам принимал участие в составлении первого сборника правил поведения.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68000" y="3645000"/>
            <a:ext cx="65883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некоторое время я вам предлагаю стать переводчиками со старорусского языка на современный язык. Прочитайте правило из этого сборника и дайте его современное толк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6" descr="петр1.jpg"/>
          <p:cNvPicPr/>
          <p:nvPr/>
        </p:nvPicPr>
        <p:blipFill>
          <a:blip r:embed="rId1"/>
          <a:stretch/>
        </p:blipFill>
        <p:spPr>
          <a:xfrm>
            <a:off x="2195640" y="260280"/>
            <a:ext cx="24476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195280" y="189000"/>
            <a:ext cx="6491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родителей речей перебивать не надлежит, не следует им прекословить… но ожидать пока они выговоря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шлять и подобные такие грубые действия в лице другого не чини, но всегда либо рукой закрой, или отворотя рот в сторону полотенцем прикрой, чтоб никого не коснуть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третив знакомого, должно шляпу приятным образом снять, а не мимо прошедши и назад оглядываясь приветствовать ег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илично отрокам руками или ногами по столу везде колобродить, но нужно смирно себя вести; а вилками и ножиком по тарелкам не стуч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шь, что перед тобой лежит, а иное не хватай, не бери перстами, не проглотя куска, не говор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4.gif"/>
          <p:cNvPicPr/>
          <p:nvPr/>
        </p:nvPicPr>
        <p:blipFill>
          <a:blip r:embed="rId1"/>
          <a:stretch/>
        </p:blipFill>
        <p:spPr>
          <a:xfrm>
            <a:off x="2556000" y="56610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5.gif"/>
          <p:cNvPicPr/>
          <p:nvPr/>
        </p:nvPicPr>
        <p:blipFill>
          <a:blip r:embed="rId2"/>
          <a:stretch/>
        </p:blipFill>
        <p:spPr>
          <a:xfrm>
            <a:off x="8101080" y="3068640"/>
            <a:ext cx="83484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6.gif"/>
          <p:cNvPicPr/>
          <p:nvPr/>
        </p:nvPicPr>
        <p:blipFill>
          <a:blip r:embed="rId3"/>
          <a:stretch/>
        </p:blipFill>
        <p:spPr>
          <a:xfrm>
            <a:off x="7524720" y="692280"/>
            <a:ext cx="114300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23640" y="189000"/>
            <a:ext cx="4038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омантические времена девизом рыцарей становятся слова – верность, мужество, отв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05520" y="54936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ел дамы - скромность, верность, покор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16720" y="476280"/>
            <a:ext cx="1922400" cy="236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57:44Z</dcterms:created>
  <dc:creator>Admin</dc:creator>
  <dc:description/>
  <dc:language>en-US</dc:language>
  <cp:lastModifiedBy>Admin</cp:lastModifiedBy>
  <dcterms:modified xsi:type="dcterms:W3CDTF">2011-09-09T00:25:50Z</dcterms:modified>
  <cp:revision>16</cp:revision>
  <dc:subject/>
  <dc:title>Правила хорошего тона.</dc:title>
</cp:coreProperties>
</file>