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CEC2-9E77-4AD9-880C-150DC1D2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522B-0052-4511-AE7E-FBBCB5CD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45C5-522E-4AAE-9CEC-5DB6E404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AB7-5D65-482E-A75F-EB3DBBEB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3DAD-B382-4717-9772-6295D8E2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7F57-FD97-4997-B224-1BFC5198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E5BC-BBFA-4952-A71E-08B0EC17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5179-7702-4B53-9688-3E416701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E506-3440-4FBA-9425-4D9B975F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40C1-15A9-457F-916E-4F914BC5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1183-04E6-4180-8640-0DC8B64C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5A9-C7B3-41F5-A72E-6D4337CC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4D86-4100-4DF8-B086-0DA5D716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042E-7DE6-437B-8F1D-D7A1F1B1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5367-E59E-4C15-93C8-BCC81FCE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1A28-75B5-41A7-A081-21D07F6E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1FDE-D07C-4B41-AF97-374E1B26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9E49B-96BD-4DF7-930A-0A035151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803D7-EB97-4B39-A478-421DCAA9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A6524-4A02-412A-AB4C-A4EA931F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A1693-F0DB-4713-BC30-7D9F5AA7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D5F5F-EC0F-444E-ABB5-5A62C326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8DC-D479-4BE7-83A4-CF9866F5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04692-6BA1-4D44-ACEB-3BEA4B0C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F6017-CC7C-4536-91FE-6CD17B87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5F7DA-8140-47C8-A751-2E96B74A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A8C21-936C-4271-8077-5CA8ACFE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56A71-165E-4346-A418-D3E9307B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B314D-84B1-4738-AE44-C7465991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7F11A-0F9C-46A1-952F-57278278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A42063-B375-42A8-A386-D474F7AB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4259B5-BB3F-4AA0-8624-C2785E8D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952398-36BC-4927-9BCC-C0E523CD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7AD5-1F45-416C-9C4F-8FDAAF67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CE6701-3E5D-4D98-AFCF-3D94DFED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A8524B-C0CE-4E87-BFFB-01B54D7F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B30646-4740-4EE1-B9F6-08696633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152E6A-C2B0-499E-9EFB-AD1C349D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A6680F-D9C4-40AE-992B-1089BD21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339361-F697-479C-8298-E0B28107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3F2FEB-13D6-45EA-BD7E-0553C080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F18541-FBE6-416C-B027-018D283A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89F2B1-86D9-4EEB-A8CB-03F5E7BD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12FA5-BF21-4422-AC3E-3DBAD6BB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04AD-7626-4910-A54C-343C63C0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A995B-16D7-46DD-A5F0-F74146AC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17957-F7A4-4E31-AA97-268F1C7A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C0231-C263-49F9-8B98-7FAB4AE7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FD336-47A3-4FEF-A211-5B510A50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60E96-EDC1-4850-A378-3B074A66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BB03B-B528-4C48-AED1-1855E01E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C810F-8F43-4954-9B88-049A20EC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460AE-4918-439A-83FF-0D96EAB1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0AA82-5D63-4BE3-9FC1-1E90A432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95D05-9E91-457A-83CC-7E24DA17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D00-4FC2-44A8-B11E-9AEA5FAE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D0275-00A3-45FF-BF7D-8D5CD98E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5CA-7515-45D2-A4E4-1986BD2A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0C7-7AEC-4D2F-B61C-48EF5C93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77D-46B7-446C-B67B-38A5ECC8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C368-17A9-4C45-8AB0-84A7C75B21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1ACD-2698-4A5F-ABB1-BD79E2F6CC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47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EEA3-0E2A-4B65-AF7A-7AA2733938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2A36-5BAF-4957-989A-D775EB6D2C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CB5C-E5FC-4DEB-AE87-776B4858CC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1932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втор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Матченко Татья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У СОШ №5, 6А клас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уководител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Алехина Татьяна Федор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ь математи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WordArt 4"/>
          <p:cNvSpPr txBox="1"/>
          <p:nvPr/>
        </p:nvSpPr>
        <p:spPr>
          <a:xfrm>
            <a:off x="685800" y="0"/>
            <a:ext cx="7772400" cy="14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ациональное использование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14" name="Picture 5" descr="main"/>
          <p:cNvPicPr/>
          <p:nvPr/>
        </p:nvPicPr>
        <p:blipFill>
          <a:blip r:embed="rId1"/>
          <a:stretch/>
        </p:blipFill>
        <p:spPr>
          <a:xfrm>
            <a:off x="990720" y="1447920"/>
            <a:ext cx="739116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чем экономить воду? Из крана льётся вода, а что за этим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еличение водопотребления – это увеличение загрязнения вод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4" descr="images (3)"/>
          <p:cNvPicPr/>
          <p:nvPr/>
        </p:nvPicPr>
        <p:blipFill>
          <a:blip r:embed="rId1"/>
          <a:stretch/>
        </p:blipFill>
        <p:spPr>
          <a:xfrm>
            <a:off x="4495680" y="1523880"/>
            <a:ext cx="464832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крывая кран,  мы не задумываемся о том, сколько воды понапрасну выливается из него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гласно данным Всемирной организации здравоохранения, на нашей планете из-за загрязнения источников питьевой воды ежегодно умирает свыше 5 млн. детей и заболевает около 550 млн. челов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3657600"/>
            <a:ext cx="8540640" cy="24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ли семья сэкономит хотя бы 20 процентов водопроводной воды от того объема, которым обычно пользуется, то за год такое количество воды может образовать озеро диаметром 200 и глубиной 2 метр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4" descr="images (15)"/>
          <p:cNvPicPr/>
          <p:nvPr/>
        </p:nvPicPr>
        <p:blipFill>
          <a:blip r:embed="rId1"/>
          <a:stretch/>
        </p:blipFill>
        <p:spPr>
          <a:xfrm>
            <a:off x="0" y="0"/>
            <a:ext cx="48006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Основная часть.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44" name="Picture 5" descr="img299"/>
          <p:cNvPicPr/>
          <p:nvPr/>
        </p:nvPicPr>
        <p:blipFill>
          <a:blip r:embed="rId1"/>
          <a:stretch/>
        </p:blipFill>
        <p:spPr>
          <a:xfrm>
            <a:off x="304920" y="3657600"/>
            <a:ext cx="8610480" cy="23464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 flipV="1" rot="10785600">
            <a:off x="1063800" y="1638720"/>
            <a:ext cx="64814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аждом регионе устанавливаются различные нормативы потребления воды для жителей.</a:t>
            </a:r>
            <a:br>
              <a:rPr sz="2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Газета «Дважды Два»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 Black"/>
              </a:rPr>
              <a:t>В статье утверждается, что установка счетчиков воды – существенная экономия для семейного бюджета. Так как в нашей квартире их нет, то я решила проверить, можно ли верить рекламе.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rcRect l="19296" t="22992" r="13387" b="38593"/>
          <a:stretch/>
        </p:blipFill>
        <p:spPr>
          <a:xfrm>
            <a:off x="762120" y="1905120"/>
            <a:ext cx="78483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Цифры заставляют задуматься!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52,3 - 726,9 = 725,4 (руб.)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25 рублей 40 копеек эконом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 счётчиками на 3 чел в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од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452,3*12)-(726,9*12)=17427,6 - 8722,8 = 8704,8 (руб.)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704 рубля 80 копе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36,4 – 969,2 = 967,2 (руб.)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67 рублей 20 копеек эконом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 счётчиками на 4 чел в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год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936,4*12)-(969,2*12)=23236,8-11630,4= =11606,4 (руб.)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606 рублей 40 копеек эконо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ы провели анкетирование среди учащихся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6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а класса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 обработки результатов получилос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ошен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ем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ют счетчики горячей воды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ем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лодной воды -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емь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имеют  -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ем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ывая средний расход горячей воды по каждой семье,  получилось: каждая семья в месяц расходует приблизительн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,6 м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сравнить с городскими нормативами (4,9м3 на человека в месяц), то получится, чт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мья из 3 человек оплачивает услугу в 3 раза дешевл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из 4 человек – в 4 раза и т. 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На вопрос о причине отсутствия счетчиков ответили очень немногие родители учащихся.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ыли следующие ответы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«не эффективность обслуживания»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«нет денег»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«собираемся устанавливать»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«не хотим ставить»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Мы с учителем решили составить задачи по теме экономного расходования воды в семье и предложить их моим одноклассникам на уроке математики. Может эта тема их заинтересует, и они расскажут своим родителям дома, как можно сэкономить деньг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Выводы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езультате проведенного мною исследования 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выяснила,  почему проблема дефицита пресной воды так актуальна в нынешнее врем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узнала, как можно сберечь воду в условиях городской квартир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убедилась, что установка счетчиков воды в квартирах влияет на экономное использование вод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 необходимо приобрести счетчики воды и следить за собой и домочадцами. При этом экономится не только вода, но и деньг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) Рассказала о проблеме рационального использования воды своим одноклассника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) подтвердила свою гипотез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веде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62160" y="327672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…Вода! У тебя нет вкуса, ни цвета, ни запаха, тебя не опишешь, тобой наслаждаешься, не понимая, что ты такое. Ты не просто необходима для жизни, ты и есть жизнь…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Антуант де Сент Экзюпери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4" descr="IMG_0367"/>
          <p:cNvPicPr/>
          <p:nvPr/>
        </p:nvPicPr>
        <p:blipFill>
          <a:blip r:embed="rId1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IMG_2595"/>
          <p:cNvPicPr/>
          <p:nvPr/>
        </p:nvPicPr>
        <p:blipFill>
          <a:blip r:embed="rId1"/>
          <a:stretch/>
        </p:blipFill>
        <p:spPr>
          <a:xfrm>
            <a:off x="0" y="-246240"/>
            <a:ext cx="9470880" cy="71042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14240" y="0"/>
            <a:ext cx="632772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ерегите воду, природу и деньги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да – это жизнь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Почему была выбрана эта тема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одосбережение и рациональное использование воды – общая забот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газете «Дважды Два» я увидела рекламу, призывающую устанавливать квартирные водосчетчики горячей и холодной воды. Наша квартира не оборудована этими приборами учета. Я решила выяснить,  можно ли верить этой реклам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Цель исследования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Узнать больше о проблеме сбережения вод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Задачи исследования: 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ыяснить,  почему проблема дефицита пресной воды так актуальна в нынешнее время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Как можно сберечь воду в условиях городской квартиры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лияет ли установка счетчиков воды в квартирах на экономное использование воды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ыгодна ли установка приборов учета воды для семейного бюджета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ассказать об этом исследовании моим одноклассника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етоды исследования:</a:t>
            </a:r>
            <a:br>
              <a:rPr sz="3300"/>
            </a:b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бор и изучение материала по тем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нкетировани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оставление математических задач по тем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Гипотеза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озможно, установка счетчиков воды в квартире выгодна для семьи и мы примем решение об их установке. В этом мне поможет математика – мой любимый предмет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images (2)"/>
          <p:cNvPicPr/>
          <p:nvPr/>
        </p:nvPicPr>
        <p:blipFill>
          <a:blip r:embed="rId1"/>
          <a:stretch/>
        </p:blipFill>
        <p:spPr>
          <a:xfrm>
            <a:off x="4876920" y="3909960"/>
            <a:ext cx="42670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4" descr="Карта запасов подземных вод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жедневно человечество использует около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9 млрд. т воды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использовании водопроводной воды основная ее часть загрязняется, в то время как ее потребление в пищу составляет всего 1-2% от суточного расхода. В процессе водопотребления вода не перестает существовать, но при этом загрязняется сама и может загрязнять окружающую среду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12" descr="images (1)"/>
          <p:cNvPicPr/>
          <p:nvPr/>
        </p:nvPicPr>
        <p:blipFill>
          <a:blip r:embed="rId1"/>
          <a:stretch/>
        </p:blipFill>
        <p:spPr>
          <a:xfrm>
            <a:off x="0" y="3352680"/>
            <a:ext cx="3457440" cy="3505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images (14)"/>
          <p:cNvPicPr/>
          <p:nvPr/>
        </p:nvPicPr>
        <p:blipFill>
          <a:blip r:embed="rId2"/>
          <a:stretch/>
        </p:blipFill>
        <p:spPr>
          <a:xfrm>
            <a:off x="4495680" y="3376440"/>
            <a:ext cx="464832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tem305</cp:lastModifiedBy>
  <dcterms:modified xsi:type="dcterms:W3CDTF">2011-10-17T12:07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