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FE6-FCFF-4932-9361-1347D2E4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0DD-D93F-4ADD-ADE8-0E3F2327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378-AC0F-4EDB-A8C2-33DD641A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EAD-25A4-408D-9D0E-844D2221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136E-6404-4748-8EA4-135156DF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5708-3117-43DF-990A-95743897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50C6-FE68-4E93-92C6-537B378A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9015-BC0F-4C64-8FBC-2594B9E8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D0A6-11FE-40C4-B91A-1CBDFBD3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928F-9E2C-4920-8940-9ED23119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2415-1622-4090-A9BD-3E08509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3F4-C484-4933-98C3-F3F056B0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0EFA-326F-4008-848D-0A7A8659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BE0C-1C37-4DB3-9C8D-BB9CCCC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3537-3FED-4DAA-BD88-8EE4FB87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4F2B-BD7B-4B51-AD98-BE53BDC4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60D8-EDFA-41C7-AF0E-25D1D72E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0E47-12B8-47C4-8EA8-BBDC5CC1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6A994-9522-4B36-AB1C-F65692E3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053E-B4D0-4F32-84CA-52669E76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1DBF-0A46-4DD1-ABAC-EFEB8F70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5D91-718E-4BDC-B262-B74ABD86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4B9-A903-4BC8-A184-E5376B9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4E13-A71A-4040-AD72-45AF3B71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953A-F95B-44B7-A8B0-D9EA2E9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7D17-215E-4ECF-9043-58588E8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E1B03-B80E-476E-B556-CFE179DD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1B04-DBB6-4AB1-A6B2-F47E35E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17BCA-59F0-40E4-A0CA-164AD284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66A2-F091-4CD0-B69C-17A33D68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972CD-554A-4142-A051-A39C2743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9ADB0-5FFC-426C-9991-348A4FBA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C6797-EC7B-4C82-86A9-940BDDD1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79C-0383-4813-BE46-90EE4781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6C523-D01A-465D-99D4-E9E15097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BABC9-39F9-484A-8F95-7B3522E5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A38D6-A9CA-4552-96A4-B38D0B12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B9566-BD50-4E7F-932C-E7B306BD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5A484-2D1E-444B-8AE7-8B728EF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46A72-91D2-4632-9121-CD2EF9BC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9D97D-788B-464D-9DB8-F57DA074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30F32-7953-4356-B203-755164F8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F684A-185F-43F7-B8B0-E7B7E559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C4AE-3AC5-48E7-9F07-5606C05C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BC9-188C-4231-B627-7AA851CB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7FA30-0272-4178-A866-5F4CCEB4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9FD3-0075-40C5-A913-F3C8E442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F1DC-3204-41E8-8454-0AFF226F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B781C-13F5-4296-8621-4B60AA47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EF076-7232-4E61-BC81-39FD12F3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C5A56-F596-4F25-AC11-F69E251C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B9BE7-5583-403D-9BDE-DB1AD121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3F29-D5A4-4606-9A72-A101DE7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EFD4D-265C-40E6-B732-08891822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BF53E-DF51-4489-A1DF-7EE5C3F8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9F8-FCA2-4859-AA43-0AD19913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3922C-DAB0-425F-8743-752CD60C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81D-48FB-4578-BB8B-129C155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434-1535-4038-94D4-517BFCB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CCD-6F15-4BF6-8CC7-229C8C2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940C-98D1-454A-8E1C-11099DCD3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66AF-85D5-4247-A0BD-4425F5EBE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84E1-EC8F-4101-9160-EF47A05F2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B052-E65F-44F1-B8FC-F7A7EC447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B4EA-9D52-49A5-8F7B-CC6B8F416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р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Матченко Татья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СОШ №5, 6А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Алехина Татьяна Федо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685800" y="0"/>
            <a:ext cx="777240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циональное использование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14" name="Picture 5" descr="main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чем экономить воду? Из крана льётся вода, а что за эти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водопотребления – это увеличение загрязнения во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images (3)"/>
          <p:cNvPicPr/>
          <p:nvPr/>
        </p:nvPicPr>
        <p:blipFill>
          <a:blip r:embed="rId1"/>
          <a:stretch/>
        </p:blipFill>
        <p:spPr>
          <a:xfrm>
            <a:off x="4495680" y="1523880"/>
            <a:ext cx="4648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крывая кран,  мы не задумываемся о том, сколько воды понапрасну выливается из него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гласно данным Всемирной организации здравоохранения, на нашей планете из-за загрязнения источников питьевой воды ежегодно умирает свыше 5 млн. детей и заболевает около 550 млн.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3657600"/>
            <a:ext cx="854064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семья сэкономит хотя бы 20 процентов водопроводной воды от того объема, которым обычно пользуется, то за год такое количество воды может образовать озеро диаметром 200 и глубиной 2 мет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images (15)"/>
          <p:cNvPicPr/>
          <p:nvPr/>
        </p:nvPicPr>
        <p:blipFill>
          <a:blip r:embed="rId1"/>
          <a:stretch/>
        </p:blipFill>
        <p:spPr>
          <a:xfrm>
            <a:off x="0" y="0"/>
            <a:ext cx="48006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Основная часть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44" name="Picture 5" descr="img299"/>
          <p:cNvPicPr/>
          <p:nvPr/>
        </p:nvPicPr>
        <p:blipFill>
          <a:blip r:embed="rId1"/>
          <a:stretch/>
        </p:blipFill>
        <p:spPr>
          <a:xfrm>
            <a:off x="304920" y="3657600"/>
            <a:ext cx="8610480" cy="23464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 flipV="1" rot="10785600">
            <a:off x="1063800" y="1638720"/>
            <a:ext cx="64814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ждом регионе устанавливаются различные нормативы потребления воды для жителей.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Газета «Дважды Два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В статье утверждается, что установка счетчиков воды – существенная экономия для семейного бюджета. Так как в нашей квартире их нет, то я решила проверить, можно ли верить рекламе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rcRect l="19296" t="22992" r="13387" b="38593"/>
          <a:stretch/>
        </p:blipFill>
        <p:spPr>
          <a:xfrm>
            <a:off x="762120" y="1905120"/>
            <a:ext cx="7848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Цифры заставляют задуматься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52,3 - 726,9 = 725,4 (руб.)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25 рублей 40 копеек эконом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 счётчиками на 3 чел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о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452,3*12)-(726,9*12)=17427,6 - 8722,8 = 8704,8 (руб.)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704 рубля 80 копе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36,4 – 969,2 = 967,2 (руб.)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67 рублей 20 копеек эконом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 счётчиками на 4 чел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од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936,4*12)-(969,2*12)=23236,8-11630,4= =11606,4 (руб.)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06 рублей 40 копеек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ы провели анкетирование среди учащихся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6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а клас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обработки результатов получило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ошен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ем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ют счетчики горячей воды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ем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лодной воды 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емь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имеют 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ем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ывая средний расход горячей воды по каждой семье,  получилось: каждая семья в месяц расходует приблизительн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,6 м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сравнить с городскими нормативами (4,9м3 на человека в месяц), то получится, чт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ья из 3 человек оплачивает услугу в 3 раза дешевл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из 4 человек – в 4 раза и т.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На вопрос о причине отсутствия счетчиков ответили очень немногие родители учащихся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ыли следующие ответы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не эффективность обслуживания»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нет денег»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собираемся устанавливать»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не хотим ставить»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ы с учителем решили составить задачи по теме экономного расходования воды в семье и предложить их моим одноклассникам на уроке математики. Может эта тема их заинтересует, и они расскажут своим родителям дома, как можно сэкономить деньг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Вывод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проведенного мною исследования 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ыяснила,  почему проблема дефицита пресной воды так актуальна в нынешнее врем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узнала, как можно сберечь воду в условиях городской кварти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убедилась, что установка счетчиков воды в квартирах влияет на экономное использование вод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необходимо приобрести счетчики воды и следить за собой и домочадцами. При этом экономится не только вода, но и деньг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Рассказала о проблеме рационального использования воды своим одноклассник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подтвердила свою гипоте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62160" y="327672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Вода! У тебя нет вкуса, ни цвета, ни запаха, тебя не опишешь, тобой наслаждаешься, не понимая, что ты такое. Ты не просто необходима для жизни, ты и есть жизнь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нтуант де Сент Экзюпер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IMG_0367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MG_2595"/>
          <p:cNvPicPr/>
          <p:nvPr/>
        </p:nvPicPr>
        <p:blipFill>
          <a:blip r:embed="rId1"/>
          <a:stretch/>
        </p:blipFill>
        <p:spPr>
          <a:xfrm>
            <a:off x="0" y="-246240"/>
            <a:ext cx="9470880" cy="7104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14240" y="0"/>
            <a:ext cx="632772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егите воду, природу и деньг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да – это жизн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Почему была выбрана эта тема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одосбережение и рациональное использование воды – общая забо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газете «Дважды Два» я увидела рекламу, призывающую устанавливать квартирные водосчетчики горячей и холодной воды. Наша квартира не оборудована этими приборами учета. Я решила выяснить,  можно ли верить этой реклам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Цель исследования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Узнать больше о проблеме сбережения вод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Задачи исследования: 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яснить,  почему проблема дефицита пресной воды так актуальна в нынешнее врем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к можно сберечь воду в условиях городской квартир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лияет ли установка счетчиков воды в квартирах на экономное использование вод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годна ли установка приборов учета воды для семейного бюджет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ссказать об этом исследовании моим одноклассника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етоды исследования: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бор и изучение материала по те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нкетирова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оставление математических задач по те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Гипотез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зможно, установка счетчиков воды в квартире выгодна для семьи и мы примем решение об их установке. В этом мне поможет математика – мой любимый предме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images (2)"/>
          <p:cNvPicPr/>
          <p:nvPr/>
        </p:nvPicPr>
        <p:blipFill>
          <a:blip r:embed="rId1"/>
          <a:stretch/>
        </p:blipFill>
        <p:spPr>
          <a:xfrm>
            <a:off x="4876920" y="3909960"/>
            <a:ext cx="4267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Карта запасов подземных вод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дневно человечество использует около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9 млрд. т воды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использовании водопроводной воды основная ее часть загрязняется, в то время как ее потребление в пищу составляет всего 1-2% от суточного расхода. В процессе водопотребления вода не перестает существовать, но при этом загрязняется сама и может загрязнять окружающую сред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12" descr="images (1)"/>
          <p:cNvPicPr/>
          <p:nvPr/>
        </p:nvPicPr>
        <p:blipFill>
          <a:blip r:embed="rId1"/>
          <a:stretch/>
        </p:blipFill>
        <p:spPr>
          <a:xfrm>
            <a:off x="0" y="3352680"/>
            <a:ext cx="3457440" cy="3505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images (14)"/>
          <p:cNvPicPr/>
          <p:nvPr/>
        </p:nvPicPr>
        <p:blipFill>
          <a:blip r:embed="rId2"/>
          <a:stretch/>
        </p:blipFill>
        <p:spPr>
          <a:xfrm>
            <a:off x="4495680" y="3376440"/>
            <a:ext cx="464832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305</cp:lastModifiedBy>
  <dcterms:modified xsi:type="dcterms:W3CDTF">2011-10-17T12:07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