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28D0-9D5A-4A8A-9021-06304E1F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2EB-27F2-48DB-B842-065C821D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086B-0C1A-4C60-A117-F54A886F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FE6-5186-4540-B1D2-D93FC402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0DD80-702B-48EB-96C8-E6A93E59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E5270-379E-4E09-8F6E-04A915CE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BF624-4E6B-43E0-A668-5FD346C5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14E98-BC86-48D0-8039-013106F9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6A77F-FCF5-47DB-B629-3ACFC815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F075B-BA93-4600-8B53-AAD0A881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9E16B-1F91-43B1-8BF8-693305FA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3CB-EECA-4045-AAF6-2E4D6ABF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426CF-C005-4ABD-9382-E3001839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E5CB9-A459-4B37-8476-A0DAA71E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D5F50-AAED-4CC4-A55F-E91F90B1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429CC-3B75-4938-867F-059BE3AD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D95EF-C12B-4F4E-A5BC-49E44E8E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DC99-0BC6-43D9-ADE8-A6B9B9F6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AF1-FA90-4994-BDBF-39F4E57D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B35-4F96-4171-A70C-BA7D0419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206-1728-400C-893C-40592116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484-817F-4754-B701-6B66763E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FF7F-71D7-4BD2-ADA6-A33E75CA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1F3-54C3-43C6-81CA-A69A9E76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CA40-3DA4-4D61-91EF-D525DF71EA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0293-BB1E-4576-9FFA-9F586E4B7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467840" cy="3387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тченко Татьяна 5а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У СОШ №5 г Апат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уководитель Алехина Т. 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2743200"/>
            <a:ext cx="8534520" cy="26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ациональное использование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-шут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вно в 2 часа ночи с балкона двенадцатого этажа выплеснут ведро воды. Вода долетит до земли через 9 секунд. Сколько минут осталось быть сухим коту Барсику, если он, сидя на том самом месте, куда прилетит вода, начал ещё в полночь петь свою любимую песню и поёт уже 1 час 57 минут и 9 секунд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295280" y="33523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Берегите воду, природу и деньги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Вода – это жизнь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70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 по тем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4240" y="327636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…Вода! У тебя нет вкуса, ни цвета, ни запаха, тебя не опишешь, тобой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слаждаешьс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не понимая, что ты такое. Ты не просто необходима для жизни, ты и есть жизнь…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(Антуант де Сент Экзюпер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мья из 4 человек может сэкономить 15 литров воды/мин. при чистке зубов, а в неделю 757 литров. Сколько составит экономия воды за 1 сутки? А 1 месяц (4 недели)? А за год?  Сколько сэкономит воды за 1 день семь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мужчина выключал кран, когда брился. В неделю он экономил 380 литров. Сколько сэкономит литров семья из 4 человек, в которой 1 папа, 1 мама и 2 взрослых сына за месяц? А за год? А за 1 ден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2895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ловек моется в душе 10 минут, при этом расход воды составляет 40 литров. Сколько времени будет мыться, если станет экономить и расходовать 20 литров вод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-58680"/>
            <a:ext cx="43434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3352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олько израсходует воды семья из 3-х человек, которая моется 2 раза в день за неделю. Каждый человек этой семьи расходует 19 лит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мыть посуду обычным способом то на одного человека расход воды составит 120 литров воды в день, если же заполнить одну раковину моющими средствами, а во второй раковине промывать посуду под напором воды то расход воды составит  60 литров на 1го чело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одной семье 7 человек. Найдите экономию воды в ден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мыть посуду в посудомоечной машине загруженной наполовину, то расход воды составит 120 литров воды за один раз использования. Если же  мыть посуду в полностью загруженной машине, то расход воды составит 60 литров воды за один раз использования. Найти экономию воды за 10 раз использования посудомоечной машины загруженной полност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-шут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доме прорвало сразу 2 трубы: горячую и холодную. Из холодной трубы выливается по 70 литров воды в минуту, а из горячей – по 12 литров кипятка в секунду. Утонут жильцы этой квартиры в ледяной воде или сварятся в кипят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li 2.1 Full</cp:lastModifiedBy>
  <dcterms:modified xsi:type="dcterms:W3CDTF">2011-03-09T14:49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