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C72-B6C9-4D59-B63F-2A7AB85B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6CF-FE64-423C-A109-E060B381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E9F-A86A-44A0-92EC-1EB7BA69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286-3B8F-421B-BB44-76E69B24C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4C022-BCB8-4910-836C-D867F691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5109D-C864-4054-BA30-2610B413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3BABD-89F7-459A-9232-2FF12A3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92A5E-CC2B-4BE1-8A79-44E2FC37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A1CE8-260E-4C9C-A999-0EF5AB5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E677D-396E-4F1B-9DF5-9A7880EF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A9DC4-8A45-455A-8C8B-12F06E96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994-273F-4780-8B96-2F91D2BA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D1BB3-7387-4261-83DB-6F1C58D0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0FE02-7C58-4ACA-A398-508F6B5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2FF20-1415-4319-8F98-2EF10223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E9D97-9544-471F-9FFD-AA638DCB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BD6DC-386E-4665-954C-BC59A598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A96-CC61-4AAF-8C3B-5ABEC625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8B23-FCC6-4E0C-81F2-E6C50D4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FB4-EC87-4801-809B-A50569B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B5F-5198-4940-8CF7-A6CF60D9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3BFC-7850-4F85-B3E9-DA9DBBA3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FCB-C157-44A8-A5B3-9DE490E5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E4F-346A-4885-89A9-90CD99F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3D6-B812-48F1-B86A-4E7475921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D402-5D28-48C9-9B8E-44B495A83D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467840" cy="3387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55627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ченко Татьяна 5а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У СОШ №5 г Апат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уководитель Алехина Т. 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2743200"/>
            <a:ext cx="85345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ациональное использование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-шут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овно в 2 часа ночи с балкона двенадцатого этажа выплеснут ведро воды. Вода долетит до земли через 9 секунд. Сколько минут осталось быть сухим коту Барсику, если он, сидя на том самом месте, куда прилетит вода, начал ещё в полночь петь свою любимую песню и поёт уже 1 час 57 минут и 9 секунд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95280" y="33523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Берегите воду, природу и деньги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Вода – это жизнь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 по тем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4240" y="32763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…Вода! У тебя нет вкуса, ни цвета, ни запаха, тебя не опишешь, тобой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слаждаешьс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не понимая, что ты такое. Ты не просто необходима для жизни, ты и есть жизнь…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(Антуант де Сент Экзюпер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емья из 4 человек может сэкономить 15 литров воды/мин. при чистке зубов, а в неделю 757 литров. Сколько составит экономия воды за 1 сутки? А 1 месяц (4 недели)? А за год?  Сколько сэкономит воды за 1 день семь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мужчина выключал кран, когда брился. В неделю он экономил 380 литров. Сколько сэкономит литров семья из 4 человек, в которой 1 папа, 1 мама и 2 взрослых сына за месяц? А за год? А за 1 де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2895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ловек моется в душе 10 минут, при этом расход воды составляет 40 литров. Сколько времени будет мыться, если станет экономить и расходовать 20 литров во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-5868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олько израсходует воды семья из 3-х человек, которая моется 2 раза в день за неделю. Каждый человек этой семьи расходует 19 лит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мыть посуду обычным способом то на одного человека расход воды составит 120 литров воды в день, если же заполнить одну раковину моющими средствами, а во второй раковине промывать посуду под напором воды то расход воды составит  60 литров на 1го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одной семье 7 человек. Найдите экономию воды в де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мыть посуду в посудомоечной машине загруженной наполовину, то расход воды составит 120 литров воды за один раз использования. Если же  мыть посуду в полностью загруженной машине, то расход воды составит 60 литров воды за один раз использования. Найти экономию воды за 10 раз использования посудомоечной машины загруженной пол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чи-шут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доме прорвало сразу 2 трубы: горячую и холодную. Из холодной трубы выливается по 70 литров воды в минуту, а из горячей – по 12 литров кипятка в секунду. Утонут жильцы этой квартиры в ледяной воде или сварятся в кипят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li 2.1 Full</cp:lastModifiedBy>
  <dcterms:modified xsi:type="dcterms:W3CDTF">2011-03-09T14:49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