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E3E-9F4A-40FF-A681-9AB5677C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8FC-968E-4428-B15F-BAC529DA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E85F-7301-42CB-850B-E8EBCF85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D40E-2789-4BCF-B3BB-B5CBC91D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112A-D611-4D2F-B55A-D8FD0797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E9DD-1C2C-4CC0-BEAE-090EA2F5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A9F7-B068-4332-986E-76F39B43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B76B-27AB-48EB-91D5-0A9DBBE2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BE8A-FB7D-4C10-8576-DC096FF2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2C13-5025-4BF2-99E4-E3A96AFA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0EB7-9FC1-4A26-8E6A-232A260F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2694-77A1-46A9-8F83-3D341FD7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09EA-A6BA-4A12-BB22-E56D8610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E64F-5DFF-48A3-AF2A-9BC32E19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7BF7-7C6C-4857-B71B-6018E107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0C41-0E3E-4C28-8FC7-10237C60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B7A1-BC44-4FDF-9DCA-8315C1CC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BC3C-8D51-4193-BDFE-BFA1BC14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290A-7D7C-4E12-B548-90520DA6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F662-E3CD-4C44-A89D-D5330A71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B013-5F40-4675-94A9-573A0872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392F-F178-4EC9-8FC6-2BC54A24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EF04-CC47-4303-AD9C-614A5D3A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683F-1357-49C3-9057-0164A341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954E-AB31-4B5B-8912-2F25C7F10D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C8DF-2BD2-4C44-98DB-A2527979322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Arial"/>
              </a:rPr>
              <a:t>МОУ Загоскинская средняя общеобразовательная школа имени Зимина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Arial"/>
              </a:rPr>
              <a:t>My family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   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ыполнил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ученица 5 класс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Фунтова Ан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http://www.intelkot.ru/upload/970.jpg"/>
          <p:cNvPicPr/>
          <p:nvPr/>
        </p:nvPicPr>
        <p:blipFill>
          <a:blip r:embed="rId1"/>
          <a:stretch/>
        </p:blipFill>
        <p:spPr>
          <a:xfrm>
            <a:off x="1258920" y="2421000"/>
            <a:ext cx="5780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My godmother’s name is Eugenia. She is 29. She lives in Ulyanovsk. She likes swimming.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Содержимое 3" descr="getImageCAI21DKY.jpg"/>
          <p:cNvPicPr/>
          <p:nvPr/>
        </p:nvPicPr>
        <p:blipFill>
          <a:blip r:embed="rId1"/>
          <a:stretch/>
        </p:blipFill>
        <p:spPr>
          <a:xfrm>
            <a:off x="2268360" y="1773360"/>
            <a:ext cx="4248360" cy="4525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1440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39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My favourite pet’s name is Timoshka. He likes to play with a ball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13" descr="I:\фотки\Новая папка\DSC00270.JPG"/>
          <p:cNvPicPr/>
          <p:nvPr/>
        </p:nvPicPr>
        <p:blipFill>
          <a:blip r:embed="rId1"/>
          <a:stretch/>
        </p:blipFill>
        <p:spPr>
          <a:xfrm>
            <a:off x="1403280" y="1700280"/>
            <a:ext cx="6553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I love my family very much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Thank you for attention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8775720" y="0"/>
            <a:ext cx="3682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07552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Hello!  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М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y name is Anna Funtova. I’m 12.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 want to tell you about my family. My family is not big. I have a mother, a father and a sister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Picture 11" descr="C:\Users\Андрей\Pictures\Наши фото\DSC00938.JPG"/>
          <p:cNvPicPr/>
          <p:nvPr/>
        </p:nvPicPr>
        <p:blipFill>
          <a:blip r:embed="rId1"/>
          <a:stretch/>
        </p:blipFill>
        <p:spPr>
          <a:xfrm>
            <a:off x="900000" y="2205000"/>
            <a:ext cx="7632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My mother’s name is Nina. She is 34. She is a teacher of the orphange “Nadezhda”</a:t>
            </a: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Her hobby is coo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Рисунок1"/>
          <p:cNvPicPr/>
          <p:nvPr/>
        </p:nvPicPr>
        <p:blipFill>
          <a:blip r:embed="rId2"/>
          <a:stretch/>
        </p:blipFill>
        <p:spPr>
          <a:xfrm>
            <a:off x="5651640" y="1628640"/>
            <a:ext cx="2208240" cy="4321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C:\Users\Андрей\Pictures\img012.jpg"/>
          <p:cNvPicPr/>
          <p:nvPr/>
        </p:nvPicPr>
        <p:blipFill>
          <a:blip r:embed="rId3"/>
          <a:stretch/>
        </p:blipFill>
        <p:spPr>
          <a:xfrm>
            <a:off x="395280" y="4365720"/>
            <a:ext cx="3673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My father’ name is Andrey. He is 37. He is a driver. He likes hun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9" descr="Рисунок2"/>
          <p:cNvPicPr/>
          <p:nvPr/>
        </p:nvPicPr>
        <p:blipFill>
          <a:blip r:embed="rId1"/>
          <a:stretch/>
        </p:blipFill>
        <p:spPr>
          <a:xfrm rot="346800">
            <a:off x="5580000" y="1844280"/>
            <a:ext cx="287964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Picture 9" descr="C:\Users\Андрей\Pictures\img025.jpg"/>
          <p:cNvPicPr/>
          <p:nvPr/>
        </p:nvPicPr>
        <p:blipFill>
          <a:blip r:embed="rId1"/>
          <a:stretch/>
        </p:blipFill>
        <p:spPr>
          <a:xfrm>
            <a:off x="900000" y="404640"/>
            <a:ext cx="7417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y sister’s name is Lena. She is 15. She is a student of the 9</a:t>
            </a:r>
            <a:r>
              <a:rPr b="1" lang="en-US" sz="2400" spc="-1" strike="noStrike" baseline="30000">
                <a:solidFill>
                  <a:srgbClr val="ffff66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form. She likes to read books and play computer games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13" descr="C:\Users\Андрей\Pictures\Наши фото\♥♥тожея.JPG"/>
          <p:cNvPicPr/>
          <p:nvPr/>
        </p:nvPicPr>
        <p:blipFill>
          <a:blip r:embed="rId1"/>
          <a:stretch/>
        </p:blipFill>
        <p:spPr>
          <a:xfrm>
            <a:off x="1332000" y="1916280"/>
            <a:ext cx="6840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My grandmother’s name is Nadezhda Sergeevna. She is 65. Her hobby is knitting.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403884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Содержимое 11" descr="img008.jpg"/>
          <p:cNvPicPr/>
          <p:nvPr/>
        </p:nvPicPr>
        <p:blipFill>
          <a:blip r:embed="rId1"/>
          <a:stretch/>
        </p:blipFill>
        <p:spPr>
          <a:xfrm>
            <a:off x="4859280" y="2060640"/>
            <a:ext cx="4033800" cy="4105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C:\Users\Андрей\Pictures\img009.jpg"/>
          <p:cNvPicPr/>
          <p:nvPr/>
        </p:nvPicPr>
        <p:blipFill>
          <a:blip r:embed="rId2"/>
          <a:stretch/>
        </p:blipFill>
        <p:spPr>
          <a:xfrm>
            <a:off x="611280" y="2060640"/>
            <a:ext cx="4032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My grandfather’s name is Vladimir Petrovich. He is 65.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He likes fishing.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Picture 11" descr="C:\Users\Андрей\Pictures\Наши фото\img011.jpg"/>
          <p:cNvPicPr/>
          <p:nvPr/>
        </p:nvPicPr>
        <p:blipFill>
          <a:blip r:embed="rId1"/>
          <a:stretch/>
        </p:blipFill>
        <p:spPr>
          <a:xfrm>
            <a:off x="4643280" y="1844640"/>
            <a:ext cx="4316400" cy="4610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C:\Users\Андрей\Pictures\img024.jpg"/>
          <p:cNvPicPr/>
          <p:nvPr/>
        </p:nvPicPr>
        <p:blipFill>
          <a:blip r:embed="rId2"/>
          <a:stretch/>
        </p:blipFill>
        <p:spPr>
          <a:xfrm>
            <a:off x="457200" y="1844640"/>
            <a:ext cx="40384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My godfather’s name is Nikolay. He is 30. He lives in Ulyanovsk. He likes to play football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9" descr="I:\фотки\Новая папка\DSC00071.JPG"/>
          <p:cNvPicPr/>
          <p:nvPr/>
        </p:nvPicPr>
        <p:blipFill>
          <a:blip r:embed="rId1"/>
          <a:stretch/>
        </p:blipFill>
        <p:spPr>
          <a:xfrm>
            <a:off x="1554120" y="1989000"/>
            <a:ext cx="63309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08:54:07Z</dcterms:created>
  <dc:creator>omegaoft</dc:creator>
  <dc:description/>
  <dc:language>en-US</dc:language>
  <cp:lastModifiedBy>omegaoft</cp:lastModifiedBy>
  <dcterms:modified xsi:type="dcterms:W3CDTF">2012-06-29T17:56:42Z</dcterms:modified>
  <cp:revision>11</cp:revision>
  <dc:subject/>
  <dc:title>МОУ Загоскинская средняя общеобразовательная школа имени Зимина</dc:title>
</cp:coreProperties>
</file>