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D23B-B2D2-41E7-B1C7-05E6B56B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AB79-17A6-43C9-9BFB-0A5942D2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7F90-1B73-424C-864B-5DE27450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FB82-CEEC-4CCB-99D4-42127231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4F4B-4302-4E22-9317-5416BD94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D3C6-2A66-410B-8E66-5CED86DE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A863-5E17-40CB-B204-4CB545B9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D364-BB07-40F4-82A9-B9B20081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9183-0CD5-44D3-9562-7CC06E88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686F-F38B-46E7-8FD4-1977DC97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743E-C026-476A-8060-BB39622B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C6BA-33CC-4F6A-9E1C-4CD36786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28CF-F5DE-47CB-A844-DB464B30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F14C-E892-420C-8B10-8395E7FE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DFFC-27BF-4C21-978B-85AE0D1E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415F-64FD-4293-A20D-3647E005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18E9-9BF8-4FEE-9530-1BBA255E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1B43-0BAA-4A58-BF71-6E711263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2BB9-B2CD-4E3B-A595-D268BF44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534D-8575-4620-8F44-2DD13B7C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775A-3D69-4F37-B9CE-FA5F1A3B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857-05D0-4161-8443-B2FA9742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46F0-01E0-447E-AEB9-16456017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4519-B58D-460D-AD8C-1DEC94EA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A2FF-3E8B-4BE8-979A-E8E48844F3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B822-88DE-44A8-9663-E3BB16A60C2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МОУ Загоскинская средняя общеобразовательная школа имени Зимина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Arial"/>
              </a:rPr>
              <a:t>My family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   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ученица 5 класс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Фунтова Ан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http://www.intelkot.ru/upload/970.jpg"/>
          <p:cNvPicPr/>
          <p:nvPr/>
        </p:nvPicPr>
        <p:blipFill>
          <a:blip r:embed="rId1"/>
          <a:stretch/>
        </p:blipFill>
        <p:spPr>
          <a:xfrm>
            <a:off x="1258920" y="2421000"/>
            <a:ext cx="5780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My godmother’s name is Eugenia. She is 29. She lives in Ulyanovsk. She likes swimming.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Содержимое 3" descr="getImageCAI21DKY.jpg"/>
          <p:cNvPicPr/>
          <p:nvPr/>
        </p:nvPicPr>
        <p:blipFill>
          <a:blip r:embed="rId1"/>
          <a:stretch/>
        </p:blipFill>
        <p:spPr>
          <a:xfrm>
            <a:off x="2268360" y="1773360"/>
            <a:ext cx="4248360" cy="4525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1440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39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My favourite pet’s name is Timoshka. He likes to play with a ball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13" descr="I:\фотки\Новая папка\DSC00270.JPG"/>
          <p:cNvPicPr/>
          <p:nvPr/>
        </p:nvPicPr>
        <p:blipFill>
          <a:blip r:embed="rId1"/>
          <a:stretch/>
        </p:blipFill>
        <p:spPr>
          <a:xfrm>
            <a:off x="1403280" y="1700280"/>
            <a:ext cx="6553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I love my family very much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Thank you for attention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8775720" y="0"/>
            <a:ext cx="3682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07552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ello!  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М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y name is Anna Funtova. I’m 12.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 want to tell you about my family. My family is not big. I have a mother, a father and a sister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Picture 11" descr="C:\Users\Андрей\Pictures\Наши фото\DSC00938.JPG"/>
          <p:cNvPicPr/>
          <p:nvPr/>
        </p:nvPicPr>
        <p:blipFill>
          <a:blip r:embed="rId1"/>
          <a:stretch/>
        </p:blipFill>
        <p:spPr>
          <a:xfrm>
            <a:off x="900000" y="2205000"/>
            <a:ext cx="7632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My mother’s name is Nina. She is 34. She is a teacher of the orphange “Nadezhda”</a:t>
            </a: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Her hobby is coo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Рисунок1"/>
          <p:cNvPicPr/>
          <p:nvPr/>
        </p:nvPicPr>
        <p:blipFill>
          <a:blip r:embed="rId2"/>
          <a:stretch/>
        </p:blipFill>
        <p:spPr>
          <a:xfrm>
            <a:off x="5651640" y="1628640"/>
            <a:ext cx="2208240" cy="4321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C:\Users\Андрей\Pictures\img012.jpg"/>
          <p:cNvPicPr/>
          <p:nvPr/>
        </p:nvPicPr>
        <p:blipFill>
          <a:blip r:embed="rId3"/>
          <a:stretch/>
        </p:blipFill>
        <p:spPr>
          <a:xfrm>
            <a:off x="395280" y="4365720"/>
            <a:ext cx="3673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My father’ name is Andrey. He is 37. He is a driver. He likes hun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9" descr="Рисунок2"/>
          <p:cNvPicPr/>
          <p:nvPr/>
        </p:nvPicPr>
        <p:blipFill>
          <a:blip r:embed="rId1"/>
          <a:stretch/>
        </p:blipFill>
        <p:spPr>
          <a:xfrm rot="346800">
            <a:off x="5580000" y="1844280"/>
            <a:ext cx="287964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Picture 9" descr="C:\Users\Андрей\Pictures\img025.jpg"/>
          <p:cNvPicPr/>
          <p:nvPr/>
        </p:nvPicPr>
        <p:blipFill>
          <a:blip r:embed="rId1"/>
          <a:stretch/>
        </p:blipFill>
        <p:spPr>
          <a:xfrm>
            <a:off x="900000" y="404640"/>
            <a:ext cx="7417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My sister’s name is Lena. She is 15. She is a student of the 9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form. She likes to read books and play computer game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13" descr="C:\Users\Андрей\Pictures\Наши фото\♥♥тожея.JPG"/>
          <p:cNvPicPr/>
          <p:nvPr/>
        </p:nvPicPr>
        <p:blipFill>
          <a:blip r:embed="rId1"/>
          <a:stretch/>
        </p:blipFill>
        <p:spPr>
          <a:xfrm>
            <a:off x="1332000" y="1916280"/>
            <a:ext cx="6840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My grandmother’s name is Nadezhda Sergeevna. She is 65. Her hobby is knitting.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403884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Содержимое 11" descr="img008.jpg"/>
          <p:cNvPicPr/>
          <p:nvPr/>
        </p:nvPicPr>
        <p:blipFill>
          <a:blip r:embed="rId1"/>
          <a:stretch/>
        </p:blipFill>
        <p:spPr>
          <a:xfrm>
            <a:off x="4859280" y="2060640"/>
            <a:ext cx="4033800" cy="4105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C:\Users\Андрей\Pictures\img009.jpg"/>
          <p:cNvPicPr/>
          <p:nvPr/>
        </p:nvPicPr>
        <p:blipFill>
          <a:blip r:embed="rId2"/>
          <a:stretch/>
        </p:blipFill>
        <p:spPr>
          <a:xfrm>
            <a:off x="611280" y="2060640"/>
            <a:ext cx="4032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My grandfather’s name is Vladimir Petrovich. He is 65.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He likes fishing.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Picture 11" descr="C:\Users\Андрей\Pictures\Наши фото\img011.jpg"/>
          <p:cNvPicPr/>
          <p:nvPr/>
        </p:nvPicPr>
        <p:blipFill>
          <a:blip r:embed="rId1"/>
          <a:stretch/>
        </p:blipFill>
        <p:spPr>
          <a:xfrm>
            <a:off x="4643280" y="1844640"/>
            <a:ext cx="4316400" cy="4610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C:\Users\Андрей\Pictures\img024.jpg"/>
          <p:cNvPicPr/>
          <p:nvPr/>
        </p:nvPicPr>
        <p:blipFill>
          <a:blip r:embed="rId2"/>
          <a:stretch/>
        </p:blipFill>
        <p:spPr>
          <a:xfrm>
            <a:off x="457200" y="1844640"/>
            <a:ext cx="40384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My godfather’s name is Nikolay. He is 30. He lives in Ulyanovsk. He likes to play football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9" descr="I:\фотки\Новая папка\DSC00071.JPG"/>
          <p:cNvPicPr/>
          <p:nvPr/>
        </p:nvPicPr>
        <p:blipFill>
          <a:blip r:embed="rId1"/>
          <a:stretch/>
        </p:blipFill>
        <p:spPr>
          <a:xfrm>
            <a:off x="1554120" y="1989000"/>
            <a:ext cx="63309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08:54:07Z</dcterms:created>
  <dc:creator>omegaoft</dc:creator>
  <dc:description/>
  <dc:language>en-US</dc:language>
  <cp:lastModifiedBy>omegaoft</cp:lastModifiedBy>
  <dcterms:modified xsi:type="dcterms:W3CDTF">2012-06-29T17:56:42Z</dcterms:modified>
  <cp:revision>11</cp:revision>
  <dc:subject/>
  <dc:title>МОУ Загоскинская средняя общеобразовательная школа имени Зимина</dc:title>
</cp:coreProperties>
</file>