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A57-BB20-4078-9B92-12E8C545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D878-7682-48DA-A139-B5B58C59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2BB-C730-40CB-93FB-11F93F0A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236-B0A1-4ECB-B8B2-8A28D33D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0726-0168-4939-A5AB-CF46577E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556C-D56B-4702-8802-EAC90A3B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24C8-4C3D-4036-9B6D-CBDEA1AC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42EA-6109-4061-B909-8D886D14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8C31-DEA2-4B84-AA7D-5DFBCC0D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0EC5-1D67-40CA-8350-0FD07BF1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5B44-B21F-47BA-8A03-8153F25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CC3-75E8-4C53-A7F2-7FD7598C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40B3-340C-492F-B6D3-D04F7EB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84E8-7FE7-47A4-B155-547991B9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4570-8300-4DFD-BEB1-EB82C271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1D37-245B-4630-A543-549D726E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480A-FBF5-46CD-9FCF-8713125D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4B8-68C9-4D70-A3C8-6614675F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C1B-8125-4C3D-AC15-305AD9B6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DB3-3625-4D97-A47D-7B6EB7FD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E3E-E1E9-4DEA-9439-5B35854F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212-A0E1-4570-800C-94E4847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9C2-206E-439B-A627-01CAEAAB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B6C-6D18-4074-AFA6-EABB7665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9F4F-D3DA-424E-A24E-3B6D7D154B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9FE6-C83B-4512-99E8-CFE3948A8A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Education system in America, Britain and in Russia.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ил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ащиеся 10А: Камбуров Д., Ломухин П., Момотов Н., Неклюдова Н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1042920" y="2421000"/>
            <a:ext cx="70581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hat exams students usually pas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American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American school children learn English, science, social studies, maths and physical edu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British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British school children learn English, science, social studies, maths and physical edu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Russian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оссии школьники изучают: Русский язык, математику, черчение, физику, английский язык, литературу и другие предме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395280" y="2060640"/>
            <a:ext cx="820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hat exams students pass in their schools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American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 the end of high school, students graduate with a high school diploma if they complete their studies satis-factorily. The grades go from A (excellent) to F (fail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British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 the end of the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year in Britain many students take a national examination, the GC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999900"/>
                </a:solidFill>
                <a:uFillTx/>
                <a:latin typeface="Garamond"/>
              </a:rPr>
              <a:t>Russian school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России дети сдают ЕГЭ, по окончании 11ого класса. Этот экзамен обязателен для всех учащих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7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0920" y="1484280"/>
            <a:ext cx="88930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hen child's education usually starts?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Verdana"/>
              </a:rPr>
              <a:t>American education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hild’ s education usually starts at the age of 4 or 5 years. Kindergarten prepare the child for life at elementary scho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0800000">
            <a:off x="372960" y="-172080"/>
            <a:ext cx="8424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British educat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 Britain children start school when they are 5 years ol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y spend six years in primary school, and the go to the secondary schoo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33192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Verdana"/>
              </a:rPr>
              <a:t>Russian school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России дети идут в школу в возрасте 6-7 лет. До школы ребенок может посещать детский сад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79280" y="907920"/>
            <a:ext cx="8650440" cy="446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teps of education in Russia, America and UK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British Education Syste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05" name="Organization Chart 23"/>
          <p:cNvGrpSpPr/>
          <p:nvPr/>
        </p:nvGrpSpPr>
        <p:grpSpPr>
          <a:xfrm>
            <a:off x="431640" y="2328840"/>
            <a:ext cx="8208720" cy="1828800"/>
            <a:chOff x="431640" y="2328840"/>
            <a:chExt cx="8208720" cy="18288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3671280" y="2888280"/>
              <a:ext cx="229320" cy="1395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2277720" y="2888640"/>
              <a:ext cx="229320" cy="139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591880" y="1728000"/>
              <a:ext cx="229320" cy="234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31"/>
            <p:cNvCxnSpPr>
              <a:stCxn id="108" idx="0"/>
              <a:endCxn id="113" idx="2"/>
            </p:cNvCxnSpPr>
            <p:nvPr/>
          </p:nvCxnSpPr>
          <p:spPr>
            <a:xfrm flipH="1" flipV="1" rot="5400000">
              <a:off x="3697560" y="2176920"/>
              <a:ext cx="229320" cy="144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1032"/>
            <p:cNvSpPr/>
            <p:nvPr/>
          </p:nvSpPr>
          <p:spPr>
            <a:xfrm>
              <a:off x="2108880" y="2328840"/>
              <a:ext cx="485208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he Education System in Great Britain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1327320" y="3014640"/>
              <a:ext cx="352404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mary school (5-11 years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4"/>
            <p:cNvSpPr/>
            <p:nvPr/>
          </p:nvSpPr>
          <p:spPr>
            <a:xfrm>
              <a:off x="5116320" y="3014640"/>
              <a:ext cx="352404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ondary school (12-16 years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_s1035"/>
            <p:cNvSpPr/>
            <p:nvPr/>
          </p:nvSpPr>
          <p:spPr>
            <a:xfrm>
              <a:off x="431640" y="3700440"/>
              <a:ext cx="252540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fant school (5-6 y ears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6"/>
            <p:cNvSpPr/>
            <p:nvPr/>
          </p:nvSpPr>
          <p:spPr>
            <a:xfrm>
              <a:off x="3222000" y="3700440"/>
              <a:ext cx="252540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Junior school (7-11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9900"/>
                </a:solidFill>
                <a:latin typeface="Garamond"/>
              </a:rPr>
              <a:t>Education system in America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16" name="Organization Chart 6"/>
          <p:cNvGrpSpPr/>
          <p:nvPr/>
        </p:nvGrpSpPr>
        <p:grpSpPr>
          <a:xfrm>
            <a:off x="1171440" y="2355120"/>
            <a:ext cx="6801120" cy="1144080"/>
            <a:chOff x="1171440" y="2355120"/>
            <a:chExt cx="6801120" cy="1144080"/>
          </a:xfrm>
        </p:grpSpPr>
        <p:cxnSp>
          <p:nvCxnSpPr>
            <p:cNvPr id="117" name="_s2052"/>
            <p:cNvCxnSpPr>
              <a:stCxn id="118" idx="0"/>
              <a:endCxn id="119" idx="2"/>
            </p:cNvCxnSpPr>
            <p:nvPr/>
          </p:nvCxnSpPr>
          <p:spPr>
            <a:xfrm flipV="1" rot="16200000">
              <a:off x="5628600" y="1754640"/>
              <a:ext cx="229320" cy="234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53"/>
            <p:cNvCxnSpPr>
              <a:stCxn id="121" idx="0"/>
              <a:endCxn id="119" idx="2"/>
            </p:cNvCxnSpPr>
            <p:nvPr/>
          </p:nvCxnSpPr>
          <p:spPr>
            <a:xfrm flipV="1">
              <a:off x="4572000" y="28119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4"/>
            <p:cNvCxnSpPr>
              <a:stCxn id="123" idx="0"/>
              <a:endCxn id="119" idx="2"/>
            </p:cNvCxnSpPr>
            <p:nvPr/>
          </p:nvCxnSpPr>
          <p:spPr>
            <a:xfrm flipH="1" flipV="1" rot="5400000">
              <a:off x="3285720" y="1754640"/>
              <a:ext cx="229320" cy="234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9" name="_s2055"/>
            <p:cNvSpPr/>
            <p:nvPr/>
          </p:nvSpPr>
          <p:spPr>
            <a:xfrm>
              <a:off x="3051000" y="2355120"/>
              <a:ext cx="3042000" cy="45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merican education syste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6"/>
            <p:cNvSpPr/>
            <p:nvPr/>
          </p:nvSpPr>
          <p:spPr>
            <a:xfrm>
              <a:off x="1171440" y="3041640"/>
              <a:ext cx="2114640" cy="45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ary schoo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7"/>
            <p:cNvSpPr/>
            <p:nvPr/>
          </p:nvSpPr>
          <p:spPr>
            <a:xfrm>
              <a:off x="3514680" y="3041640"/>
              <a:ext cx="2114640" cy="45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Junior high schoo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_s2058"/>
            <p:cNvSpPr/>
            <p:nvPr/>
          </p:nvSpPr>
          <p:spPr>
            <a:xfrm>
              <a:off x="5857920" y="3041640"/>
              <a:ext cx="2114640" cy="457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nior high schoo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Russian school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25" name="Organization Chart 23"/>
          <p:cNvGrpSpPr/>
          <p:nvPr/>
        </p:nvGrpSpPr>
        <p:grpSpPr>
          <a:xfrm>
            <a:off x="1090800" y="2328840"/>
            <a:ext cx="6890760" cy="1143000"/>
            <a:chOff x="1090800" y="2328840"/>
            <a:chExt cx="6890760" cy="1143000"/>
          </a:xfrm>
        </p:grpSpPr>
        <p:cxnSp>
          <p:nvCxnSpPr>
            <p:cNvPr id="126" name="_s3076"/>
            <p:cNvCxnSpPr>
              <a:stCxn id="127" idx="0"/>
              <a:endCxn id="128" idx="2"/>
            </p:cNvCxnSpPr>
            <p:nvPr/>
          </p:nvCxnSpPr>
          <p:spPr>
            <a:xfrm flipV="1" rot="16200000">
              <a:off x="5140440" y="2182320"/>
              <a:ext cx="229320" cy="1435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3077"/>
            <p:cNvCxnSpPr>
              <a:stCxn id="130" idx="0"/>
              <a:endCxn id="128" idx="2"/>
            </p:cNvCxnSpPr>
            <p:nvPr/>
          </p:nvCxnSpPr>
          <p:spPr>
            <a:xfrm flipH="1" flipV="1" rot="5400000">
              <a:off x="3704040" y="2180880"/>
              <a:ext cx="229320" cy="143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3078"/>
            <p:cNvSpPr/>
            <p:nvPr/>
          </p:nvSpPr>
          <p:spPr>
            <a:xfrm>
              <a:off x="1090800" y="2328840"/>
              <a:ext cx="689076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оссийская система образ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3079"/>
            <p:cNvSpPr/>
            <p:nvPr/>
          </p:nvSpPr>
          <p:spPr>
            <a:xfrm>
              <a:off x="1867320" y="3014640"/>
              <a:ext cx="246168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чальная школ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3080"/>
            <p:cNvSpPr/>
            <p:nvPr/>
          </p:nvSpPr>
          <p:spPr>
            <a:xfrm>
              <a:off x="4740120" y="3014640"/>
              <a:ext cx="2462400" cy="457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редняя школ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10:37:51Z</dcterms:created>
  <dc:creator/>
  <dc:description/>
  <dc:language>en-US</dc:language>
  <cp:lastModifiedBy>Admin</cp:lastModifiedBy>
  <dcterms:modified xsi:type="dcterms:W3CDTF">2012-06-30T05:26:44Z</dcterms:modified>
  <cp:revision>6</cp:revision>
  <dc:subject/>
  <dc:title>Education system in America, Britain and in Russia. </dc:title>
</cp:coreProperties>
</file>