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CD3D-682E-4C32-8EE7-3D3F6C39A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E1B2-106D-46D0-9AF0-4A0B670E2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6219-258E-4E35-AB9E-977AF777E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7F9B-C865-47C4-9293-9C5927301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62EC6-5BFD-4FA9-ACF0-395089612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49539-136B-49A3-8EF3-A7AC5B86E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80064-04F3-4256-8142-9E216D48E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D4DEB-6D1C-4921-8F2B-8EFC6C695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09738-77EB-4CB9-9FD8-EC57D8D7B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C0D65-4992-45C2-8AE3-8DD68E531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532B0-8261-47D5-B516-92BF07626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9F07-3E54-49A5-BAC7-92722D24A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A69F9-2167-4233-A322-C4367BDF8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BE41F-0306-4C90-838C-1BB5473A0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BA80B-35AC-443A-8C9A-74869155E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332F5-1631-4A33-83D7-12977ED68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E07BB-7940-4B5F-A73C-0BD25EC27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CE94-FDF8-4E10-B5A8-E2C02CFB6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B16D-EF1B-4CE6-8397-52B846C30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146F-059C-47C8-A596-7921A7705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AD99-30D5-4491-BC93-5D73D895A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F291-9312-459F-9791-CB8FD5B0D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A55D-D050-4E33-B31E-73362DB4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6880-EEA8-467F-8AE5-4FDE53F7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2B74A-B5C0-4FDC-B02D-E27E9FBC67C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9B133-E8EE-40CE-BBD7-BA39FE011BD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800" spc="-1" strike="noStrike">
                <a:solidFill>
                  <a:srgbClr val="999900"/>
                </a:solidFill>
                <a:latin typeface="Garamond"/>
              </a:rPr>
              <a:t>Education system in America, Britain and in Russia. 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ыполнили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учащиеся 10А: Камбуров Д., Ломухин П., Момотов Н., Неклюдова Н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WordArt 4"/>
          <p:cNvSpPr txBox="1"/>
          <p:nvPr/>
        </p:nvSpPr>
        <p:spPr>
          <a:xfrm>
            <a:off x="1042920" y="2421000"/>
            <a:ext cx="705816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What exams students usually pass?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999900"/>
                </a:solidFill>
                <a:uFillTx/>
                <a:latin typeface="Garamond"/>
              </a:rPr>
              <a:t>American school</a:t>
            </a:r>
            <a:r>
              <a:rPr b="0" lang="en-GB" sz="4400" spc="-1" strike="noStrike">
                <a:solidFill>
                  <a:srgbClr val="999900"/>
                </a:solidFill>
                <a:latin typeface="Garamond"/>
              </a:rPr>
              <a:t>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 American school children learn English, science, social studies, maths and physical educ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999900"/>
                </a:solidFill>
                <a:uFillTx/>
                <a:latin typeface="Garamond"/>
              </a:rPr>
              <a:t>British school</a:t>
            </a:r>
            <a:r>
              <a:rPr b="0" lang="en-GB" sz="4400" spc="-1" strike="noStrike">
                <a:solidFill>
                  <a:srgbClr val="999900"/>
                </a:solidFill>
                <a:latin typeface="Garamond"/>
              </a:rPr>
              <a:t>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 British school children learn English, science, social studies, maths and physical educ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999900"/>
                </a:solidFill>
                <a:uFillTx/>
                <a:latin typeface="Garamond"/>
              </a:rPr>
              <a:t>Russian school</a:t>
            </a:r>
            <a:r>
              <a:rPr b="0" lang="en-GB" sz="4400" spc="-1" strike="noStrike">
                <a:solidFill>
                  <a:srgbClr val="999900"/>
                </a:solidFill>
                <a:latin typeface="Garamond"/>
              </a:rPr>
              <a:t>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России школьники изучают: Русский язык, математику, черчение, физику, английский язык, литературу и другие предмет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WordArt 4"/>
          <p:cNvSpPr txBox="1"/>
          <p:nvPr/>
        </p:nvSpPr>
        <p:spPr>
          <a:xfrm>
            <a:off x="395280" y="2060640"/>
            <a:ext cx="820908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What exams students pass in their schools.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checke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999900"/>
                </a:solidFill>
                <a:uFillTx/>
                <a:latin typeface="Garamond"/>
              </a:rPr>
              <a:t>American school</a:t>
            </a:r>
            <a:r>
              <a:rPr b="0" lang="en-GB" sz="4400" spc="-1" strike="noStrike">
                <a:solidFill>
                  <a:srgbClr val="999900"/>
                </a:solidFill>
                <a:latin typeface="Garamond"/>
              </a:rPr>
              <a:t>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t the end of high school, students graduate with a high school diploma if they complete their studies satis-factorily. The grades go from A (excellent) to F (fail)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hecke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999900"/>
                </a:solidFill>
                <a:uFillTx/>
                <a:latin typeface="Garamond"/>
              </a:rPr>
              <a:t>British school</a:t>
            </a:r>
            <a:r>
              <a:rPr b="0" lang="en-GB" sz="4400" spc="-1" strike="noStrike">
                <a:solidFill>
                  <a:srgbClr val="999900"/>
                </a:solidFill>
                <a:latin typeface="Garamond"/>
              </a:rPr>
              <a:t>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t the end of the 5</a:t>
            </a:r>
            <a:r>
              <a:rPr b="0" lang="en-GB" sz="28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year in Britain many students take a national examination, the GCS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hecke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999900"/>
                </a:solidFill>
                <a:uFillTx/>
                <a:latin typeface="Garamond"/>
              </a:rPr>
              <a:t>Russian school</a:t>
            </a:r>
            <a:r>
              <a:rPr b="0" lang="en-GB" sz="4400" spc="-1" strike="noStrike">
                <a:solidFill>
                  <a:srgbClr val="999900"/>
                </a:solidFill>
                <a:latin typeface="Garamond"/>
              </a:rPr>
              <a:t>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России дети сдают ЕГЭ, по окончании 11ого класса. Этот экзамен обязателен для всех учащихс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hecke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7200" spc="-1" strike="noStrike">
                <a:solidFill>
                  <a:srgbClr val="000000"/>
                </a:solidFill>
                <a:latin typeface="Verdana"/>
              </a:rPr>
              <a:t>The End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WordArt 5"/>
          <p:cNvSpPr txBox="1"/>
          <p:nvPr/>
        </p:nvSpPr>
        <p:spPr>
          <a:xfrm>
            <a:off x="250920" y="1484280"/>
            <a:ext cx="8893080" cy="39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When child's education usually starts?</a:t>
            </a:r>
            <a:endParaRPr b="0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000000"/>
                </a:solidFill>
                <a:uFillTx/>
                <a:latin typeface="Verdana"/>
              </a:rPr>
              <a:t>American education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 child’ s education usually starts at the age of 4 or 5 years. Kindergarten prepare the child for life at elementary schoo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0800000">
            <a:off x="372960" y="-172080"/>
            <a:ext cx="84240" cy="44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Verdana"/>
              </a:rPr>
              <a:t>British education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 Britain children start school when they are 5 years ol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They spend six years in primary school, and the go to the secondary school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-331920"/>
            <a:ext cx="8002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000000"/>
                </a:solidFill>
                <a:uFillTx/>
                <a:latin typeface="Verdana"/>
              </a:rPr>
              <a:t>Russian school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 России дети идут в школу в возрасте 6-7 лет. До школы ребенок может посещать детский сад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WordArt 4"/>
          <p:cNvSpPr txBox="1"/>
          <p:nvPr/>
        </p:nvSpPr>
        <p:spPr>
          <a:xfrm>
            <a:off x="179280" y="907920"/>
            <a:ext cx="8650440" cy="446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Steps of education in Russia, America and UK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9900"/>
                </a:solidFill>
                <a:latin typeface="Garamond"/>
              </a:rPr>
              <a:t>British Education System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105" name="Organization Chart 23"/>
          <p:cNvGrpSpPr/>
          <p:nvPr/>
        </p:nvGrpSpPr>
        <p:grpSpPr>
          <a:xfrm>
            <a:off x="431640" y="2328840"/>
            <a:ext cx="8208720" cy="1828800"/>
            <a:chOff x="431640" y="2328840"/>
            <a:chExt cx="8208720" cy="1828800"/>
          </a:xfrm>
        </p:grpSpPr>
        <p:cxnSp>
          <p:nvCxnSpPr>
            <p:cNvPr id="106" name="_s1028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3671280" y="2888280"/>
              <a:ext cx="229320" cy="1395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9" name="_s1029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2277720" y="2888640"/>
              <a:ext cx="229320" cy="1394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1" name="_s1030"/>
            <p:cNvCxnSpPr>
              <a:stCxn id="112" idx="0"/>
              <a:endCxn id="113" idx="2"/>
            </p:cNvCxnSpPr>
            <p:nvPr/>
          </p:nvCxnSpPr>
          <p:spPr>
            <a:xfrm flipV="1" rot="16200000">
              <a:off x="5591880" y="1728000"/>
              <a:ext cx="229320" cy="2343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4" name="_s1031"/>
            <p:cNvCxnSpPr>
              <a:stCxn id="108" idx="0"/>
              <a:endCxn id="113" idx="2"/>
            </p:cNvCxnSpPr>
            <p:nvPr/>
          </p:nvCxnSpPr>
          <p:spPr>
            <a:xfrm flipH="1" flipV="1" rot="5400000">
              <a:off x="3697560" y="2176920"/>
              <a:ext cx="229320" cy="14464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3" name="_s1032"/>
            <p:cNvSpPr/>
            <p:nvPr/>
          </p:nvSpPr>
          <p:spPr>
            <a:xfrm>
              <a:off x="2108880" y="2328840"/>
              <a:ext cx="4852080" cy="4572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The Education System in Great Britain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" name="_s1033"/>
            <p:cNvSpPr/>
            <p:nvPr/>
          </p:nvSpPr>
          <p:spPr>
            <a:xfrm>
              <a:off x="1327320" y="3014640"/>
              <a:ext cx="3524040" cy="4572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Primary school (5-11 years)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_s1034"/>
            <p:cNvSpPr/>
            <p:nvPr/>
          </p:nvSpPr>
          <p:spPr>
            <a:xfrm>
              <a:off x="5116320" y="3014640"/>
              <a:ext cx="3524040" cy="4572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econdary school (12-16 years)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" name="_s1035"/>
            <p:cNvSpPr/>
            <p:nvPr/>
          </p:nvSpPr>
          <p:spPr>
            <a:xfrm>
              <a:off x="431640" y="3700440"/>
              <a:ext cx="2525400" cy="4572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Infant school (5-6 y ears)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" name="_s1036"/>
            <p:cNvSpPr/>
            <p:nvPr/>
          </p:nvSpPr>
          <p:spPr>
            <a:xfrm>
              <a:off x="3222000" y="3700440"/>
              <a:ext cx="2525400" cy="4572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Junior school (7-11)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med"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9900"/>
                </a:solidFill>
                <a:latin typeface="Garamond"/>
              </a:rPr>
              <a:t>Education system in America.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116" name="Organization Chart 6"/>
          <p:cNvGrpSpPr/>
          <p:nvPr/>
        </p:nvGrpSpPr>
        <p:grpSpPr>
          <a:xfrm>
            <a:off x="1171440" y="2355120"/>
            <a:ext cx="6801120" cy="1144080"/>
            <a:chOff x="1171440" y="2355120"/>
            <a:chExt cx="6801120" cy="1144080"/>
          </a:xfrm>
        </p:grpSpPr>
        <p:cxnSp>
          <p:nvCxnSpPr>
            <p:cNvPr id="117" name="_s2052"/>
            <p:cNvCxnSpPr>
              <a:stCxn id="118" idx="0"/>
              <a:endCxn id="119" idx="2"/>
            </p:cNvCxnSpPr>
            <p:nvPr/>
          </p:nvCxnSpPr>
          <p:spPr>
            <a:xfrm flipV="1" rot="16200000">
              <a:off x="5628600" y="1754640"/>
              <a:ext cx="229320" cy="2343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0" name="_s2053"/>
            <p:cNvCxnSpPr>
              <a:stCxn id="121" idx="0"/>
              <a:endCxn id="119" idx="2"/>
            </p:cNvCxnSpPr>
            <p:nvPr/>
          </p:nvCxnSpPr>
          <p:spPr>
            <a:xfrm flipV="1">
              <a:off x="4572000" y="2811960"/>
              <a:ext cx="2160" cy="22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2" name="_s2054"/>
            <p:cNvCxnSpPr>
              <a:stCxn id="123" idx="0"/>
              <a:endCxn id="119" idx="2"/>
            </p:cNvCxnSpPr>
            <p:nvPr/>
          </p:nvCxnSpPr>
          <p:spPr>
            <a:xfrm flipH="1" flipV="1" rot="5400000">
              <a:off x="3285720" y="1754640"/>
              <a:ext cx="229320" cy="2343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9" name="_s2055"/>
            <p:cNvSpPr/>
            <p:nvPr/>
          </p:nvSpPr>
          <p:spPr>
            <a:xfrm>
              <a:off x="3051000" y="2355120"/>
              <a:ext cx="3042000" cy="4575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merican education system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" name="_s2056"/>
            <p:cNvSpPr/>
            <p:nvPr/>
          </p:nvSpPr>
          <p:spPr>
            <a:xfrm>
              <a:off x="1171440" y="3041640"/>
              <a:ext cx="2114640" cy="4575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lementary school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_s2057"/>
            <p:cNvSpPr/>
            <p:nvPr/>
          </p:nvSpPr>
          <p:spPr>
            <a:xfrm>
              <a:off x="3514680" y="3041640"/>
              <a:ext cx="2114640" cy="4575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Junior high school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" name="_s2058"/>
            <p:cNvSpPr/>
            <p:nvPr/>
          </p:nvSpPr>
          <p:spPr>
            <a:xfrm>
              <a:off x="5857920" y="3041640"/>
              <a:ext cx="2114640" cy="4575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enior high school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med"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9900"/>
                </a:solidFill>
                <a:latin typeface="Garamond"/>
              </a:rPr>
              <a:t>Russian school.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125" name="Organization Chart 23"/>
          <p:cNvGrpSpPr/>
          <p:nvPr/>
        </p:nvGrpSpPr>
        <p:grpSpPr>
          <a:xfrm>
            <a:off x="1090800" y="2328840"/>
            <a:ext cx="6890760" cy="1143000"/>
            <a:chOff x="1090800" y="2328840"/>
            <a:chExt cx="6890760" cy="1143000"/>
          </a:xfrm>
        </p:grpSpPr>
        <p:cxnSp>
          <p:nvCxnSpPr>
            <p:cNvPr id="126" name="_s3076"/>
            <p:cNvCxnSpPr>
              <a:stCxn id="127" idx="0"/>
              <a:endCxn id="128" idx="2"/>
            </p:cNvCxnSpPr>
            <p:nvPr/>
          </p:nvCxnSpPr>
          <p:spPr>
            <a:xfrm flipV="1" rot="16200000">
              <a:off x="5140440" y="2182320"/>
              <a:ext cx="229320" cy="14353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9" name="_s3077"/>
            <p:cNvCxnSpPr>
              <a:stCxn id="130" idx="0"/>
              <a:endCxn id="128" idx="2"/>
            </p:cNvCxnSpPr>
            <p:nvPr/>
          </p:nvCxnSpPr>
          <p:spPr>
            <a:xfrm flipH="1" flipV="1" rot="5400000">
              <a:off x="3704040" y="2180880"/>
              <a:ext cx="229320" cy="14382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8" name="_s3078"/>
            <p:cNvSpPr/>
            <p:nvPr/>
          </p:nvSpPr>
          <p:spPr>
            <a:xfrm>
              <a:off x="1090800" y="2328840"/>
              <a:ext cx="6890760" cy="4572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Российская система образования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_s3079"/>
            <p:cNvSpPr/>
            <p:nvPr/>
          </p:nvSpPr>
          <p:spPr>
            <a:xfrm>
              <a:off x="1867320" y="3014640"/>
              <a:ext cx="2461680" cy="4572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ачальная школ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" name="_s3080"/>
            <p:cNvSpPr/>
            <p:nvPr/>
          </p:nvSpPr>
          <p:spPr>
            <a:xfrm>
              <a:off x="4740120" y="3014640"/>
              <a:ext cx="2462400" cy="4572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редняя школ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med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10:37:51Z</dcterms:created>
  <dc:creator/>
  <dc:description/>
  <dc:language>en-US</dc:language>
  <cp:lastModifiedBy>Admin</cp:lastModifiedBy>
  <dcterms:modified xsi:type="dcterms:W3CDTF">2012-06-30T05:26:44Z</dcterms:modified>
  <cp:revision>6</cp:revision>
  <dc:subject/>
  <dc:title>Education system in America, Britain and in Russia. </dc:title>
</cp:coreProperties>
</file>