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023-C3D1-45BD-95FF-F4128737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240-3C2B-4F50-9CA4-20081244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366-0CD4-48C4-90A2-B7425DF6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10B-7BE4-458E-A5F5-0AEA2CCA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C267-EC84-4D67-877D-3479E212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9CB9-1D0C-4600-BFF8-4A6EDA0E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274B-D655-4C5A-A17A-BAC5F14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B4CF-B155-47B4-8017-A535BA7F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47AC-E5C8-4A51-BBCE-9C67538C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D1A2-AD62-4FB2-9EF5-70D8CA2B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14B8-54A1-4882-9330-EC846F36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DA0-29DC-435E-92FF-69F2556F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25B3-D299-4B42-B830-CB3156A6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1C51-2C0F-41AC-9600-D773DBBD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1743-93A7-46BF-8697-CCB6D1BC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9697-8F0A-4C54-A901-1F644551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1D7C-A37A-410F-AA53-4F9B6C06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0C4-514D-43C2-B93A-359AA432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56B-08DC-4999-A029-6F8DB926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052-30CB-4096-BDF6-C5D160A4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417-4C2A-4F59-8289-48FCC8A1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CBC1-29F7-4626-AC61-EF7C82EA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592-3BF5-4AEB-9ADC-2086DD7B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06B-365A-4430-A456-A61D2F84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8BC3-4E68-4D98-9EB6-6B06E565F66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3E43-59AF-4A92-B630-545B11B46E5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2FD3-0A99-449B-8846-DC4B83B0AD8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8B59-C216-414F-B3A3-D21104E1D4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ff66"/>
                </a:solidFill>
                <a:latin typeface="Arial Black"/>
              </a:rPr>
              <a:t>Искергән сүзләр.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7F15-FBA1-4ADF-8679-495825D438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6D3AE07-7603-48B3-A6DE-A90CF54B60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5791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Зур бәхетлә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сызганып эшкә бирелгәннән килә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Аһ! Оят,хурлы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түбәнлекләр иренгәннән кил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Булса калдырмак берәү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ушбу җиһанда изге а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Тир белән тапсын ашары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итсен, әлбәт, иҗтиһа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Һәр олуг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ъ</a:t>
            </a: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ла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эшләгәнлектән олуг</a:t>
            </a:r>
            <a:r>
              <a:rPr b="1" i="1" lang="ru-RU" sz="2000" spc="-1" strike="noStrike">
                <a:solidFill>
                  <a:srgbClr val="ffff66"/>
                </a:solidFill>
                <a:latin typeface="Arial"/>
              </a:rPr>
              <a:t>ълык</a:t>
            </a: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лар таб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Уйнады” дип бирмилә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tt-RU" sz="2000" spc="-1" strike="noStrike">
                <a:solidFill>
                  <a:srgbClr val="ffff66"/>
                </a:solidFill>
                <a:latin typeface="Arial"/>
              </a:rPr>
              <a:t>ушбу җиһанда мәртәб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66"/>
                </a:solidFill>
                <a:latin typeface="Arial"/>
              </a:rPr>
              <a:t>Г.Тукай.(191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Габдулла Тукай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62560" y="685800"/>
            <a:ext cx="378144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ED5-37AD-425C-92FD-8EDA130F07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B1619-85FE-42D9-B539-F01619250B53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71240" y="1143000"/>
            <a:ext cx="663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ушб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җиһ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иҗтиһа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олуг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tt-RU" sz="4000" spc="-1" strike="noStrike">
                <a:solidFill>
                  <a:srgbClr val="ffff66"/>
                </a:solidFill>
                <a:latin typeface="Arial"/>
              </a:rPr>
              <a:t>мөкаддәс</a:t>
            </a: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05D-5CB3-4475-BF19-CBC4FCD0D7E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7C61D-1385-4A16-AE90-00C274773474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 u="sng">
                <a:solidFill>
                  <a:srgbClr val="ffffff"/>
                </a:solidFill>
                <a:uFillTx/>
                <a:latin typeface="Arial"/>
              </a:rPr>
              <a:t>өяз,сөңге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 -1нче төрк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 u="sng">
                <a:solidFill>
                  <a:srgbClr val="ffffff"/>
                </a:solidFill>
                <a:uFillTx/>
                <a:latin typeface="Arial"/>
              </a:rPr>
              <a:t>мәхәллә,ядрә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 - 2нче төрк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 u="sng">
                <a:solidFill>
                  <a:srgbClr val="ffffff"/>
                </a:solidFill>
                <a:uFillTx/>
                <a:latin typeface="Arial"/>
              </a:rPr>
              <a:t>инсан, аршын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 – 3 нче төрк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400" spc="-1" strike="noStrike" u="sng">
                <a:solidFill>
                  <a:srgbClr val="ffffff"/>
                </a:solidFill>
                <a:uFillTx/>
                <a:latin typeface="Arial"/>
              </a:rPr>
              <a:t>арык, вә</a:t>
            </a:r>
            <a:r>
              <a:rPr b="0" lang="tt-RU" sz="4400" spc="-1" strike="noStrike">
                <a:solidFill>
                  <a:srgbClr val="ffffff"/>
                </a:solidFill>
                <a:latin typeface="Arial"/>
              </a:rPr>
              <a:t> - 4 нче төрке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1A2-ECFE-48BC-8960-2F7FF4F7C0F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8C752-B03B-41E2-8A4C-182D5D9D8F2E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b7"/>
                </a:solidFill>
                <a:latin typeface="Times New Roman"/>
              </a:rPr>
              <a:t>          </a:t>
            </a:r>
            <a:r>
              <a:rPr b="1" lang="tt-RU" sz="4400" spc="-1" strike="noStrike">
                <a:solidFill>
                  <a:srgbClr val="ffffb7"/>
                </a:solidFill>
                <a:latin typeface="Times New Roman"/>
              </a:rPr>
              <a:t>Искергән сүзлә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өяз 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мәхәлл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сөңге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ядрә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аршы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инсан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ары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i="1" lang="tt-RU" sz="3600" spc="-1" strike="noStrike">
                <a:solidFill>
                  <a:srgbClr val="ffff66"/>
                </a:solidFill>
                <a:latin typeface="Arial"/>
              </a:rPr>
              <a:t>вә</a:t>
            </a: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578-8ACC-4415-A8C9-EBC535F8AE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391C5-38E0-4E85-831D-7E137513C02C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Мәгънәләре буенча 1нче баганадагы сүзләр- вакыт узу белән кулланылыштан төшеп калган предмет яки күренеш исемнәре. Аларны </a:t>
            </a:r>
            <a:r>
              <a:rPr b="1" i="1" lang="tt-RU" sz="3200" spc="-1" strike="noStrike">
                <a:solidFill>
                  <a:srgbClr val="ff6600"/>
                </a:solidFill>
                <a:latin typeface="Arial"/>
              </a:rPr>
              <a:t>тарихи сүзләр</a:t>
            </a: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 дип атыйлар. Аларны бары тик тарихи хезмәтләрдә яки шул чор матур әдәбияты әсәрләрендә куллана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Ә икенче баганадагы сүзләр – хәзерге көндә дә булган предметларның, күренешләрнең искергән атамалары. Аларны </a:t>
            </a:r>
            <a:r>
              <a:rPr b="1" i="1" lang="tt-RU" sz="3200" spc="-1" strike="noStrike">
                <a:solidFill>
                  <a:srgbClr val="ff6600"/>
                </a:solidFill>
                <a:latin typeface="Arial"/>
              </a:rPr>
              <a:t>архаизмнар</a:t>
            </a:r>
            <a:r>
              <a:rPr b="0" lang="tt-RU" sz="3200" spc="-1" strike="noStrike">
                <a:solidFill>
                  <a:srgbClr val="ffff66"/>
                </a:solidFill>
                <a:latin typeface="Arial"/>
              </a:rPr>
              <a:t> дип атый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EFD-AEA8-4F0C-83A2-32BBAE96FCB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CFE26-80DA-4FBE-9591-2D5EF17961F0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8312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ffff66"/>
                </a:solidFill>
                <a:uFillTx/>
                <a:latin typeface="Arial"/>
              </a:rPr>
              <a:t>Ишәк илә сандуга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Ишәк сандугачны күрде дә, аның янына килеп: “Тыңла әле, дустым! Миңа сине, ул сайрарга бик маһир, дип мактадылар. Менә мин үз колагым илә синең тавышыңны ишетмәкче вә яхшы-начарлыгына үзем хөкем итмәкче булдым”, - ди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Сандугач, дәрхаль үзенең һөнәрен күрсәтергә башлап,әллә тагы мең төрле көйләргә борып сайрарга кереш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Ул,бер чут-чут итеп куеп, бер сызгыра, бер назиканә генә тавышын әкренләтеп, бер бөтен урманга вак кына ядрә сибелгән кеби яңгыратып җибәреп, ничек тә булса матуррак сайрарга тырыша иде. (Г.Тука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66A3-5580-41DB-BC3C-C95F7552F8E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EE2DD-FA36-44E0-9632-64C4EC7BC13A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007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 u="sng">
                <a:solidFill>
                  <a:srgbClr val="ffff66"/>
                </a:solidFill>
                <a:uFillTx/>
                <a:latin typeface="Arial"/>
              </a:rPr>
              <a:t>Имтияз алган бала</a:t>
            </a:r>
            <a:r>
              <a:rPr b="0" lang="tt-RU" sz="2800" spc="-1" strike="noStrike" u="sng">
                <a:solidFill>
                  <a:srgbClr val="ffff66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Тырышты бу бала, чын ләззәт алды инде тәхсилдә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Югары булды урны “афәрин”нән һәм дә “тәхсин”нә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Ни кушсаң да укый алды, ни әйтсәң шуны язал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Балаларның арасында үзенә “имтияз” ал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Беренче кәррә мөмтаз булса бер инсан туганнан соң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66"/>
                </a:solidFill>
                <a:latin typeface="Arial"/>
              </a:rPr>
              <a:t>Фәхерле имтиязларны алыр үскәч тә аннан соң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C8B-50FB-4D23-86C5-447E70DF5B2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7F82E-2520-4246-982F-316CDBD22881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И сабыйлар! Эшләгез сез, иң мөкатдәс нәрсә-эш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Эш агачы һәрвакытта бик юмарт китрер җимеш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Яшьлегеңдә күп тырышсаң, эшкә бирсәң чын күңе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Каршыларсың картлыгыңны бик тыныч һәм бик җиңел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                                          </a:t>
            </a:r>
            <a:r>
              <a:rPr b="1" i="1" lang="tt-RU" sz="3200" spc="-1" strike="noStrike">
                <a:solidFill>
                  <a:srgbClr val="ffff66"/>
                </a:solidFill>
                <a:latin typeface="Arial"/>
              </a:rPr>
              <a:t>Г.Тука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A5B-BDB4-4695-ADC9-8C901DF06F3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A2322-AAC6-4389-A63C-152DB91906AD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**</cp:lastModifiedBy>
  <dcterms:modified xsi:type="dcterms:W3CDTF">2012-04-19T19:52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