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D34-AA4D-449C-8A83-731FEB7B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535-EFD1-4ABB-915F-8021FC9B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703-2C24-4428-8B5D-1A871BAF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82E-289A-446A-8D19-B57C534A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2FF0-5194-4B34-9C01-23C7C3D7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E8CC-F6A2-4A05-83CD-1348966A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5A40-38BB-4DE9-8017-708825CF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6356-7D0B-4046-9A9D-321A48B1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B25A-AD3C-4A15-A5A4-AE2D0DDC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D4E1-0DA4-4A0F-A691-5070D049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5EC0-0616-4125-98F1-B4D935A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B77-AA0C-418C-959F-A58387FD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328E-2B88-496B-95B0-38959DC1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07DA-B09C-4C14-B63E-19AA4B41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58C1-D682-4717-A4DC-7E1EC1D6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7004-0D13-4D13-BBC5-E3B1BC48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422E-4673-4546-B042-8CAAE2BA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1DD-5F45-49B7-8C8B-FDF705E4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E4A-D055-424B-95EE-408E6A21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C3C-F053-4A91-B16A-19395831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488-5F15-49EC-94BB-61A5E228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2E1-AC4B-4439-8BFB-0CBC5BF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F36-7963-4099-9697-BC8C40A8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A21-0B51-4177-BECB-B2AC32A4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DFC3-9D18-409F-BB71-ADDD9246788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1E68-D058-4426-A477-031716A7CF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6A32-9A61-4DEE-B9EC-D60E2E471C1D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BC2A-A60C-4EA5-BC59-941C3A2212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ff66"/>
                </a:solidFill>
                <a:latin typeface="Arial Black"/>
              </a:rPr>
              <a:t>Искергән сүзләр.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683A-5601-4333-BD62-BF1F07DA7F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A6B024A-2335-43BF-9D4D-DEB4586DDB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5791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Зур бәхетлә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сызганып эшкә бирелгәннән килә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Аһ! Оят,хурлы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түбәнлекләр иренгәннән кил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Булса калдырмак берә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ушбу җиһанда изге а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Тир белән тапсын ашары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итсен, әлбәт, иҗтиһа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Һәр олуг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ъ</a:t>
            </a: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ла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эшләгәнлектән олуг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ълык</a:t>
            </a: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лар таб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Уйнады” дип бирмилә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ушбу җиһанда мәртәб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66"/>
                </a:solidFill>
                <a:latin typeface="Arial"/>
              </a:rPr>
              <a:t>Г.Тукай.(191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Габдулла Тукай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62560" y="685800"/>
            <a:ext cx="37814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ACD-024F-41C9-A388-F2D6EEA14F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70D65-F87F-4AA4-83BE-8214013C766B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71240" y="1143000"/>
            <a:ext cx="663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ушб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җиһ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иҗтиһа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олуг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мөкаддәс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DBB-DFC4-4FA6-8658-8A427C1C3A2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39BEA-DC82-4FAE-96E6-859F358F06BB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 u="sng">
                <a:solidFill>
                  <a:srgbClr val="ffffff"/>
                </a:solidFill>
                <a:uFillTx/>
                <a:latin typeface="Arial"/>
              </a:rPr>
              <a:t>өяз,сөңге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 -1нче төрк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 u="sng">
                <a:solidFill>
                  <a:srgbClr val="ffffff"/>
                </a:solidFill>
                <a:uFillTx/>
                <a:latin typeface="Arial"/>
              </a:rPr>
              <a:t>мәхәллә,ядрә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 - 2нче төрк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 u="sng">
                <a:solidFill>
                  <a:srgbClr val="ffffff"/>
                </a:solidFill>
                <a:uFillTx/>
                <a:latin typeface="Arial"/>
              </a:rPr>
              <a:t>инсан, аршын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 – 3 нче төрк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 u="sng">
                <a:solidFill>
                  <a:srgbClr val="ffffff"/>
                </a:solidFill>
                <a:uFillTx/>
                <a:latin typeface="Arial"/>
              </a:rPr>
              <a:t>арык, вә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 - 4 нче төрк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2F8-8DFE-43B4-BEC8-8CFDA00A150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BBC77-C70D-4184-ACF0-2C145295484E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Times New Roman"/>
              </a:rPr>
              <a:t>          </a:t>
            </a:r>
            <a:r>
              <a:rPr b="1" lang="tt-RU" sz="4400" spc="-1" strike="noStrike">
                <a:solidFill>
                  <a:srgbClr val="ffffb7"/>
                </a:solidFill>
                <a:latin typeface="Times New Roman"/>
              </a:rPr>
              <a:t>Искергән сүзлә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өяз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мәхәлл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сөңге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ядрә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аршы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инсан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ары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вә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730-D2CE-4158-A32F-D75813FA76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D8A60-AFCE-4BC6-A593-067174256EFE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Мәгънәләре буенча 1нче баганадагы сүзләр- вакыт узу белән кулланылыштан төшеп калган предмет яки күренеш исемнәре. Аларны </a:t>
            </a:r>
            <a:r>
              <a:rPr b="1" i="1" lang="tt-RU" sz="3200" spc="-1" strike="noStrike">
                <a:solidFill>
                  <a:srgbClr val="ff6600"/>
                </a:solidFill>
                <a:latin typeface="Arial"/>
              </a:rPr>
              <a:t>тарихи сүзләр</a:t>
            </a: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 дип атыйлар. Аларны бары тик тарихи хезмәтләрдә яки шул чор матур әдәбияты әсәрләрендә куллана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Ә икенче баганадагы сүзләр – хәзерге көндә дә булган предметларның, күренешләрнең искергән атамалары. Аларны </a:t>
            </a:r>
            <a:r>
              <a:rPr b="1" i="1" lang="tt-RU" sz="3200" spc="-1" strike="noStrike">
                <a:solidFill>
                  <a:srgbClr val="ff6600"/>
                </a:solidFill>
                <a:latin typeface="Arial"/>
              </a:rPr>
              <a:t>архаизмнар</a:t>
            </a: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 дип атый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43D-DC77-45BC-8868-730EF2F4418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EA3AE-0AE9-4185-9875-2C297B30FE5F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12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ffff66"/>
                </a:solidFill>
                <a:uFillTx/>
                <a:latin typeface="Arial"/>
              </a:rPr>
              <a:t>Ишәк илә сандуга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Ишәк сандугачны күрде дә, аның янына килеп: “Тыңла әле, дустым! Миңа сине, ул сайрарга бик маһир, дип мактадылар. Менә мин үз колагым илә синең тавышыңны ишетмәкче вә яхшы-начарлыгына үзем хөкем итмәкче булдым”, - ди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Сандугач, дәрхаль үзенең һөнәрен күрсәтергә башлап,әллә тагы мең төрле көйләргә борып сайрарга кереш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Ул,бер чут-чут итеп куеп, бер сызгыра, бер назиканә генә тавышын әкренләтеп, бер бөтен урманга вак кына ядрә сибелгән кеби яңгыратып җибәреп, ничек тә булса матуррак сайрарга тырыша иде. (Г.Тука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372-3539-489A-BBA2-85574C69D92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CE20F-45D2-4136-9EE9-C6B75BA515A7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007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ffff66"/>
                </a:solidFill>
                <a:uFillTx/>
                <a:latin typeface="Arial"/>
              </a:rPr>
              <a:t>Имтияз алган бала</a:t>
            </a:r>
            <a:r>
              <a:rPr b="0" lang="tt-RU" sz="2800" spc="-1" strike="noStrike" u="sng">
                <a:solidFill>
                  <a:srgbClr val="ffff66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Тырышты бу бала, чын ләззәт алды инде тәхсилдә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Югары булды урны “афәрин”нән һәм дә “тәхсин”нә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Ни кушсаң да укый алды, ни әйтсәң шуны язал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Балаларның арасында үзенә “имтияз” ал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Беренче кәррә мөмтаз булса бер инсан туганнан соң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Фәхерле имтиязларны алыр үскәч тә аннан соң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536-BCB4-419F-95C1-A4DF743C7BC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01122-ED56-4D50-A37A-1BF00522AFD6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И сабыйлар! Эшләгез сез, иң мөкатдәс нәрсә-эш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Эш агачы һәрвакытта бик юмарт китрер җиме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Яшьлегеңдә күп тырышсаң, эшкә бирсәң чын күңе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Каршыларсың картлыгыңны бик тыныч һәм бик җиңел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                                          </a:t>
            </a: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Г.Тук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FE0-0ED6-4740-8B02-DF07CF479AA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A50E3-EC96-44CB-8FC0-3D0788BC83E5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</cp:lastModifiedBy>
  <dcterms:modified xsi:type="dcterms:W3CDTF">2012-04-19T19:52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