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259-CC18-4ACF-81A4-2E9F7541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C6A-84A2-4011-B8BC-BEE4A5B2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454-CFDC-47D9-A6A8-F848463B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4CF-962F-4325-A3CA-EBB0E118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B7E5-07A2-4E39-A5A5-A3B2BABE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0AE2-83C9-41A1-9C1B-3F5547F4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C12-8489-488A-9655-E79B46B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D7A8-95B2-4DC6-9EF2-96CF706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58E2-ED96-4602-9C50-CDFF035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F90A-08D1-4644-A62D-32802388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5DB6-244D-421F-91A2-7B3C4CEB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50C-6DBA-4ECC-A818-3C965E8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262A-3C5C-49B7-9650-2B7AD6C8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D6FB-3A46-4A02-8AD7-2191EEB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C8C-E140-43D8-90DD-860496A4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9C86-CBE7-4146-B2D5-3B1ADC0D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5A5C-90E7-4DE9-A472-5ACF36FF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AB8-6C51-4998-9638-8123377F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A2A-A2AA-4EC8-B700-2CF92C10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F34-6FDB-44B9-B36F-86F28636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55B-0D83-42C3-8DAF-2D810DF6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894-5EA5-4D16-BA79-C973427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06B-754A-4357-B178-1991898C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23E-CBE7-4171-8485-E4D439F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7DC6-2F8B-4568-BCC4-6453F40D078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B47F-1D82-4E38-821B-05E16ECDBD2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Однородные и неоднородны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                                                                        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Чистые вещества и              смеси  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Ч И С Т Ы Е                  В Е Щ Е С Т В А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ахар,сол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Металл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еметалл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СОСТОЯТ ИЗ МОЛЕКУЛ ДАННОГО ВЕЩЕСТВ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истилированная во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истые вещества имеют постоянные физические свойства;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пл.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ип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Однородные смес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меси,образованные хорошо растворимыми веществами друг в друг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Вода + Саха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Вода + Сол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3Вода + Спир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4.Воздух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B56-9B1F-4F5A-AF76-245930CDE932}" type="slidenum">
              <a:t>3</a:t>
            </a:fld>
          </a:p>
        </p:txBody>
      </p:sp>
    </p:spTree>
  </p:cSld>
  <p:transition>
    <p:strips dir="l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Такие смеси образуются при смешивании веществ не растворимых между собой –ВЗВЕС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1.Вода+масло; 2. Железо + Сера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3.Вода + мел;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В смесях свойства веществ сохраняютс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еоднородные смес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757080" y="372600"/>
            <a:ext cx="762984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 М Е С И М О Ж Н О                         Р А З Д Е Л И Т Ь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Однородные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)Выпаривани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)Кристаллизац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В)Хромотографи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НЕОДНОРОДНЫЕ СМЕСИ МОЖНО РАЗДЕЛИТЬ: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А) Намагничи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Б)Фильтро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)Отстаи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Г)Центрифугирование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Часто разделение смеси происходит комплексно: Например: Вода,песок,соль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Отстаивание или фильтровани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Выпаривание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3:17:57Z</dcterms:created>
  <dc:creator>121</dc:creator>
  <dc:description/>
  <dc:language>en-US</dc:language>
  <cp:lastModifiedBy>121</cp:lastModifiedBy>
  <dcterms:modified xsi:type="dcterms:W3CDTF">2012-05-05T18:27:50Z</dcterms:modified>
  <cp:revision>5</cp:revision>
  <dc:subject/>
  <dc:title>Чистые вещества и смеси</dc:title>
</cp:coreProperties>
</file>