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8A6-93CF-4909-A933-03E6F591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49E-C5A2-4503-9BE2-95FA0048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8ED-030A-4B52-9312-2B7A32C6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9C2-3265-4549-BC1D-B155D4CE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52E9-117E-4ABF-842A-6C3921D6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E225-3765-434F-84C5-84FE268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2EB-F52A-4BAD-8078-A61E622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267-3C1F-43D3-8F1F-0B12D96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7F60-DCF0-4254-B85F-246969AD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EBB-7943-4B00-B41D-B60DA80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B3F-4CD5-4610-83E3-71D1564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990-B0DA-4F56-AADD-7416B962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36D-CC6C-444E-A18D-2BCA739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CEF-E45A-40D9-B836-00600CC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4F1D-3F75-4CD8-9B63-8310BD15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73F3-C375-4574-9C54-27942A91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EC3-B8EF-46CE-8A86-DFDE48A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E77-758C-490F-AEF8-0C72175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DAF-FAEE-40BC-88D0-C3DE869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BFA-F5E6-4305-9613-8889F14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436-E251-4A7E-AC24-FB88BD0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9A0-41C0-4138-AF55-FE051A6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319-000A-4B1D-BFE0-AC981258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B8D-B3DE-45B7-ACE2-76768A37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B96-E44F-4965-ACAA-C7173EC386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377-F1BD-4F55-AD0E-9975E791E7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нородные и неоднородны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                         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истые вещества и              смеси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Ч И С Т Ы Е                  В Е Щ Е С Т В А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ахар,сол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еталл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еметалл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ОСТОЯТ ИЗ МОЛЕКУЛ ДАННОГО ВЕЩЕ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истилированная во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истые вещества имеют постоянные физические свойства;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.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ип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Однородные смес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меси,образованные хорошо растворимыми веществами друг в друг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Вода + Саха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Вода + Сол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Вода + Спир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Воздух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9E6-41B8-4972-AD9A-9FF741BCC46F}" type="slidenum">
              <a:t>3</a:t>
            </a:fld>
          </a:p>
        </p:txBody>
      </p:sp>
    </p:spTree>
  </p:cSld>
  <p:transition>
    <p:strips dir="l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Такие смеси образуются при смешивании веществ не растворимых между собой –ВЗВЕС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1.Вода+масло; 2. Железо + Сера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3.Вода + мел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В смесях свойства веществ сохраняютс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еоднородные смес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757080" y="372600"/>
            <a:ext cx="76298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 М Е С И М О Ж Н О                         Р А З Д Е Л И Т 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Однородные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Выпаривани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Кристаллизац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Хромотограф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НЕОДНОРОДНЫЕ СМЕСИ МОЖНО РАЗДЕЛИТЬ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) Намагничи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Б)Фильтро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)Отстаи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)Центрифугиро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асто разделение смеси происходит комплексно: Например: Вода,песок,сол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Отстаивание или фильтрован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Выпариван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3:17:57Z</dcterms:created>
  <dc:creator>121</dc:creator>
  <dc:description/>
  <dc:language>en-US</dc:language>
  <cp:lastModifiedBy>121</cp:lastModifiedBy>
  <dcterms:modified xsi:type="dcterms:W3CDTF">2012-05-05T18:27:50Z</dcterms:modified>
  <cp:revision>5</cp:revision>
  <dc:subject/>
  <dc:title>Чистые вещества и смеси</dc:title>
</cp:coreProperties>
</file>