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C6D5-8EB7-4F6A-9394-7150AF8C1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9EF-D19C-4761-8737-BD784143C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BFB-67E5-40A1-8CB0-9A85B166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573-579F-469E-ABC9-44278D0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7A9-4A9B-4FC5-A127-02C712DD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270-0A38-4A86-9DFF-1B3844B4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627-AAEC-4572-8EC8-0EECDCB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9B2-D89E-414D-B1BF-CE5FF4CC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CA6-0353-43A2-9101-7C82CC87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910-9309-432E-9940-A957393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57B-AE22-4543-A321-C4A42F1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248-9A8B-44CC-9327-14D2516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9A3-896D-4509-9F01-3220ED8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D79-C513-4871-BA7B-D6234C9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BA7-E59B-4808-A24E-8BFB99263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Обобщающий урок -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Calibri"/>
              </a:rPr>
              <a:t>по теме: Зарубежная Европ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2685960" cy="400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28880" y="421488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13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Все эти страны не имеют выхода к мор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4286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1.Португал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2.Швейцар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3.Австр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Саша\Рабочий стол\португалия.bmp"/>
          <p:cNvPicPr/>
          <p:nvPr/>
        </p:nvPicPr>
        <p:blipFill>
          <a:blip r:embed="rId1"/>
          <a:stretch/>
        </p:blipFill>
        <p:spPr>
          <a:xfrm>
            <a:off x="5000760" y="785880"/>
            <a:ext cx="270036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Саша\Рабочий стол\швейцария.bmp"/>
          <p:cNvPicPr/>
          <p:nvPr/>
        </p:nvPicPr>
        <p:blipFill>
          <a:blip r:embed="rId2"/>
          <a:stretch/>
        </p:blipFill>
        <p:spPr>
          <a:xfrm>
            <a:off x="4857840" y="2857680"/>
            <a:ext cx="2914560" cy="19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Саша\Рабочий стол\австрия.bmp"/>
          <p:cNvPicPr/>
          <p:nvPr/>
        </p:nvPicPr>
        <p:blipFill>
          <a:blip r:embed="rId3"/>
          <a:stretch/>
        </p:blipFill>
        <p:spPr>
          <a:xfrm>
            <a:off x="4857840" y="4886280"/>
            <a:ext cx="30002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 задание.</a:t>
            </a:r>
            <a:br>
              <a:rPr sz="4400"/>
            </a:br>
            <a:r>
              <a:rPr b="1" i="1" lang="en-US" sz="4800" spc="-1" strike="noStrike" u="sng">
                <a:solidFill>
                  <a:srgbClr val="800080"/>
                </a:solidFill>
                <a:uFillTx/>
                <a:latin typeface="Calibri"/>
              </a:rPr>
              <a:t>Узнать страну по описанию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Великобр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Норвег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Герм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 Нидерлан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Швейцар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Исп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Чех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Ватика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9.Франц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.Исланд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1.Бельг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ШВЕ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504d"/>
                </a:solidFill>
                <a:latin typeface="Calibri"/>
              </a:rPr>
              <a:t>Спасибо за ур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Текст 2" descr=""/>
          <p:cNvPicPr/>
          <p:nvPr/>
        </p:nvPicPr>
        <p:blipFill>
          <a:blip r:embed="rId1"/>
          <a:stretch/>
        </p:blipFill>
        <p:spPr>
          <a:xfrm>
            <a:off x="1590840" y="2876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85760" y="1757520"/>
            <a:ext cx="332424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Текст 2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659640" y="378936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020000" y="112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643280" y="4508640"/>
            <a:ext cx="1771920" cy="19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по теме: Зарубежная Евро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Зарубежная Европ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Зада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пишите на контурной карте названия государ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Содержимое 3"/>
          <p:cNvGraphicFramePr/>
          <p:nvPr/>
        </p:nvGraphicFramePr>
        <p:xfrm>
          <a:off x="684360" y="1052640"/>
          <a:ext cx="7885080" cy="77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885080" cy="77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258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25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Саша\Рабочий стол\06S0657i.bmp"/>
          <p:cNvPicPr/>
          <p:nvPr/>
        </p:nvPicPr>
        <p:blipFill>
          <a:blip r:embed="rId1"/>
          <a:stretch/>
        </p:blipFill>
        <p:spPr>
          <a:xfrm>
            <a:off x="5245200" y="2214720"/>
            <a:ext cx="1771560" cy="1971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5214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Я утверждаю, что все три страны находятся на одном полуострове и являются конституционными монарх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70c0"/>
                </a:solidFill>
                <a:latin typeface="Calibri"/>
              </a:rPr>
              <a:t>1….а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1.Норве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Финляндия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3.Шве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D:\Мои документы\Оля\Презентация Зарубежная Европв\швеция.bmp"/>
          <p:cNvPicPr/>
          <p:nvPr/>
        </p:nvPicPr>
        <p:blipFill>
          <a:blip r:embed="rId2"/>
          <a:stretch/>
        </p:blipFill>
        <p:spPr>
          <a:xfrm>
            <a:off x="6215040" y="3357720"/>
            <a:ext cx="1814400" cy="19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Мои документы\Оля\Презентация Зарубежная Европв\06S0676i.bmp"/>
          <p:cNvPicPr/>
          <p:nvPr/>
        </p:nvPicPr>
        <p:blipFill>
          <a:blip r:embed="rId3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се три страны являются морскими державами Средиземного мор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45432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1.Герм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2.Итал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3. Исп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Саша\Рабочий стол\германия.bmp"/>
          <p:cNvPicPr/>
          <p:nvPr/>
        </p:nvPicPr>
        <p:blipFill>
          <a:blip r:embed="rId1"/>
          <a:stretch/>
        </p:blipFill>
        <p:spPr>
          <a:xfrm>
            <a:off x="7372440" y="2142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Саша\Рабочий стол\италия.bmp"/>
          <p:cNvPicPr/>
          <p:nvPr/>
        </p:nvPicPr>
        <p:blipFill>
          <a:blip r:embed="rId2"/>
          <a:stretch/>
        </p:blipFill>
        <p:spPr>
          <a:xfrm>
            <a:off x="5643720" y="2214720"/>
            <a:ext cx="1857240" cy="197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Саша\Рабочий стол\Испания.bmp"/>
          <p:cNvPicPr/>
          <p:nvPr/>
        </p:nvPicPr>
        <p:blipFill>
          <a:blip r:embed="rId3"/>
          <a:stretch/>
        </p:blipFill>
        <p:spPr>
          <a:xfrm>
            <a:off x="6786720" y="4286160"/>
            <a:ext cx="19573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78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 три страны входят в состав  «Большой восьмёр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58658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1.Исп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2.Герм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3.Итал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Саша\Рабочий стол\Испания.bmp"/>
          <p:cNvPicPr/>
          <p:nvPr/>
        </p:nvPicPr>
        <p:blipFill>
          <a:blip r:embed="rId1"/>
          <a:stretch/>
        </p:blipFill>
        <p:spPr>
          <a:xfrm>
            <a:off x="5072040" y="1214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Саша\Рабочий стол\германия.bmp"/>
          <p:cNvPicPr/>
          <p:nvPr/>
        </p:nvPicPr>
        <p:blipFill>
          <a:blip r:embed="rId2"/>
          <a:stretch/>
        </p:blipFill>
        <p:spPr>
          <a:xfrm>
            <a:off x="6500880" y="300024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Саша\Рабочий стол\италия.bmp"/>
          <p:cNvPicPr/>
          <p:nvPr/>
        </p:nvPicPr>
        <p:blipFill>
          <a:blip r:embed="rId3"/>
          <a:stretch/>
        </p:blipFill>
        <p:spPr>
          <a:xfrm>
            <a:off x="4643280" y="5000760"/>
            <a:ext cx="235764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се три страны  являются полуостровными государств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00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1.Итал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2.Грец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3.Ирланд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Саша\Рабочий стол\италия.bmp"/>
          <p:cNvPicPr/>
          <p:nvPr/>
        </p:nvPicPr>
        <p:blipFill>
          <a:blip r:embed="rId1"/>
          <a:stretch/>
        </p:blipFill>
        <p:spPr>
          <a:xfrm>
            <a:off x="6143760" y="1643040"/>
            <a:ext cx="2571480" cy="197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Саша\Рабочий стол\греция.bmp"/>
          <p:cNvPicPr/>
          <p:nvPr/>
        </p:nvPicPr>
        <p:blipFill>
          <a:blip r:embed="rId2"/>
          <a:stretch/>
        </p:blipFill>
        <p:spPr>
          <a:xfrm>
            <a:off x="3071880" y="3357720"/>
            <a:ext cx="2343240" cy="197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Саша\Рабочий стол\ирландия.bmp"/>
          <p:cNvPicPr/>
          <p:nvPr/>
        </p:nvPicPr>
        <p:blipFill>
          <a:blip r:embed="rId3"/>
          <a:stretch/>
        </p:blipFill>
        <p:spPr>
          <a:xfrm>
            <a:off x="6000840" y="4714920"/>
            <a:ext cx="20714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олицы всех трёх государств начинаются на букву»Б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59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1 Венгр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2.Д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3.Румы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Саша\Рабочий стол\венгрия.bmp"/>
          <p:cNvPicPr/>
          <p:nvPr/>
        </p:nvPicPr>
        <p:blipFill>
          <a:blip r:embed="rId1"/>
          <a:stretch/>
        </p:blipFill>
        <p:spPr>
          <a:xfrm>
            <a:off x="5072040" y="14288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Саша\Рабочий стол\дания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Саша\Рабочий стол\румыния.bmp"/>
          <p:cNvPicPr/>
          <p:nvPr/>
        </p:nvPicPr>
        <p:blipFill>
          <a:blip r:embed="rId3"/>
          <a:stretch/>
        </p:blipFill>
        <p:spPr>
          <a:xfrm>
            <a:off x="571500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15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Через все эти страны протекает река Дуна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5000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1.Герм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2.Австр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3.Чех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Саша\Рабочий стол\германия.bmp"/>
          <p:cNvPicPr/>
          <p:nvPr/>
        </p:nvPicPr>
        <p:blipFill>
          <a:blip r:embed="rId1"/>
          <a:stretch/>
        </p:blipFill>
        <p:spPr>
          <a:xfrm>
            <a:off x="4643280" y="15001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Саша\Рабочий стол\австрия.bmp"/>
          <p:cNvPicPr/>
          <p:nvPr/>
        </p:nvPicPr>
        <p:blipFill>
          <a:blip r:embed="rId2"/>
          <a:stretch/>
        </p:blipFill>
        <p:spPr>
          <a:xfrm>
            <a:off x="6215040" y="3071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Саша\Рабочий стол\06S0606iчехия.bmp"/>
          <p:cNvPicPr/>
          <p:nvPr/>
        </p:nvPicPr>
        <p:blipFill>
          <a:blip r:embed="rId3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08:49Z</dcterms:created>
  <dc:creator>Sasha</dc:creator>
  <dc:description/>
  <dc:language>en-US</dc:language>
  <cp:lastModifiedBy>Sasha</cp:lastModifiedBy>
  <dcterms:modified xsi:type="dcterms:W3CDTF">2009-02-17T05:07:56Z</dcterms:modified>
  <cp:revision>33</cp:revision>
  <dc:subject/>
  <dc:title>Обобщающий урок -игра</dc:title>
</cp:coreProperties>
</file>