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2A66D-87E0-4F9F-9D16-ABA78EB848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лян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77540-0A08-41EC-92F0-5CDBED7831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CFBB-34FD-4C06-ABD8-6F569AEEB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A094-7D4A-4AF0-A1EF-FCA4ECCF2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BB56-AFB9-4064-A2C9-C4EE558B4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8843-DB06-4CD8-ABB8-381BA79C0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BB3A-1558-43A4-B89A-AF40C1E87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0F00-1EB0-4EC1-B4A2-DF5DAAA06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D137-FA07-4B00-B0E9-0984A28EF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B01F-5891-4D66-B658-7EDF6FD41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873D-3251-4D8A-9610-CF2DA339D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E660-0288-4AF3-84EF-C300FFE5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8D6B-067C-45FD-95E5-D0DAE603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068B-738D-4F1B-8AA9-9BB159FC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21901-D401-4BF9-9AF6-C0787671F6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3.png"/><Relationship Id="rId4" Type="http://schemas.openxmlformats.org/officeDocument/2006/relationships/image" Target="../media/image4.png"/><Relationship Id="rId5" Type="http://schemas.openxmlformats.org/officeDocument/2006/relationships/image" Target="../media/image25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b050"/>
                </a:solidFill>
                <a:latin typeface="Calibri"/>
              </a:rPr>
              <a:t>Обобщающий урок -игр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28840" y="48578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00000"/>
                </a:solidFill>
                <a:latin typeface="Calibri"/>
              </a:rPr>
              <a:t>по теме: Зарубежная Европа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164360" y="126828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924360" y="1125360"/>
            <a:ext cx="2685960" cy="4000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0920" y="119700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1028880" y="4214880"/>
            <a:ext cx="2066760" cy="15429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3840" y="0"/>
            <a:ext cx="8401320" cy="13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Все эти страны не имеют выхода к морю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434600"/>
            <a:ext cx="4286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a452a"/>
                </a:solidFill>
                <a:latin typeface="Calibri"/>
              </a:rPr>
              <a:t>1.Португали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a452a"/>
                </a:solidFill>
                <a:latin typeface="Calibri"/>
              </a:rPr>
              <a:t>2.Швейцари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a452a"/>
                </a:solidFill>
                <a:latin typeface="Calibri"/>
              </a:rPr>
              <a:t>3.Австрия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C:\Documents and Settings\Саша\Рабочий стол\португалия.bmp"/>
          <p:cNvPicPr/>
          <p:nvPr/>
        </p:nvPicPr>
        <p:blipFill>
          <a:blip r:embed="rId1"/>
          <a:stretch/>
        </p:blipFill>
        <p:spPr>
          <a:xfrm>
            <a:off x="5000760" y="785880"/>
            <a:ext cx="2700360" cy="1971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C:\Documents and Settings\Саша\Рабочий стол\швейцария.bmp"/>
          <p:cNvPicPr/>
          <p:nvPr/>
        </p:nvPicPr>
        <p:blipFill>
          <a:blip r:embed="rId2"/>
          <a:stretch/>
        </p:blipFill>
        <p:spPr>
          <a:xfrm>
            <a:off x="4857840" y="2857680"/>
            <a:ext cx="2914560" cy="1971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C:\Documents and Settings\Саша\Рабочий стол\австрия.bmp"/>
          <p:cNvPicPr/>
          <p:nvPr/>
        </p:nvPicPr>
        <p:blipFill>
          <a:blip r:embed="rId3"/>
          <a:stretch/>
        </p:blipFill>
        <p:spPr>
          <a:xfrm>
            <a:off x="4857840" y="4886280"/>
            <a:ext cx="3000240" cy="1971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indefinite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3" dur="indefinite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4" dur="indefinite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5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3 задание.</a:t>
            </a:r>
            <a:br>
              <a:rPr sz="4400"/>
            </a:br>
            <a:r>
              <a:rPr b="1" i="1" lang="en-US" sz="4800" spc="-1" strike="noStrike" u="sng">
                <a:solidFill>
                  <a:srgbClr val="800080"/>
                </a:solidFill>
                <a:uFillTx/>
                <a:latin typeface="Calibri"/>
              </a:rPr>
              <a:t>Узнать страну по описанию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Великобрит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.Норвег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3. Герма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4 Нидерланд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5.Швейцар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6.Испа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7.Чех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8. Ватикан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9.Франц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0.Исланд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1.Бельг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2. ШВЕЦ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Текст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4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c0504d"/>
                </a:solidFill>
                <a:latin typeface="Calibri"/>
              </a:rPr>
              <a:t>Спасибо за урок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Текст 2" descr=""/>
          <p:cNvPicPr/>
          <p:nvPr/>
        </p:nvPicPr>
        <p:blipFill>
          <a:blip r:embed="rId1"/>
          <a:stretch/>
        </p:blipFill>
        <p:spPr>
          <a:xfrm>
            <a:off x="1590840" y="287640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085760" y="1757520"/>
            <a:ext cx="3324240" cy="4000320"/>
          </a:xfrm>
          <a:prstGeom prst="rect">
            <a:avLst/>
          </a:prstGeom>
          <a:ln w="0">
            <a:noFill/>
          </a:ln>
        </p:spPr>
      </p:pic>
      <p:pic>
        <p:nvPicPr>
          <p:cNvPr id="106" name="Текст 2" descr=""/>
          <p:cNvPicPr/>
          <p:nvPr/>
        </p:nvPicPr>
        <p:blipFill>
          <a:blip r:embed="rId3"/>
          <a:stretch/>
        </p:blipFill>
        <p:spPr>
          <a:xfrm>
            <a:off x="4716360" y="1773360"/>
            <a:ext cx="1771920" cy="1971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6659640" y="3789360"/>
            <a:ext cx="2066760" cy="15429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7020000" y="112536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4643280" y="4508640"/>
            <a:ext cx="1771920" cy="197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alibri"/>
              </a:rPr>
              <a:t>по теме: Зарубежная Европ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63579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Зарубежная Европа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Задани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Подпишите на контурной карте названия государст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" name="Содержимое 3"/>
          <p:cNvGraphicFramePr/>
          <p:nvPr/>
        </p:nvGraphicFramePr>
        <p:xfrm>
          <a:off x="684360" y="1052640"/>
          <a:ext cx="7885080" cy="77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052640"/>
                    <a:ext cx="7885080" cy="77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324000" y="4508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16" dur="indefinite" restart="never" nodeType="tmRoot">
          <p:childTnLst>
            <p:seq>
              <p:cTn id="17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82583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182583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04384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0000"/>
                </a:solidFill>
                <a:uFillTx/>
                <a:latin typeface="Calibri"/>
              </a:rPr>
              <a:t>2</a:t>
            </a:r>
            <a:r>
              <a:rPr b="1" lang="en-US" sz="48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r>
              <a:rPr b="1" lang="ru-RU" sz="4800" spc="-1" strike="noStrike" u="sng">
                <a:solidFill>
                  <a:srgbClr val="ff0000"/>
                </a:solidFill>
                <a:uFillTx/>
                <a:latin typeface="Calibri"/>
              </a:rPr>
              <a:t>зада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C:\Documents and Settings\Саша\Рабочий стол\06S0657i.bmp"/>
          <p:cNvPicPr/>
          <p:nvPr/>
        </p:nvPicPr>
        <p:blipFill>
          <a:blip r:embed="rId1"/>
          <a:stretch/>
        </p:blipFill>
        <p:spPr>
          <a:xfrm>
            <a:off x="5245200" y="2214720"/>
            <a:ext cx="1771560" cy="19713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57120" y="928800"/>
            <a:ext cx="521496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d0d0d"/>
                </a:solidFill>
                <a:latin typeface="Calibri"/>
              </a:rPr>
              <a:t>Я утверждаю, что все три страны находятся на одном полуострове и являются конституционными монархия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70c0"/>
                </a:solidFill>
                <a:latin typeface="Calibri"/>
              </a:rPr>
              <a:t>1….аа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1.Норвег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2.Финляндия</a:t>
            </a: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3.Швец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D:\Мои документы\Оля\Презентация Зарубежная Европв\швеция.bmp"/>
          <p:cNvPicPr/>
          <p:nvPr/>
        </p:nvPicPr>
        <p:blipFill>
          <a:blip r:embed="rId2"/>
          <a:stretch/>
        </p:blipFill>
        <p:spPr>
          <a:xfrm>
            <a:off x="6215040" y="3357720"/>
            <a:ext cx="1814400" cy="1971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D:\Мои документы\Оля\Презентация Зарубежная Европв\06S0676i.bmp"/>
          <p:cNvPicPr/>
          <p:nvPr/>
        </p:nvPicPr>
        <p:blipFill>
          <a:blip r:embed="rId3"/>
          <a:stretch/>
        </p:blipFill>
        <p:spPr>
          <a:xfrm>
            <a:off x="7372440" y="4886280"/>
            <a:ext cx="1771560" cy="1971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indefinite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3" dur="indefinite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4" dur="indefinite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" dur="20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92928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Все три страны являются морскими державами Средиземного мор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71680" y="1499760"/>
            <a:ext cx="454320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1.Германия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2.Италия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3. Испани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C:\Documents and Settings\Саша\Рабочий стол\германия.bmp"/>
          <p:cNvPicPr/>
          <p:nvPr/>
        </p:nvPicPr>
        <p:blipFill>
          <a:blip r:embed="rId1"/>
          <a:stretch/>
        </p:blipFill>
        <p:spPr>
          <a:xfrm>
            <a:off x="7372440" y="21420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C:\Documents and Settings\Саша\Рабочий стол\италия.bmp"/>
          <p:cNvPicPr/>
          <p:nvPr/>
        </p:nvPicPr>
        <p:blipFill>
          <a:blip r:embed="rId2"/>
          <a:stretch/>
        </p:blipFill>
        <p:spPr>
          <a:xfrm>
            <a:off x="5643720" y="2214720"/>
            <a:ext cx="1857240" cy="1971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C:\Documents and Settings\Саша\Рабочий стол\Испания.bmp"/>
          <p:cNvPicPr/>
          <p:nvPr/>
        </p:nvPicPr>
        <p:blipFill>
          <a:blip r:embed="rId3"/>
          <a:stretch/>
        </p:blipFill>
        <p:spPr>
          <a:xfrm>
            <a:off x="6786720" y="4286160"/>
            <a:ext cx="1957320" cy="2214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272880"/>
            <a:ext cx="67867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Все три страны входят в состав  «Большой восьмёрки»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14200" y="1714320"/>
            <a:ext cx="58658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b050"/>
                </a:solidFill>
                <a:latin typeface="Calibri"/>
              </a:rPr>
              <a:t>1.Испания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b050"/>
                </a:solidFill>
                <a:latin typeface="Calibri"/>
              </a:rPr>
              <a:t>2.Германия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b050"/>
                </a:solidFill>
                <a:latin typeface="Calibri"/>
              </a:rPr>
              <a:t>3.Италия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C:\Documents and Settings\Саша\Рабочий стол\Испания.bmp"/>
          <p:cNvPicPr/>
          <p:nvPr/>
        </p:nvPicPr>
        <p:blipFill>
          <a:blip r:embed="rId1"/>
          <a:stretch/>
        </p:blipFill>
        <p:spPr>
          <a:xfrm>
            <a:off x="5072040" y="1214280"/>
            <a:ext cx="2428920" cy="1785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C:\Documents and Settings\Саша\Рабочий стол\германия.bmp"/>
          <p:cNvPicPr/>
          <p:nvPr/>
        </p:nvPicPr>
        <p:blipFill>
          <a:blip r:embed="rId2"/>
          <a:stretch/>
        </p:blipFill>
        <p:spPr>
          <a:xfrm>
            <a:off x="6500880" y="3000240"/>
            <a:ext cx="2643120" cy="1971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C:\Documents and Settings\Саша\Рабочий стол\италия.bmp"/>
          <p:cNvPicPr/>
          <p:nvPr/>
        </p:nvPicPr>
        <p:blipFill>
          <a:blip r:embed="rId3"/>
          <a:stretch/>
        </p:blipFill>
        <p:spPr>
          <a:xfrm>
            <a:off x="4643280" y="5000760"/>
            <a:ext cx="2357640" cy="18572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643960" cy="164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Все три страны  являются полуостровными государствам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-360" y="1643040"/>
            <a:ext cx="60008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4f6228"/>
                </a:solidFill>
                <a:latin typeface="Calibri"/>
              </a:rPr>
              <a:t>1.Италия.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4f6228"/>
                </a:solidFill>
                <a:latin typeface="Calibri"/>
              </a:rPr>
              <a:t>2.Греция.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4f6228"/>
                </a:solidFill>
                <a:latin typeface="Calibri"/>
              </a:rPr>
              <a:t>3.Ирландия.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C:\Documents and Settings\Саша\Рабочий стол\италия.bmp"/>
          <p:cNvPicPr/>
          <p:nvPr/>
        </p:nvPicPr>
        <p:blipFill>
          <a:blip r:embed="rId1"/>
          <a:stretch/>
        </p:blipFill>
        <p:spPr>
          <a:xfrm>
            <a:off x="6143760" y="1643040"/>
            <a:ext cx="2571480" cy="1971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C:\Documents and Settings\Саша\Рабочий стол\греция.bmp"/>
          <p:cNvPicPr/>
          <p:nvPr/>
        </p:nvPicPr>
        <p:blipFill>
          <a:blip r:embed="rId2"/>
          <a:stretch/>
        </p:blipFill>
        <p:spPr>
          <a:xfrm>
            <a:off x="3071880" y="3357720"/>
            <a:ext cx="2343240" cy="1971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C:\Documents and Settings\Саша\Рабочий стол\ирландия.bmp"/>
          <p:cNvPicPr/>
          <p:nvPr/>
        </p:nvPicPr>
        <p:blipFill>
          <a:blip r:embed="rId3"/>
          <a:stretch/>
        </p:blipFill>
        <p:spPr>
          <a:xfrm>
            <a:off x="6000840" y="4714920"/>
            <a:ext cx="2071440" cy="1971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" dur="20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71524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Столицы всех трёх государств начинаются на букву»Б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714320"/>
            <a:ext cx="59292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1 Венгрия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2.Дания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3.Румыния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C:\Documents and Settings\Саша\Рабочий стол\венгрия.bmp"/>
          <p:cNvPicPr/>
          <p:nvPr/>
        </p:nvPicPr>
        <p:blipFill>
          <a:blip r:embed="rId1"/>
          <a:stretch/>
        </p:blipFill>
        <p:spPr>
          <a:xfrm>
            <a:off x="5072040" y="142884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C:\Documents and Settings\Саша\Рабочий стол\дания.bmp"/>
          <p:cNvPicPr/>
          <p:nvPr/>
        </p:nvPicPr>
        <p:blipFill>
          <a:blip r:embed="rId2"/>
          <a:stretch/>
        </p:blipFill>
        <p:spPr>
          <a:xfrm>
            <a:off x="7143840" y="292896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C:\Documents and Settings\Саша\Рабочий стол\румыния.bmp"/>
          <p:cNvPicPr/>
          <p:nvPr/>
        </p:nvPicPr>
        <p:blipFill>
          <a:blip r:embed="rId3"/>
          <a:stretch/>
        </p:blipFill>
        <p:spPr>
          <a:xfrm>
            <a:off x="5715000" y="4886280"/>
            <a:ext cx="1771560" cy="1971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1154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Через все эти страны протекает река Дунай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-360" y="1285560"/>
            <a:ext cx="50007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030a0"/>
                </a:solidFill>
                <a:latin typeface="Calibri"/>
              </a:rPr>
              <a:t>1.Германия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030a0"/>
                </a:solidFill>
                <a:latin typeface="Calibri"/>
              </a:rPr>
              <a:t>2.Австрия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030a0"/>
                </a:solidFill>
                <a:latin typeface="Calibri"/>
              </a:rPr>
              <a:t>3.Чехия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C:\Documents and Settings\Саша\Рабочий стол\германия.bmp"/>
          <p:cNvPicPr/>
          <p:nvPr/>
        </p:nvPicPr>
        <p:blipFill>
          <a:blip r:embed="rId1"/>
          <a:stretch/>
        </p:blipFill>
        <p:spPr>
          <a:xfrm>
            <a:off x="4643280" y="1500120"/>
            <a:ext cx="1771920" cy="1971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C:\Documents and Settings\Саша\Рабочий стол\австрия.bmp"/>
          <p:cNvPicPr/>
          <p:nvPr/>
        </p:nvPicPr>
        <p:blipFill>
          <a:blip r:embed="rId2"/>
          <a:stretch/>
        </p:blipFill>
        <p:spPr>
          <a:xfrm>
            <a:off x="6215040" y="307188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C:\Documents and Settings\Саша\Рабочий стол\06S0606iчехия.bmp"/>
          <p:cNvPicPr/>
          <p:nvPr/>
        </p:nvPicPr>
        <p:blipFill>
          <a:blip r:embed="rId3"/>
          <a:stretch/>
        </p:blipFill>
        <p:spPr>
          <a:xfrm>
            <a:off x="7372440" y="4886280"/>
            <a:ext cx="1771560" cy="1971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indefinite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6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12:08:49Z</dcterms:created>
  <dc:creator>Sasha</dc:creator>
  <dc:description/>
  <dc:language>en-US</dc:language>
  <cp:lastModifiedBy>Sasha</cp:lastModifiedBy>
  <dcterms:modified xsi:type="dcterms:W3CDTF">2009-02-17T05:07:56Z</dcterms:modified>
  <cp:revision>33</cp:revision>
  <dc:subject/>
  <dc:title>Обобщающий урок -игра</dc:title>
</cp:coreProperties>
</file>