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B23-AC94-4A34-8E16-68E59FC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D3C-C263-4DCC-AE65-007AE551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B29-661F-4F4B-BB4E-2C3316D4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6C2-938F-48C0-9BFE-00DF513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7F3-E735-4AEA-B161-4696491C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FA9A-272C-4B97-937F-D985FCC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3FB8-384E-4321-87FC-9778505B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54D8-B9DF-471B-9D47-1B52BFB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3EB3-F6D7-4E26-82B3-F2FFAEA5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0C11-156D-4E8A-8153-E28D133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AE3-338B-4735-9D51-D20667C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1FD-5967-4B8D-9C17-5604D21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3790-DD0D-4403-8C51-40167B8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E275-4A8E-42C6-825D-A38CEF2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F7F4-B7BA-49A4-9621-93C0A30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F7D2-31E9-48FD-8ECD-6FD714A6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E903-E7C2-4319-860E-F88C72FC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43E-97A4-4AB3-8357-A98E410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18D-9EA4-4325-8F8B-1D24F0F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971-B537-4553-81E2-368A0E0D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C56-C4F8-4BD1-B58A-F876DDB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985-D244-4946-B95B-417D873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52E-A78B-4E8C-AA23-A042328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8D3-F0AC-48B0-B051-B043843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55B9-9475-4409-BF62-850C023B5A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65B-BCC9-44E1-A392-0BD7F48D2C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00000" y="33336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Уро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Математ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1 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Программа «21 век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5084640"/>
            <a:ext cx="86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зентация составлена учителем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У  СОШ  № 8 с УИМи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лаевой Еленой Владими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15920" y="2132640"/>
            <a:ext cx="828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 вазе  было  10  цвето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них  взяли  и подарили  3  цве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 цветочков  осталось 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620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26920" y="2060640"/>
            <a:ext cx="8317080" cy="2016000"/>
          </a:xfrm>
          <a:prstGeom prst="wedgeRoundRectCallout">
            <a:avLst>
              <a:gd name="adj1" fmla="val -22532"/>
              <a:gd name="adj2" fmla="val -103541"/>
              <a:gd name="adj3" fmla="val 1666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410160" y="3716280"/>
            <a:ext cx="27338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20640"/>
            <a:ext cx="8675640" cy="5545080"/>
          </a:xfrm>
          <a:custGeom>
            <a:avLst/>
            <a:gdLst>
              <a:gd name="textAreaLeft" fmla="*/ 2169000 w 8675640"/>
              <a:gd name="textAreaRight" fmla="*/ 6507000 w 8675640"/>
              <a:gd name="textAreaTop" fmla="*/ 693000 h 5545080"/>
              <a:gd name="textAreaBottom" fmla="*/ 5545440 h 55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Хорошо  считали  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ети,  просто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На сегодня   «До  свида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Продолжайте  добывать  зна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724360" y="3454560"/>
            <a:ext cx="4067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Какие примеры решены неверно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2205000"/>
            <a:ext cx="464328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+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71640" y="3573360"/>
            <a:ext cx="424836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-2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2060640"/>
            <a:ext cx="4356000" cy="180000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3-4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030640"/>
            <a:ext cx="457056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+9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78200" y="4984920"/>
            <a:ext cx="4465800" cy="187308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3-3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7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1832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ahoma"/>
              </a:rPr>
              <a:t>Тема урока: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ff"/>
                </a:solidFill>
                <a:latin typeface="Tahoma"/>
              </a:rPr>
              <a:t>Вычитание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ff"/>
                </a:solidFill>
                <a:latin typeface="Tahoma"/>
              </a:rPr>
              <a:t>числа 4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32000" y="33336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26560" y="112536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125360"/>
            <a:ext cx="503280" cy="7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476360" y="134136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79640" y="134136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9640" y="177336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2133720"/>
            <a:ext cx="504720" cy="35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50920" y="2205000"/>
            <a:ext cx="505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1916280"/>
            <a:ext cx="4316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4720" y="404640"/>
            <a:ext cx="1008360" cy="100836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651640" y="1197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48360" y="1197000"/>
            <a:ext cx="648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64000" y="184464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80360" y="191628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03280" y="364500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00720" y="364500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042920" y="4508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866920" y="443700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68360" y="4508640"/>
            <a:ext cx="648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508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692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8000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2472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971640" y="2370960"/>
            <a:ext cx="7727760" cy="405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Долгожданный дан звонок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Начинается 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24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1832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ahoma"/>
              </a:rPr>
              <a:t>Гимнастика ума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Угадай  сказочного  героя.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39640" y="1628640"/>
          <a:ext cx="7640640" cy="2189160"/>
        </p:xfrm>
        <a:graphic>
          <a:graphicData uri="http://schemas.openxmlformats.org/drawingml/2006/table">
            <a:tbl>
              <a:tblPr/>
              <a:tblGrid>
                <a:gridCol w="1089000"/>
                <a:gridCol w="1092240"/>
                <a:gridCol w="1130400"/>
                <a:gridCol w="1054080"/>
                <a:gridCol w="1090800"/>
                <a:gridCol w="1091880"/>
                <a:gridCol w="109224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61128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 + 3 =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 –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 – 3 =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 +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 + 3 =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+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 –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51280" y="4437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51280" y="4941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24360" y="544500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516720" y="4581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588000" y="5084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588000" y="5516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40360" y="587700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007 -0.14167 E">
                                      <p:cBhvr>
                                        <p:cTn id="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0.02778 -0.21528 E">
                                      <p:cBhvr>
                                        <p:cTn id="1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13004 -0.28866 E">
                                      <p:cBhvr>
                                        <p:cTn id="14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0.00399 -0.16273 E">
                                      <p:cBhvr>
                                        <p:cTn id="1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0.63385 -0.23611 E">
                                      <p:cBhvr>
                                        <p:cTn id="2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08282 -0.29908 E">
                                      <p:cBhvr>
                                        <p:cTn id="2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-0.30312 -0.35162 E">
                                      <p:cBhvr>
                                        <p:cTn id="3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8388360" cy="4149720"/>
          </a:xfrm>
          <a:prstGeom prst="cloudCallout">
            <a:avLst>
              <a:gd name="adj1" fmla="val 23504"/>
              <a:gd name="adj2" fmla="val 46097"/>
            </a:avLst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На  устном  счёте   не  зева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Быстро, правильно счита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292720" y="3092400"/>
            <a:ext cx="4500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Назовите  примеры  с  ответом  10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2205000"/>
            <a:ext cx="212400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5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3640" y="1700280"/>
            <a:ext cx="1800360" cy="194472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7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4221000"/>
            <a:ext cx="255420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1989000"/>
            <a:ext cx="212400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43700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8360" y="206064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0360" y="407664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40000" y="4149720"/>
            <a:ext cx="255420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Вставьте  числа  в  «окошки».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+     3    =  11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4719600"/>
            <a:ext cx="2556000" cy="2138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211640" y="170028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59280" y="2492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  +    2  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59280" y="306864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+     3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98240" y="364500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 -    2    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20200" y="443700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   -    2    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21280" y="522936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+     8 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51640" y="256536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306864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371628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59280" y="450864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522936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5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1320" y="1600200"/>
            <a:ext cx="70786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  Маши   было  9  игрушек, из  них  3    она  повесила  на  ёлку. Сколько  игрушек  осталось  у  Маш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5353200"/>
            <a:ext cx="1504800" cy="15048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476360" y="0"/>
            <a:ext cx="5400720" cy="2205000"/>
          </a:xfrm>
          <a:prstGeom prst="horizontalScroll">
            <a:avLst>
              <a:gd name="adj" fmla="val 12500"/>
            </a:avLst>
          </a:prstGeom>
          <a:solidFill>
            <a:srgbClr val="9593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Monotype Corsiva"/>
              </a:rPr>
              <a:t>Блицтурнир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7639200" y="5353200"/>
            <a:ext cx="1504800" cy="1504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1916280"/>
            <a:ext cx="7812000" cy="2881080"/>
          </a:xfrm>
          <a:prstGeom prst="wedgeEllipseCallout">
            <a:avLst>
              <a:gd name="adj1" fmla="val -30754"/>
              <a:gd name="adj2" fmla="val 63939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777080" y="0"/>
            <a:ext cx="1366920" cy="1143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486396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971640" y="1183320"/>
            <a:ext cx="722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двежонок  пригласил  на  день  рожд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йчика  и  2  лиси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 друзей  пригла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двежонок  на  день  рождения?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826920" y="907920"/>
            <a:ext cx="7058160" cy="3672000"/>
          </a:xfrm>
          <a:prstGeom prst="wedgeRectCallout">
            <a:avLst>
              <a:gd name="adj1" fmla="val -38958"/>
              <a:gd name="adj2" fmla="val 70018"/>
            </a:avLst>
          </a:prstGeom>
          <a:gradFill rotWithShape="0">
            <a:gsLst>
              <a:gs pos="0">
                <a:srgbClr val="0099ff"/>
              </a:gs>
              <a:gs pos="50000">
                <a:srgbClr val="cc99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200" spc="-1" strike="noStrike">
                <a:solidFill>
                  <a:srgbClr val="d60093"/>
                </a:solidFill>
                <a:latin typeface="Tahoma"/>
              </a:rPr>
              <a:t>5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1:09:18Z</dcterms:created>
  <dc:creator>Admin</dc:creator>
  <dc:description/>
  <dc:language>en-US</dc:language>
  <cp:lastModifiedBy>Мастер</cp:lastModifiedBy>
  <dcterms:modified xsi:type="dcterms:W3CDTF">2012-02-27T18:25:34Z</dcterms:modified>
  <cp:revision>10</cp:revision>
  <dc:subject/>
  <dc:title>Слайд 1</dc:title>
</cp:coreProperties>
</file>