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8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1F9-771F-4C94-927B-44DB7136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5E2-5ECA-47E8-BC80-D43ADD84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719-B7C0-4369-94A4-42352F4E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6A9-FA3C-469C-BC37-7B845DED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D6B-91DF-4FA0-91A3-33A05046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253F-41E2-47E5-942C-E7D4B2C9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111D-69E5-4B2E-81D9-A6D5E24F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6E9B-A279-4826-9D1D-27EAE223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45F-EC45-4483-9749-5AB64E1A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D0E-1F88-4B03-B6D7-73EC76C8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701-F220-43AA-8615-05E910D0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B0E-0846-47BC-83B9-69B2461D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3A51-5C5C-427E-A6DE-C062D7F5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8EE9-E544-47E2-BA06-A6A3574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4F80-09CB-4FC0-9F39-FD1BF2B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B972-D657-4FAF-9ADB-8B5EFA08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DDC-6EF1-4C75-A6DB-EE8F88A3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4A9-2187-4165-BC40-88A9DB6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223-1D5E-425C-8BB9-3C692436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10D-E9B5-4A91-A1D9-2599009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5BC-FF57-4244-BA30-4DEE753B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CED-075A-4590-A5E3-5723A13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D6A-AA96-4858-8E5B-F9CEA480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E79-43D8-4DD3-8131-C0B87B80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7083-0DB7-4798-B765-3DEF4B673C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733-ECE2-4C1A-A4C1-EA6AE6D4058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00000" y="33336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Уро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Математ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    </a:t>
            </a: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1 клас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Monotype Corsiva"/>
              </a:rPr>
              <a:t>Программа «21 век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920" y="5084640"/>
            <a:ext cx="8642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зентация составлена учителем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У  СОШ  № 8 с УИМи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лаевой Еленой Владимир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15920" y="2132640"/>
            <a:ext cx="8285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 вазе  было  10  цветоч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 них  взяли  и подарили  3  цве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 цветочков  осталось  в ваз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2000" cy="2620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826920" y="2060640"/>
            <a:ext cx="8317080" cy="2016000"/>
          </a:xfrm>
          <a:prstGeom prst="wedgeRoundRectCallout">
            <a:avLst>
              <a:gd name="adj1" fmla="val -22532"/>
              <a:gd name="adj2" fmla="val -103541"/>
              <a:gd name="adj3" fmla="val 16667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410160" y="3716280"/>
            <a:ext cx="27338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620640"/>
            <a:ext cx="8675640" cy="5545080"/>
          </a:xfrm>
          <a:custGeom>
            <a:avLst/>
            <a:gdLst>
              <a:gd name="textAreaLeft" fmla="*/ 2169000 w 8675640"/>
              <a:gd name="textAreaRight" fmla="*/ 6507000 w 8675640"/>
              <a:gd name="textAreaTop" fmla="*/ 693000 h 5545080"/>
              <a:gd name="textAreaBottom" fmla="*/ 5545440 h 55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Хорошо  считали  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Дети,  просто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На сегодня   «До  свидания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Продолжайте  добывать  зна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5724360" y="3454560"/>
            <a:ext cx="4067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9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79,-65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Какие примеры решены неверно?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2205000"/>
            <a:ext cx="464328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8+4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71640" y="3573360"/>
            <a:ext cx="424836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-2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788000" y="2060640"/>
            <a:ext cx="4356000" cy="180000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3-4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030640"/>
            <a:ext cx="457056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+9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78200" y="4984920"/>
            <a:ext cx="4465800" cy="187308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3-3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6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75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be1"/>
                                      </p:to>
                                    </p:animClr>
                                    <p:set>
                                      <p:cBhvr>
                                        <p:cTn id="28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28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1832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ahoma"/>
              </a:rPr>
              <a:t>Тема урока: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ff"/>
                </a:solidFill>
                <a:latin typeface="Tahoma"/>
              </a:rPr>
              <a:t>Вычитание 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ff"/>
                </a:solidFill>
                <a:latin typeface="Tahoma"/>
              </a:rPr>
              <a:t>числа 4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332000" y="33336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26560" y="112536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1125360"/>
            <a:ext cx="503280" cy="7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476360" y="134136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79640" y="134136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9640" y="177336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58920" y="2133720"/>
            <a:ext cx="504720" cy="35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050920" y="2205000"/>
            <a:ext cx="505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00360" y="1916280"/>
            <a:ext cx="4316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84720" y="404640"/>
            <a:ext cx="1008360" cy="100836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5651640" y="1197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48360" y="1197000"/>
            <a:ext cx="648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64000" y="184464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80360" y="191628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03280" y="364500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00720" y="3645000"/>
            <a:ext cx="1008000" cy="1008000"/>
          </a:xfrm>
          <a:prstGeom prst="flowChartConnector">
            <a:avLst/>
          </a:prstGeom>
          <a:solidFill>
            <a:srgbClr val="ffff99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042920" y="4508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866920" y="443700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68360" y="4508640"/>
            <a:ext cx="648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64360" y="4508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2692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58000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24720" y="5157720"/>
            <a:ext cx="50328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971640" y="2370960"/>
            <a:ext cx="7727760" cy="4056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Долгожданный дан звонок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Monotype Corsiva"/>
              </a:rPr>
              <a:t>Начинается 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2240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01680" y="691920"/>
            <a:ext cx="851832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ahoma"/>
              </a:rPr>
              <a:t>Гимнастика ума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Угадай  сказочного  героя.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39640" y="1628640"/>
          <a:ext cx="7640640" cy="2189160"/>
        </p:xfrm>
        <a:graphic>
          <a:graphicData uri="http://schemas.openxmlformats.org/drawingml/2006/table">
            <a:tbl>
              <a:tblPr/>
              <a:tblGrid>
                <a:gridCol w="1089000"/>
                <a:gridCol w="1092240"/>
                <a:gridCol w="1130400"/>
                <a:gridCol w="1054080"/>
                <a:gridCol w="1090800"/>
                <a:gridCol w="1091880"/>
                <a:gridCol w="1092240"/>
              </a:tblGrid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611280" y="4508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 + 3 =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 –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 – 3 =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 +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 + 3 =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+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 – 3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51280" y="4437000"/>
            <a:ext cx="36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51280" y="494172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924360" y="544500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516720" y="4581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588000" y="50846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588000" y="551664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40360" y="587700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2007 -0.14167 E">
                                      <p:cBhvr>
                                        <p:cTn id="6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7 L 0.02778 -0.21528 E">
                                      <p:cBhvr>
                                        <p:cTn id="1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111E-006 L 0.13004 -0.28866 E">
                                      <p:cBhvr>
                                        <p:cTn id="14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-0.00399 -0.16273 E">
                                      <p:cBhvr>
                                        <p:cTn id="18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0.63385 -0.23611 E">
                                      <p:cBhvr>
                                        <p:cTn id="2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44444E-006 L 0.08282 -0.29908 E">
                                      <p:cBhvr>
                                        <p:cTn id="26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-0.30312 -0.35162 E">
                                      <p:cBhvr>
                                        <p:cTn id="30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8388360" cy="4149720"/>
          </a:xfrm>
          <a:prstGeom prst="cloudCallout">
            <a:avLst>
              <a:gd name="adj1" fmla="val 23504"/>
              <a:gd name="adj2" fmla="val 46097"/>
            </a:avLst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На  устном  счёте   не  зева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Tahoma"/>
              </a:rPr>
              <a:t>Быстро, правильно считай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292720" y="3092400"/>
            <a:ext cx="450072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Назовите  примеры  с  ответом  10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4130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2205000"/>
            <a:ext cx="212400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5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3640" y="1700280"/>
            <a:ext cx="1800360" cy="194472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7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4221000"/>
            <a:ext cx="255420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6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1989000"/>
            <a:ext cx="2124000" cy="1800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43700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68360" y="206064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7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40360" y="4076640"/>
            <a:ext cx="2303640" cy="184464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+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340000" y="4149720"/>
            <a:ext cx="2554200" cy="1827360"/>
          </a:xfrm>
          <a:prstGeom prst="irregularSeal2">
            <a:avLst/>
          </a:prstGeom>
          <a:solidFill>
            <a:srgbClr val="eaeb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00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Вставьте  числа  в  «окошки».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+     3    =  11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4719600"/>
            <a:ext cx="2556000" cy="2138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4211640" y="170028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59280" y="2492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9  +    2  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59280" y="3068640"/>
            <a:ext cx="36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+     3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98240" y="3645000"/>
            <a:ext cx="26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 -    2    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20200" y="443700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1   -    2    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21280" y="522936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+     8    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51640" y="256536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306864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11640" y="371628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59280" y="450864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5229360"/>
            <a:ext cx="501480" cy="504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6556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01320" y="1600200"/>
            <a:ext cx="70786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  Маши   было  9  игрушек, из  них  3    она  повесила  на  ёлку. Сколько  игрушек  осталось  у  Маши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5353200"/>
            <a:ext cx="1504800" cy="15048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476360" y="0"/>
            <a:ext cx="5400720" cy="2205000"/>
          </a:xfrm>
          <a:prstGeom prst="horizontalScroll">
            <a:avLst>
              <a:gd name="adj" fmla="val 12500"/>
            </a:avLst>
          </a:prstGeom>
          <a:solidFill>
            <a:srgbClr val="9593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Monotype Corsiva"/>
              </a:rPr>
              <a:t>Блицтурнир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7639200" y="5353200"/>
            <a:ext cx="1504800" cy="15048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0" y="1916280"/>
            <a:ext cx="7812000" cy="2881080"/>
          </a:xfrm>
          <a:prstGeom prst="wedgeEllipseCallout">
            <a:avLst>
              <a:gd name="adj1" fmla="val -30754"/>
              <a:gd name="adj2" fmla="val 63939"/>
            </a:avLst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777080" y="0"/>
            <a:ext cx="1366920" cy="1143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4863960"/>
            <a:ext cx="1994040" cy="19940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971640" y="1183320"/>
            <a:ext cx="722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двежонок  пригласил  на  день  рожден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йчика  и  2  лиси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олько  друзей  пригла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двежонок  на  день  рождения?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0" y="4842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826920" y="907920"/>
            <a:ext cx="7058160" cy="3672000"/>
          </a:xfrm>
          <a:prstGeom prst="wedgeRectCallout">
            <a:avLst>
              <a:gd name="adj1" fmla="val -38958"/>
              <a:gd name="adj2" fmla="val 70018"/>
            </a:avLst>
          </a:prstGeom>
          <a:gradFill rotWithShape="0">
            <a:gsLst>
              <a:gs pos="0">
                <a:srgbClr val="0099ff"/>
              </a:gs>
              <a:gs pos="50000">
                <a:srgbClr val="cc99ff"/>
              </a:gs>
              <a:gs pos="100000">
                <a:srgbClr val="0099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200" spc="-1" strike="noStrike">
                <a:solidFill>
                  <a:srgbClr val="d60093"/>
                </a:solidFill>
                <a:latin typeface="Tahoma"/>
              </a:rPr>
              <a:t>5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21:09:18Z</dcterms:created>
  <dc:creator>Admin</dc:creator>
  <dc:description/>
  <dc:language>en-US</dc:language>
  <cp:lastModifiedBy>Мастер</cp:lastModifiedBy>
  <dcterms:modified xsi:type="dcterms:W3CDTF">2012-02-27T18:25:34Z</dcterms:modified>
  <cp:revision>10</cp:revision>
  <dc:subject/>
  <dc:title>Слайд 1</dc:title>
</cp:coreProperties>
</file>