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C43-366D-4CBF-81B8-92B9FFDA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640-9BFD-4003-AA7B-3EC2875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A4E1-F84D-46F8-9001-4D8C12CA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383-E7F5-4485-A0E6-44211F12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E50-288D-4369-8E16-1FB7443A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809-0EDD-4B5B-9A3D-B36E30A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B10-EE74-4B66-9D90-BBFA702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A65-C632-48C9-BCE4-956FBEE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8DA-71C8-4DFB-A83C-63291903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A6E-D8ED-4CEA-933B-89728F6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B9D1-2EE9-4D9C-A97F-123F8ED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63F-BC05-47F9-93DE-4BD7581E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80EE-DC50-4EAF-ABCC-48B1F703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11280" y="1197000"/>
            <a:ext cx="8208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ождеств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35280" y="2421000"/>
            <a:ext cx="37083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клонение волхвов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авел Николаевич Филонов. 1913 г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i059.radikal.ru/1012/37/b70c84a0dfb8.jpg"/>
          <p:cNvPicPr/>
          <p:nvPr/>
        </p:nvPicPr>
        <p:blipFill>
          <a:blip r:embed="rId1"/>
          <a:stretch/>
        </p:blipFill>
        <p:spPr>
          <a:xfrm>
            <a:off x="0" y="0"/>
            <a:ext cx="540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C:\Documents and Settings\nosminina\Мои документы\Downloads\аинмация рождества.gif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165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609264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тка «С Рождеством Христовым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Поздравления с Рождеством Христовым   Анимационные Открытки, Картинки S Rojdestvom Hristovim animaciya 23 карт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37181203_fb15b1bb6deb"/>
          <p:cNvPicPr/>
          <p:nvPr/>
        </p:nvPicPr>
        <p:blipFill>
          <a:blip r:embed="rId1"/>
          <a:stretch/>
        </p:blipFill>
        <p:spPr>
          <a:xfrm>
            <a:off x="2446200" y="0"/>
            <a:ext cx="425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7590129"/>
          <p:cNvPicPr/>
          <p:nvPr/>
        </p:nvPicPr>
        <p:blipFill>
          <a:blip r:embed="rId1"/>
          <a:stretch/>
        </p:blipFill>
        <p:spPr>
          <a:xfrm>
            <a:off x="250920" y="0"/>
            <a:ext cx="8605800" cy="6438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03280" y="6237360"/>
            <a:ext cx="64008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ждение Хри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198699747_katrozhd_01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238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092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рте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ве"/>
          <p:cNvPicPr/>
          <p:nvPr/>
        </p:nvPicPr>
        <p:blipFill>
          <a:blip r:embed="rId1"/>
          <a:stretch/>
        </p:blipFill>
        <p:spPr>
          <a:xfrm>
            <a:off x="250920" y="0"/>
            <a:ext cx="2484360" cy="33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вер укр"/>
          <p:cNvPicPr/>
          <p:nvPr/>
        </p:nvPicPr>
        <p:blipFill>
          <a:blip r:embed="rId2"/>
          <a:stretch/>
        </p:blipFill>
        <p:spPr>
          <a:xfrm>
            <a:off x="3276720" y="0"/>
            <a:ext cx="280800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движущий"/>
          <p:cNvPicPr/>
          <p:nvPr/>
        </p:nvPicPr>
        <p:blipFill>
          <a:blip r:embed="rId3"/>
          <a:stretch/>
        </p:blipFill>
        <p:spPr>
          <a:xfrm>
            <a:off x="324000" y="3645000"/>
            <a:ext cx="330516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верт"/>
          <p:cNvPicPr/>
          <p:nvPr/>
        </p:nvPicPr>
        <p:blipFill>
          <a:blip r:embed="rId4"/>
          <a:stretch/>
        </p:blipFill>
        <p:spPr>
          <a:xfrm>
            <a:off x="6804000" y="0"/>
            <a:ext cx="1704960" cy="3213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Копия у стен св"/>
          <p:cNvPicPr/>
          <p:nvPr/>
        </p:nvPicPr>
        <p:blipFill>
          <a:blip r:embed="rId5"/>
          <a:stretch/>
        </p:blipFill>
        <p:spPr>
          <a:xfrm>
            <a:off x="5003640" y="3573360"/>
            <a:ext cx="3492720" cy="2624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250560" y="6237360"/>
            <a:ext cx="84978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те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ист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5732640"/>
            <a:ext cx="903600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невековый театр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цена из «Мистерии о св. Аполлонии»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рагм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. Миниатюра Ж. Ф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ttp://art.1september.ru/2008/06/2-2.jpg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elka15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ttp://img01.chitalnya.ru/upload/509/74182958574965.gif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595008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флеемская звезда, храм Рождества Христова, Вифл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pravmir.ru/wp-content/uploads/2011/01/51-20896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ждество Христово. Фреска кисти Феофан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тского в церкви святого Николая на острове К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http://www.varvar.ru/arhiv/gallery/ikona/feofan_ktitskiy/images/feofan_kritskiy7.jpg"/>
          <p:cNvPicPr/>
          <p:nvPr/>
        </p:nvPicPr>
        <p:blipFill>
          <a:blip r:embed="rId1"/>
          <a:stretch/>
        </p:blipFill>
        <p:spPr>
          <a:xfrm>
            <a:off x="324000" y="0"/>
            <a:ext cx="831528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8000" y="5084640"/>
            <a:ext cx="399564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Рублёв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ждество Христо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40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s008.radikal.ru/i303/1012/1e/af0dea340c31.jpg"/>
          <p:cNvPicPr/>
          <p:nvPr/>
        </p:nvPicPr>
        <p:blipFill>
          <a:blip r:embed="rId1"/>
          <a:stretch/>
        </p:blipFill>
        <p:spPr>
          <a:xfrm>
            <a:off x="0" y="0"/>
            <a:ext cx="5219640" cy="69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5292720" y="6149880"/>
            <a:ext cx="38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ождество Христово, древнерусская икона XV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1326072610_RozhdestvoHristovodrevnerusskayaikonaXVv (350x475, 97Kb)"/>
          <p:cNvPicPr/>
          <p:nvPr/>
        </p:nvPicPr>
        <p:blipFill>
          <a:blip r:embed="rId1"/>
          <a:stretch/>
        </p:blipFill>
        <p:spPr>
          <a:xfrm>
            <a:off x="0" y="0"/>
            <a:ext cx="51483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3280" y="5084640"/>
            <a:ext cx="41403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ждество Христово.Гагарин Григорий Григорьеви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s19.radikal.ru/i192/1012/80/94b9297ff87e.jpg"/>
          <p:cNvPicPr/>
          <p:nvPr/>
        </p:nvPicPr>
        <p:blipFill>
          <a:blip r:embed="rId1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гарин Григорий Григорьевич. Поклонение волх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002.radikal.ru/1012/e8/a1de5aaadb0b.jpg"/>
          <p:cNvPicPr/>
          <p:nvPr/>
        </p:nvPicPr>
        <p:blipFill>
          <a:blip r:embed="rId1"/>
          <a:stretch/>
        </p:blipFill>
        <p:spPr>
          <a:xfrm>
            <a:off x="468360" y="189000"/>
            <a:ext cx="838836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35280" y="3428640"/>
            <a:ext cx="3708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ждество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Боровиковский Владимир Лукич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790 г. 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верская областная картинная гал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s55.radikal.ru/i150/1012/85/3fbbff6620c7.jpg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54:16Z</dcterms:created>
  <dc:creator> Alyona</dc:creator>
  <dc:description/>
  <dc:language>en-US</dc:language>
  <cp:lastModifiedBy>nosminina</cp:lastModifiedBy>
  <dcterms:modified xsi:type="dcterms:W3CDTF">2012-06-29T20:31:44Z</dcterms:modified>
  <cp:revision>16</cp:revision>
  <dc:subject/>
  <dc:title>Слайд 1</dc:title>
</cp:coreProperties>
</file>