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FF0-B3F4-46E4-8F74-51AACC3E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9F5-C360-4673-B41E-D9842E2D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C2A-BEF9-45B9-A966-6408844C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95E-F39C-4E80-9E1E-1E040E3C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A5A-68AA-406F-B88B-8AD48E87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CC4-E64A-4185-87AF-68B984A8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446-4392-429D-A63A-584408FA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4C2-61B7-41CD-B83B-2E8B2435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581-C776-40E2-AAB0-136A8668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7C6-C567-4B60-8692-C57053FE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0ED8-26A9-4F39-91A0-50F48C17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2E1-6544-4F69-8B51-4C3BB1C7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2D5D-09CB-401B-AF6F-23C4E58507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Гладильных дел масте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работу: Денисова Д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 : Шут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-м веке утюги в России изготавливались в основном на Демидовских зав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400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аллельно существовал утюг углевой. Такой утюг нагревался углями, верх его открывался, и угли засыпали внутрь. В боковых стенках были отверстия для улучшения тя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19-м веке пользовались популярностью спиртовые утюги, изобретенные в Германии.  К утюгу прикреплялась металлическая коробочка со спиртом, который  сгорая выделял необходимое количество теп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распространением электричества нагревателем стала электрическая спираль, компактно размещенная внутри. Так на свет появились привычные ныне утюги электричес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74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вет появился утюг без шнура! На специальной подставке он очень быстро разогревается токами высокой част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едавно придумали… световой утюг. «Подошва» у него — из специального жаростойкого стекла. И расположенный внутри нагреватель беспрепятственно посылает тепловые инфракрасные лучи на ткань. Такой утюг не только нагревается почти мгновенно, но и гладит замеч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узеи для утюг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России музей утюга есть  в Переславле-Залесском, создан в 2002 году местным жителем Андреем Воробьё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840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стория утюга далеко не закончен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762200" y="1757520"/>
            <a:ext cx="57625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1116000" y="1989000"/>
            <a:ext cx="720108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ель моего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знать историю изобретения утю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бъект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тю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мет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изобретение утюга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зобретение утюг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только ни использовали в качестве утюга . Сковорода с разогретыми уг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608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евние греки применяли для этой цели металлические пруты и молотк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313440" cy="32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4502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16 века в Европе начинают использовать горячие железные пластины для разглаживания складок на тка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3708360" y="1600200"/>
            <a:ext cx="4978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дили бельё "гавками"- стеклянными шарами, отрезанными донышками бутылок, железными кружками с горячей в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67200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87964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3708360" y="3933720"/>
            <a:ext cx="266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 было свое приспособление рубель - толстый деревянный брусок с ручкой и рифленым краем. Бельё наматывали на скалку, а ребристым куском раскатывали неро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0388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4038480" cy="5432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ое упоминание об утюге в России встречается в книге  записей царицы Евдокии-супруги Михаила Федоровича Романова в 1636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юги в то время были дорогой вещью. Их украшали орнаментом, передавали по наследству. Более того, во время застолий, празднеств утюг выставляли рядом с самоваром на видном месте  в качестве украшения. Наличие утюга считалось символом богатства и благополуч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4330800" cy="37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8:13:07Z</dcterms:created>
  <dc:creator>User</dc:creator>
  <dc:description/>
  <dc:language>en-US</dc:language>
  <cp:lastModifiedBy>Пользователь</cp:lastModifiedBy>
  <dcterms:modified xsi:type="dcterms:W3CDTF">2012-07-01T10:42:10Z</dcterms:modified>
  <cp:revision>6</cp:revision>
  <dc:subject/>
  <dc:title>Гладильных дел мастер.</dc:title>
</cp:coreProperties>
</file>