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BEAD-0434-46D0-8B77-3919CF74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428D-7983-466A-8408-FAA970A3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2347-95BD-4C6E-BEC3-66CB5300E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7558-46B6-437D-B84A-C26CE55B3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8B13-E248-458F-A0A4-2441E233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1C1F-3521-43AE-B42C-D5CD2C9C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23A5-0019-4A5B-8CE5-E09AB4E3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2899-2E12-4321-88B6-0CA8B679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794C-088D-4F5D-A6E1-B60E18B5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758E-AFE0-4C23-BC73-7107D87B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E043-41DC-4BE7-BB90-27252D24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C498-0203-4A80-85AE-C5D634C6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7A71-2378-43A6-873C-F242F35F12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Гладильных дел мастер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ла работу: Денисова Да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ководитель : Шутова Н.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18-м веке утюги в России изготавливались в основном на Демидовских завод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5400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раллельно существовал утюг углевой. Такой утюг нагревался углями, верх его открывался, и угли засыпали внутрь. В боковых стенках были отверстия для улучшения тя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19-м веке пользовались популярностью спиртовые утюги, изобретенные в Германии.  К утюгу прикреплялась металлическая коробочка со спиртом, который  сгорая выделял необходимое количество теп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4032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распространением электричества нагревателем стала электрическая спираль, компактно размещенная внутри. Так на свет появились привычные ныне утюги электрическ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3743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свет появился утюг без шнура! На специальной подставке он очень быстро разогревается токами высокой част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4648320" y="1700280"/>
            <a:ext cx="40384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недавно придумали… световой утюг. «Подошва» у него — из специального жаростойкого стекла. И расположенный внутри нагреватель беспрепятственно посылает тепловые инфракрасные лучи на ткань. Такой утюг не только нагревается почти мгновенно, но и гладит замеча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Музеи для утюг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 России музей утюга есть  в Переславле-Залесском, создан в 2002 году местным жителем Андреем Воробьёв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6840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стория утюга далеко не закончена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1762200" y="1757520"/>
            <a:ext cx="576252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1116000" y="1989000"/>
            <a:ext cx="7201080" cy="28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желаю удачи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Цель моего исследова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узнать историю изобретения утюг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Объект исследова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утю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едмет исследова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изобретение утюга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Изобретение утюг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только ни использовали в качестве утюга . Сковорода с разогретыми угл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4356000" y="3284640"/>
            <a:ext cx="4608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ревние греки применяли для этой цели металлические пруты и молотк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5364000" y="2924280"/>
            <a:ext cx="3313440" cy="3262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611280" y="3284640"/>
            <a:ext cx="4502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16 века в Европе начинают использовать горячие железные пластины для разглаживания складок на тка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3708360" y="1600200"/>
            <a:ext cx="4978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адили бельё "гавками"- стеклянными шарами, отрезанными донышками бутылок, железными кружками с горячей во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3672000" cy="295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5580000" y="1700280"/>
            <a:ext cx="2879640" cy="244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3708360" y="3933720"/>
            <a:ext cx="26640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оссии было свое приспособление рубель - толстый деревянный брусок с ручкой и рифленым краем. Бельё наматывали на скалку, а ребристым куском раскатывали неров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4643280" y="1773360"/>
            <a:ext cx="40388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4038480" cy="54327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ое упоминание об утюге в России встречается в книге  записей царицы Евдокии-супруги Михаила Федоровича Романова в 1636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тюги в то время были дорогой вещью. Их украшали орнаментом, передавали по наследству. Более того, во время застолий, празднеств утюг выставляли рядом с самоваром на видном месте  в качестве украшения. Наличие утюга считалось символом богатства и благополуч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433080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08:13:07Z</dcterms:created>
  <dc:creator>User</dc:creator>
  <dc:description/>
  <dc:language>en-US</dc:language>
  <cp:lastModifiedBy>Пользователь</cp:lastModifiedBy>
  <dcterms:modified xsi:type="dcterms:W3CDTF">2012-07-01T10:42:10Z</dcterms:modified>
  <cp:revision>6</cp:revision>
  <dc:subject/>
  <dc:title>Гладильных дел мастер.</dc:title>
</cp:coreProperties>
</file>