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E42B-A87D-4472-8CAF-AC450F6E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5EC2-F0B2-4112-BCF9-AD8296F7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E055-1ED5-41EB-92CC-9A905104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6923-EC0D-4E2F-8C27-5453447D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A654-8ABF-4508-802C-480AAF34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20E0-F542-4E90-8AE5-00DEE0AD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0068-8F2F-4BA7-B2AD-CF4E9782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E916-B99C-404B-A699-41D7BC9E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E678-F956-4B82-B724-D2CE45EF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F225-67EF-49E8-9DB2-A5E05192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F83A-D6CB-45F3-92D1-81E5E26A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184B-3054-4DD1-8B3F-8ADC8674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C675-0C66-42CB-B02D-C9A19B4D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A130-9DA1-47A8-A434-35DCE04F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8296-906B-4E13-B142-D836F41B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BC86-95A6-4407-BAE6-919D17B4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D3CC-881C-4968-A540-24F52884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8EA3-C704-42E5-9447-EE12B96C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EF35-70AE-4FB5-9942-C0002E0C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6129-94DF-4EB6-8825-7F9C613A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3A5B-9A49-4BCE-8813-D9299B68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C668-1CAA-4A9E-A938-0DE98BC8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F88C-7B1F-4215-9817-52478942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3861-C096-4531-B545-2EFAA4C1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E2C4-E7BC-4D46-BD32-918159FCAF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2CFD-1FF3-4AD2-82A8-35A5C589E5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chool1637.ru/images2/izo/gonchardelo/IMG2433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-2006-09.photosight.ru/26/1666977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kazan.ru/wp-content/uploads/2010/02/IMG_4863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002/alexeyvolodin.1e/0_1a625_570a075b_XL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tunisie.ru/data/4nAlbum/album/places/nabeul/dscn44553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304/verchik.7/0_21581_8bfa8757_X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liveparty.ru/Pottery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happy-shurik.ru/data_files/images/gnzde1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deinteresno.ru/files/users/image/Kursy/Poverin/pov1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0/46/883/46883969_porcelain4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mevent.ru/content/image/Gorod%20Masterov/Goncharnoe%20delo/ImG_000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tioindigo.ru/events/eve00yf9ut1e/eve002CWmIq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lavka.dp.ua/userfiles/image/Gorban_1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present-show.ru/images/goods/prod3_965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g.66.ru/image/d735d11e05d4125720a96e74b720a28a/47dd6289/0/51/7/510700_normal_700.jpg?1254098743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ci.cpsku.ru/img/inside/goncharnoe%20delo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ihi.ru/pics/2009/02/01/439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hotoshare.ru/data/47/47308/1/465uu6-vr5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3/26/549/26549179_rabota0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urizm.ru/country_gallery/107/423.jpe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rtmuseum.uz/photo/ceramic_products/big/keramika_big_1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hoto-wave.ru/i/102170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Урок ИЗО       4 класс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Тема «Гончарное дело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566100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Учитель начальных классов МБОУ СОШ №25 п. Ботаника Гулькевичского района Краснода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Картинка 26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108252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Картинка 35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98848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Картинка 37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7324920" cy="1101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Картинка 39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98848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Картинка 42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765000"/>
            <a:ext cx="799128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Картинка 54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931248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Картинка 56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66448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Картинка 76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98848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Картинка 116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0"/>
            <a:ext cx="5977080" cy="750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Картинка 120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4853160" cy="72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Картинка 12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45468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Картинка 142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10033200" cy="67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Картинка 175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98848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Картинка 187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6721560" cy="67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Картинка 199 из 1068"/>
          <p:cNvPicPr/>
          <p:nvPr/>
        </p:nvPicPr>
        <p:blipFill>
          <a:blip r:embed="rId1"/>
          <a:stretch/>
        </p:blipFill>
        <p:spPr>
          <a:xfrm>
            <a:off x="179280" y="333360"/>
            <a:ext cx="84963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Картинка 201 из 1068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Картинка 202 из 1068"/>
          <p:cNvPicPr/>
          <p:nvPr/>
        </p:nvPicPr>
        <p:blipFill>
          <a:blip r:embed="rId1"/>
          <a:stretch/>
        </p:blipFill>
        <p:spPr>
          <a:xfrm>
            <a:off x="155520" y="46080"/>
            <a:ext cx="9888480" cy="67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Картинка 203 из 1068"/>
          <p:cNvPicPr/>
          <p:nvPr/>
        </p:nvPicPr>
        <p:blipFill>
          <a:blip r:embed="rId1"/>
          <a:stretch/>
        </p:blipFill>
        <p:spPr>
          <a:xfrm>
            <a:off x="155520" y="46080"/>
            <a:ext cx="873756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Картинка 212 из 1068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" descr="Картинка 247 из 1068"/>
          <p:cNvPicPr/>
          <p:nvPr/>
        </p:nvPicPr>
        <p:blipFill>
          <a:blip r:embed="rId1"/>
          <a:stretch/>
        </p:blipFill>
        <p:spPr>
          <a:xfrm>
            <a:off x="155520" y="46080"/>
            <a:ext cx="708048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Картинка 13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304120" cy="67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Картинка 14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30412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Картинка 16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89000"/>
            <a:ext cx="6697440" cy="66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Картинка 19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7729560" cy="66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Картинка 20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98848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Картинка 22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520120" cy="67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Картинка 15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98848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Картинка 25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7008840" cy="67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19:20:23Z</dcterms:created>
  <dc:creator>№19</dc:creator>
  <dc:description/>
  <dc:language>en-US</dc:language>
  <cp:lastModifiedBy>№19</cp:lastModifiedBy>
  <dcterms:modified xsi:type="dcterms:W3CDTF">2005-12-05T00:23:15Z</dcterms:modified>
  <cp:revision>4</cp:revision>
  <dc:subject/>
  <dc:title>Слайд 1</dc:title>
</cp:coreProperties>
</file>