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140-B7F1-40B8-A96B-173BBB5A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7C0-E33B-4FC8-ABEA-36DFC9A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3F7-3C38-4A09-9FAF-7BCCF150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F56-7BA1-4872-AA18-277A6153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1C2F-3DC4-44EA-8A68-FAEB7AFF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4F76-5B84-4A55-8FA9-A74846EF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C171-27A5-437A-8548-D239B22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686A-9C81-4420-999C-D956AD3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D44-6433-480C-9C4B-AACE9393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9BF-308C-4466-B645-AE25D30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2DCC-33F2-4711-BAFF-CFCA72F0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570-7304-4E71-A6AA-7B059AA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C52E-0B66-43D3-81C8-4FB8826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DE89-72E2-4EFC-830B-122FB5D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849B-A565-40CD-82D2-47137A3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D99-76C8-4AE6-AD0D-D6C74FC9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7C50-87F3-42E1-A3D8-62C05F13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3796-4227-4F0D-A02E-86FE741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8B3-A5C3-4B6E-9F90-A402235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253-0AFA-46F2-A454-A3EE8B5A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342-F6BF-4163-A46D-DE9446F4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6A0-4443-4692-905A-9ABB4A2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9262-61D9-445A-8B1E-7A613A06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C78-74D7-45D0-81F3-50182794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1222-35AC-4A27-89A2-1798FAEFEC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0979-F434-44A8-9BCD-436B9C7979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chool1637.ru/images2/izo/gonchardelo/IMG243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6-09.photosight.ru/26/166697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kazan.ru/wp-content/uploads/2010/02/IMG_486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2/alexeyvolodin.1e/0_1a625_570a075b_X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unisie.ru/data/4nAlbum/album/places/nabeul/dscn4455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4/verchik.7/0_21581_8bfa8757_X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veparty.ru/Potter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appy-shurik.ru/data_files/images/gnzde1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deinteresno.ru/files/users/image/Kursy/Poverin/pov1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6/883/46883969_porcelain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mevent.ru/content/image/Gorod%20Masterov/Goncharnoe%20delo/ImG_000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oindigo.ru/events/eve00yf9ut1e/eve002CWmIq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avka.dp.ua/userfiles/image/Gorban_1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resent-show.ru/images/goods/prod3_965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g.66.ru/image/d735d11e05d4125720a96e74b720a28a/47dd6289/0/51/7/510700_normal_700.jpg?1254098743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ci.cpsku.ru/img/inside/goncharnoe%20delo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ihi.ru/pics/2009/02/01/439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hotoshare.ru/data/47/47308/1/465uu6-vr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49/26549179_rabota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rizm.ru/country_gallery/107/423.jpe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rtmuseum.uz/photo/ceramic_products/big/keramika_big_1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hoto-wave.ru/i/10217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Урок ИЗО       4 класс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ма «Гончарное дело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566100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читель начальных классов МБОУ СОШ №25 п. Ботаника Гулькевичского района Краснода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Картинка 2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8252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Картинка 3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Картинка 37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324920" cy="110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Картинка 39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Картинка 4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79912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Картинка 54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3124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Картинка 5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66448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Картинка 7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Картинка 11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0"/>
            <a:ext cx="5977080" cy="75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Картинка 120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8531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Картинка 1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45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Картинка 14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10033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Картинка 17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Картинка 187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672156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Картинка 199 из 1068"/>
          <p:cNvPicPr/>
          <p:nvPr/>
        </p:nvPicPr>
        <p:blipFill>
          <a:blip r:embed="rId1"/>
          <a:stretch/>
        </p:blipFill>
        <p:spPr>
          <a:xfrm>
            <a:off x="179280" y="333360"/>
            <a:ext cx="8496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Картинка 201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Картинка 202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988848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Картинка 203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Картинка 212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Картинка 247 из 1068"/>
          <p:cNvPicPr/>
          <p:nvPr/>
        </p:nvPicPr>
        <p:blipFill>
          <a:blip r:embed="rId1"/>
          <a:stretch/>
        </p:blipFill>
        <p:spPr>
          <a:xfrm>
            <a:off x="155520" y="46080"/>
            <a:ext cx="70804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Картинка 13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30412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Картинка 14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3041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Картинка 16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89000"/>
            <a:ext cx="6697440" cy="66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Картинка 19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72956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а 20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Картинка 22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52012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Картинка 1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Картинка 25 из 106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008840" cy="67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9:20:23Z</dcterms:created>
  <dc:creator>№19</dc:creator>
  <dc:description/>
  <dc:language>en-US</dc:language>
  <cp:lastModifiedBy>№19</cp:lastModifiedBy>
  <dcterms:modified xsi:type="dcterms:W3CDTF">2005-12-05T00:23:15Z</dcterms:modified>
  <cp:revision>4</cp:revision>
  <dc:subject/>
  <dc:title>Слайд 1</dc:title>
</cp:coreProperties>
</file>