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E00-30D6-4878-A78C-B6AAC7AF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8AD-FEE6-45AF-BE30-0707D2C6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47F-9C5D-4FCD-9098-931AD6B8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E64-EE71-4B84-B5BC-6006DAC5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47FF-65C7-4A2F-8CC2-5AC7C811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358E-D876-4516-9FC9-C243826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C1450-C380-4BE2-A4EF-48FD3419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3EBF-65B5-473F-8739-EE6C0D4B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40414-D458-4A67-B0F0-CA495CB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670DB-339A-415C-9B3D-6398C14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7E3E1-8CDB-4E7C-8187-5F2A6EF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B49-A127-45B0-85F4-B97F1557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134FD-3AC2-4D57-81CF-89FDBE58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45435-0BA1-4F89-AA4C-A9D459B3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5F5D7-0399-4C02-BB9D-A4916545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61F8B-E740-4361-AB24-9AFC8CA3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A14EB-2C94-42F6-A4DF-3BD439F5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E29-BFCD-4D63-9656-58B20CB9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A2A-5E01-4B49-A1C0-B4E77607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C8E-BA80-4F98-BBED-E085C27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43C-2A19-44AF-AA56-28C52EE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6DC-15B2-4535-8ADC-0EAEE20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623-7E55-4BC6-B9BA-2F66508E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6F7-C46C-43D9-8015-AE1182E0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486E-34D1-4041-B86D-3E3842A1A5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C255-D8EB-45A6-A60E-8DA7A909C3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grushki.iluki.ru/upload/iblock/ab1/_44190440_416_12santabarb_ap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ngs.ru/news/upload_files/58446/bd1f8170df1590cc21bfe1553f3addb5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tolica.onego.ru/resources/i104210-icon-midd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edpress.ru/upload/pic/Tuesday%205th%20of%20January%202010/news_anons/pozhar1_14558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blogger.net/img/userfiles/2008/10/08/57325/fkd280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-sebastopol.com/resources/images/pozhar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2-999-999.ru/files/image/rss/sn/30796-big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966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afa6e"/>
                </a:solidFill>
                <a:latin typeface="Times New Roman"/>
              </a:rPr>
              <a:t>Не шутите с огнём!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7116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d4ded"/>
                </a:solidFill>
                <a:latin typeface="Times New Roman"/>
              </a:rPr>
              <a:t>Огонь ошибок не прощает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5734080"/>
            <a:ext cx="7561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я уч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ьных классов МОУ СОШ №25 п. Бота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лькевичского района Краснодарского кр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ценко Людмилы Георгие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Картинка 32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9280" y="425520"/>
            <a:ext cx="1333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За мужество и смелость, проявленные при туше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пожара, их  награждают посмерт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жар в лес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тупило л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далось оно очень сухим и жарким. В лесу участились лесные пожа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сожалению, эта беда не обошла и один маленький лесок. В нем жило очень много зверей и все они очень любили свой дом. Представьте же их удивление и страх, когда зверята увидели, что лес горит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икто ничего не мог сделать. Зайчики, лисицы, куницы, белки, да и другие звери пытались тушить пожар, но усилия были напрас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Надежды нет! – сказала зайчи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Остались мы без дома! – взвыл серый вол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счастью для зверей, все закончилось благополучно. Много добрых людей пришло тушить пож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асатели с вертолетов тушили лесной пожар и уже к вечеру пожар потуш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же радовались звери! Зайчата прыгали, лисицы бегали, белочки суетились. Все были счастливы, что беда обошлас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8 из 3155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Times New Roman"/>
              </a:rPr>
              <a:t>Степь гори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Картинка 10 из 477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16360" y="4365720"/>
            <a:ext cx="611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жженные поляны вдоль трассы. Только  мест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логодняя пожухлая  трава не была тронута огн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енно на этих  рыжих островках свиристели птах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уетились вездесущие сорок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Картинка 94 из 4788"/>
          <p:cNvPicPr/>
          <p:nvPr/>
        </p:nvPicPr>
        <p:blipFill>
          <a:blip r:embed="rId1"/>
          <a:stretch/>
        </p:blipFill>
        <p:spPr>
          <a:xfrm>
            <a:off x="0" y="-166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780000" y="136440"/>
            <a:ext cx="550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Из-за сильного ветра огонь быст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распространялся по территории пол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перекидываясь с одного участка на друг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Картинка 13 из 477"/>
          <p:cNvPicPr/>
          <p:nvPr/>
        </p:nvPicPr>
        <p:blipFill>
          <a:blip r:embed="rId1"/>
          <a:stretch/>
        </p:blipFill>
        <p:spPr>
          <a:xfrm>
            <a:off x="0" y="-16668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240" y="4726080"/>
            <a:ext cx="821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зде, где можно поджечь старую трав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жнивные остатки на пашне, - прошелся вездесущий ого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ыхали поля, потонула в сизом дыму околица эт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аринного и красивого се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41440" y="-52560"/>
            <a:ext cx="10514160" cy="7010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973080" y="981000"/>
            <a:ext cx="11944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Берегите свою жизн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Берегите Землю от пожаров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1700"/>
                </a:solidFill>
                <a:latin typeface="Times New Roman"/>
              </a:rPr>
              <a:t>Не шутите с огнём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72453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6560" y="251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i-main-pic" descr="Картинка 93 из 763800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7196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64000" y="4076640"/>
            <a:ext cx="3600720" cy="21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омните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ри пожа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нужно зво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17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f21700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Картинка 47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036000" cy="7061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57240"/>
            <a:ext cx="90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1700"/>
                </a:solidFill>
                <a:latin typeface="Times New Roman"/>
              </a:rPr>
              <a:t>Спички детям не игруш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1840" y="5084640"/>
            <a:ext cx="63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То, что спички не игрушка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Знает каждый, знают все.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Не давайте спички детям,</a:t>
            </a:r>
            <a:br>
              <a:rPr sz="2400"/>
            </a:br>
            <a:r>
              <a:rPr b="0" lang="en-US" sz="2400" spc="-1" strike="noStrike">
                <a:solidFill>
                  <a:srgbClr val="ed4ded"/>
                </a:solidFill>
                <a:latin typeface="Times New Roman"/>
              </a:rPr>
              <a:t>А то быть большой бе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35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Картинка 6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84360" y="0"/>
            <a:ext cx="8893440" cy="6697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68360" y="5176800"/>
            <a:ext cx="68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Тлеющий окурок оставила в   закрытой квартир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совершенно трезвая женщ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423720"/>
            <a:ext cx="545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Когда из дома ты выходишь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забудь проверить вновь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Все ли выключил приборы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возникнет ли ого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1700"/>
                </a:solidFill>
                <a:latin typeface="Times New Roman"/>
              </a:rPr>
              <a:t>День и ночь не спят пожарники. Они всегда готовы прийти нам на помощь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00200"/>
            <a:ext cx="71740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4" name="i-main-pic" descr="Картинка 18 из 763800"/>
          <p:cNvPicPr/>
          <p:nvPr/>
        </p:nvPicPr>
        <p:blipFill>
          <a:blip r:embed="rId1"/>
          <a:stretch/>
        </p:blipFill>
        <p:spPr>
          <a:xfrm>
            <a:off x="0" y="189000"/>
            <a:ext cx="8893080" cy="6669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356000" y="40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Разводить огонь у дома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Строго запрещается,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Так как может тот огонь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Перекинуться на дом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Картинка 10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93760"/>
            <a:ext cx="8748720" cy="656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9280" y="639720"/>
            <a:ext cx="869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Забытый утюг, неисправный холодильник, старый телевизор, вспыхнувшая на плите сковорода – все это причины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Будьте внимательн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Картинка 26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8964720" cy="7024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" y="5321160"/>
            <a:ext cx="370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Захламлять подвал не надо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Разными предметами,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А то вдруг пожар случится</a:t>
            </a:r>
            <a:br>
              <a:rPr sz="2400"/>
            </a:br>
            <a:r>
              <a:rPr b="0" lang="en-US" sz="2400" spc="-1" strike="noStrike">
                <a:solidFill>
                  <a:srgbClr val="c70936"/>
                </a:solidFill>
                <a:latin typeface="Times New Roman"/>
              </a:rPr>
              <a:t>Не сумеем обернуть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Картинка 28 из 3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6668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1240" y="-6480"/>
            <a:ext cx="847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За проявленное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мужество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, профессионализм, успеш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выполнение задач по предупреждению и ликвидации </a:t>
            </a:r>
            <a:r>
              <a:rPr b="1" lang="en-US" sz="2400" spc="-1" strike="noStrike">
                <a:solidFill>
                  <a:srgbClr val="f21700"/>
                </a:solidFill>
                <a:latin typeface="Times New Roman"/>
              </a:rPr>
              <a:t>пожаров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за образцовое исполнение служебных обязаннос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приказом министра МЧС, пожарные .награжда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1700"/>
                </a:solidFill>
                <a:latin typeface="Times New Roman"/>
              </a:rPr>
              <a:t>орденами и медал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4:16:55Z</dcterms:created>
  <dc:creator>№19</dc:creator>
  <dc:description/>
  <dc:language>en-US</dc:language>
  <cp:lastModifiedBy>№19</cp:lastModifiedBy>
  <dcterms:modified xsi:type="dcterms:W3CDTF">2005-12-05T01:20:20Z</dcterms:modified>
  <cp:revision>15</cp:revision>
  <dc:subject/>
  <dc:title>Не шутите с огнём!</dc:title>
</cp:coreProperties>
</file>