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B99-3957-4213-A1E5-EB57917C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A14-D02C-4D33-BDCF-235D65E1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F3D-3224-4804-B284-94F26415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9BA-ED83-4C3F-BD36-59FE19F5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3CCF3-40CA-43C7-AE3B-DCD0CE1A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680AD-CAB6-40B7-B605-742CDFDD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8D478-17CC-4D0B-95A0-5F25BED4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FDD3B-F295-4A46-BD12-57A208EC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236B6-443D-4878-8C4E-9B388C18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57BE0-5548-4C73-B18A-A0DA3C70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1AEE7-9925-4A57-9AF8-5E959EFA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F4B-E03F-42CC-AA34-FBEC63A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D9F85-267B-48C7-9069-341FB260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F4C19-3E5F-4DD0-A076-21FCBA20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8C92B-CC09-4663-A1A5-51C35B1A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808B8-050B-40B6-B656-DAE85B8F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AD04D-DEDE-4508-8263-36372CBC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8FF-D3AF-48C5-B246-1EC98097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928-6B7D-4142-842A-656069D5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DD6-C430-4DD3-BC3C-EE0E51CE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72C-52D2-4B4C-9D61-F63B4445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3A8-B96D-47AE-A98A-DFE35FB0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FFA-7EB9-4ECC-A379-F9F44F0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07F-A9AA-482C-BD55-9357011C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205-ED5B-4D00-86E9-2F6F1EDAB2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EFC8-2CD0-4C61-9DA6-22735240DD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grushki.iluki.ru/upload/iblock/ab1/_44190440_416_12santabarb_ap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.ngs.ru/news/upload_files/58446/bd1f8170df1590cc21bfe1553f3addb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olica.onego.ru/resources/i104210-icon-middl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edpress.ru/upload/pic/Tuesday%205th%20of%20January%202010/news_anons/pozhar1_14558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blogger.net/img/userfiles/2008/10/08/57325/fkd280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-sebastopol.com/resources/images/pozhar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-999-999.ru/files/image/rss/sn/30796-big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966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afa6e"/>
                </a:solidFill>
                <a:latin typeface="Times New Roman"/>
              </a:rPr>
              <a:t>Не шутите с огнём!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71168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d4ded"/>
                </a:solidFill>
                <a:latin typeface="Times New Roman"/>
              </a:rPr>
              <a:t>Огонь ошибок не прощает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5734080"/>
            <a:ext cx="756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уч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ьных классов МОУ СОШ №25 п. Бота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лькевичского района Краснода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ценко Людмилы Георгие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Картинка 32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9280" y="425520"/>
            <a:ext cx="1333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За мужество и смелость, проявленные при туш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пожара, их  награждают посмерт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жар в лес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тупило ле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далось оно очень сухим и жарким. В лесу участились лесные пожа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сожалению, эта беда не обошла и один маленький лесок. В нем жило очень много зверей и все они очень любили свой дом. Представьте же их удивление и страх, когда зверята увидели, что лес горит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кто ничего не мог сделать. Зайчики, лисицы, куницы, белки, да и другие звери пытались тушить пожар, но усилия были напрас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Надежды нет! – сказала зайчи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Остались мы без дома! – взвыл серый вол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счастью для зверей, все закончилось благополучно. Много добрых людей пришло тушить пож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сатели с вертолетов тушили лесной пожар и уже к вечеру пожар потуши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же радовались звери! Зайчата прыгали, лисицы бегали, белочки суетились. Все были счастливы, что беда обошлас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Картинка 48 из 3155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Степь гори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Картинка 10 из 477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16360" y="4365720"/>
            <a:ext cx="611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жженные поляны вдоль трассы. Только  мест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шлогодняя пожухлая  трава не была тронута огн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енно на этих  рыжих островках свиристели птах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уетились вездесущие сорок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Картинка 94 из 4788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780000" y="136440"/>
            <a:ext cx="550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Из-за сильного ветра огонь быст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распространялся по территории пол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перекидываясь с одного участка на друг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Картинка 13 из 477"/>
          <p:cNvPicPr/>
          <p:nvPr/>
        </p:nvPicPr>
        <p:blipFill>
          <a:blip r:embed="rId1"/>
          <a:stretch/>
        </p:blipFill>
        <p:spPr>
          <a:xfrm>
            <a:off x="0" y="-16668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240" y="4726080"/>
            <a:ext cx="821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зде, где можно поджечь старую трав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жнивные остатки на пашне, - прошелся вездесущий ого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ыхали поля, потонула в сизом дыму околица эт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аринного и красивого с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41440" y="-52560"/>
            <a:ext cx="10514160" cy="7010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973080" y="981000"/>
            <a:ext cx="11944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1700"/>
                </a:solidFill>
                <a:latin typeface="Times New Roman"/>
              </a:rPr>
              <a:t>Берегите свою жизнь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17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21700"/>
                </a:solidFill>
                <a:latin typeface="Times New Roman"/>
              </a:rPr>
              <a:t>Берегите Землю от пожаров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1700"/>
                </a:solidFill>
                <a:latin typeface="Times New Roman"/>
              </a:rPr>
              <a:t>Не шутите с огнё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7245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656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i-main-pic" descr="Картинка 93 из 763800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7196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64000" y="4076640"/>
            <a:ext cx="3600720" cy="21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Помните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При пожа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нужно зво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17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21700"/>
                </a:solidFill>
                <a:latin typeface="Arial"/>
              </a:rPr>
              <a:t>0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Картинка 47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9036000" cy="7061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57240"/>
            <a:ext cx="90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1700"/>
                </a:solidFill>
                <a:latin typeface="Times New Roman"/>
              </a:rPr>
              <a:t>Спички детям не игруш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1840" y="5084640"/>
            <a:ext cx="63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4ded"/>
                </a:solidFill>
                <a:latin typeface="Times New Roman"/>
              </a:rPr>
              <a:t>То, что спички не игрушка</a:t>
            </a:r>
            <a:br>
              <a:rPr sz="2400"/>
            </a:br>
            <a:r>
              <a:rPr b="0" lang="en-US" sz="2400" spc="-1" strike="noStrike">
                <a:solidFill>
                  <a:srgbClr val="ed4ded"/>
                </a:solidFill>
                <a:latin typeface="Times New Roman"/>
              </a:rPr>
              <a:t>Знает каждый, знают все.</a:t>
            </a:r>
            <a:br>
              <a:rPr sz="2400"/>
            </a:br>
            <a:r>
              <a:rPr b="0" lang="en-US" sz="2400" spc="-1" strike="noStrike">
                <a:solidFill>
                  <a:srgbClr val="ed4ded"/>
                </a:solidFill>
                <a:latin typeface="Times New Roman"/>
              </a:rPr>
              <a:t>Не давайте спички детям,</a:t>
            </a:r>
            <a:br>
              <a:rPr sz="2400"/>
            </a:br>
            <a:r>
              <a:rPr b="0" lang="en-US" sz="2400" spc="-1" strike="noStrike">
                <a:solidFill>
                  <a:srgbClr val="ed4ded"/>
                </a:solidFill>
                <a:latin typeface="Times New Roman"/>
              </a:rPr>
              <a:t>А то быть большой бе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35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Картинка 6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84360" y="0"/>
            <a:ext cx="8893440" cy="6697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5176800"/>
            <a:ext cx="68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Тлеющий окурок оставила в   закрытой квартир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совершенно трезвая женщ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423720"/>
            <a:ext cx="54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Когда из дома ты выходишь,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Не забудь проверить вновь,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Все ли выключил приборы,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Не возникнет ли ого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1700"/>
                </a:solidFill>
                <a:latin typeface="Times New Roman"/>
              </a:rPr>
              <a:t>День и ночь не спят пожарники. Они всегда готовы прийти нам на помощь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00200"/>
            <a:ext cx="7174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i-main-pic" descr="Картинка 18 из 763800"/>
          <p:cNvPicPr/>
          <p:nvPr/>
        </p:nvPicPr>
        <p:blipFill>
          <a:blip r:embed="rId1"/>
          <a:stretch/>
        </p:blipFill>
        <p:spPr>
          <a:xfrm>
            <a:off x="0" y="189000"/>
            <a:ext cx="8893080" cy="6669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56000" y="404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Разводить огонь у дома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Строго запрещается,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Так как может тот огонь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Перекинуться на дом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Картинка 10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93760"/>
            <a:ext cx="8748720" cy="656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639720"/>
            <a:ext cx="869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Забытый утюг, неисправный холодильник, старый телевизор, вспыхнувшая на плите сковорода – все это причины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Будьте вниматель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Картинка 26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8964720" cy="7024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4360" y="5321160"/>
            <a:ext cx="370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Захламлять подвал не надо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Разными предметами,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А то вдруг пожар случится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Не сумеем обернуть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Картинка 28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1240" y="-6480"/>
            <a:ext cx="847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За проявленное </a:t>
            </a: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мужество</a:t>
            </a: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, профессионализм, успеш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выполнение задач по предупреждению и ликвидации </a:t>
            </a: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пожаров</a:t>
            </a: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за образцовое исполнение служебных обяза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приказом министра МЧС, пожарные .награжд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орденами и медал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4:16:55Z</dcterms:created>
  <dc:creator>№19</dc:creator>
  <dc:description/>
  <dc:language>en-US</dc:language>
  <cp:lastModifiedBy>№19</cp:lastModifiedBy>
  <dcterms:modified xsi:type="dcterms:W3CDTF">2005-12-05T01:20:20Z</dcterms:modified>
  <cp:revision>15</cp:revision>
  <dc:subject/>
  <dc:title>Не шутите с огнём!</dc:title>
</cp:coreProperties>
</file>