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F5A-63F0-41AA-8170-067E9D30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EDE-1B91-47F7-88E3-6E457ADD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5A0-ACD5-47DB-A37F-04EE5571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2DA-1262-4953-9AA1-56824A3F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AD9A-5D49-417B-AEC0-785B5319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2D3D-5B43-4394-A39F-85560006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6F92-FB00-4FC9-A58A-6C5F47B3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D71C-7C24-407F-ABD2-7AD87810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2E28-78E7-494E-B9F2-E4B3D445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1A9C-2785-49E8-90B1-3652BE6C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B815-FCF9-4602-A3E8-672BE4D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DDE-12B8-415D-A9F6-6C6A9086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9D4-D1A9-465C-A4A0-0CDB47E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DD64-00C8-48D3-925A-AAE49DB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D3E7-6CF2-42F5-9D56-A3E29D6A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DBFC-7D41-41BC-A801-DF1D402C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9570-EB6D-486C-9D6F-2EF5B216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B166-03BB-42EB-8E3A-4D2E0EB8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59B-A4F8-46CF-9A9F-66434A69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0AE-4EC0-46A1-A562-3055091D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D86-0F5C-42DD-88A1-EF842192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17C-EF03-4D29-B81C-8E716A19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F06-6057-4C03-89A0-DB668F4A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E3E-6D2B-4E5E-A062-31AEC0B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6071-F8B6-4960-AC1A-71D509267F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1AE2-5B99-40DE-9542-9C7F6F33874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alomnik.org/Geoveloklub/Photo/News/2008/Mai/13.05.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thumb/9/92/DSC01739.JPG/800px-DSC01739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ms.24open.ru/images/a2b4c2d1f1ea35d0a87cbec920c76d4b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ature.baikal.ru/phs/norm/18506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r7.ru/netcat_files/424/634/baykal_b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opypast.ru/uploads/posts/1222684931_1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sjornal.ru/img2005/23_1006/23/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007.radikal.ru/0910/1d/b7739ac56ec3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emore.com/images-f/map-baika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atic.24.ua/images/0/35/35281/large_3528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ewsland.ru/public/upload/blog/slaid/76357__19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joynews.ru/uploads/posts/2010-08/1282327891_baikal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n.kiev.ua/design/Alexx/36/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Озеро Байкал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Картинка 9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6160" y="1484280"/>
            <a:ext cx="43178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Картинка 19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Картинка 20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" descr="Картинка 22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31248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Картинка 23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240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Картинка 26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Картинка 28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Картинка 63 из 32278"/>
          <p:cNvPicPr/>
          <p:nvPr/>
        </p:nvPicPr>
        <p:blipFill>
          <a:blip r:embed="rId1"/>
          <a:stretch/>
        </p:blipFill>
        <p:spPr>
          <a:xfrm>
            <a:off x="155520" y="46080"/>
            <a:ext cx="916956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" descr="Картинка 65 из 32278"/>
          <p:cNvPicPr/>
          <p:nvPr/>
        </p:nvPicPr>
        <p:blipFill>
          <a:blip r:embed="rId1"/>
          <a:stretch/>
        </p:blipFill>
        <p:spPr>
          <a:xfrm>
            <a:off x="155520" y="46080"/>
            <a:ext cx="70088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ото озера из космо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Картинка 27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1413000"/>
            <a:ext cx="945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Картинка 33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708048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Картинка 34 из 32278"/>
          <p:cNvPicPr/>
          <p:nvPr/>
        </p:nvPicPr>
        <p:blipFill>
          <a:blip r:embed="rId1"/>
          <a:stretch/>
        </p:blipFill>
        <p:spPr>
          <a:xfrm>
            <a:off x="1187280" y="46080"/>
            <a:ext cx="66582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Картинка 10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Картинка 11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Картинка 42 из 32278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Картинка 14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Картинка 16 из 322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9:09:43Z</dcterms:created>
  <dc:creator>№19</dc:creator>
  <dc:description/>
  <dc:language>en-US</dc:language>
  <cp:lastModifiedBy>№19</cp:lastModifiedBy>
  <dcterms:modified xsi:type="dcterms:W3CDTF">2005-12-05T00:47:03Z</dcterms:modified>
  <cp:revision>3</cp:revision>
  <dc:subject/>
  <dc:title>Слайд 1</dc:title>
</cp:coreProperties>
</file>