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B72-90E0-410F-A8A1-5173FAC9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44B-CA78-4DEC-9D87-DD9B3D80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EC4-C079-4BCF-BA3B-8DD6E11F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60A7-1F35-48B8-B519-8B0C618B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56DB-82C7-4F59-9041-9DDFC5F2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F63A-F1F4-4E76-B3E1-F5BE6AB9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6A02-F753-44F1-824E-80A2B743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DCD0-41FF-43DA-9CA4-B6CEE30D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0C1A-2783-4E30-98A6-55C41240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3A63-5719-41CF-9EF0-20C7513D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5794-7066-4300-AF34-E20C8362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BE07-72F5-433F-A060-30EC0183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D027-0EAB-4A0B-AC73-E4547CC4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B24B-FB1D-45DD-8468-E49F5B22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A964-1AA3-4CB9-A4A4-E647C9AA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8E6B-0FAF-4167-B333-24107294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4DA2-5062-4444-AA9D-28F7CED3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D2B5-BC93-4820-BC94-18D2BF02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F87-FC93-4C6B-BE26-CC4ADF62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A1D-1233-4D20-9B1D-152E92C7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BB7-3A93-4FC3-9EC8-EF11AC49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5629-E311-4510-BCE5-A27B65AD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BBE4-08E2-4200-A97B-06EB91BD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4E3-0033-4FCE-931A-0EB23311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40E3-C8CD-4F24-B16C-05B28D8689C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9F46-1D96-4CA9-AB95-0607726E45E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alomnik.org/Geoveloklub/Photo/News/2008/Mai/13.05.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thumb/9/92/DSC01739.JPG/800px-DSC01739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ms.24open.ru/images/a2b4c2d1f1ea35d0a87cbec920c76d4b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nature.baikal.ru/phs/norm/18506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r7.ru/netcat_files/424/634/baykal_b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opypast.ru/uploads/posts/1222684931_14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sjornal.ru/img2005/23_1006/23/3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007.radikal.ru/0910/1d/b7739ac56ec3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oemore.com/images-f/map-baika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tic.24.ua/images/0/35/35281/large_3528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ewsland.ru/public/upload/blog/slaid/76357__19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joynews.ru/uploads/posts/2010-08/1282327891_baikal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n.kiev.ua/design/Alexx/36/2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Озеро Байкал.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Картинка 9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26160" y="1484280"/>
            <a:ext cx="43178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Картинка 19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" descr="Картинка 20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9" name="" descr="Картинка 22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931248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Картинка 23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9240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" descr="Картинка 26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8" name="" descr="Картинка 28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Картинка 63 из 32278"/>
          <p:cNvPicPr/>
          <p:nvPr/>
        </p:nvPicPr>
        <p:blipFill>
          <a:blip r:embed="rId1"/>
          <a:stretch/>
        </p:blipFill>
        <p:spPr>
          <a:xfrm>
            <a:off x="155520" y="46080"/>
            <a:ext cx="916956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4" name="" descr="Картинка 65 из 32278"/>
          <p:cNvPicPr/>
          <p:nvPr/>
        </p:nvPicPr>
        <p:blipFill>
          <a:blip r:embed="rId1"/>
          <a:stretch/>
        </p:blipFill>
        <p:spPr>
          <a:xfrm>
            <a:off x="155520" y="46080"/>
            <a:ext cx="700884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Фото озера из космос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Картинка 27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1413000"/>
            <a:ext cx="9456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Картинка 33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708048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Картинка 34 из 32278"/>
          <p:cNvPicPr/>
          <p:nvPr/>
        </p:nvPicPr>
        <p:blipFill>
          <a:blip r:embed="rId1"/>
          <a:stretch/>
        </p:blipFill>
        <p:spPr>
          <a:xfrm>
            <a:off x="1187280" y="46080"/>
            <a:ext cx="66582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Картинка 10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Картинка 11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Картинка 42 из 32278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Картинка 14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Картинка 16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9:09:43Z</dcterms:created>
  <dc:creator>№19</dc:creator>
  <dc:description/>
  <dc:language>en-US</dc:language>
  <cp:lastModifiedBy>№19</cp:lastModifiedBy>
  <dcterms:modified xsi:type="dcterms:W3CDTF">2005-12-05T00:47:03Z</dcterms:modified>
  <cp:revision>3</cp:revision>
  <dc:subject/>
  <dc:title>Слайд 1</dc:title>
</cp:coreProperties>
</file>