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A5A-7740-4BB5-9638-C6227E23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FC10-8A58-418B-9BB4-1DF87B2C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A3D-07CA-4819-BA7A-C7F32E00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A8F-B58D-42D6-B381-A6E34604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20A8-FAD3-4D60-A8F9-8301243B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791-78DE-4AAC-923B-41969F11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69CA-F9D3-48AE-9ED7-F58EB15F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E4D-E2EF-4C8F-AB76-E93EBDFC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2C2-C1AE-494D-95C2-A429B747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8D4-501D-47ED-ACF4-3613DC2F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317-7BBF-404D-A372-5BAE14D6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CAC-9D5A-42C5-8A21-BB163615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E12E-45AB-46CD-AAEF-844F1B09D1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Прямоугольник 3" descr=""/>
          <p:cNvPicPr/>
          <p:nvPr/>
        </p:nvPicPr>
        <p:blipFill>
          <a:blip r:embed="rId1"/>
          <a:stretch/>
        </p:blipFill>
        <p:spPr>
          <a:xfrm>
            <a:off x="1347840" y="1957320"/>
            <a:ext cx="6595920" cy="19382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187280" y="422100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ё. Но отметка – за решение конкретно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к + учитель  в диал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ердце 5"/>
          <p:cNvSpPr/>
          <p:nvPr/>
        </p:nvSpPr>
        <p:spPr>
          <a:xfrm>
            <a:off x="2556000" y="189000"/>
            <a:ext cx="3095640" cy="2160360"/>
          </a:xfrm>
          <a:custGeom>
            <a:avLst/>
            <a:gdLst>
              <a:gd name="textAreaLeft" fmla="*/ 515880 w 3095640"/>
              <a:gd name="textAreaRight" fmla="*/ 2579760 w 3095640"/>
              <a:gd name="textAreaTop" fmla="*/ 540000 h 2160360"/>
              <a:gd name="textAreaBottom" fmla="*/ 1440360 h 2160360"/>
            </a:gdLst>
            <a:ahLst/>
            <a:rect l="textAreaLeft" t="textAreaTop" r="textAreaRight" b="textAreaBottom"/>
            <a:pathLst>
              <a:path w="3095625" h="2160587">
                <a:moveTo>
                  <a:pt x="1547813" y="540147"/>
                </a:moveTo>
                <a:cubicBezTo>
                  <a:pt x="2192734" y="-720196"/>
                  <a:pt x="4707930" y="540147"/>
                  <a:pt x="1547813" y="2160587"/>
                </a:cubicBezTo>
                <a:cubicBezTo>
                  <a:pt x="-1612305" y="540147"/>
                  <a:pt x="902891" y="-720196"/>
                  <a:pt x="1547813" y="540147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971640" y="692280"/>
            <a:ext cx="680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8" descr=""/>
          <p:cNvPicPr/>
          <p:nvPr/>
        </p:nvPicPr>
        <p:blipFill>
          <a:blip r:embed="rId2"/>
          <a:stretch/>
        </p:blipFill>
        <p:spPr>
          <a:xfrm>
            <a:off x="1262160" y="652320"/>
            <a:ext cx="55292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хнология проблемного  диало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ивает высокое качество усвоение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ет интелл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развитию творческих ум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ет активную лич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вляется здоровьесберегающей (низкий риск стре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2610000" y="-171360"/>
            <a:ext cx="34257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901800" y="1805040"/>
            <a:ext cx="74674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5640" y="112500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Суть состоит в том, что эта технология представляет соб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«…трехступенчатый процесс целенаправленн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индивидуального осмысления и освоения текста (до чтения, 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6228"/>
                </a:solidFill>
                <a:latin typeface="Calibri"/>
              </a:rPr>
              <a:t>процессе чтения, после чтения)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468360" y="91224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Три этапа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1.Работа с текстом д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 предположения, лексическая работа в тетрадях на п\о 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2. Работа с текстом во время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диалог с автором, комментированное чт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3.Работа с текстом после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формулирование основного смыслового вопроса, работа с заглавием, иллюстрацией, беседа об автор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, выполнение творческих зада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611280" y="1337760"/>
            <a:ext cx="748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Литературное чтение предполаг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)опору на литературо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)ведение литературного произведения в литературно-исторический контек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) установление связей с жизненным опытом ребё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)анализ литературн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55640" y="897120"/>
            <a:ext cx="77770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Анализ тек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читательское освоение литературного произ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Основная задача учител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увидеть в тексте автора, то есть : «вычитать» его отношение к героям, к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Эта задача реализуется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 ходе «медленног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( вдумчивого, изучающего, аналитического) ч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84360" y="1286640"/>
            <a:ext cx="777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Calibri"/>
              </a:rPr>
              <a:t>Приёмы работы над текс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ыделение ключевых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Бес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Составление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остроение структурной модели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блюдение над системой образов (3-4 к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Комментированное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Диалог с автором через 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1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6867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645120"/>
            <a:ext cx="813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Calibri"/>
              </a:rPr>
              <a:t>Комментированное 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итают дети, комментирует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нтересные высказывания детей не должны оставаться без внимания! Даже если расходятся с мнением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омментарий должен быть кратким и динамичным ( НЕ развёрнутые ответы, НЕ бесе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ерывание текста там, где это необходимо, а не там, где закончилась часть, 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433440" y="2766960"/>
            <a:ext cx="82598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611280" y="52812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Способы прерывания тек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Рефрен( повтор за ребён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ование воображения ( представьте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Вопрос, как в беседе ( Догадались,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ак же э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Чувство меры ( не каждый текст требует подробного комментированн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Прямоугольник 1" descr=""/>
          <p:cNvPicPr/>
          <p:nvPr/>
        </p:nvPicPr>
        <p:blipFill>
          <a:blip r:embed="rId1"/>
          <a:stretch/>
        </p:blipFill>
        <p:spPr>
          <a:xfrm>
            <a:off x="1243080" y="444600"/>
            <a:ext cx="690732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95280" y="258840"/>
            <a:ext cx="820908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Последовательность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1.  Научить видеть в тексте вопросы прямые и скры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крытый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…мне захотелось посмотреть, нет ли чего в такой трубочке…( а что там     может быть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Прям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:…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я нашёл орех…Как же он туда поп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2.       Включать творческое воображение учащихся (прогнозировать что случится дальше, чем всё кончи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3.       Помочь учащимся самостоятельно вести разговор с автором с помощью «сигнальных маяч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 В- задай вопрос, О – ответь на этот вопрос, П – проверь правильность ответа именно в этом месте текста,  З – включи воображение, загляни в волшебное зеркал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95280" y="1604160"/>
            <a:ext cx="7993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Творческое задание обязательно предполагает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самостоя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 читательскую деятельность ребёнка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  <a:ea typeface="Calibri"/>
              </a:rPr>
              <a:t>включены четыре сфе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Можно условно разделить творческие задания , опираясь на эти четыре сферы читатель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517680"/>
            <a:ext cx="77295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11280" y="189000"/>
          <a:ext cx="8064360" cy="652284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  <a:gridCol w="20160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мыс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одержания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ам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азвит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фе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бё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еакция н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художественную форму - как правило у детей отсутств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Эмоциональная сфера – хорошо раз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фера воображения – чрезвычайно развита и важ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еро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быти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боро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рат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ска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подроб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ска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д языко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удожестве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обенностя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и тек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разитель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е чтени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жи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ич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печатл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ссоциации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кс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ст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иафиль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ценария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вор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реска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ллюстриро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ани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ение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оля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сценир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е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Выноска-облако 3"/>
          <p:cNvSpPr/>
          <p:nvPr/>
        </p:nvSpPr>
        <p:spPr>
          <a:xfrm>
            <a:off x="5003640" y="2133720"/>
            <a:ext cx="792360" cy="503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ятно 1 4"/>
          <p:cNvSpPr/>
          <p:nvPr/>
        </p:nvSpPr>
        <p:spPr>
          <a:xfrm>
            <a:off x="5940360" y="2492280"/>
            <a:ext cx="914400" cy="9144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ердце 5"/>
          <p:cNvSpPr/>
          <p:nvPr/>
        </p:nvSpPr>
        <p:spPr>
          <a:xfrm>
            <a:off x="3419640" y="3860640"/>
            <a:ext cx="720720" cy="720720"/>
          </a:xfrm>
          <a:custGeom>
            <a:avLst/>
            <a:gdLst>
              <a:gd name="textAreaLeft" fmla="*/ 119880 w 720720"/>
              <a:gd name="textAreaRight" fmla="*/ 600840 w 720720"/>
              <a:gd name="textAreaTop" fmla="*/ 180000 h 720720"/>
              <a:gd name="textAreaBottom" fmla="*/ 480600 h 720720"/>
            </a:gdLst>
            <a:ahLst/>
            <a:rect l="textAreaLeft" t="textAreaTop" r="textAreaRight" b="textAreaBottom"/>
            <a:pathLst>
              <a:path w="720725" h="720725">
                <a:moveTo>
                  <a:pt x="360363" y="180181"/>
                </a:moveTo>
                <a:cubicBezTo>
                  <a:pt x="510514" y="-240242"/>
                  <a:pt x="1096103" y="180181"/>
                  <a:pt x="360363" y="720725"/>
                </a:cubicBezTo>
                <a:cubicBezTo>
                  <a:pt x="-375378" y="180181"/>
                  <a:pt x="210211" y="-240242"/>
                  <a:pt x="360363" y="1801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Лента лицом вверх 6"/>
          <p:cNvSpPr/>
          <p:nvPr/>
        </p:nvSpPr>
        <p:spPr>
          <a:xfrm>
            <a:off x="6875640" y="3284640"/>
            <a:ext cx="1217520" cy="612720"/>
          </a:xfrm>
          <a:custGeom>
            <a:avLst/>
            <a:gdLst>
              <a:gd name="textAreaLeft" fmla="*/ 304200 w 1217520"/>
              <a:gd name="textAreaRight" fmla="*/ 913320 w 1217520"/>
              <a:gd name="textAreaTop" fmla="*/ 0 h 612720"/>
              <a:gd name="textAreaBottom" fmla="*/ 510840 h 612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1" descr=""/>
          <p:cNvPicPr/>
          <p:nvPr/>
        </p:nvPicPr>
        <p:blipFill>
          <a:blip r:embed="rId1"/>
          <a:stretch/>
        </p:blipFill>
        <p:spPr>
          <a:xfrm>
            <a:off x="1158840" y="146160"/>
            <a:ext cx="6832800" cy="2060640"/>
          </a:xfrm>
          <a:prstGeom prst="rect">
            <a:avLst/>
          </a:prstGeom>
          <a:ln w="0">
            <a:noFill/>
          </a:ln>
        </p:spPr>
      </p:pic>
      <p:sp>
        <p:nvSpPr>
          <p:cNvPr id="53" name="Выноска-облако 2"/>
          <p:cNvSpPr/>
          <p:nvPr/>
        </p:nvSpPr>
        <p:spPr>
          <a:xfrm>
            <a:off x="0" y="3860640"/>
            <a:ext cx="3095640" cy="216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ыноска-облако 3"/>
          <p:cNvSpPr/>
          <p:nvPr/>
        </p:nvSpPr>
        <p:spPr>
          <a:xfrm>
            <a:off x="3419640" y="3213000"/>
            <a:ext cx="2665080" cy="1728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носка-облако 4"/>
          <p:cNvSpPr/>
          <p:nvPr/>
        </p:nvSpPr>
        <p:spPr>
          <a:xfrm>
            <a:off x="6300720" y="2349360"/>
            <a:ext cx="2448000" cy="1366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79280" y="3933720"/>
            <a:ext cx="266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ждающий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ой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434760" y="3573360"/>
            <a:ext cx="257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од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еме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951880" y="2276640"/>
            <a:ext cx="317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е 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отивирую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ё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0"/>
          <p:cNvCxnSpPr/>
          <p:nvPr/>
        </p:nvCxnSpPr>
        <p:spPr>
          <a:xfrm flipH="1">
            <a:off x="1402560" y="1700280"/>
            <a:ext cx="1369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12"/>
          <p:cNvCxnSpPr/>
          <p:nvPr/>
        </p:nvCxnSpPr>
        <p:spPr>
          <a:xfrm>
            <a:off x="4356000" y="1628280"/>
            <a:ext cx="14544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4"/>
          <p:cNvCxnSpPr/>
          <p:nvPr/>
        </p:nvCxnSpPr>
        <p:spPr>
          <a:xfrm>
            <a:off x="6011640" y="1628640"/>
            <a:ext cx="937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Выноска-облако 2"/>
          <p:cNvSpPr/>
          <p:nvPr/>
        </p:nvSpPr>
        <p:spPr>
          <a:xfrm>
            <a:off x="0" y="260280"/>
            <a:ext cx="3095640" cy="2160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324000" y="2602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ждающий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ой ситу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2766960" y="201600"/>
            <a:ext cx="6651720" cy="201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24000" y="2421000"/>
            <a:ext cx="856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оздание проблемной ситуации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( с удивлением или затруднение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буждение к осознанию противоречия проблемной ситуации.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(Отдельные вопросы учителя, стимулирующие школьников осознать заложенное в проблемной ситуации противореч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буждение к формулированию учебной проблемы.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(Какова будет тема урока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ринятие предлагаемых учениками формулировок учеб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Выноска-облако 1"/>
          <p:cNvSpPr/>
          <p:nvPr/>
        </p:nvSpPr>
        <p:spPr>
          <a:xfrm>
            <a:off x="3276720" y="333360"/>
            <a:ext cx="2663640" cy="1727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291840" y="765000"/>
            <a:ext cx="257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одя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еме ди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468360" y="2421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систем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логическая цепочка) посильных ученику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вопросов и зада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пошагово приводят класс              к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формулированию темы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11"/>
          <p:cNvSpPr/>
          <p:nvPr/>
        </p:nvSpPr>
        <p:spPr>
          <a:xfrm>
            <a:off x="2987640" y="3284640"/>
            <a:ext cx="1513080" cy="151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468360" y="4797360"/>
            <a:ext cx="83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продуктив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спомнить, выполнить по образц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слите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 анализ, сравнение, обобщ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Выноска-облако 1"/>
          <p:cNvSpPr/>
          <p:nvPr/>
        </p:nvSpPr>
        <p:spPr>
          <a:xfrm>
            <a:off x="3132000" y="260280"/>
            <a:ext cx="2448000" cy="1368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930400" y="404640"/>
            <a:ext cx="317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е 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отивирую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ё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304920" y="1646280"/>
            <a:ext cx="3998880" cy="11523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468360" y="2852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ркое пятн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казки легенды, фрагменты из художественной литературы, случаи из истории, науки, культуры и повседневной жизни,   эксперимент и наглядность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5"/>
          <p:cNvSpPr/>
          <p:nvPr/>
        </p:nvSpPr>
        <p:spPr>
          <a:xfrm>
            <a:off x="5003640" y="2781360"/>
            <a:ext cx="39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ктуальность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Значимость предлагаемой темы для самих учащихся, лично для каждого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08120" y="1981080"/>
            <a:ext cx="81849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822240" y="146160"/>
            <a:ext cx="7284960" cy="1444680"/>
          </a:xfrm>
          <a:prstGeom prst="rect">
            <a:avLst/>
          </a:prstGeom>
          <a:ln w="0">
            <a:noFill/>
          </a:ln>
        </p:spPr>
      </p:pic>
      <p:sp>
        <p:nvSpPr>
          <p:cNvPr id="78" name="Стрелка вниз 4"/>
          <p:cNvSpPr/>
          <p:nvPr/>
        </p:nvSpPr>
        <p:spPr>
          <a:xfrm>
            <a:off x="1979640" y="1989000"/>
            <a:ext cx="576360" cy="86364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5"/>
          <p:cNvSpPr/>
          <p:nvPr/>
        </p:nvSpPr>
        <p:spPr>
          <a:xfrm>
            <a:off x="5867280" y="1916280"/>
            <a:ext cx="649440" cy="792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ятно 1 6"/>
          <p:cNvSpPr/>
          <p:nvPr/>
        </p:nvSpPr>
        <p:spPr>
          <a:xfrm>
            <a:off x="4643280" y="2781360"/>
            <a:ext cx="3961080" cy="36720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ятно 1 7"/>
          <p:cNvSpPr/>
          <p:nvPr/>
        </p:nvSpPr>
        <p:spPr>
          <a:xfrm>
            <a:off x="250920" y="2637000"/>
            <a:ext cx="4033800" cy="34560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0" y="270828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буждающий к гипотезам 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ждение к выдвижению гипот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ие выдвигаемых учениками гипот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ждение к проверке гипот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ятие предлагаемых учениками прове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4427640" y="3068640"/>
            <a:ext cx="428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водящий к знанию диало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почка вопросов, последовательно подводящих к правильному ответу, запланированному уч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560" y="1773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чем знания нужно ВОСПРОИЗВОД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роговаривать, повторя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4360" y="3213000"/>
          <a:ext cx="7993080" cy="324036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одной сторон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 другой стор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вается речь, формируется умение передать мысль своими сло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рез проговаривание  углубляется понимание зн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6" name="Лента лицом вверх 5"/>
          <p:cNvSpPr/>
          <p:nvPr/>
        </p:nvSpPr>
        <p:spPr>
          <a:xfrm>
            <a:off x="1042920" y="189000"/>
            <a:ext cx="6842160" cy="1511280"/>
          </a:xfrm>
          <a:custGeom>
            <a:avLst/>
            <a:gdLst>
              <a:gd name="textAreaLeft" fmla="*/ 1710360 w 6842160"/>
              <a:gd name="textAreaRight" fmla="*/ 5131800 w 6842160"/>
              <a:gd name="textAreaTop" fmla="*/ 0 h 1511280"/>
              <a:gd name="textAreaBottom" fmla="*/ 1259640 h 151128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6" descr=""/>
          <p:cNvPicPr/>
          <p:nvPr/>
        </p:nvPicPr>
        <p:blipFill>
          <a:blip r:embed="rId1"/>
          <a:stretch/>
        </p:blipFill>
        <p:spPr>
          <a:xfrm>
            <a:off x="353880" y="-128520"/>
            <a:ext cx="879660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2:13:06Z</dcterms:created>
  <dc:creator>Татьяна</dc:creator>
  <dc:description/>
  <dc:language>en-US</dc:language>
  <cp:lastModifiedBy>Татьяна</cp:lastModifiedBy>
  <dcterms:modified xsi:type="dcterms:W3CDTF">2012-04-10T19:32:48Z</dcterms:modified>
  <cp:revision>45</cp:revision>
  <dc:subject/>
  <dc:title>Слайд 1</dc:title>
</cp:coreProperties>
</file>