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2EE-F606-4967-A9ED-0E6855CF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894-A213-46F8-A1CD-896741B0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F0E-A4D5-4C7C-A4C0-1094E035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353-AB6F-4AEE-9652-869BC061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C33-66F8-450A-8753-725282DC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980-7BA3-4565-A144-983633A0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A7F-1494-4704-906F-C4D9C7CA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B9C-5E9A-4B28-8544-8E29D9B7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124-5E5D-4A6E-A851-25331B14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9C1-9A7F-4593-BCE8-DFE3F158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F2E-4004-460F-B330-5E7B9D21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6BB-635B-4F45-B957-F975DEB5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1C5F-760D-4734-88C5-73607EDA9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ремя. Единица времени. Ча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clock_1.jpg"/>
          <p:cNvPicPr/>
          <p:nvPr/>
        </p:nvPicPr>
        <p:blipFill>
          <a:blip r:embed="rId1"/>
          <a:stretch/>
        </p:blipFill>
        <p:spPr>
          <a:xfrm>
            <a:off x="2627280" y="2276640"/>
            <a:ext cx="380988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son_clock1.jpg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316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29A1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0009-009-Drevnie-solnechnye-chas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0_f4e6_ad21ea60_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sclock.gif"/>
          <p:cNvPicPr/>
          <p:nvPr/>
        </p:nvPicPr>
        <p:blipFill>
          <a:blip r:embed="rId1"/>
          <a:stretch/>
        </p:blipFill>
        <p:spPr>
          <a:xfrm>
            <a:off x="46836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landscape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0011-011-Narjadu-s-solnechnymi-chasami-uzhe-vo-2-m-i-1-m-ty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0031-031-Vodjanye-chas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0014-014-Pesochnye-chasy-odin-i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1006560" y="2792520"/>
            <a:ext cx="71308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clock1n.jpg"/>
          <p:cNvPicPr/>
          <p:nvPr/>
        </p:nvPicPr>
        <p:blipFill>
          <a:blip r:embed="rId1"/>
          <a:stretch/>
        </p:blipFill>
        <p:spPr>
          <a:xfrm>
            <a:off x="0" y="404640"/>
            <a:ext cx="5062680" cy="5407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image170.jpg"/>
          <p:cNvPicPr/>
          <p:nvPr/>
        </p:nvPicPr>
        <p:blipFill>
          <a:blip r:embed="rId2"/>
          <a:stretch/>
        </p:blipFill>
        <p:spPr>
          <a:xfrm>
            <a:off x="5724360" y="2492280"/>
            <a:ext cx="288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3524298djb.jpg"/>
          <p:cNvPicPr/>
          <p:nvPr/>
        </p:nvPicPr>
        <p:blipFill>
          <a:blip r:embed="rId1"/>
          <a:stretch/>
        </p:blipFill>
        <p:spPr>
          <a:xfrm>
            <a:off x="1657440" y="177840"/>
            <a:ext cx="582912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clock_1.jpg"/>
          <p:cNvPicPr/>
          <p:nvPr/>
        </p:nvPicPr>
        <p:blipFill>
          <a:blip r:embed="rId1"/>
          <a:stretch/>
        </p:blipFill>
        <p:spPr>
          <a:xfrm>
            <a:off x="1258920" y="333360"/>
            <a:ext cx="6265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811080" y="2792520"/>
            <a:ext cx="75153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1384200" y="2755800"/>
            <a:ext cx="63756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00000" y="549360"/>
          <a:ext cx="7201080" cy="374328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1800000"/>
                <a:gridCol w="1800360"/>
              </a:tblGrid>
              <a:tr h="1247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каких единицах измеряются эти величины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900000" y="549360"/>
          <a:ext cx="7201080" cy="429408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1800000"/>
                <a:gridCol w="1800360"/>
              </a:tblGrid>
              <a:tr h="1247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каких единицах измеряются эти величины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с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00000" y="549360"/>
          <a:ext cx="7201080" cy="429408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1800000"/>
                <a:gridCol w="1800360"/>
              </a:tblGrid>
              <a:tr h="1247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каких единицах измеряются эти величины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с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00000" y="549360"/>
          <a:ext cx="7201080" cy="453708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1800000"/>
                <a:gridCol w="1800360"/>
              </a:tblGrid>
              <a:tr h="1246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каких единицах измеряются эти величины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с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5280" y="549360"/>
          <a:ext cx="8209080" cy="453708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1511280"/>
                <a:gridCol w="2592360"/>
              </a:tblGrid>
              <a:tr h="1246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каких единицах измеряются эти величины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с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.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мы, килограмм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469800" y="1311120"/>
            <a:ext cx="82105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01:12Z</dcterms:created>
  <dc:creator>Татьяна</dc:creator>
  <dc:description/>
  <dc:language>en-US</dc:language>
  <cp:lastModifiedBy>Татьяна</cp:lastModifiedBy>
  <dcterms:modified xsi:type="dcterms:W3CDTF">2012-04-04T13:17:30Z</dcterms:modified>
  <cp:revision>3</cp:revision>
  <dc:subject/>
  <dc:title>Время. Единица времени. Час</dc:title>
</cp:coreProperties>
</file>