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1.jpeg" ContentType="image/jpeg"/>
  <Override PartName="/ppt/media/image20.jpeg" ContentType="image/jpeg"/>
  <Override PartName="/ppt/media/image19.wmf" ContentType="image/x-wmf"/>
  <Override PartName="/ppt/media/image16.wmf" ContentType="image/x-wmf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7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E6AD-92D9-4D91-AA95-C51122050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EB0-6312-4C91-B283-BC763E813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2B5-C930-48AD-AFD7-D93ED3DF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11B-EBBF-40F1-BEE7-B4646C0B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4B5-27EA-4768-A0EF-8DC7ED76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6E4-3E01-479E-93ED-6E05B237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D93-F774-4074-85A1-40C5DC8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610-01D7-4D33-8905-6350FCEA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DBF-D244-4CD9-B073-3390244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D29-4524-4F5F-B54D-F9B76D8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AF5-6FFA-4659-8DF1-75AAD09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6C6-B079-4854-BCB6-D043C28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C72-137A-467F-8E2A-6D9FDBCB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0A9-07BC-4207-A9C3-E6CBC6B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61F-C5A4-4574-BEC8-5EA18C14F8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ческий проект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форма  тематической проверки </a:t>
            </a:r>
            <a:br>
              <a:rPr sz="3600"/>
            </a:br>
            <a:r>
              <a:rPr b="1" lang="ru-RU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МКДОУ детский сад                                               общеразвивающего вида № 10 «Ягодка»)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 старший воспитатель                                         Боднаренко Ольга Александро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D:\Documents and Settings\Администратор\Мои документы\Документы по ДОУ\фото в проект\DSC02915.JPG"/>
          <p:cNvPicPr/>
          <p:nvPr/>
        </p:nvPicPr>
        <p:blipFill>
          <a:blip r:embed="rId1"/>
          <a:stretch/>
        </p:blipFill>
        <p:spPr>
          <a:xfrm>
            <a:off x="642960" y="328608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:\Documents and Settings\Администратор\Мои документы\Документы по ДОУ\фото в проект\DSC00852.JPG"/>
          <p:cNvPicPr/>
          <p:nvPr/>
        </p:nvPicPr>
        <p:blipFill>
          <a:blip r:embed="rId2"/>
          <a:stretch/>
        </p:blipFill>
        <p:spPr>
          <a:xfrm>
            <a:off x="4643280" y="3286080"/>
            <a:ext cx="3614760" cy="27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эмоционального состояния и уровня тревожности дошкольников                                                «Шкала тревожности ребёнка»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:\Documents and Settings\Администратор\Мои документы\Документы по ДОУ\фото в проект\DSC04916.JPG"/>
          <p:cNvPicPr/>
          <p:nvPr/>
        </p:nvPicPr>
        <p:blipFill>
          <a:blip r:embed="rId1"/>
          <a:stretch/>
        </p:blipFill>
        <p:spPr>
          <a:xfrm>
            <a:off x="1990800" y="2363760"/>
            <a:ext cx="4581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 эмоционального благополучия ребёнка в детском саду                                               (методика Е.В.Кучерово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ы метод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Любишь ли ты ходить в детский са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Хотел бы ты работать в детском саду, когда станешь взрослым? Ке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Дружите ли вы с ребятами в групп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Часто ли вы ссорите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ое  у тебя сегодня настро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претация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жительный ответ оценивается в 2 балла, отрицательный – 0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каждого ребёнка свой балл, но исследователь высчитывает средний балл по группе. Норма- 8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27320" y="157176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133600" y="157176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Диаграмма 6"/>
          <p:cNvGraphicFramePr/>
          <p:nvPr/>
        </p:nvGraphicFramePr>
        <p:xfrm>
          <a:off x="357120" y="1847880"/>
          <a:ext cx="357192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847880"/>
                    <a:ext cx="35719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8"/>
          <p:cNvSpPr/>
          <p:nvPr/>
        </p:nvSpPr>
        <p:spPr>
          <a:xfrm>
            <a:off x="1071720" y="5643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редний балл – 8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4929120" y="2147760"/>
          <a:ext cx="3571920" cy="312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2147760"/>
                    <a:ext cx="3571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7"/>
          <p:cNvSpPr/>
          <p:nvPr/>
        </p:nvSpPr>
        <p:spPr>
          <a:xfrm>
            <a:off x="535788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редний балл – 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уночный тест «Несуществующее животное»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9" name="Picture 5" descr="D:\Documents and Settings\Администратор\Мои документы\Документы по ДОУ\фото в проект\DSC04900.JPG"/>
          <p:cNvPicPr/>
          <p:nvPr/>
        </p:nvPicPr>
        <p:blipFill>
          <a:blip r:embed="rId1"/>
          <a:stretch/>
        </p:blipFill>
        <p:spPr>
          <a:xfrm>
            <a:off x="1285920" y="714240"/>
            <a:ext cx="2303280" cy="30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Documents and Settings\Администратор\Мои документы\Документы по ДОУ\фото в проект\DSC04892.JPG"/>
          <p:cNvPicPr/>
          <p:nvPr/>
        </p:nvPicPr>
        <p:blipFill>
          <a:blip r:embed="rId2"/>
          <a:stretch/>
        </p:blipFill>
        <p:spPr>
          <a:xfrm>
            <a:off x="3929040" y="78588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Documents and Settings\Администратор\Мои документы\Документы по ДОУ\фото в проект\DSC04888.JPG"/>
          <p:cNvPicPr/>
          <p:nvPr/>
        </p:nvPicPr>
        <p:blipFill>
          <a:blip r:embed="rId3"/>
          <a:stretch/>
        </p:blipFill>
        <p:spPr>
          <a:xfrm>
            <a:off x="928800" y="4017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Documents and Settings\Администратор\Мои документы\Документы по ДОУ\фото в проект\DSC04891.JPG"/>
          <p:cNvPicPr/>
          <p:nvPr/>
        </p:nvPicPr>
        <p:blipFill>
          <a:blip r:embed="rId4"/>
          <a:stretch/>
        </p:blipFill>
        <p:spPr>
          <a:xfrm>
            <a:off x="4500720" y="39290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85840"/>
            <a:ext cx="81867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лок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ость личности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заимодействие с детьми и определение самооце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14200" y="117000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 с целью определения доступности воспитателя при общении с детьми «Как часто и зачем обращаются дети к воспитателю?», способы реагирования на просьбы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D:\Documents and Settings\Администратор\Мои документы\Документы по ДОУ\фото в проект\DSC02635.JPG"/>
          <p:cNvPicPr/>
          <p:nvPr/>
        </p:nvPicPr>
        <p:blipFill>
          <a:blip r:embed="rId1"/>
          <a:stretch/>
        </p:blipFill>
        <p:spPr>
          <a:xfrm>
            <a:off x="428760" y="221472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:\Documents and Settings\Администратор\Мои документы\Документы по ДОУ\фото в проект\DSC01155.JPG"/>
          <p:cNvPicPr/>
          <p:nvPr/>
        </p:nvPicPr>
        <p:blipFill>
          <a:blip r:embed="rId2"/>
          <a:stretch/>
        </p:blipFill>
        <p:spPr>
          <a:xfrm>
            <a:off x="5357880" y="221472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D:\Documents and Settings\Администратор\Мои документы\Документы по ДОУ\фото в проект\DSC02634.JPG"/>
          <p:cNvPicPr/>
          <p:nvPr/>
        </p:nvPicPr>
        <p:blipFill>
          <a:blip r:embed="rId3"/>
          <a:stretch/>
        </p:blipFill>
        <p:spPr>
          <a:xfrm>
            <a:off x="3214800" y="4000680"/>
            <a:ext cx="319716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D:\Documents and Settings\Администратор\Мои документы\Документы по ДОУ\фото в проект\DSC03837.JPG"/>
          <p:cNvPicPr/>
          <p:nvPr/>
        </p:nvPicPr>
        <p:blipFill>
          <a:blip r:embed="rId1"/>
          <a:stretch/>
        </p:blipFill>
        <p:spPr>
          <a:xfrm>
            <a:off x="500040" y="314316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Documents and Settings\Администратор\Мои документы\Документы по ДОУ\фото в проект\DSC01750.JPG"/>
          <p:cNvPicPr/>
          <p:nvPr/>
        </p:nvPicPr>
        <p:blipFill>
          <a:blip r:embed="rId2"/>
          <a:stretch/>
        </p:blipFill>
        <p:spPr>
          <a:xfrm>
            <a:off x="4714920" y="3143160"/>
            <a:ext cx="3649680" cy="2737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28800" y="15372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кетирование                                                                                                «Определение  самооценки                                воспитателей»                                                               «Оценка удовлетворённости                           воспитателей своей работ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 «Оценка удовлетворённости                           воспитателей своей работой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Диаграмма 3"/>
          <p:cNvGraphicFramePr/>
          <p:nvPr/>
        </p:nvGraphicFramePr>
        <p:xfrm>
          <a:off x="571680" y="2506680"/>
          <a:ext cx="3857400" cy="287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506680"/>
                    <a:ext cx="38574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Прямоугольник 4"/>
          <p:cNvSpPr/>
          <p:nvPr/>
        </p:nvSpPr>
        <p:spPr>
          <a:xfrm>
            <a:off x="1005480" y="19288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5277240" y="1928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5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Диаграмма 5"/>
          <p:cNvGraphicFramePr/>
          <p:nvPr/>
        </p:nvGraphicFramePr>
        <p:xfrm>
          <a:off x="4854600" y="2438280"/>
          <a:ext cx="3795840" cy="28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2438280"/>
                    <a:ext cx="37958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ок 3.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 созданных педагогами условий в ДОУ</a:t>
            </a:r>
            <a:br>
              <a:rPr sz="18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енка комфортности среды детского са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, беседа с детьми «Где больше нравится играть в группе?»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предметно-развивающей среды в группах детского са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D:\Documents and Settings\Администратор\Мои документы\Документы по ДОУ\фото в проект\DSC00488.JPG"/>
          <p:cNvPicPr/>
          <p:nvPr/>
        </p:nvPicPr>
        <p:blipFill>
          <a:blip r:embed="rId1"/>
          <a:stretch/>
        </p:blipFill>
        <p:spPr>
          <a:xfrm>
            <a:off x="714240" y="1714680"/>
            <a:ext cx="2733840" cy="204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SCN3525"/>
          <p:cNvPicPr/>
          <p:nvPr/>
        </p:nvPicPr>
        <p:blipFill>
          <a:blip r:embed="rId2"/>
          <a:stretch/>
        </p:blipFill>
        <p:spPr>
          <a:xfrm>
            <a:off x="4786200" y="1643040"/>
            <a:ext cx="2760840" cy="207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DSC00798"/>
          <p:cNvPicPr/>
          <p:nvPr/>
        </p:nvPicPr>
        <p:blipFill>
          <a:blip r:embed="rId3"/>
          <a:stretch/>
        </p:blipFill>
        <p:spPr>
          <a:xfrm>
            <a:off x="4714920" y="4071960"/>
            <a:ext cx="2894040" cy="2071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5"/>
          <p:cNvSpPr/>
          <p:nvPr/>
        </p:nvSpPr>
        <p:spPr>
          <a:xfrm>
            <a:off x="428760" y="37148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олок эксперимен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4500720" y="371484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южетно-ролевая игра «Больн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9"/>
          <p:cNvSpPr/>
          <p:nvPr/>
        </p:nvSpPr>
        <p:spPr>
          <a:xfrm>
            <a:off x="4643280" y="6072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олок изо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D:\Documents and Settings\Администратор\Мои документы\Документы по ДОУ\фото в проект\DSC02922.JPG"/>
          <p:cNvPicPr/>
          <p:nvPr/>
        </p:nvPicPr>
        <p:blipFill>
          <a:blip r:embed="rId4"/>
          <a:stretch/>
        </p:blipFill>
        <p:spPr>
          <a:xfrm>
            <a:off x="785880" y="4071960"/>
            <a:ext cx="2720880" cy="2039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1"/>
          <p:cNvSpPr/>
          <p:nvPr/>
        </p:nvSpPr>
        <p:spPr>
          <a:xfrm>
            <a:off x="434880" y="60721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ыкально-театрализованный уго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ы беседы для определен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фортности среды ДОУ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42720"/>
            <a:ext cx="811548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ая твоя любимая игру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ая часть группы тебе нравится больше все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 какую игру ты больше всего любишь игр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Где лежат твои любимые игруш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D:\Documents and Settings\Администратор\Мои документы\, воспитатели, аттестация\фото  Костылевой О.Ф\фото на печать\DSC01652.JPG"/>
          <p:cNvPicPr/>
          <p:nvPr/>
        </p:nvPicPr>
        <p:blipFill>
          <a:blip r:embed="rId1"/>
          <a:stretch/>
        </p:blipFill>
        <p:spPr>
          <a:xfrm>
            <a:off x="1428840" y="6429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1680" y="5041800"/>
            <a:ext cx="771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глашаем к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 адрес: г.Котельн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л.Октябрьская, д.1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л: 883342 4-22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проект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ский сад глазами ребё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4" descr="DSC00923"/>
          <p:cNvPicPr/>
          <p:nvPr/>
        </p:nvPicPr>
        <p:blipFill>
          <a:blip r:embed="rId1"/>
          <a:stretch/>
        </p:blipFill>
        <p:spPr>
          <a:xfrm>
            <a:off x="500040" y="40719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SC00485"/>
          <p:cNvPicPr/>
          <p:nvPr/>
        </p:nvPicPr>
        <p:blipFill>
          <a:blip r:embed="rId2"/>
          <a:stretch/>
        </p:blipFill>
        <p:spPr>
          <a:xfrm>
            <a:off x="3000240" y="27860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SCN3496"/>
          <p:cNvPicPr/>
          <p:nvPr/>
        </p:nvPicPr>
        <p:blipFill>
          <a:blip r:embed="rId3"/>
          <a:stretch/>
        </p:blipFill>
        <p:spPr>
          <a:xfrm>
            <a:off x="5857920" y="3786120"/>
            <a:ext cx="27860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анализировать отношение детей к дошкольному учреждению, стиль взаимоотношений в детском коллективе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роанализировать характеристики воспитателей с точки зрения личностно-ориентированной педагогики, а так же стиль взаимодействия педагогов с детьми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Выявить степень комфортности для детей предметно-развивающей среды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 выполнения тематической проверки –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,5 меся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реализации проекта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бор тестов и диагностик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неделя)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диагностирования,                              сбор информации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месяц)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, результаты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неделя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28840" y="3857400"/>
            <a:ext cx="44863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8" descr="D:\Documents and Settings\Администратор\Мои документы\Документы по ДОУ\фото в проект\DSC02111.JPG"/>
          <p:cNvPicPr/>
          <p:nvPr/>
        </p:nvPicPr>
        <p:blipFill>
          <a:blip r:embed="rId1"/>
          <a:stretch/>
        </p:blipFill>
        <p:spPr>
          <a:xfrm>
            <a:off x="2357280" y="37861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лок: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ношение детей к детскому саду. Определение их эмоционального благополучия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 «Как часто и зачем дети обращаются к воспитателю?»          (30 мин.)</a:t>
            </a:r>
            <a:br>
              <a:rPr sz="32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Documents and Settings\Администратор\Мои документы\Документы по ДОУ\фото в проект\DSC04914.JPG"/>
          <p:cNvPicPr/>
          <p:nvPr/>
        </p:nvPicPr>
        <p:blipFill>
          <a:blip r:embed="rId1"/>
          <a:stretch/>
        </p:blipFill>
        <p:spPr>
          <a:xfrm>
            <a:off x="2106720" y="2120760"/>
            <a:ext cx="493056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ивная методика:                                                   беседа «С каким настроением ты идёшь                                        в детский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?»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D:\Documents and Settings\Администратор\Мои документы\Документы по ДОУ\фото в проект\DSC04901.JPG"/>
          <p:cNvPicPr/>
          <p:nvPr/>
        </p:nvPicPr>
        <p:blipFill>
          <a:blip r:embed="rId1"/>
          <a:stretch/>
        </p:blipFill>
        <p:spPr>
          <a:xfrm>
            <a:off x="1071720" y="2000160"/>
            <a:ext cx="3036600" cy="404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D:\Documents and Settings\Администратор\Мои документы\Документы по ДОУ\фото в проект\DSC04903.JPG"/>
          <p:cNvPicPr/>
          <p:nvPr/>
        </p:nvPicPr>
        <p:blipFill>
          <a:blip r:embed="rId2"/>
          <a:stretch/>
        </p:blipFill>
        <p:spPr>
          <a:xfrm>
            <a:off x="4572000" y="2143080"/>
            <a:ext cx="37861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метод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8636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84440" y="157176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347800" y="157176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6"/>
          <p:cNvGraphicFramePr/>
          <p:nvPr/>
        </p:nvGraphicFramePr>
        <p:xfrm>
          <a:off x="642960" y="2360520"/>
          <a:ext cx="285732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360520"/>
                    <a:ext cx="28573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Диаграмма 8"/>
          <p:cNvGraphicFramePr/>
          <p:nvPr/>
        </p:nvGraphicFramePr>
        <p:xfrm>
          <a:off x="5643720" y="2359080"/>
          <a:ext cx="3000240" cy="320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Диаграмма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3720" y="2359080"/>
                    <a:ext cx="30002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14200" y="216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ика самооценки детей «Лесенка рад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Documents and Settings\Администратор\Мои документы\Документы по ДОУ\фото в проект\DSC04908.JPG"/>
          <p:cNvPicPr/>
          <p:nvPr/>
        </p:nvPicPr>
        <p:blipFill>
          <a:blip r:embed="rId1"/>
          <a:stretch/>
        </p:blipFill>
        <p:spPr>
          <a:xfrm>
            <a:off x="285768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Documents and Settings\Администратор\Мои документы\Документы по ДОУ\фото в проект\DSC04909.JPG"/>
          <p:cNvPicPr/>
          <p:nvPr/>
        </p:nvPicPr>
        <p:blipFill>
          <a:blip r:embed="rId2"/>
          <a:stretch/>
        </p:blipFill>
        <p:spPr>
          <a:xfrm>
            <a:off x="4786200" y="714240"/>
            <a:ext cx="3600720" cy="27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D:\Documents and Settings\Администратор\Мои документы\Документы по ДОУ\фото в проект\DSC04912.JPG"/>
          <p:cNvPicPr/>
          <p:nvPr/>
        </p:nvPicPr>
        <p:blipFill>
          <a:blip r:embed="rId3"/>
          <a:stretch/>
        </p:blipFill>
        <p:spPr>
          <a:xfrm>
            <a:off x="571680" y="714240"/>
            <a:ext cx="364320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28840" y="50004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41520" y="142884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062320" y="14288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Диаграмма 4"/>
          <p:cNvGraphicFramePr/>
          <p:nvPr/>
        </p:nvGraphicFramePr>
        <p:xfrm>
          <a:off x="426960" y="1932120"/>
          <a:ext cx="3791160" cy="39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932120"/>
                    <a:ext cx="379116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Диаграмма 5"/>
          <p:cNvGraphicFramePr/>
          <p:nvPr/>
        </p:nvGraphicFramePr>
        <p:xfrm>
          <a:off x="5141880" y="2004840"/>
          <a:ext cx="3219480" cy="384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2004840"/>
                    <a:ext cx="32194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4:43:20Z</dcterms:created>
  <dc:creator>Пользователь</dc:creator>
  <dc:description/>
  <dc:language>en-US</dc:language>
  <cp:lastModifiedBy>1</cp:lastModifiedBy>
  <dcterms:modified xsi:type="dcterms:W3CDTF">2012-07-01T19:47:09Z</dcterms:modified>
  <cp:revision>142</cp:revision>
  <dc:subject/>
  <dc:title>МДОУ детский сад  общеразвивающего вида № 10 «Ягодка»</dc:title>
</cp:coreProperties>
</file>