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1.jpeg" ContentType="image/jpeg"/>
  <Override PartName="/ppt/media/image20.jpeg" ContentType="image/jpeg"/>
  <Override PartName="/ppt/media/image19.wmf" ContentType="image/x-wmf"/>
  <Override PartName="/ppt/media/image16.wmf" ContentType="image/x-wmf"/>
  <Override PartName="/ppt/media/image25.jpeg" ContentType="image/jpeg"/>
  <Override PartName="/ppt/media/image4.jpeg" ContentType="image/jpeg"/>
  <Override PartName="/ppt/media/image31.jpeg" ContentType="image/jpeg"/>
  <Override PartName="/ppt/media/image10.wmf" ContentType="image/x-wmf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17.jpeg" ContentType="image/jpeg"/>
  <Override PartName="/ppt/media/image32.jpeg" ContentType="image/jpeg"/>
  <Override PartName="/ppt/media/image11.wmf" ContentType="image/x-wmf"/>
  <Override PartName="/ppt/media/image5.jpeg" ContentType="image/jpeg"/>
  <Override PartName="/ppt/media/image26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7859-89F8-4440-B63F-B33CD303AF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5ABB-BDB6-40B9-B276-C06D1DA8B6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207A-7457-4C50-B9B8-21CF1709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7033-2F9C-4B8E-8397-7BB11FE9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FA70-5E6C-4AA8-8F6B-A43C986A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B03C-2B5D-4B59-9071-C2570E568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BC4F-6F58-41E8-A0A2-AB64E20A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8F87-04F2-43EB-A5CB-E40ABA40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1F47-2B5C-497A-A0E7-1F4CB7B6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7B90-EBBD-4549-B8F2-8AC07312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A7AC-8DFA-47F4-9417-73D00E85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CB1-271E-436D-A308-FD17E45C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F09E-67AC-446E-813F-55AB7B6B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A9D3-F505-40D3-8663-F456D5DD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89AE-E5C7-40A7-B671-72D67815105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агностический проект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форма  тематической проверки </a:t>
            </a:r>
            <a:br>
              <a:rPr sz="3600"/>
            </a:br>
            <a:r>
              <a:rPr b="1" lang="ru-RU" sz="2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(МКДОУ детский сад                                               общеразвивающего вида № 10 «Ягодка»)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втор: старший воспитатель                                         Боднаренко Ольга Александровна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D:\Documents and Settings\Администратор\Мои документы\Документы по ДОУ\фото в проект\DSC02915.JPG"/>
          <p:cNvPicPr/>
          <p:nvPr/>
        </p:nvPicPr>
        <p:blipFill>
          <a:blip r:embed="rId1"/>
          <a:stretch/>
        </p:blipFill>
        <p:spPr>
          <a:xfrm>
            <a:off x="642960" y="3286080"/>
            <a:ext cx="3557520" cy="2668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D:\Documents and Settings\Администратор\Мои документы\Документы по ДОУ\фото в проект\DSC00852.JPG"/>
          <p:cNvPicPr/>
          <p:nvPr/>
        </p:nvPicPr>
        <p:blipFill>
          <a:blip r:embed="rId2"/>
          <a:stretch/>
        </p:blipFill>
        <p:spPr>
          <a:xfrm>
            <a:off x="4643280" y="3286080"/>
            <a:ext cx="3614760" cy="2711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ение эмоционального состояния и уровня тревожности дошкольников                                                «Шкала тревожности ребёнка» 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D:\Documents and Settings\Администратор\Мои документы\Документы по ДОУ\фото в проект\DSC04916.JPG"/>
          <p:cNvPicPr/>
          <p:nvPr/>
        </p:nvPicPr>
        <p:blipFill>
          <a:blip r:embed="rId1"/>
          <a:stretch/>
        </p:blipFill>
        <p:spPr>
          <a:xfrm>
            <a:off x="1990800" y="2363760"/>
            <a:ext cx="45813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агностика эмоционального благополучия ребёнка в детском саду                                               (методика Е.В.Кучеровой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ы методик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Любишь ли ты ходить в детский сад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Хотел бы ты работать в детском саду, когда станешь взрослым? Ке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Дружите ли вы с ребятами в групп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Часто ли вы ссоритес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Какое  у тебя сегодня настроени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претация: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ложительный ответ оценивается в 2 балла, отрицательный – 0 балл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 каждого ребёнка свой балл, но исследователь высчитывает средний балл по группе. Норма- 8 балл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427320" y="157176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ДОУ д/с № 10 «Ягод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5133600" y="1571760"/>
            <a:ext cx="32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ДОУ д/с №  «Колокольч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Диаграмма 6"/>
          <p:cNvGraphicFramePr/>
          <p:nvPr/>
        </p:nvGraphicFramePr>
        <p:xfrm>
          <a:off x="357120" y="1847880"/>
          <a:ext cx="357192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Диаграмма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847880"/>
                    <a:ext cx="357192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Box 8"/>
          <p:cNvSpPr/>
          <p:nvPr/>
        </p:nvSpPr>
        <p:spPr>
          <a:xfrm>
            <a:off x="1071720" y="56437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Средний балл – 8,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7"/>
          <p:cNvGraphicFramePr/>
          <p:nvPr/>
        </p:nvGraphicFramePr>
        <p:xfrm>
          <a:off x="4929120" y="2147760"/>
          <a:ext cx="3571920" cy="3124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29120" y="2147760"/>
                    <a:ext cx="357192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Box 7"/>
          <p:cNvSpPr/>
          <p:nvPr/>
        </p:nvSpPr>
        <p:spPr>
          <a:xfrm>
            <a:off x="5357880" y="571500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Средний балл – 7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исуночный тест «Несуществующее животное»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br>
              <a:rPr sz="29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9" name="Picture 5" descr="D:\Documents and Settings\Администратор\Мои документы\Документы по ДОУ\фото в проект\DSC04900.JPG"/>
          <p:cNvPicPr/>
          <p:nvPr/>
        </p:nvPicPr>
        <p:blipFill>
          <a:blip r:embed="rId1"/>
          <a:stretch/>
        </p:blipFill>
        <p:spPr>
          <a:xfrm>
            <a:off x="1285920" y="714240"/>
            <a:ext cx="2303280" cy="3071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D:\Documents and Settings\Администратор\Мои документы\Документы по ДОУ\фото в проект\DSC04892.JPG"/>
          <p:cNvPicPr/>
          <p:nvPr/>
        </p:nvPicPr>
        <p:blipFill>
          <a:blip r:embed="rId2"/>
          <a:stretch/>
        </p:blipFill>
        <p:spPr>
          <a:xfrm>
            <a:off x="3929040" y="785880"/>
            <a:ext cx="3871800" cy="2903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D:\Documents and Settings\Администратор\Мои документы\Документы по ДОУ\фото в проект\DSC04888.JPG"/>
          <p:cNvPicPr/>
          <p:nvPr/>
        </p:nvPicPr>
        <p:blipFill>
          <a:blip r:embed="rId3"/>
          <a:stretch/>
        </p:blipFill>
        <p:spPr>
          <a:xfrm>
            <a:off x="928800" y="4017960"/>
            <a:ext cx="3286080" cy="2465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D:\Documents and Settings\Администратор\Мои документы\Документы по ДОУ\фото в проект\DSC04891.JPG"/>
          <p:cNvPicPr/>
          <p:nvPr/>
        </p:nvPicPr>
        <p:blipFill>
          <a:blip r:embed="rId4"/>
          <a:stretch/>
        </p:blipFill>
        <p:spPr>
          <a:xfrm>
            <a:off x="4500720" y="392904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6840" y="285840"/>
            <a:ext cx="81867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блок: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ность личности педагог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взаимодействие с детьми и определение самооце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214200" y="117000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блюдение с целью определения доступности воспитателя при общении с детьми «Как часто и зачем обращаются дети к воспитателю?», способы реагирования на просьбы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D:\Documents and Settings\Администратор\Мои документы\Документы по ДОУ\фото в проект\DSC02635.JPG"/>
          <p:cNvPicPr/>
          <p:nvPr/>
        </p:nvPicPr>
        <p:blipFill>
          <a:blip r:embed="rId1"/>
          <a:stretch/>
        </p:blipFill>
        <p:spPr>
          <a:xfrm>
            <a:off x="428760" y="2214720"/>
            <a:ext cx="3268440" cy="2450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D:\Documents and Settings\Администратор\Мои документы\Документы по ДОУ\фото в проект\DSC01155.JPG"/>
          <p:cNvPicPr/>
          <p:nvPr/>
        </p:nvPicPr>
        <p:blipFill>
          <a:blip r:embed="rId2"/>
          <a:stretch/>
        </p:blipFill>
        <p:spPr>
          <a:xfrm>
            <a:off x="5357880" y="2214720"/>
            <a:ext cx="3268440" cy="245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D:\Documents and Settings\Администратор\Мои документы\Документы по ДОУ\фото в проект\DSC02634.JPG"/>
          <p:cNvPicPr/>
          <p:nvPr/>
        </p:nvPicPr>
        <p:blipFill>
          <a:blip r:embed="rId3"/>
          <a:stretch/>
        </p:blipFill>
        <p:spPr>
          <a:xfrm>
            <a:off x="3214800" y="4000680"/>
            <a:ext cx="3197160" cy="23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D:\Documents and Settings\Администратор\Мои документы\Документы по ДОУ\фото в проект\DSC03837.JPG"/>
          <p:cNvPicPr/>
          <p:nvPr/>
        </p:nvPicPr>
        <p:blipFill>
          <a:blip r:embed="rId1"/>
          <a:stretch/>
        </p:blipFill>
        <p:spPr>
          <a:xfrm>
            <a:off x="500040" y="314316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D:\Documents and Settings\Администратор\Мои документы\Документы по ДОУ\фото в проект\DSC01750.JPG"/>
          <p:cNvPicPr/>
          <p:nvPr/>
        </p:nvPicPr>
        <p:blipFill>
          <a:blip r:embed="rId2"/>
          <a:stretch/>
        </p:blipFill>
        <p:spPr>
          <a:xfrm>
            <a:off x="4714920" y="3143160"/>
            <a:ext cx="3649680" cy="27370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928800" y="153720"/>
            <a:ext cx="7715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3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кетирование                                                                                                «Определение  самооценки                                воспитателей»                                                               «Оценка удовлетворённости                           воспитателей своей работ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теста «Оценка удовлетворённости                           воспитателей своей работой»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Диаграмма 3"/>
          <p:cNvGraphicFramePr/>
          <p:nvPr/>
        </p:nvGraphicFramePr>
        <p:xfrm>
          <a:off x="571680" y="2506680"/>
          <a:ext cx="3857400" cy="287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506680"/>
                    <a:ext cx="385740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Прямоугольник 4"/>
          <p:cNvSpPr/>
          <p:nvPr/>
        </p:nvSpPr>
        <p:spPr>
          <a:xfrm>
            <a:off x="1005480" y="192888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ДОУ д/с № 10 «Ягод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6"/>
          <p:cNvSpPr/>
          <p:nvPr/>
        </p:nvSpPr>
        <p:spPr>
          <a:xfrm>
            <a:off x="5277240" y="19288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ДОУ д/с № 5 «Колокольч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Диаграмма 5"/>
          <p:cNvGraphicFramePr/>
          <p:nvPr/>
        </p:nvGraphicFramePr>
        <p:xfrm>
          <a:off x="4854600" y="2438280"/>
          <a:ext cx="3795840" cy="2870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7" name="Диаграмма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4600" y="2438280"/>
                    <a:ext cx="3795840" cy="28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лок 3.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ализ созданных педагогами условий в ДОУ</a:t>
            </a:r>
            <a:br>
              <a:rPr sz="1800"/>
            </a:b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ценка комфортности среды детского сада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блюдение, беседа с детьми «Где больше нравится играть в группе?»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нализ предметно-развивающей среды в группах детского сада</a:t>
            </a:r>
            <a:br>
              <a:rPr sz="1600"/>
            </a:b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6" descr="D:\Documents and Settings\Администратор\Мои документы\Документы по ДОУ\фото в проект\DSC00488.JPG"/>
          <p:cNvPicPr/>
          <p:nvPr/>
        </p:nvPicPr>
        <p:blipFill>
          <a:blip r:embed="rId1"/>
          <a:stretch/>
        </p:blipFill>
        <p:spPr>
          <a:xfrm>
            <a:off x="714240" y="1714680"/>
            <a:ext cx="2733840" cy="2049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DSCN3525"/>
          <p:cNvPicPr/>
          <p:nvPr/>
        </p:nvPicPr>
        <p:blipFill>
          <a:blip r:embed="rId2"/>
          <a:stretch/>
        </p:blipFill>
        <p:spPr>
          <a:xfrm>
            <a:off x="4786200" y="1643040"/>
            <a:ext cx="2760840" cy="207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1" descr="DSC00798"/>
          <p:cNvPicPr/>
          <p:nvPr/>
        </p:nvPicPr>
        <p:blipFill>
          <a:blip r:embed="rId3"/>
          <a:stretch/>
        </p:blipFill>
        <p:spPr>
          <a:xfrm>
            <a:off x="4714920" y="4071960"/>
            <a:ext cx="2894040" cy="20718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5"/>
          <p:cNvSpPr/>
          <p:nvPr/>
        </p:nvSpPr>
        <p:spPr>
          <a:xfrm>
            <a:off x="428760" y="371484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голок эксперимент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6"/>
          <p:cNvSpPr/>
          <p:nvPr/>
        </p:nvSpPr>
        <p:spPr>
          <a:xfrm>
            <a:off x="4500720" y="3714840"/>
            <a:ext cx="31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южетно-ролевая игра «Больниц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9"/>
          <p:cNvSpPr/>
          <p:nvPr/>
        </p:nvSpPr>
        <p:spPr>
          <a:xfrm>
            <a:off x="4643280" y="607212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голок изо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D:\Documents and Settings\Администратор\Мои документы\Документы по ДОУ\фото в проект\DSC02922.JPG"/>
          <p:cNvPicPr/>
          <p:nvPr/>
        </p:nvPicPr>
        <p:blipFill>
          <a:blip r:embed="rId4"/>
          <a:stretch/>
        </p:blipFill>
        <p:spPr>
          <a:xfrm>
            <a:off x="785880" y="4071960"/>
            <a:ext cx="2720880" cy="203976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21"/>
          <p:cNvSpPr/>
          <p:nvPr/>
        </p:nvSpPr>
        <p:spPr>
          <a:xfrm>
            <a:off x="434880" y="6072120"/>
            <a:ext cx="34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узыкально-театрализованный угол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ы беседы для определения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фортности среды ДОУ 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2142720"/>
            <a:ext cx="8115480" cy="26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Какая твоя любимая игрушк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Какая часть группы тебе нравится больше всег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В какую игру ты больше всего любишь играт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- Где лежат твои любимые игрушк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D:\Documents and Settings\Администратор\Мои документы\, воспитатели, аттестация\фото  Костылевой О.Ф\фото на печать\DSC01652.JPG"/>
          <p:cNvPicPr/>
          <p:nvPr/>
        </p:nvPicPr>
        <p:blipFill>
          <a:blip r:embed="rId1"/>
          <a:stretch/>
        </p:blipFill>
        <p:spPr>
          <a:xfrm>
            <a:off x="1428840" y="642960"/>
            <a:ext cx="6286320" cy="42861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571680" y="5041800"/>
            <a:ext cx="7715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глашаем к сотрудничеств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ш адрес: г.Котельнич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л.Октябрьская, д.1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ел: 883342 4-22-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ма проекта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етский сад глазами ребён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3" name="Picture 4" descr="DSC00923"/>
          <p:cNvPicPr/>
          <p:nvPr/>
        </p:nvPicPr>
        <p:blipFill>
          <a:blip r:embed="rId1"/>
          <a:stretch/>
        </p:blipFill>
        <p:spPr>
          <a:xfrm>
            <a:off x="500040" y="4071960"/>
            <a:ext cx="257184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DSC00485"/>
          <p:cNvPicPr/>
          <p:nvPr/>
        </p:nvPicPr>
        <p:blipFill>
          <a:blip r:embed="rId2"/>
          <a:stretch/>
        </p:blipFill>
        <p:spPr>
          <a:xfrm>
            <a:off x="3000240" y="2786040"/>
            <a:ext cx="2786040" cy="2214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DSCN3496"/>
          <p:cNvPicPr/>
          <p:nvPr/>
        </p:nvPicPr>
        <p:blipFill>
          <a:blip r:embed="rId3"/>
          <a:stretch/>
        </p:blipFill>
        <p:spPr>
          <a:xfrm>
            <a:off x="5857920" y="3786120"/>
            <a:ext cx="27860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проекта: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</a:t>
            </a:r>
            <a:r>
              <a:rPr b="1" lang="ru-RU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анализировать отношение детей к дошкольному учреждению, стиль взаимоотношений в детском коллективе.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1" lang="ru-RU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Проанализировать характеристики воспитателей с точки зрения личностно-ориентированной педагогики, а так же стиль взаимодействия педагогов с детьми.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</a:t>
            </a:r>
            <a:r>
              <a:rPr b="1" lang="ru-RU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Выявить степень комфортности для детей предметно-развивающей среды.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ок выполнения тематической проверки –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,5 месяц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оки реализации проекта: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бор тестов и диагностик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 неделя)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дение диагностирования,                              сбор информации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 месяц)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ведение итогов, результаты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 неделя)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28840" y="3857400"/>
            <a:ext cx="448632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9" name="Picture 8" descr="D:\Documents and Settings\Администратор\Мои документы\Документы по ДОУ\фото в проект\DSC02111.JPG"/>
          <p:cNvPicPr/>
          <p:nvPr/>
        </p:nvPicPr>
        <p:blipFill>
          <a:blip r:embed="rId1"/>
          <a:stretch/>
        </p:blipFill>
        <p:spPr>
          <a:xfrm>
            <a:off x="2357280" y="3786120"/>
            <a:ext cx="42148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блок: </a:t>
            </a:r>
            <a:br>
              <a:rPr sz="2500"/>
            </a:br>
            <a:r>
              <a:rPr b="1" i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ношение детей к детскому саду. Определение их эмоционального благополучия.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блюдение «Как часто и зачем дети обращаются к воспитателю?»          (30 мин.)</a:t>
            </a:r>
            <a:br>
              <a:rPr sz="32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D:\Documents and Settings\Администратор\Мои документы\Документы по ДОУ\фото в проект\DSC04914.JPG"/>
          <p:cNvPicPr/>
          <p:nvPr/>
        </p:nvPicPr>
        <p:blipFill>
          <a:blip r:embed="rId1"/>
          <a:stretch/>
        </p:blipFill>
        <p:spPr>
          <a:xfrm>
            <a:off x="2106720" y="2120760"/>
            <a:ext cx="4930560" cy="34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ективная методика:                                                   беседа «С каким настроением ты идёшь                                        в детский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д?»</a:t>
            </a: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D:\Documents and Settings\Администратор\Мои документы\Документы по ДОУ\фото в проект\DSC04901.JPG"/>
          <p:cNvPicPr/>
          <p:nvPr/>
        </p:nvPicPr>
        <p:blipFill>
          <a:blip r:embed="rId1"/>
          <a:stretch/>
        </p:blipFill>
        <p:spPr>
          <a:xfrm>
            <a:off x="1071720" y="2000160"/>
            <a:ext cx="3036600" cy="404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D:\Documents and Settings\Администратор\Мои документы\Документы по ДОУ\фото в проект\DSC04903.JPG"/>
          <p:cNvPicPr/>
          <p:nvPr/>
        </p:nvPicPr>
        <p:blipFill>
          <a:blip r:embed="rId2"/>
          <a:stretch/>
        </p:blipFill>
        <p:spPr>
          <a:xfrm>
            <a:off x="4572000" y="2143080"/>
            <a:ext cx="378612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метод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586368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784440" y="157176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ДОУ д/с № 10 «Ягод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5347800" y="1571760"/>
            <a:ext cx="32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ДОУ д/с №  «Колокольч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Диаграмма 6"/>
          <p:cNvGraphicFramePr/>
          <p:nvPr/>
        </p:nvGraphicFramePr>
        <p:xfrm>
          <a:off x="642960" y="2360520"/>
          <a:ext cx="2857320" cy="352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Диаграмма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360520"/>
                    <a:ext cx="2857320" cy="35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Диаграмма 8"/>
          <p:cNvGraphicFramePr/>
          <p:nvPr/>
        </p:nvGraphicFramePr>
        <p:xfrm>
          <a:off x="5643720" y="2359080"/>
          <a:ext cx="3000240" cy="3209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2" name="Диаграмма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43720" y="2359080"/>
                    <a:ext cx="300024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214200" y="21600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ика самооценки детей «Лесенка радост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D:\Documents and Settings\Администратор\Мои документы\Документы по ДОУ\фото в проект\DSC04908.JPG"/>
          <p:cNvPicPr/>
          <p:nvPr/>
        </p:nvPicPr>
        <p:blipFill>
          <a:blip r:embed="rId1"/>
          <a:stretch/>
        </p:blipFill>
        <p:spPr>
          <a:xfrm>
            <a:off x="2857680" y="3643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D:\Documents and Settings\Администратор\Мои документы\Документы по ДОУ\фото в проект\DSC04909.JPG"/>
          <p:cNvPicPr/>
          <p:nvPr/>
        </p:nvPicPr>
        <p:blipFill>
          <a:blip r:embed="rId2"/>
          <a:stretch/>
        </p:blipFill>
        <p:spPr>
          <a:xfrm>
            <a:off x="4786200" y="714240"/>
            <a:ext cx="3600720" cy="2786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D:\Documents and Settings\Администратор\Мои документы\Документы по ДОУ\фото в проект\DSC04912.JPG"/>
          <p:cNvPicPr/>
          <p:nvPr/>
        </p:nvPicPr>
        <p:blipFill>
          <a:blip r:embed="rId3"/>
          <a:stretch/>
        </p:blipFill>
        <p:spPr>
          <a:xfrm>
            <a:off x="571680" y="714240"/>
            <a:ext cx="3643200" cy="27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1428840" y="50004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те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"/>
          <p:cNvSpPr/>
          <p:nvPr/>
        </p:nvSpPr>
        <p:spPr>
          <a:xfrm>
            <a:off x="641520" y="142884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ДОУ д/с № 10 «Ягод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5062320" y="1428840"/>
            <a:ext cx="32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ДОУ д/с №  «Колокольч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Диаграмма 4"/>
          <p:cNvGraphicFramePr/>
          <p:nvPr/>
        </p:nvGraphicFramePr>
        <p:xfrm>
          <a:off x="426960" y="1932120"/>
          <a:ext cx="3791160" cy="391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960" y="1932120"/>
                    <a:ext cx="3791160" cy="39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Диаграмма 5"/>
          <p:cNvGraphicFramePr/>
          <p:nvPr/>
        </p:nvGraphicFramePr>
        <p:xfrm>
          <a:off x="5141880" y="2004840"/>
          <a:ext cx="3219480" cy="3848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3" name="Диаграмма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1880" y="2004840"/>
                    <a:ext cx="321948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04:43:20Z</dcterms:created>
  <dc:creator>Пользователь</dc:creator>
  <dc:description/>
  <dc:language>en-US</dc:language>
  <cp:lastModifiedBy>1</cp:lastModifiedBy>
  <dcterms:modified xsi:type="dcterms:W3CDTF">2012-07-01T19:47:09Z</dcterms:modified>
  <cp:revision>142</cp:revision>
  <dc:subject/>
  <dc:title>МДОУ детский сад  общеразвивающего вида № 10 «Ягодка»</dc:title>
</cp:coreProperties>
</file>