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2B1-D6A9-4EED-B5CD-71E3290E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B13-387D-4BD8-9DB0-D7A7DE97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CB7-F86E-4486-B25F-02B3F0C2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08A-8E81-4D8C-8417-81739E6C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4B8-0AF6-4BBF-B01F-DDEFE9B5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152-A9C7-49F4-B531-32B0100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F05-E541-4ABE-92A7-83454CBB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A06-0A61-4D7A-83E6-33B45C69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E67-CA7B-4332-94F1-7B1B5969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D47-3D04-4A9B-9039-8CF5D9D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815-4915-4A3F-94BC-72D7BBB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121-9321-4377-9EE7-DAD1EB0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D06D-B5F4-4741-BD09-F55D893AA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Персонажи славянской мифологии в художественной литерат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f_14632299.jpg"/>
          <p:cNvPicPr/>
          <p:nvPr/>
        </p:nvPicPr>
        <p:blipFill>
          <a:blip r:embed="rId1"/>
          <a:stretch/>
        </p:blipFill>
        <p:spPr>
          <a:xfrm>
            <a:off x="2643120" y="2143080"/>
            <a:ext cx="44290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— властитель над лесными зверями. Всего более он любит медвед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ь караулит лешего, когда тот ляжет спать, и оберегает его от нападения водя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Leshi_3.jpg"/>
          <p:cNvPicPr/>
          <p:nvPr/>
        </p:nvPicPr>
        <p:blipFill>
          <a:blip r:embed="rId1"/>
          <a:stretch/>
        </p:blipFill>
        <p:spPr>
          <a:xfrm>
            <a:off x="5003640" y="3141720"/>
            <a:ext cx="37879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Славянская мифология значительно обогатила мировую художественную литерат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kriz-art1-dazdbog.jpg"/>
          <p:cNvPicPr/>
          <p:nvPr/>
        </p:nvPicPr>
        <p:blipFill>
          <a:blip r:embed="rId1"/>
          <a:stretch/>
        </p:blipFill>
        <p:spPr>
          <a:xfrm>
            <a:off x="2928960" y="20718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ы русалки, бабы-Яги, лешего и многих других мы можем встретить в произведениях таких известных писателей, как А.С.Пушкин, Н.В.Гоголь, В.А.Жуковски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. Х. Андерсен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еральд Даррелл, Джоан Роулинг</a:t>
            </a: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.jpg"/>
          <p:cNvPicPr/>
          <p:nvPr/>
        </p:nvPicPr>
        <p:blipFill>
          <a:blip r:embed="rId1"/>
          <a:stretch/>
        </p:blipFill>
        <p:spPr>
          <a:xfrm>
            <a:off x="5572080" y="4071960"/>
            <a:ext cx="1884240" cy="2583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cardim016.jpg"/>
          <p:cNvPicPr/>
          <p:nvPr/>
        </p:nvPicPr>
        <p:blipFill>
          <a:blip r:embed="rId2"/>
          <a:stretch/>
        </p:blipFill>
        <p:spPr>
          <a:xfrm>
            <a:off x="3500280" y="2714760"/>
            <a:ext cx="1909800" cy="2714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s320x240.jpeg"/>
          <p:cNvPicPr/>
          <p:nvPr/>
        </p:nvPicPr>
        <p:blipFill>
          <a:blip r:embed="rId3"/>
          <a:stretch/>
        </p:blipFill>
        <p:spPr>
          <a:xfrm>
            <a:off x="7400880" y="1928880"/>
            <a:ext cx="1743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0_19fa8_c1c96969_L.jpeg"/>
          <p:cNvPicPr/>
          <p:nvPr/>
        </p:nvPicPr>
        <p:blipFill>
          <a:blip r:embed="rId4"/>
          <a:stretch/>
        </p:blipFill>
        <p:spPr>
          <a:xfrm>
            <a:off x="0" y="1857240"/>
            <a:ext cx="189216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22c61899f97f.jpg"/>
          <p:cNvPicPr/>
          <p:nvPr/>
        </p:nvPicPr>
        <p:blipFill>
          <a:blip r:embed="rId5"/>
          <a:stretch/>
        </p:blipFill>
        <p:spPr>
          <a:xfrm>
            <a:off x="1285920" y="4000680"/>
            <a:ext cx="2162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Родина – это всё и, прежде всего, язык,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древняя история своей страны, её пред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родные песни и сказания, память о предках…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В.Астафьев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персонажами славянской мифолог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ледить связь современной литературы с мифологией древних славя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сохранению исторического наследия славянского на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АЛКА —мифологическое и фольклорное человекоподобное существо, преимущественно женского пола (или дух), связанное с водоём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4640cbdfc85b.jpg"/>
          <p:cNvPicPr/>
          <p:nvPr/>
        </p:nvPicPr>
        <p:blipFill>
          <a:blip r:embed="rId2"/>
          <a:stretch/>
        </p:blipFill>
        <p:spPr>
          <a:xfrm>
            <a:off x="4357800" y="3857760"/>
            <a:ext cx="421488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ысокая, красивая девушка, с длинными светлыми волосами, живущая на дне водо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чью она вместе с подругами плещется на поверхности воды, садится на мельничное колесо, ныр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родным поверьям в сосновом бору существуют деревья, вокруг которых не растёт трава, поскольку здесь часто водят хороводы руса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́ба-Яга́ — персонаж славянской мифологии, старуха-чародейка, наделённая магической силой, ведунья, оборот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167176569.jpg"/>
          <p:cNvPicPr/>
          <p:nvPr/>
        </p:nvPicPr>
        <p:blipFill>
          <a:blip r:embed="rId2"/>
          <a:stretch/>
        </p:blipFill>
        <p:spPr>
          <a:xfrm>
            <a:off x="4286160" y="3000240"/>
            <a:ext cx="30006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умеет колдовать, летать в ступе, живёт в лесу, в избушке на курьих ножках, окружённой забором из человеческих костей с черепами. Она заманивает к себе добрых молодцев и маленьких дете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всего она обитает в дремучем лесу, который издавна вселял страх в людей, поскольку воспринимался как граница между миром мертвых и живых. Да и сама она зовется «Баба-Яга -костяная ног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2920"/>
            <a:ext cx="40435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 старая колдунья не ходит пешком, а разъезжает по белу свету в железной ступе. Служат ей лягушки, черные коты, в их числе Кот Баюн, вороны и змеи: все существа, в которых уживается и угроза, и мудр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kids__069.jpg"/>
          <p:cNvPicPr/>
          <p:nvPr/>
        </p:nvPicPr>
        <p:blipFill>
          <a:blip r:embed="rId1"/>
          <a:stretch/>
        </p:blipFill>
        <p:spPr>
          <a:xfrm>
            <a:off x="4621320" y="285840"/>
            <a:ext cx="430848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285560"/>
            <a:ext cx="84009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— хозяин леса в мифологических представлениях славянских народ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92a510ee74ff758aa66e804a807eeb77.jpg"/>
          <p:cNvPicPr/>
          <p:nvPr/>
        </p:nvPicPr>
        <p:blipFill>
          <a:blip r:embed="rId2"/>
          <a:stretch/>
        </p:blipFill>
        <p:spPr>
          <a:xfrm>
            <a:off x="1785960" y="2400480"/>
            <a:ext cx="5429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е названия: лесовик, лесник, лешак, лесной дядя, лисун . Место жительства духа — глухая лесная чащоба, но иногда и пусты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похож на дряхлого старика с козлиными ногами и бородой : волосы у него длинные серо-зеленые, а глаза как два изумруда — горят зеленым огн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главный хозяин леса. К хорошим людям относится хорошо, помогает выйти из леса, к не слишком хорошим — плохо: путает, заставляет ходить круг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3:01:00Z</dcterms:created>
  <dc:creator>ACER</dc:creator>
  <dc:description/>
  <dc:language>en-US</dc:language>
  <cp:lastModifiedBy>ACER</cp:lastModifiedBy>
  <dcterms:modified xsi:type="dcterms:W3CDTF">2012-07-02T10:19:48Z</dcterms:modified>
  <cp:revision>93</cp:revision>
  <dc:subject/>
  <dc:title>Слайд 1</dc:title>
</cp:coreProperties>
</file>