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CB5-A4D3-43BA-A9B1-7EB949DA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5D5-A34A-427D-96CE-A9C026F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A67-34C4-4348-A946-BB253993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818-3BE6-421E-8E09-6CCCF852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B52-849E-4652-BE94-C5EDB4B4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55A-3853-4438-A358-D4885AB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5D3-DB60-4897-BBAD-C72A5824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359-5EF1-44C0-A4D6-433F183A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D26-A4C7-40BD-882A-3ED7417D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63C-0028-4CF6-BFED-26AC54FF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05F-016D-4784-AE91-6700885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600-BDBE-4815-8713-D0C0C20D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5B25-677C-42C8-B7B0-96B907778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Персонажи славянской мифологии в художественной литерат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3" descr="f_14632299.jpg"/>
          <p:cNvPicPr/>
          <p:nvPr/>
        </p:nvPicPr>
        <p:blipFill>
          <a:blip r:embed="rId1"/>
          <a:stretch/>
        </p:blipFill>
        <p:spPr>
          <a:xfrm>
            <a:off x="2643120" y="2143080"/>
            <a:ext cx="44290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— властитель над лесными зверями. Всего более он любит медвед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дь караулит лешего, когда тот ляжет спать, и оберегает его от нападения водя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Leshi_3.jpg"/>
          <p:cNvPicPr/>
          <p:nvPr/>
        </p:nvPicPr>
        <p:blipFill>
          <a:blip r:embed="rId1"/>
          <a:stretch/>
        </p:blipFill>
        <p:spPr>
          <a:xfrm>
            <a:off x="5003640" y="3141720"/>
            <a:ext cx="37879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Monotype Corsiva"/>
              </a:rPr>
              <a:t>Славянская мифология значительно обогатила мировую художественную литерат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kriz-art1-dazdbog.jpg"/>
          <p:cNvPicPr/>
          <p:nvPr/>
        </p:nvPicPr>
        <p:blipFill>
          <a:blip r:embed="rId1"/>
          <a:stretch/>
        </p:blipFill>
        <p:spPr>
          <a:xfrm>
            <a:off x="2928960" y="2071800"/>
            <a:ext cx="367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разы русалки, бабы-Яги, лешего и многих других мы можем встретить в произведениях таких известных писателей, как А.С.Пушкин, Н.В.Гоголь, В.А.Жуковски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. Х. Андерсен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еральд Даррелл, Джоан Роулинг</a:t>
            </a:r>
            <a:br>
              <a:rPr sz="2800"/>
            </a:b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2.jpg"/>
          <p:cNvPicPr/>
          <p:nvPr/>
        </p:nvPicPr>
        <p:blipFill>
          <a:blip r:embed="rId1"/>
          <a:stretch/>
        </p:blipFill>
        <p:spPr>
          <a:xfrm>
            <a:off x="5572080" y="4071960"/>
            <a:ext cx="1884240" cy="2583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cardim016.jpg"/>
          <p:cNvPicPr/>
          <p:nvPr/>
        </p:nvPicPr>
        <p:blipFill>
          <a:blip r:embed="rId2"/>
          <a:stretch/>
        </p:blipFill>
        <p:spPr>
          <a:xfrm>
            <a:off x="3500280" y="2714760"/>
            <a:ext cx="1909800" cy="27144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s320x240.jpeg"/>
          <p:cNvPicPr/>
          <p:nvPr/>
        </p:nvPicPr>
        <p:blipFill>
          <a:blip r:embed="rId3"/>
          <a:stretch/>
        </p:blipFill>
        <p:spPr>
          <a:xfrm>
            <a:off x="7400880" y="1928880"/>
            <a:ext cx="1743120" cy="228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0_19fa8_c1c96969_L.jpeg"/>
          <p:cNvPicPr/>
          <p:nvPr/>
        </p:nvPicPr>
        <p:blipFill>
          <a:blip r:embed="rId4"/>
          <a:stretch/>
        </p:blipFill>
        <p:spPr>
          <a:xfrm>
            <a:off x="0" y="1857240"/>
            <a:ext cx="189216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22c61899f97f.jpg"/>
          <p:cNvPicPr/>
          <p:nvPr/>
        </p:nvPicPr>
        <p:blipFill>
          <a:blip r:embed="rId5"/>
          <a:stretch/>
        </p:blipFill>
        <p:spPr>
          <a:xfrm>
            <a:off x="1285920" y="4000680"/>
            <a:ext cx="2162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Родина – это всё и, прежде всего, язык,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древняя история своей страны, её пред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родные песни и сказания, память о предках…»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В.Астафьев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персонажами славянской мифолог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ледить связь современной литературы с мифологией древних славя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собствовать сохранению исторического наследия славянского нар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САЛКА —мифологическое и фольклорное человекоподобное существо, преимущественно женского пола (или дух), связанное с водоём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4" descr="4640cbdfc85b.jpg"/>
          <p:cNvPicPr/>
          <p:nvPr/>
        </p:nvPicPr>
        <p:blipFill>
          <a:blip r:embed="rId2"/>
          <a:stretch/>
        </p:blipFill>
        <p:spPr>
          <a:xfrm>
            <a:off x="4357800" y="3857760"/>
            <a:ext cx="421488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высокая, красивая девушка, с длинными светлыми волосами, живущая на дне водо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чью она вместе с подругами плещется на поверхности воды, садится на мельничное колесо, ныр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родным поверьям в сосновом бору существуют деревья, вокруг которых не растёт трава, поскольку здесь часто водят хороводы русал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́ба-Яга́ — персонаж славянской мифологии, старуха-чародейка, наделённая магической силой, ведунья, оборот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167176569.jpg"/>
          <p:cNvPicPr/>
          <p:nvPr/>
        </p:nvPicPr>
        <p:blipFill>
          <a:blip r:embed="rId2"/>
          <a:stretch/>
        </p:blipFill>
        <p:spPr>
          <a:xfrm>
            <a:off x="4286160" y="3000240"/>
            <a:ext cx="30006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умеет колдовать, летать в ступе, живёт в лесу, в избушке на курьих ножках, окружённой забором из человеческих костей с черепами. Она заманивает к себе добрых молодцев и маленьких дете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ще всего она обитает в дремучем лесу, который издавна вселял страх в людей, поскольку воспринимался как граница между миром мертвых и живых. Да и сама она зовется «Баба-Яга -костяная ног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2920"/>
            <a:ext cx="40435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 старая колдунья не ходит пешком, а разъезжает по белу свету в железной ступе. Служат ей лягушки, черные коты, в их числе Кот Баюн, вороны и змеи: все существа, в которых уживается и угроза, и мудр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kids__069.jpg"/>
          <p:cNvPicPr/>
          <p:nvPr/>
        </p:nvPicPr>
        <p:blipFill>
          <a:blip r:embed="rId1"/>
          <a:stretch/>
        </p:blipFill>
        <p:spPr>
          <a:xfrm>
            <a:off x="4621320" y="285840"/>
            <a:ext cx="430848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285560"/>
            <a:ext cx="84009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— хозяин леса в мифологических представлениях славянских народ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92a510ee74ff758aa66e804a807eeb77.jpg"/>
          <p:cNvPicPr/>
          <p:nvPr/>
        </p:nvPicPr>
        <p:blipFill>
          <a:blip r:embed="rId2"/>
          <a:stretch/>
        </p:blipFill>
        <p:spPr>
          <a:xfrm>
            <a:off x="1785960" y="2400480"/>
            <a:ext cx="5429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е названия: лесовик, лесник, лешак, лесной дядя, лисун . Место жительства духа — глухая лесная чащоба, но иногда и пустыр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ший похож на дряхлого старика с козлиными ногами и бородой : волосы у него длинные серо-зеленые, а глаза как два изумруда — горят зеленым огн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главный хозяин леса. К хорошим людям относится хорошо, помогает выйти из леса, к не слишком хорошим — плохо: путает, заставляет ходить кругам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3:01:00Z</dcterms:created>
  <dc:creator>ACER</dc:creator>
  <dc:description/>
  <dc:language>en-US</dc:language>
  <cp:lastModifiedBy>ACER</cp:lastModifiedBy>
  <dcterms:modified xsi:type="dcterms:W3CDTF">2012-07-02T10:19:48Z</dcterms:modified>
  <cp:revision>93</cp:revision>
  <dc:subject/>
  <dc:title>Слайд 1</dc:title>
</cp:coreProperties>
</file>