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AD7-844B-4FD9-9BCE-4346BD41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97E-6344-4E91-B38A-0003B7B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F45-ACBD-4252-8DA9-5DE06BD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682-3E08-4C61-AE45-28F4D206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278-35B1-4EDB-A47A-9DFA5F70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B26-B2C4-443F-AF67-5BAE822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B9D-ACFF-4A61-B98C-AE03937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07F-C0A2-4CEF-9E07-791A9E2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A02-54BE-41E7-A929-00E846F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362-24C6-4BD8-B93F-868B691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FD1E-E96F-46EB-A584-8D43B0D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CC7-0150-450D-B6F0-B2E2069A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027-3921-4CF0-9FA7-ED624D08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6F37-3090-4235-888A-14E2601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7903-CCDC-4063-A644-5B1586C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4739-9FCE-425C-BC64-02DC0944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2D44-99FA-48A1-8EE4-881C572E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BD64-C8C6-4CFF-A565-4F9E143D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27AE-B8CE-4B65-A97B-5E359BF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8525-D0B0-4632-808D-DE7E89E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CC44-3D9A-4C98-9306-6565F4C1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369D-096C-4481-90EC-36317EA6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75B-F667-4B85-A0D8-9DA5C94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C819-01E0-483A-9199-B57F1E9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36C7-A96D-4FC2-A752-4BD2B47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FC5B-B7D7-43FD-A765-7E8C1D8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7266-B60B-4E48-AC0C-097A3DA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C4B3-9886-4979-A5A4-18D6AE2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36CA-8431-4F45-949C-3EBCDD47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7A1F-6918-41A6-A7CE-2613D777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8A39-E3F7-470B-9F6D-7BD16A99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9011-90D6-4061-9F84-6E18B8F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D3DE-D53D-4E9C-9AD6-F2184DFD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EA0-DCC1-418B-8837-E2068BCF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3D15-D4E2-4A08-9380-52DE913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0AF1-CAF2-4E95-85C0-B0E11E9A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3C34-72E3-4E0B-88A7-CB67B2D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AD40-F6F6-45E2-B060-02B2CC6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3047-BA85-4395-9C97-AC25278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850B-8AD3-4078-91E0-069A12B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4801-1F04-4B89-AC2F-127874C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174B-61A5-4DC8-8870-D5424583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4000-6042-45C8-A082-98F25C4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CF8-D03F-4E98-AF45-854E3E8D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6BD-AD90-4DF2-A653-B485F6B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5B8-1995-4430-B22C-58B9412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C03-9E47-4793-B400-8DA750D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D11-F707-4D1A-B9CE-43DD891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50F3-F862-4A26-8560-0209107AB01B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AB5-5F26-420C-B8E8-FAA43B681A59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5FF-9252-4369-80FF-B1AAA8CFEBC0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F5D-6427-4BC2-ABC1-50CE33CDFEC4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47840"/>
            <a:ext cx="7864560" cy="1859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986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оздание кластера при изучении повести Н. М. Карамзин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дная Лиза»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143000" y="4500720"/>
            <a:ext cx="7500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а Т.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с. Куть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бурас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93560" y="237960"/>
            <a:ext cx="7785360" cy="1170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71680" y="192888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«…Лиза!  Обстоятельства переменились; я помолвился жениться; ты должна оставить меня в покое и для собственного своего спокойствия забыть меня. Я любил тебя и теперь люблю, то есть желаю тебе всякого добра….»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…</a:t>
            </a: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.он вывел ее из кабинета и сказал слуге: «проводи эту девушку со двора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Constantia"/>
              </a:rPr>
              <a:t>«Он, он выгнал меня? Он любит другую? Я погибла!» - вот ее мысли, ее чувства!...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Овал 3"/>
          <p:cNvSpPr/>
          <p:nvPr/>
        </p:nvSpPr>
        <p:spPr>
          <a:xfrm>
            <a:off x="4357800" y="928800"/>
            <a:ext cx="4143240" cy="13572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чины самоубийства Л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5"/>
          <p:cNvSpPr/>
          <p:nvPr/>
        </p:nvSpPr>
        <p:spPr>
          <a:xfrm>
            <a:off x="4143240" y="4071960"/>
            <a:ext cx="2571840" cy="7142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теря смысл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6"/>
          <p:cNvSpPr/>
          <p:nvPr/>
        </p:nvSpPr>
        <p:spPr>
          <a:xfrm>
            <a:off x="1571760" y="3500280"/>
            <a:ext cx="26431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мена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7"/>
          <p:cNvSpPr/>
          <p:nvPr/>
        </p:nvSpPr>
        <p:spPr>
          <a:xfrm>
            <a:off x="285840" y="2286000"/>
            <a:ext cx="2500200" cy="9288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гкомыслие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8"/>
          <p:cNvSpPr/>
          <p:nvPr/>
        </p:nvSpPr>
        <p:spPr>
          <a:xfrm>
            <a:off x="1214280" y="1000080"/>
            <a:ext cx="20005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юбовь к Эра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9"/>
          <p:cNvSpPr/>
          <p:nvPr/>
        </p:nvSpPr>
        <p:spPr>
          <a:xfrm>
            <a:off x="5572080" y="3071880"/>
            <a:ext cx="2357640" cy="7142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манутое дове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11"/>
          <p:cNvCxnSpPr>
            <a:endCxn id="264" idx="6"/>
          </p:cNvCxnSpPr>
          <p:nvPr/>
        </p:nvCxnSpPr>
        <p:spPr>
          <a:xfrm flipH="1" flipV="1">
            <a:off x="3214080" y="1391760"/>
            <a:ext cx="1215000" cy="37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7" name="Прямая со стрелкой 16"/>
          <p:cNvCxnSpPr/>
          <p:nvPr/>
        </p:nvCxnSpPr>
        <p:spPr>
          <a:xfrm flipH="1">
            <a:off x="2571120" y="1785960"/>
            <a:ext cx="185796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8" name="Прямая со стрелкой 18"/>
          <p:cNvCxnSpPr>
            <a:endCxn id="262" idx="7"/>
          </p:cNvCxnSpPr>
          <p:nvPr/>
        </p:nvCxnSpPr>
        <p:spPr>
          <a:xfrm flipH="1">
            <a:off x="3826800" y="1999800"/>
            <a:ext cx="959400" cy="16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9" name="Прямая со стрелкой 20"/>
          <p:cNvCxnSpPr>
            <a:endCxn id="261" idx="0"/>
          </p:cNvCxnSpPr>
          <p:nvPr/>
        </p:nvCxnSpPr>
        <p:spPr>
          <a:xfrm>
            <a:off x="5285160" y="2143080"/>
            <a:ext cx="143640" cy="192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Прямая со стрелкой 22"/>
          <p:cNvCxnSpPr/>
          <p:nvPr/>
        </p:nvCxnSpPr>
        <p:spPr>
          <a:xfrm>
            <a:off x="5929200" y="2285640"/>
            <a:ext cx="572400" cy="786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783200" cy="1017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Для Карамзина, как писателя-сентименталиста, чувства важнее и сильнее разума. Именно они делают человека человеком, если они чисты и благород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- Может быть и вам предстоит в жизни делать выбор между рассудком и чувствами. В наш прогматичный век часто побеждает рассудок (и даже расчёт). Классическая же литература напоминает нам, что без настоящих чувств человек теряет душу и вряд ли будет счастлив (что и произошло с Эрастом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Хотя Карамзин и предупреждает: “Исполнение всех желаний есть самое опасное искушение любви”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Писатели часто затрагивают проблему борьбы чувств и разума, но не дают ответа, ведь “тайна сия велика есть”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566640" y="566640"/>
            <a:ext cx="778536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00040" y="1928880"/>
            <a:ext cx="7772400" cy="329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акие образы, взятые из природы, характеризуют героев повести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чьи уста вкладывает автор рассуждения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 чем связаны мысли Эраста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акова позиция автора? Осуждает ли он своих героев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ак что же побеждает в повести: рассудок или любовь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втор, возрождая к жизни Эраста, провозглашает победу любви и остаётся в нашей читательской памяти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7785360" cy="1378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8066160" cy="774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428720" y="1428480"/>
            <a:ext cx="437364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весть написана  в 1792 году 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1796 году «Бедная Лиза» вышла отдельной книго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Бедная Лиза» потому и была принята русской публикой с таким восторгом, что в этом произведении Карамзин первый у нас высказал то «новое слово». Таким «новым словом» было в повести самоубийство героин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конце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XVIII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– начале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XIX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. появляются  и  такие произведения, как «Наталья, боярская дочь», «Юлия», «Марфа-посадница» и др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врчество Н. М. Карамзина сыграло выдающуюся роль в историии русской литературы. А. С. Пушкин, с малых лет ценивший и отличавший его от всех других писателей, говорил: «чистая, высокая слава Карамзина принадлежит России…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C:\Users\Acer\Desktop\104px-%D0%9A%D0%B8%D0%BF%D1%80%D0%B5%D0%BD%D1%81%D0%BA%D0%B8%D0%B9_%D0%B1%D0%B5%D0%B4%D0%BD%D0%B0%D1%8F_%D0%BB%D0%B8%D0%B7%D0%B0.jpg"/>
          <p:cNvPicPr/>
          <p:nvPr/>
        </p:nvPicPr>
        <p:blipFill>
          <a:blip r:embed="rId2"/>
          <a:stretch/>
        </p:blipFill>
        <p:spPr>
          <a:xfrm>
            <a:off x="928800" y="207180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-115920" y="420840"/>
            <a:ext cx="8253360" cy="1438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14800" y="1785960"/>
            <a:ext cx="557208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 нежная улыбка пробежала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Красавицы на пламенных устах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 вот она с томлением в глазах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К любезному в объятия упала...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"Будь счастлива!" - Эрот ей прошептал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Рассудок что ж? Рассудок уж молча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А. С. Пушкин «Рассудок и любовь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0040" y="2786040"/>
            <a:ext cx="807264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втор подчёркивает, что действие происходит именно в Москве и её окрестностях, описывает, например, Симонов монастырь, создавая иллюзию достоверности. Для русской литературы того времени это было новаторством: обычно действие произведений разворачивалось «в одном городе». Первые читатели повести восприняли историю Лизы как реальную трагедию современницы — не случайно пруд под стенами Симонова монастыря получил название Лизина пруда, а судьба героини Карамзина — массу подражаний. Росшие вокруг пруда дубы были испещрены трогательными надписями (</a:t>
            </a: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«В струях сих бедная скончала Лиза дни; Коль ты чувствителен, прохожий, воздохни!»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….тут образ Богоматери обращает наприятелей в бегство…..но всего чаще  привлекает меня к стенам Симонова монастыря воспоминание о плачевной судьбе Лизы, бедной Лизы. Ах!...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Рисунок 5" descr="http://upload.wikimedia.org/wikipedia/commons/thumb/4/42/Simonov_monastery_01.jpg/200px-Simonov_monastery_01.jpg"/>
          <p:cNvPicPr/>
          <p:nvPr/>
        </p:nvPicPr>
        <p:blipFill>
          <a:blip r:embed="rId1"/>
          <a:stretch/>
        </p:blipFill>
        <p:spPr>
          <a:xfrm>
            <a:off x="3429000" y="214200"/>
            <a:ext cx="2928960" cy="17859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928880" y="207180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Значение Симонова монастыря в повести «Бедная Ли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6640" y="19512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357192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Лиза пришла в Москву с ландышами. Молодой, хорошо одетый человек, приятного вида, встретился ей на улице. Она показала ему цветы – и закраснелась. «Ты продаешь их, девушка?» – спросил он с улыбкою. – «Продаю», - отвечала она. – «А что тебе надобно?» – «Пять копеек».- «Это слишком дешево…….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1" descr="Файл:Бедная Лиза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492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3"/>
          <p:cNvSpPr/>
          <p:nvPr/>
        </p:nvSpPr>
        <p:spPr>
          <a:xfrm>
            <a:off x="1857240" y="571680"/>
            <a:ext cx="5857920" cy="1214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ерои п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4"/>
          <p:cNvSpPr/>
          <p:nvPr/>
        </p:nvSpPr>
        <p:spPr>
          <a:xfrm>
            <a:off x="0" y="2071800"/>
            <a:ext cx="30718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5"/>
          <p:cNvSpPr/>
          <p:nvPr/>
        </p:nvSpPr>
        <p:spPr>
          <a:xfrm>
            <a:off x="6143760" y="2286000"/>
            <a:ext cx="271440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5857920" y="3929040"/>
            <a:ext cx="2643120" cy="857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500040" y="4071960"/>
            <a:ext cx="2714760" cy="7142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ть Л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4429080" y="5786280"/>
            <a:ext cx="321480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гатая в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2"/>
          <p:cNvCxnSpPr/>
          <p:nvPr/>
        </p:nvCxnSpPr>
        <p:spPr>
          <a:xfrm flipH="1">
            <a:off x="2142360" y="1641960"/>
            <a:ext cx="786600" cy="429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6" name="Прямая со стрелкой 14"/>
          <p:cNvCxnSpPr/>
          <p:nvPr/>
        </p:nvCxnSpPr>
        <p:spPr>
          <a:xfrm>
            <a:off x="6499800" y="1714320"/>
            <a:ext cx="57204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7" name="Прямая со стрелкой 16"/>
          <p:cNvCxnSpPr/>
          <p:nvPr/>
        </p:nvCxnSpPr>
        <p:spPr>
          <a:xfrm>
            <a:off x="5429160" y="1785960"/>
            <a:ext cx="1000800" cy="2215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8" name="Прямая со стрелкой 18"/>
          <p:cNvCxnSpPr/>
          <p:nvPr/>
        </p:nvCxnSpPr>
        <p:spPr>
          <a:xfrm flipH="1">
            <a:off x="2071080" y="1714680"/>
            <a:ext cx="1572120" cy="235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9" name="Прямая со стрелкой 20"/>
          <p:cNvCxnSpPr>
            <a:endCxn id="214" idx="0"/>
          </p:cNvCxnSpPr>
          <p:nvPr/>
        </p:nvCxnSpPr>
        <p:spPr>
          <a:xfrm>
            <a:off x="4999680" y="1785960"/>
            <a:ext cx="1037160" cy="40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0" name="Овал 22"/>
          <p:cNvSpPr/>
          <p:nvPr/>
        </p:nvSpPr>
        <p:spPr>
          <a:xfrm>
            <a:off x="1714680" y="5000760"/>
            <a:ext cx="2643120" cy="7855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дружка Аню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27"/>
          <p:cNvCxnSpPr/>
          <p:nvPr/>
        </p:nvCxnSpPr>
        <p:spPr>
          <a:xfrm flipH="1">
            <a:off x="3642480" y="1785960"/>
            <a:ext cx="786600" cy="3286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75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75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775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275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775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275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775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275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775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275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775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275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7785360" cy="1133280"/>
          </a:xfrm>
          <a:prstGeom prst="rect">
            <a:avLst/>
          </a:prstGeom>
          <a:ln w="0">
            <a:noFill/>
          </a:ln>
        </p:spPr>
      </p:pic>
      <p:sp>
        <p:nvSpPr>
          <p:cNvPr id="223" name="Овал 3"/>
          <p:cNvSpPr/>
          <p:nvPr/>
        </p:nvSpPr>
        <p:spPr>
          <a:xfrm>
            <a:off x="3214800" y="185724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5929200" y="2643120"/>
            <a:ext cx="32148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руд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5"/>
          <p:cNvSpPr/>
          <p:nvPr/>
        </p:nvSpPr>
        <p:spPr>
          <a:xfrm>
            <a:off x="6000840" y="4071960"/>
            <a:ext cx="264312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рм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6"/>
          <p:cNvSpPr/>
          <p:nvPr/>
        </p:nvSpPr>
        <p:spPr>
          <a:xfrm>
            <a:off x="428760" y="5072040"/>
            <a:ext cx="25002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жеская ми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0" y="3786120"/>
            <a:ext cx="221472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да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8"/>
          <p:cNvSpPr/>
          <p:nvPr/>
        </p:nvSpPr>
        <p:spPr>
          <a:xfrm>
            <a:off x="785880" y="2643120"/>
            <a:ext cx="2000160" cy="5716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9"/>
          <p:cNvSpPr/>
          <p:nvPr/>
        </p:nvSpPr>
        <p:spPr>
          <a:xfrm>
            <a:off x="3071880" y="5572080"/>
            <a:ext cx="235728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юб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11"/>
          <p:cNvCxnSpPr>
            <a:stCxn id="223" idx="2"/>
            <a:endCxn id="228" idx="7"/>
          </p:cNvCxnSpPr>
          <p:nvPr/>
        </p:nvCxnSpPr>
        <p:spPr>
          <a:xfrm flipH="1">
            <a:off x="2491560" y="2248560"/>
            <a:ext cx="72324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1" name="Прямая со стрелкой 13"/>
          <p:cNvCxnSpPr/>
          <p:nvPr/>
        </p:nvCxnSpPr>
        <p:spPr>
          <a:xfrm flipH="1">
            <a:off x="1928160" y="2500200"/>
            <a:ext cx="150084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2" name="Прямая со стрелкой 16"/>
          <p:cNvCxnSpPr/>
          <p:nvPr/>
        </p:nvCxnSpPr>
        <p:spPr>
          <a:xfrm flipH="1">
            <a:off x="2356560" y="2571840"/>
            <a:ext cx="1429560" cy="257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3" name="Прямая со стрелкой 18"/>
          <p:cNvCxnSpPr>
            <a:endCxn id="229" idx="0"/>
          </p:cNvCxnSpPr>
          <p:nvPr/>
        </p:nvCxnSpPr>
        <p:spPr>
          <a:xfrm flipH="1">
            <a:off x="4249440" y="2643120"/>
            <a:ext cx="108720" cy="292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4" name="Прямая со стрелкой 20"/>
          <p:cNvCxnSpPr>
            <a:stCxn id="223" idx="5"/>
            <a:endCxn id="225" idx="1"/>
          </p:cNvCxnSpPr>
          <p:nvPr/>
        </p:nvCxnSpPr>
        <p:spPr>
          <a:xfrm>
            <a:off x="5469480" y="2529000"/>
            <a:ext cx="918360" cy="163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5" name="Прямая со стрелкой 22"/>
          <p:cNvCxnSpPr>
            <a:endCxn id="224" idx="1"/>
          </p:cNvCxnSpPr>
          <p:nvPr/>
        </p:nvCxnSpPr>
        <p:spPr>
          <a:xfrm>
            <a:off x="5785920" y="2357280"/>
            <a:ext cx="615240" cy="4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6" name="Овал 15"/>
          <p:cNvSpPr/>
          <p:nvPr/>
        </p:nvSpPr>
        <p:spPr>
          <a:xfrm>
            <a:off x="5214960" y="4929120"/>
            <a:ext cx="2143080" cy="71460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24"/>
          <p:cNvCxnSpPr>
            <a:endCxn id="236" idx="1"/>
          </p:cNvCxnSpPr>
          <p:nvPr/>
        </p:nvCxnSpPr>
        <p:spPr>
          <a:xfrm>
            <a:off x="4856760" y="2642760"/>
            <a:ext cx="672120" cy="2391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75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75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75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75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95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5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275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775"/>
                            </p:stCondLst>
                            <p:childTnLst>
                              <p:par>
                                <p:cTn id="3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475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975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25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325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566640" y="0"/>
            <a:ext cx="7785360" cy="131112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3"/>
          <p:cNvSpPr/>
          <p:nvPr/>
        </p:nvSpPr>
        <p:spPr>
          <a:xfrm>
            <a:off x="3071880" y="314316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5643720" y="1928880"/>
            <a:ext cx="314316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любила  матуш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786040" y="1357200"/>
            <a:ext cx="271476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удолюб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3286080" y="5643720"/>
            <a:ext cx="335772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амоотверж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6643800" y="3286080"/>
            <a:ext cx="2286000" cy="6429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об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357120" y="3714840"/>
            <a:ext cx="21430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9"/>
          <p:cNvSpPr/>
          <p:nvPr/>
        </p:nvSpPr>
        <p:spPr>
          <a:xfrm>
            <a:off x="6000840" y="4572000"/>
            <a:ext cx="250020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служл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10"/>
          <p:cNvSpPr/>
          <p:nvPr/>
        </p:nvSpPr>
        <p:spPr>
          <a:xfrm>
            <a:off x="285840" y="5000760"/>
            <a:ext cx="314316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достная д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571680" y="2071800"/>
            <a:ext cx="228600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ле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4"/>
          <p:cNvCxnSpPr>
            <a:endCxn id="242" idx="0"/>
          </p:cNvCxnSpPr>
          <p:nvPr/>
        </p:nvCxnSpPr>
        <p:spPr>
          <a:xfrm>
            <a:off x="4713840" y="3928680"/>
            <a:ext cx="251640" cy="171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 flipH="1">
            <a:off x="2785320" y="3857400"/>
            <a:ext cx="8578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9"/>
          <p:cNvCxnSpPr>
            <a:stCxn id="239" idx="2"/>
          </p:cNvCxnSpPr>
          <p:nvPr/>
        </p:nvCxnSpPr>
        <p:spPr>
          <a:xfrm flipH="1">
            <a:off x="2285280" y="3535200"/>
            <a:ext cx="78660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1" name="Прямая со стрелкой 22"/>
          <p:cNvCxnSpPr>
            <a:stCxn id="239" idx="1"/>
          </p:cNvCxnSpPr>
          <p:nvPr/>
        </p:nvCxnSpPr>
        <p:spPr>
          <a:xfrm flipH="1" flipV="1">
            <a:off x="2785680" y="2642400"/>
            <a:ext cx="673920" cy="6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2" name="Прямая со стрелкой 25"/>
          <p:cNvCxnSpPr/>
          <p:nvPr/>
        </p:nvCxnSpPr>
        <p:spPr>
          <a:xfrm flipV="1">
            <a:off x="4356720" y="2142720"/>
            <a:ext cx="3708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27"/>
          <p:cNvCxnSpPr>
            <a:stCxn id="239" idx="7"/>
          </p:cNvCxnSpPr>
          <p:nvPr/>
        </p:nvCxnSpPr>
        <p:spPr>
          <a:xfrm flipV="1">
            <a:off x="5326560" y="2499840"/>
            <a:ext cx="60228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29"/>
          <p:cNvCxnSpPr>
            <a:stCxn id="239" idx="6"/>
            <a:endCxn id="243" idx="2"/>
          </p:cNvCxnSpPr>
          <p:nvPr/>
        </p:nvCxnSpPr>
        <p:spPr>
          <a:xfrm>
            <a:off x="5715000" y="3534840"/>
            <a:ext cx="929520" cy="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1"/>
          <p:cNvCxnSpPr>
            <a:stCxn id="239" idx="5"/>
          </p:cNvCxnSpPr>
          <p:nvPr/>
        </p:nvCxnSpPr>
        <p:spPr>
          <a:xfrm>
            <a:off x="5326560" y="3814920"/>
            <a:ext cx="816840" cy="97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19240" y="407880"/>
            <a:ext cx="8600760" cy="15368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ратимся к «Словарю русских личных имен» и узнаем, что значит имя Елизаве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лизавета (др.-евр.)- «Бог-моя клятва», «Богом клянусь»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«Бог мой-клятва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33:33Z</dcterms:created>
  <dc:creator>Acer</dc:creator>
  <dc:description/>
  <dc:language>en-US</dc:language>
  <cp:lastModifiedBy>Acer</cp:lastModifiedBy>
  <dcterms:modified xsi:type="dcterms:W3CDTF">2011-03-21T17:23:02Z</dcterms:modified>
  <cp:revision>38</cp:revision>
  <dc:subject/>
  <dc:title>УРОК ЛИТЕРАТУРЫ "Рассудок и любовь в повести Н.М. Карамзина  «Бедная Лиза»" </dc:title>
</cp:coreProperties>
</file>