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16A-C222-4BDA-9409-36E4EF2C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EDD-1D46-4932-9A11-FCEA0E6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E4B-F3D5-4BFF-995E-BD1B1808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06E-8A05-456B-A9E5-F24AC89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C5BC-D698-452C-BE1C-A427C05C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1BC5-744B-4FDD-9FAF-66F73BD6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22D3-FEB1-48D2-9471-CB942A35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FD5-AC5D-4CDA-88F4-D72D4B2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3824-0DA7-4BB8-B297-A811FD3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32C7-BC4A-40AA-AA67-88CC756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B725-9E9A-42B3-A7BC-F7F83F5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821-FD7B-4212-BEB5-1189B5B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C172-D8E4-45B3-A235-E2BE619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C35C-58D6-47C5-A0FF-F0062764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3914-9105-425F-BB71-B930C9C7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CD3-CECC-4DF1-8BE7-02B9D72B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77D9-75E7-4FDD-8717-F378F78F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741-27D8-4ED5-BC47-E8D97ED3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F08-1DBE-418B-BEA9-D6DBA1BC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D17-036C-4E56-87CF-3865465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CC4-BF65-4AA9-B68F-7E4793D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67C-3F39-403B-BCC1-66FFBA1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C4D-6603-4AFC-A887-2947DA10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D36-98FA-44D6-8B2C-A0F9B5F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AB1D-3787-40AE-86E0-788717D9E88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0DF-EFEB-4E23-8644-7331441EA3F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523880" y="8380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1905120" y="1600200"/>
            <a:ext cx="4876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циклопед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1981080" y="4191120"/>
            <a:ext cx="4443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лице дл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й и взрослы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-46036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657600" y="228600"/>
            <a:ext cx="1095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о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61056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ьшее число гроз бывает во вторую половину лета, причем после полудня, когда поверхность земли более нагрета. Гроза является самым ярким летним явлением природы, но иногда бывает и зимой. Гроза наступает обычно внезапно. При ясной и тихой погоде небосклон быстро заволакивает нагромождающимися друг на друга свинцовыми тучами. Температура воздуха повышается, воздух становится душным и влажным, начинается сильный, порывистый ветер, бывает ливень, сверкает молния и раздается гром. Молния – это электрический разряд, который происходит между сближающимися облаками. Гром – это звук от разряда. Гром безопасен, он вестник того, что молния уже минова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форме и структуре различают молнии линейные, плоские и шаровые. Линейные молнии имеют причудливо – изогнутую форму. Зарницы – это далекие линейные молнии. Шаровые молнии бывают только при сильных грозах и чаще вблизи водоемов. Они перемещаются медленнее, видны несколько секунд, имеют вид светящейся точки (шара) желтоватого цвета, иногда красноватог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ле дождя и грома летом очень часто можно видеть радугу, которая возникает в той стороне, куда ушел дождь. Дуга радуге всегда на стороне, противоположной солнцу. В радуге обычно хорошо видны три основных цвета: красный, зеленый и фиолетовый, переходные цвета слабо видны, всего у радуги 7 цве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АЯ БЫВАЕТ ОПАСНОСТЬ ВО ВРЕМЯ ГРОЗЫ?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роза опасна сильными разрывами молний, которые могут вызвать пожары, расщепление деревьев и возгорание, гибель животных, людей. Электрические провода от ударов молнии могут плавиться, тоже может происходить с камнями, песком, кирпичом. Чаще молнии ударяют в предметы, возвышающиеся среди других. В городе, в деревне – это башни, высокие здания, трубы и другое. В них для защиты от молний ставят громоот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поле, на лугу, на открытых местах молнии часто ударяют в отдельно стоящие деревья, стога сена и другие возвышающиеся предмет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пасны молнии для кораблей и самоле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0" y="91476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адо знать, чтобы избежать опасности во время гро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Лучше находиться в помещении, но закрывать окна и двери и не допускать сквозняков, так как молния обычно проходят в землю по поверхности здания, и может проникнуть в открытые окна в помеще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ыключить наружные антен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о время грозы нельзя пользоваться телефоном с воздушными провод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Нельзя пускать воздушного зме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 деревне, в доме нельзя подходить к топящейся печке, так как горячий дым является проводником электриче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Безопасно оставаться в машине, автобусе, но нужно закрыть ок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Если гроза застала в поле, лучше переждать в низине, в овраге, можно лечь, металлические предметы из рук выброс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Нельзя бежать по полю, стоять под дерев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 лесу укрываться во время грозы лучше под кустарниками, невысокими деревь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Молнии реже поражают из лиственных деревьев – березу, чаще поражается дуб и другие лиственные дерев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Безопаснее стоять шагах в двадцати от дере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 (100)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Изображение 074"/>
          <p:cNvPicPr/>
          <p:nvPr/>
        </p:nvPicPr>
        <p:blipFill>
          <a:blip r:embed="rId1"/>
          <a:stretch/>
        </p:blipFill>
        <p:spPr>
          <a:xfrm>
            <a:off x="0" y="0"/>
            <a:ext cx="5410080" cy="434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_025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IMG_0246"/>
          <p:cNvPicPr/>
          <p:nvPr/>
        </p:nvPicPr>
        <p:blipFill>
          <a:blip r:embed="rId3"/>
          <a:stretch/>
        </p:blipFill>
        <p:spPr>
          <a:xfrm>
            <a:off x="5105520" y="305604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G_0245"/>
          <p:cNvPicPr/>
          <p:nvPr/>
        </p:nvPicPr>
        <p:blipFill>
          <a:blip r:embed="rId4"/>
          <a:stretch/>
        </p:blipFill>
        <p:spPr>
          <a:xfrm>
            <a:off x="1757520" y="3187800"/>
            <a:ext cx="3352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доро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4518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ИСЛОВ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ПОЛНА НЕОЖИДАННОСТЕЙ И ОПАСНОСТ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я на улиц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готовь заране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жливость и сдержаннос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главное, внимание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ей с ранних лет привлекает разнообразие окружающего мира: дома, улицы, движущие по ней пешеходы и транспорт, интересные неизвестные предметы, животные, раст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для ребенка – это яркий мир, полный разнообразных, привлекательных для него явлений, насыщенный интересными событиями, участником которых может стать сам ребенок. А здесь как раз подстерегает его опас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езопасное поведение ребенка на улице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просто сумма усвоенных знани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стиль жизни, адекватное по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зличных ситуациях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Б. Стерк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ознакомления дошкольников с правилами безопасности на улице является одним из важных направлений работы в дошкольных учрежден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– первых, надо дать детям необходимую сумму знаний об общепринятых человеком нормах поведения. Во – вторых, научить адекватно, осознанно действовать в той или иной обстановке, помочь дошкольникам овладеть элементарными навыками поведения на улице, в парке, в транспорте, в лес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10400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– третьих, развивать у дошкольников самостоятельность и ответствен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важно научить ребенка объяснять собственное поведение. Если он может объяснить, как он вел себя, хорошо или плохо, почему это с ним случилось и что при этом он чувствует, тогда он лучше сможет понять, что он делает не так. Ребенок, который может объяснить, что с ним происходит, помогает нам, взрослым, лучше понять его, а значит, снимает многие проблемы и неприят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е задач обеспечения безопасного, здорового образа жизни возможно лишь при постоянном общении взрослого и ребенка на равных: вместе ищем выхода из трудного положения, вместе обсуждаем проблему, ведем диалог, вместе познаем, делаем открытия, удивляем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логи давно установили, что дети в силу своих возрастных психологических особенностей не всегда могут правильно оценивать обстановку на дороге. Французский психолог Дюваль утверждае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ети – это не взрослые в миниатю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х реакция на опасность очень отличается от нашей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 8 лет еще плохо распознает источники звуков, и слышит он только звуки, которые ему интересны. В то время как взрослые, оценивая ситуацию на дороге, слышат, откуда доносится шум приближающейся машины, детям значительно труднее определить его на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0" y="76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е зрения ребенка гораздо уже, чем у взрослого. Когда ребенок бежит, то смотрят только вперед и видят только то, что находится напроти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кция у ребенка по сравнению с взрослым более замедленная.                                          Времени на то, чтобы отреагировать на опасность, ему нужно значительно бол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ыши не в состоянии на бегу сразу же остановиться, поэтому на крик или сигнал автомобиля они реагируют со значительным опозданием. Мозг маленьких детей не в состоянии уловить одновременно более одного явления. Внимание ребенка сосредоточено на том, что он делает. Он может в одно мгновение  сорваться и побежать через дорогу. Беспечность детей на дороге зависит от нас – взрослы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частные случаи, происходящие  в природных условиях, плохо освещаются и кажутся редкими. Поэтому из – за недостатка знаний, взрослые часто недооценивают всех опасностей в этой обл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тя считается общепризнанным, что пребывание на воде предоставляет собой повышенную опасность, не все имеют четкое представление, в чем именно она заключается. Обследования дна в местах купания во избежание  травмирующего столкновения с предметами. Слежение за временем купания и температурой воды для исключения возможности переохлаждения, эти и другие меры безопасности – все это зачастую игнорируют даже в отношении д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50220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рослые часто не уделяют должного внимания обучения ориентированию на местности и распознаванию ядовитых растений. Белена, бузина, вех, чистотел, сирень и другие растения могут стать причиной тяжелейшего отравления или даже смерти. Причем,  вредоносное воздействие может оказать и небольшое количество плодов или других частей растения. Дети и взрослые могут встретиться с незнакомыми им, но не менее ядовитыми видами раст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и природа – это еще и встреча с животными. Познавая окружающий мир, ребенок, может не только сорвать ядовитое растение, но и, вступив в контакт с дикими или одомашненными животными, причинить вред себе или им. Укус змеи в лесу, жалящего насекомого в саду, или собаки на улице могут предоставлять угрозу здоровью и жизни. Отсюда одна из основных задач в работе по обеспечению безопасности жизнедеятельности в окружающей природной среде: дать детям элементарные навыки правильного поведения и общения с животными, растениями. «Правильное поведение» на природе включает в себя не только способность предупредить несчастный случай, но и умение и желание не навредить, а наоборот – сохранить и защитить. Воспитывая культуру безопасности, необходимо внушать детям, что человек и природа взаимосвязаны, поэтому, заботясь о природе, человек заботится о себе и своем будущем; то, что наносит вред природе, наносит вред самому человеку. Совершенно очевидно: чем раньше дети получат сведения о том, как должен вести себя человек на улице, в лесе и во дворе, тем меньше станет несчастных случаев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2743200" y="228600"/>
            <a:ext cx="24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моби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529000" y="91440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регись автомобил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8" descr="imgN87692KiaSpectra(450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амка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/>
          <p:cNvSpPr/>
          <p:nvPr/>
        </p:nvSpPr>
        <p:spPr>
          <a:xfrm>
            <a:off x="304920" y="609480"/>
            <a:ext cx="2438280" cy="30481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5800" y="914400"/>
            <a:ext cx="17524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втобус этот мне знак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 нем мягкие сиденья. </a:t>
            </a:r>
            <a:br>
              <a:rPr sz="1800"/>
            </a:b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Я ездил к деду на так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оздравить с днем рожден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2666880" y="609480"/>
            <a:ext cx="3276720" cy="312444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200400" y="1143000"/>
            <a:ext cx="22096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жарная машина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Куда , ты, заспешила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Еду, еду я туда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Где с огнем идет бед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Надо, надо мне спеши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Злое пламя потуши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5791320" y="609480"/>
            <a:ext cx="2819160" cy="312444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248520" y="1066680"/>
            <a:ext cx="1904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Спешит трамвай любимый м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 рельсовой дорог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едем, мамочка, домой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А то устали ног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914400" y="60948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бу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60948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жа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553080" y="53352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9480" y="3809880"/>
            <a:ext cx="3581640" cy="2438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90720" y="4267080"/>
            <a:ext cx="2971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К нам во двор забрался кро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Роет землю у воро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Тонна в рот земли войдет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Если крот раскроет ро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4419720" y="3657600"/>
            <a:ext cx="4190760" cy="28195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4876920" y="4114800"/>
            <a:ext cx="3657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иземлился самолет в аэропорту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Буквы круглые видит на бор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Я пилотом тоже стан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сех возьму в пол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з конструктора я стро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иний самолет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28:5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