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2388-234E-4C24-BEC1-489EFA420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D792-FE91-48A8-BCC4-F03F99A79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95F0-2426-44A3-A567-995F9FEFC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0A3F-B795-465B-85D9-B008344D7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DA2A8-7222-422C-B026-ADFC81FBB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FE8D4-5992-4BF7-BCC9-5C3345776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4FA12-2239-4CF1-BE76-72E5E7131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29408-64FE-465F-9D62-76119D173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8EC06-BB94-43C7-AA71-4FD57DBE7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0D579-880D-4973-9FC9-EACC09893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721CA-0EA3-4D17-9A53-144FA19F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19C1-51E9-41C3-897D-3B9054D96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89C05-6C45-44BA-8FDD-E43239D5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65ACA-04C1-4015-BD48-1505A1C6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1EE36-4DA3-478C-94CD-75BAA4D11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023E3-D739-4D45-81EC-9A7794123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B4197-E258-4190-9C93-53304D8F7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5228-9CC9-4047-AB49-8EB0DA4DD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5BE1-251F-4849-BCF5-2873073CD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924A-6150-4B8F-8C29-8E5BE990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4E4B-9C1C-4FD8-94B6-0DCEB88B1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43DF-A24E-4A23-B8DE-30EBB0CC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DBC5-FAC8-4C5E-A3F8-382ADF2B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FF12-4A18-4FB4-A14B-806B95B3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296B7-0750-43A9-B95D-7A8013F55A16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608AE-DA73-453D-94FA-323620E67F43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4"/>
          <p:cNvSpPr txBox="1"/>
          <p:nvPr/>
        </p:nvSpPr>
        <p:spPr>
          <a:xfrm>
            <a:off x="1523880" y="838080"/>
            <a:ext cx="55627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езентац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WordArt 5"/>
          <p:cNvSpPr txBox="1"/>
          <p:nvPr/>
        </p:nvSpPr>
        <p:spPr>
          <a:xfrm>
            <a:off x="1905120" y="1600200"/>
            <a:ext cx="487656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аткой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энциклопед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авил безопасност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2" name="WordArt 6"/>
          <p:cNvSpPr txBox="1"/>
          <p:nvPr/>
        </p:nvSpPr>
        <p:spPr>
          <a:xfrm>
            <a:off x="1981080" y="4191120"/>
            <a:ext cx="44434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 улице для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тей и взрослых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5"/>
          <p:cNvSpPr/>
          <p:nvPr/>
        </p:nvSpPr>
        <p:spPr>
          <a:xfrm>
            <a:off x="-4603680" y="13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WordArt 4"/>
          <p:cNvSpPr txBox="1"/>
          <p:nvPr/>
        </p:nvSpPr>
        <p:spPr>
          <a:xfrm>
            <a:off x="3657600" y="228600"/>
            <a:ext cx="1095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роз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0" y="610560"/>
            <a:ext cx="914400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Большее число гроз бывает во вторую половину лета, причем после полудня, когда поверхность земли более нагрета. Гроза является самым ярким летним явлением природы, но иногда бывает и зимой. Гроза наступает обычно внезапно. При ясной и тихой погоде небосклон быстро заволакивает нагромождающимися друг на друга свинцовыми тучами. Температура воздуха повышается, воздух становится душным и влажным, начинается сильный, порывистый ветер, бывает ливень, сверкает молния и раздается гром. Молния – это электрический разряд, который происходит между сближающимися облаками. Гром – это звук от разряда. Гром безопасен, он вестник того, что молния уже миновала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По форме и структуре различают молнии линейные, плоские и шаровые. Линейные молнии имеют причудливо – изогнутую форму. Зарницы – это далекие линейные молнии. Шаровые молнии бывают только при сильных грозах и чаще вблизи водоемов. Они перемещаются медленнее, видны несколько секунд, имеют вид светящейся точки (шара) желтоватого цвета, иногда красноватого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После дождя и грома летом очень часто можно видеть радугу, которая возникает в той стороне, куда ушел дождь. Дуга радуге всегда на стороне, противоположной солнцу. В радуге обычно хорошо видны три основных цвета: красный, зеленый и фиолетовый, переходные цвета слабо видны, всего у радуги 7 цветов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КАКАЯ БЫВАЕТ ОПАСНОСТЬ ВО ВРЕМЯ ГРОЗЫ? 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Гроза опасна сильными разрывами молний, которые могут вызвать пожары, расщепление деревьев и возгорание, гибель животных, людей. Электрические провода от ударов молнии могут плавиться, тоже может происходить с камнями, песком, кирпичом. Чаще молнии ударяют в предметы, возвышающиеся среди других. В городе, в деревне – это башни, высокие здания, трубы и другое. В них для защиты от молний ставят громоотводы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В поле, на лугу, на открытых местах молнии часто ударяют в отдельно стоящие деревья, стога сена и другие возвышающиеся предметы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Опасны молнии для кораблей и самолетов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9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4"/>
          <p:cNvSpPr/>
          <p:nvPr/>
        </p:nvSpPr>
        <p:spPr>
          <a:xfrm>
            <a:off x="0" y="914760"/>
            <a:ext cx="8915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 надо знать, чтобы избежать опасности во время грозы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==Лучше находиться в помещении, но закрывать окна и двери и не допускать сквозняков, так как молния обычно проходят в землю по поверхности здания, и может проникнуть в открытые окна в помещени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==Выключить наружные антенны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==Во время грозы нельзя пользоваться телефоном с воздушными проводам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==Нельзя пускать воздушного змея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==В деревне, в доме нельзя подходить к топящейся печке, так как горячий дым является проводником электричеств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==Безопасно оставаться в машине, автобусе, но нужно закрыть окн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==Если гроза застала в поле, лучше переждать в низине, в овраге, можно лечь, металлические предметы из рук выбросить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==Нельзя бежать по полю, стоять под деревом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==В лесу укрываться во время грозы лучше под кустарниками, невысокими деревьям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==Молнии реже поражают из лиственных деревьев – березу, чаще поражается дуб и другие лиственные деревья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==Безопаснее стоять шагах в двадцати от дерев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П (100)"/>
          <p:cNvPicPr/>
          <p:nvPr/>
        </p:nvPicPr>
        <p:blipFill>
          <a:blip r:embed="rId1"/>
          <a:stretch/>
        </p:blipFill>
        <p:spPr>
          <a:xfrm>
            <a:off x="0" y="20520"/>
            <a:ext cx="914400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7" descr="Изображение 074"/>
          <p:cNvPicPr/>
          <p:nvPr/>
        </p:nvPicPr>
        <p:blipFill>
          <a:blip r:embed="rId1"/>
          <a:stretch/>
        </p:blipFill>
        <p:spPr>
          <a:xfrm>
            <a:off x="0" y="0"/>
            <a:ext cx="5410080" cy="43434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IMG_0259"/>
          <p:cNvPicPr/>
          <p:nvPr/>
        </p:nvPicPr>
        <p:blipFill>
          <a:blip r:embed="rId2"/>
          <a:stretch/>
        </p:blipFill>
        <p:spPr>
          <a:xfrm>
            <a:off x="4724280" y="0"/>
            <a:ext cx="4419720" cy="3429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IMG_0246"/>
          <p:cNvPicPr/>
          <p:nvPr/>
        </p:nvPicPr>
        <p:blipFill>
          <a:blip r:embed="rId3"/>
          <a:stretch/>
        </p:blipFill>
        <p:spPr>
          <a:xfrm>
            <a:off x="5105520" y="3056040"/>
            <a:ext cx="3200400" cy="3886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IMG_0245"/>
          <p:cNvPicPr/>
          <p:nvPr/>
        </p:nvPicPr>
        <p:blipFill>
          <a:blip r:embed="rId4"/>
          <a:stretch/>
        </p:blipFill>
        <p:spPr>
          <a:xfrm>
            <a:off x="1757520" y="3187800"/>
            <a:ext cx="335268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дорога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4"/>
          <p:cNvSpPr/>
          <p:nvPr/>
        </p:nvSpPr>
        <p:spPr>
          <a:xfrm>
            <a:off x="0" y="451800"/>
            <a:ext cx="91440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ДИСЛОВИ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ЛИЦА ПОЛНА НЕОЖИДАННОСТЕЙ И ОПАСНОСТЕЙ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ходя на улицу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готовь заранее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жливость и сдержанность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 главное, внимание!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тей с ранних лет привлекает разнообразие окружающего мира: дома, улицы, движущие по ней пешеходы и транспорт, интересные неизвестные предметы, животные, растения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лица для ребенка – это яркий мир, полный разнообразных, привлекательных для него явлений, насыщенный интересными событиями, участником которых может стать сам ребенок. А здесь как раз подстерегает его опасность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Безопасное поведение ребенка на улице –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то не просто сумма усвоенных знаний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 стиль жизни, адекватное поведени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различных ситуациях»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.Б. Стеркин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блема ознакомления дошкольников с правилами безопасности на улице является одним из важных направлений работы в дошкольных учреждениях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– первых, надо дать детям необходимую сумму знаний об общепринятых человеком нормах поведения. Во – вторых, научить адекватно, осознанно действовать в той или иной обстановке, помочь дошкольникам овладеть элементарными навыками поведения на улице, в парке, в транспорте, в лесу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4"/>
          <p:cNvSpPr/>
          <p:nvPr/>
        </p:nvSpPr>
        <p:spPr>
          <a:xfrm>
            <a:off x="0" y="1040040"/>
            <a:ext cx="9144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– третьих, развивать у дошкольников самостоятельность и ответственность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этом важно научить ребенка объяснять собственное поведение. Если он может объяснить, как он вел себя, хорошо или плохо, почему это с ним случилось и что при этом он чувствует, тогда он лучше сможет понять, что он делает не так. Ребенок, который может объяснить, что с ним происходит, помогает нам, взрослым, лучше понять его, а значит, снимает многие проблемы и неприятност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шение задач обеспечения безопасного, здорового образа жизни возможно лишь при постоянном общении взрослого и ребенка на равных: вместе ищем выхода из трудного положения, вместе обсуждаем проблему, ведем диалог, вместе познаем, делаем открытия, удивляемся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сихологи давно установили, что дети в силу своих возрастных психологических особенностей не всегда могут правильно оценивать обстановку на дороге. Французский психолог Дюваль утверждает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Дети – это не взрослые в миниатюре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х реакция на опасность очень отличается от нашей»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бенок до 8 лет еще плохо распознает источники звуков, и слышит он только звуки, которые ему интересны. В то время как взрослые, оценивая ситуацию на дороге, слышат, откуда доносится шум приближающейся машины, детям значительно труднее определить его направления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4"/>
          <p:cNvSpPr/>
          <p:nvPr/>
        </p:nvSpPr>
        <p:spPr>
          <a:xfrm>
            <a:off x="0" y="76428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ле зрения ребенка гораздо уже, чем у взрослого. Когда ребенок бежит, то смотрят только вперед и видят только то, что находится напротив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акция у ребенка по сравнению с взрослым более замедленная.                                          Времени на то, чтобы отреагировать на опасность, ему нужно значительно больше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лыши не в состоянии на бегу сразу же остановиться, поэтому на крик или сигнал автомобиля они реагируют со значительным опозданием. Мозг маленьких детей не в состоянии уловить одновременно более одного явления. Внимание ребенка сосредоточено на том, что он делает. Он может в одно мгновение  сорваться и побежать через дорогу. Беспечность детей на дороге зависит от нас – взрослых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счастные случаи, происходящие  в природных условиях, плохо освещаются и кажутся редкими. Поэтому из – за недостатка знаний, взрослые часто недооценивают всех опасностей в этой област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отя считается общепризнанным, что пребывание на воде предоставляет собой повышенную опасность, не все имеют четкое представление, в чем именно она заключается. Обследования дна в местах купания во избежание  травмирующего столкновения с предметами. Слежение за временем купания и температурой воды для исключения возможности переохлаждения, эти и другие меры безопасности – все это зачастую игнорируют даже в отношении детей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4"/>
          <p:cNvSpPr/>
          <p:nvPr/>
        </p:nvSpPr>
        <p:spPr>
          <a:xfrm>
            <a:off x="0" y="502200"/>
            <a:ext cx="9144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зрослые часто не уделяют должного внимания обучения ориентированию на местности и распознаванию ядовитых растений. Белена, бузина, вех, чистотел, сирень и другие растения могут стать причиной тяжелейшего отравления или даже смерти. Причем,  вредоносное воздействие может оказать и небольшое количество плодов или других частей растения. Дети и взрослые могут встретиться с незнакомыми им, но не менее ядовитыми видами растений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лица и природа – это еще и встреча с животными. Познавая окружающий мир, ребенок, может не только сорвать ядовитое растение, но и, вступив в контакт с дикими или одомашненными животными, причинить вред себе или им. Укус змеи в лесу, жалящего насекомого в саду, или собаки на улице могут предоставлять угрозу здоровью и жизни. Отсюда одна из основных задач в работе по обеспечению безопасности жизнедеятельности в окружающей природной среде: дать детям элементарные навыки правильного поведения и общения с животными, растениями. «Правильное поведение» на природе включает в себя не только способность предупредить несчастный случай, но и умение и желание не навредить, а наоборот – сохранить и защитить. Воспитывая культуру безопасности, необходимо внушать детям, что человек и природа взаимосвязаны, поэтому, заботясь о природе, человек заботится о себе и своем будущем; то, что наносит вред природе, наносит вред самому человеку. Совершенно очевидно: чем раньше дети получат сведения о том, как должен вести себя человек на улице, в лесе и во дворе, тем меньше станет несчастных случаев.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WordArt 4"/>
          <p:cNvSpPr txBox="1"/>
          <p:nvPr/>
        </p:nvSpPr>
        <p:spPr>
          <a:xfrm>
            <a:off x="2743200" y="228600"/>
            <a:ext cx="2467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втомобил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2529000" y="914400"/>
            <a:ext cx="456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Берегись автомобиля!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Picture 8" descr="imgN87692KiaSpectra(450)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Рамка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AutoShape 5"/>
          <p:cNvSpPr/>
          <p:nvPr/>
        </p:nvSpPr>
        <p:spPr>
          <a:xfrm>
            <a:off x="304920" y="609480"/>
            <a:ext cx="2438280" cy="3048120"/>
          </a:xfrm>
          <a:prstGeom prst="verticalScroll">
            <a:avLst>
              <a:gd name="adj" fmla="val 12500"/>
            </a:avLst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685800" y="914400"/>
            <a:ext cx="175248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Автобус этот мне знаком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В нем мягкие сиденья. </a:t>
            </a:r>
            <a:br>
              <a:rPr sz="1800"/>
            </a:b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Я ездил к деду на таком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Поздравить с днем рожденья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AutoShape 9"/>
          <p:cNvSpPr/>
          <p:nvPr/>
        </p:nvSpPr>
        <p:spPr>
          <a:xfrm>
            <a:off x="2666880" y="609480"/>
            <a:ext cx="3276720" cy="3124440"/>
          </a:xfrm>
          <a:prstGeom prst="verticalScroll">
            <a:avLst>
              <a:gd name="adj" fmla="val 12500"/>
            </a:avLst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3200400" y="1143000"/>
            <a:ext cx="220968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9900"/>
                </a:solidFill>
                <a:latin typeface="Arial"/>
              </a:rPr>
              <a:t>Пожарная машина,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00"/>
                </a:solidFill>
                <a:latin typeface="Arial"/>
              </a:rPr>
              <a:t>Куда , ты, заспешила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00"/>
                </a:solidFill>
                <a:latin typeface="Arial"/>
              </a:rPr>
              <a:t>Еду, еду я туда,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00"/>
                </a:solidFill>
                <a:latin typeface="Arial"/>
              </a:rPr>
              <a:t>Где с огнем идет беда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00"/>
                </a:solidFill>
                <a:latin typeface="Arial"/>
              </a:rPr>
              <a:t>Надо, надо мне спешить,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00"/>
                </a:solidFill>
                <a:latin typeface="Arial"/>
              </a:rPr>
              <a:t>Злое пламя потушить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AutoShape 11"/>
          <p:cNvSpPr/>
          <p:nvPr/>
        </p:nvSpPr>
        <p:spPr>
          <a:xfrm>
            <a:off x="5791320" y="609480"/>
            <a:ext cx="2819160" cy="3124440"/>
          </a:xfrm>
          <a:prstGeom prst="verticalScroll">
            <a:avLst>
              <a:gd name="adj" fmla="val 12500"/>
            </a:avLst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Text Box 12"/>
          <p:cNvSpPr/>
          <p:nvPr/>
        </p:nvSpPr>
        <p:spPr>
          <a:xfrm>
            <a:off x="6248520" y="1066680"/>
            <a:ext cx="1904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00"/>
                </a:solidFill>
                <a:latin typeface="Arial"/>
              </a:rPr>
              <a:t>Спешит трамвай любимый мой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00"/>
                </a:solidFill>
                <a:latin typeface="Arial"/>
              </a:rPr>
              <a:t>По рельсовой дороге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00"/>
                </a:solidFill>
                <a:latin typeface="Arial"/>
              </a:rPr>
              <a:t>Поедем, мамочка, домой,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00"/>
                </a:solidFill>
                <a:latin typeface="Arial"/>
              </a:rPr>
              <a:t>А то устали ноги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914400" y="609480"/>
            <a:ext cx="1676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втобус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Text Box 14"/>
          <p:cNvSpPr/>
          <p:nvPr/>
        </p:nvSpPr>
        <p:spPr>
          <a:xfrm>
            <a:off x="3581280" y="609480"/>
            <a:ext cx="2133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жарна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6553080" y="533520"/>
            <a:ext cx="1828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рамвай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AutoShape 16"/>
          <p:cNvSpPr/>
          <p:nvPr/>
        </p:nvSpPr>
        <p:spPr>
          <a:xfrm>
            <a:off x="609480" y="3809880"/>
            <a:ext cx="3581640" cy="2438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990720" y="4267080"/>
            <a:ext cx="297180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00"/>
                </a:solidFill>
                <a:latin typeface="Arial"/>
              </a:rPr>
              <a:t>К нам во двор забрался крот</a:t>
            </a: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00"/>
                </a:solidFill>
                <a:latin typeface="Arial"/>
              </a:rPr>
              <a:t>Роет землю у ворот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00"/>
                </a:solidFill>
                <a:latin typeface="Arial"/>
              </a:rPr>
              <a:t>Тонна в рот земли войдет,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00"/>
                </a:solidFill>
                <a:latin typeface="Arial"/>
              </a:rPr>
              <a:t>Если крот раскроет рот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AutoShape 19"/>
          <p:cNvSpPr/>
          <p:nvPr/>
        </p:nvSpPr>
        <p:spPr>
          <a:xfrm>
            <a:off x="4419720" y="3657600"/>
            <a:ext cx="4190760" cy="281952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Text Box 20"/>
          <p:cNvSpPr/>
          <p:nvPr/>
        </p:nvSpPr>
        <p:spPr>
          <a:xfrm>
            <a:off x="4876920" y="4114800"/>
            <a:ext cx="365760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Приземлился самолет в аэропорту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Буквы круглые видит на борту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Я пилотом тоже стану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Всех возьму в полет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Из конструктора я строю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Синий самолет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8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8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8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8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8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8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8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8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8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8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8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8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8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8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Элемент</cp:lastModifiedBy>
  <dcterms:modified xsi:type="dcterms:W3CDTF">2012-07-03T10:28:53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