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E9F2-F89A-430D-AD5F-7420D476C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6CA8-AFE6-4D1A-A96E-F821385F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8C54-68BF-401B-9C02-F407127F0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45F0-6050-4B0C-8F2B-0B947E6F3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3F3A-5C8F-45AB-80B0-E18201D14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C851-2166-4DD3-8EBE-ACC7414C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2898-FACB-4D92-8CDF-486FB5D2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C252-1AFE-440B-8F31-34027525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772C-4008-40C3-8381-3BAD7FD3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465D-C4CB-4183-B7FC-5F989665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8E01-AB8A-441B-A60F-0AB14462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984D-AECA-4CAA-985D-0B3FAEB0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815B-1A94-4C9F-9C39-78E1AD43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CDA3-66C0-4A92-B3EB-62BD688D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C190-A70D-4117-B1BE-C76CBED3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6613-320F-4D0C-92D2-BCCD210D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3303-CF27-4A8A-95EA-6F17EF38A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5B22-A7E4-4582-B294-2995E3CC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9DFB-36BF-4357-B6DE-4405E5CB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3DE0-E90E-4C38-945D-8C726185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6009-FF58-4915-A47E-6AD7CCE8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BB3B-6893-48AB-8E11-7F77470F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3E34-9524-4A19-B336-17F53FED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E053-F570-4622-AF59-A54A7796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AAEF-9920-4119-9C4F-FC7EF294472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16BC-5903-4B8D-AAAE-955342015B09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дорога3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дорога4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0" y="-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3429000" y="685800"/>
            <a:ext cx="5067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сли заблудились в лес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-352080"/>
            <a:ext cx="9144000" cy="73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***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Если в загородной зон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Доведется побывать –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омни что в лесу и в поле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Одному нельзя гулять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Там гуляют только с мамой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Ведь она надежный друг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Далеко не убегай ты –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Можешь заблудиться вдруг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***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Лес красив, но и опасен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Нельзя бывать там одном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Заблудится ребенок малый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И превратится лес в тюрьм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Объясните это детям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Это им дано понять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Что без мамы и без пап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Лес не надо посещат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Надо немедленно остановиться и присесть, подумать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ричи : «АУ!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Можно идти на звук работающих моторов – там люд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5"/>
          <p:cNvSpPr/>
          <p:nvPr/>
        </p:nvSpPr>
        <p:spPr>
          <a:xfrm>
            <a:off x="-2900520" y="138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WordArt 4"/>
          <p:cNvSpPr txBox="1"/>
          <p:nvPr/>
        </p:nvSpPr>
        <p:spPr>
          <a:xfrm>
            <a:off x="3200400" y="609480"/>
            <a:ext cx="3143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имние забав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380880" y="1292400"/>
            <a:ext cx="815364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Зима! Забавная пора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Игра в снежки. Коньки и лыж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И торжествует детвора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Забыв о времени с утра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Играя в снежки, помни, нельзя кидать в голову и в лицо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Если хочешь съехать с горки, проверь - свободно ли внизу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Не сталкивай с горки других ребят, уступай место, катайся по очеред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Опасным может быть катание с горки на лыжах и санках около автомобильных дорог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Никогда не езди в ту сторону, где идут машины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***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Весело дети на санках катались, с горки заснеженной быстро спускались. Мальчик один уж так разогнался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Что на дороге вдруг разогнался! А тут по дороге машина мчится, несчастье с ребенком может случитьс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Мальчонка закрыл от страха глаза, водитель умелый нажал на тормоза! К великому счастью, никто не пострадал, больше у дороги мальчик не играл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Изображение 076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Изображение 084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дорога7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дорога5"/>
          <p:cNvPicPr/>
          <p:nvPr/>
        </p:nvPicPr>
        <p:blipFill>
          <a:blip r:embed="rId2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дорога2"/>
          <p:cNvPicPr/>
          <p:nvPr/>
        </p:nvPicPr>
        <p:blipFill>
          <a:blip r:embed="rId1"/>
          <a:stretch/>
        </p:blipFill>
        <p:spPr>
          <a:xfrm>
            <a:off x="3816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дорога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дорога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дорога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дорога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дорога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0" y="132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WordArt 4"/>
          <p:cNvSpPr txBox="1"/>
          <p:nvPr/>
        </p:nvSpPr>
        <p:spPr>
          <a:xfrm>
            <a:off x="2971800" y="838080"/>
            <a:ext cx="3181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сли потерялс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2286000" y="1906560"/>
            <a:ext cx="50803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***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Адрес свой и телефон должен знать ребено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Научите Вы его этому с пелено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***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На улице девочка вдруг потерялас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Что делать? Как быть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Она растерялась…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Надо на месте ей оставаться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Надо за помощью ей обращатьс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К милиционеру или продавцу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Чтобы к маме отвели или отц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Фамилию, имя ей надо назвать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Должна свой адрес девочка знать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Элемент</cp:lastModifiedBy>
  <dcterms:modified xsi:type="dcterms:W3CDTF">2012-07-03T10:31:19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