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3EC-1CAB-4D62-AD0D-1350C0E7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B94-D89E-4F19-B116-896B5614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542-D6D3-44A7-ABC7-499894A5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238-3068-494F-B388-10F59888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8731-8119-4614-A8DB-D9F8F0B8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8F25-6970-47EB-A386-BE9D6A0F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9946-82D7-4BAF-B6A1-EA40E82E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BE17-D5C0-42D3-B600-AF8781B4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D4FE-6D03-4BA0-B794-A094F681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836C-2A47-4543-9256-A3F91A32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F249-F667-45EA-BAF1-E442A11D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0DB-F36E-492B-9995-5114C7E9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919D-EA6A-4C22-9A16-2EE78AA2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5737-0409-499A-B68A-4626613A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0628-60C5-429E-90B1-5B355E8D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20E4-6DB5-458D-87E4-78881FC2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406C-FF6B-4822-ACF7-0A0ACDFA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545-EFD8-4F00-9392-A7E1E924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7E7-BDD7-4249-B1D5-4CADE8A2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DAF-D5AD-4D49-8145-99A52D0C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025-7B32-4A4C-904C-637DE9F2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D6D-B669-4288-BB1F-31647E36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370-C8F3-4D53-9537-4A66680B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17D-1B8C-4126-9614-6161F595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7192-8469-4005-835C-969496F219C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75EC-5F70-491D-8A55-F4ED1A1E084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дорога3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дорога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0" y="-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3429000" y="685800"/>
            <a:ext cx="5067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заблудились в лес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-352080"/>
            <a:ext cx="9144000" cy="73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в загородной зон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оведется побывать –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мни что в лесу и в пол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дному нельзя гулять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ам гуляют только с мамо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едь она надежный дру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леко не убегай ты –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ешь заблудиться вдру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ес красив, но и опасен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льзя бывать там одном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лудится ребенок малы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 превратится лес в тюрьм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ъясните это детям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то им дано понят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без мамы и без пап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ес не надо посещ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до немедленно остановиться и присесть, подума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ричи : «АУ!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но идти на звук работающих моторов – там люд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-2900520" y="13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3200400" y="609480"/>
            <a:ext cx="314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имние забав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80880" y="1292400"/>
            <a:ext cx="81536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има! Забавная пора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гра в снежки. Коньки и лыж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 торжествует детвор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ыв о времени с утра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грая в снежки, помни, нельзя кидать в голову и в лиц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хочешь съехать с горки, проверь - свободно ли вниз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е сталкивай с горки других ребят, уступай место, катайся по очеред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пасным может быть катание с горки на лыжах и санках около автомобильных дорог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икогда не езди в ту сторону, где идут машин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Весело дети на санках катались, с горки заснеженной быстро спускались. Мальчик один уж так разогнался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Что на дороге вдруг разогнался! А тут по дороге машина мчится, несчастье с ребенком может случить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Мальчонка закрыл от страха глаза, водитель умелый нажал на тормоза! К великому счастью, никто не пострадал, больше у дороги мальчик не игра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Изображение 076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Изображение 08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дорога7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дорога5"/>
          <p:cNvPicPr/>
          <p:nvPr/>
        </p:nvPicPr>
        <p:blipFill>
          <a:blip r:embed="rId2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дорога2"/>
          <p:cNvPicPr/>
          <p:nvPr/>
        </p:nvPicPr>
        <p:blipFill>
          <a:blip r:embed="rId1"/>
          <a:stretch/>
        </p:blipFill>
        <p:spPr>
          <a:xfrm>
            <a:off x="3816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дорог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дорога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дорога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дорога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дорога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13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2971800" y="838080"/>
            <a:ext cx="31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потерял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86000" y="1906560"/>
            <a:ext cx="50803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дрес свой и телефон должен знать ребен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учите Вы его этому с пелен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 улице девочка вдруг потерялас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делать? Как быть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на растерялась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до на месте ей оставаться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до за помощью ей обращать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 милиционеру или продавц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ы к маме отвели или отц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Фамилию, имя ей надо назват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олжна свой адрес девочка знать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емент</cp:lastModifiedBy>
  <dcterms:modified xsi:type="dcterms:W3CDTF">2012-07-03T10:31:1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