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5B8-9D20-4838-94A9-B974983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A37-C6BB-4318-9ECE-12C79DD6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1E7-E67A-434C-B8D1-9B23E201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A48-58D8-40B7-A9EC-51FA8DEB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5E8-EE97-4C6F-89CB-8BD75E0D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DDD-0B09-481F-8155-9475877C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056C-ACBB-43D0-AF95-562D962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E870-2E96-420A-AF51-BA3B3E11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F0E2-BE85-4627-A543-317EC35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99E-7789-4CB5-A084-4B67C995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1664-1C28-4452-90B9-7A110C4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CF1-FEFD-438B-9BC1-B538E7E7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C80-BE35-4267-A4C8-72A1777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424-D1A9-407F-9790-4E6EFDB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950C-88C6-4937-AE18-B141BE1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1ABB-DE8D-469D-B75D-1B0747C7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CABB-F0B7-426C-BBA4-5E874721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AD7-625F-45CB-957F-C5133A4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13E-F254-4A02-B4EC-4C13DF57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3E4-E37A-49AB-AB2C-0E2606B9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9B2-BB0A-41A1-B7AE-8484E3E9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AD4-99BC-4E47-9100-00F171C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A45-6504-4ED4-9662-A59D3BE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F8C-CBFE-4A94-A463-99A3727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D71-76BF-415A-B2FE-210C5DA9B20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B011-F451-4A46-8473-2C0D020E071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Изображение 08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895480" y="533520"/>
            <a:ext cx="283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ной пож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007720" y="1141200"/>
            <a:ext cx="5516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 горящей спички лет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гораются ле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ты забудешь эт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пасут и чудеса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 несчастья избежать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учше спички в лес не брать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авляй – ка, спички дом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дразни огонь – драко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ь увидишь на полянк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отушенный костер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вокруг бутылки, склянк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гореться может б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ливай костер водою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сыпай его песком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ы не трудною работ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 пожара лес спасешь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-4606920" y="23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895480" y="1143000"/>
            <a:ext cx="233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еком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09480" y="2489400"/>
            <a:ext cx="82296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нашей планете живут два миллиона видов насекомых, более чем всех остальных животных, да и растений, вместе взятых. Они обитаю в почве, на земле, в воде, в воздухе. Есть насекомые большие (жуки, бабочки) и маленькие. Самый главный орган чувств у насекомых – усы. Они очень разнообразные. У комара – звонца они мохнатые, у мухи усики короткие и с вздутиями, словно пилочка, усы жука – щелкуна, как гребеночка. И все предназначено для определенной це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от у насекомых тоже у всех разный и зависит от их питания. У бабочки длинный хоботок, комар своим хоботком прокалывает кожу слон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секомые видят плохо, а у некоторых вовсе нет глаз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Крылья у летающих насекомых очень крепкие. Тонкий и нудный писк летающего комара – это пение крыльев, работающих с огромной быстрото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2278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при встречи с насекомы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видели осиное гнездо, понаблюдайте за его издалека, ни в коем случае не трогайте его, иначе осы вылетят и будут жалить куда попало. Около их жала есть еще ядовитые железы, поэтому ужаленное место сильно распуха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коло вас летает пчела, старайтесь быть спокойными, не машите руками, перейдите в другое место. Не спешите губить пчелу, если она вас вдруг ужалит, так как химическое соединение из тельца убитой пчелы, попадая в воздух, приводит всех находящихся поблизости пчел в агрессивное состояние: пчелы в таком случае жалят все живое на своем пути. Если осталось жало пчелы при укусе, то его надо удалить, ужаленное место потереть содовым раствор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тив на пути муравья, не трогайте его, понаблюдайте, что он тащит по дорожке к муравейнику, каков размер и окраска муравья. Не будешь им мешать, они тебя не укуся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овое нападение комаров на человека может вызвать тяжелое отравление, и даже смерть. Поэтому от комаров надо защищаться, используя мази, отпугивающие насекомых. Наибольшее количество насекомых летает в вечернее время, после захода солнца, или утром, после его восхода. Днем комары сидят в густой растительности, дуплах деревьев, в трещинках и других убежищах. Но в лесу комары нападают в течение всего дн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избавиться от мух, нельзя оставлять гниющие продукты и нечистоты, которые пригодны для развития личинок му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до соблюдать санитарные правила, касающиеся поддержания чистоты в помещениях и на всей террит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-217476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057400" y="228600"/>
            <a:ext cx="524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енный 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0880" y="699840"/>
            <a:ext cx="82296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ом по улице идет, на работу всех везе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на курьих ножках, а в резиновых сапожка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Автобус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заранку за окошком стук, и звон, и кутерьма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прямым стальным дорожкам ходят красные до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Трамвай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дивительный вагон! Посудите сам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льсы в воздухе, а он держит их рук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Троллейбус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Оплачивайте проезд, будьте вежливы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Крепко держись за поручен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высовывайте руки и голову из окн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упайте место тем, кто старше, больным и пожилым людям, пассажирам с маленькими детьм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алоне надо вести себя спокойно, не кричать, не мешать проходу пассажиров к дверям и в середину салон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йдя из транспорта, подожди, когда он отъедет, чтобы перейти на другую сторону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-1036800" y="-6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3657600" y="304920"/>
            <a:ext cx="28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ы во двор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157104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ИГРАТЬ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 В темных мест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 У гараж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надо поднимать с земли осколки стекол, ржавые желез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рогайте неизвестные предметы, расскажите о них взросл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качелей лучше не играть, а когда качаешься сам – смотри, чтобы не ударить других, предупреждай и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одцы, канавы и открытые люки – не место для игр, из них трудно выбраться, там может быть кипят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отри под ноги – ничего не найдешь, так хоть нос не расшибеш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о забираться можно только под страховкой взрослого на специальные детские горки, турники, лестниц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ползать по крышам, деревьям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00501"/>
          <p:cNvPicPr/>
          <p:nvPr/>
        </p:nvPicPr>
        <p:blipFill>
          <a:blip r:embed="rId1"/>
          <a:stretch/>
        </p:blipFill>
        <p:spPr>
          <a:xfrm>
            <a:off x="-1646280" y="-4861080"/>
            <a:ext cx="12436560" cy="16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1000502"/>
          <p:cNvPicPr/>
          <p:nvPr/>
        </p:nvPicPr>
        <p:blipFill>
          <a:blip r:embed="rId1"/>
          <a:stretch/>
        </p:blipFill>
        <p:spPr>
          <a:xfrm>
            <a:off x="-1646280" y="-4861080"/>
            <a:ext cx="12436560" cy="16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159984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 детей плава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гда не ходи к воде один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паться можно только в хорошо известных или специально отведенных местах для куп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нырять и прыгать в воду в незнакомом мест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шали в вод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тплывайте далеко от берега на надувных матрасах, круг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ЕТС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ыгать в воду и поднырив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ватать и толкать друг друга в вод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диться друг на д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ырять навстречу друг друг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ать на помощь без причи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P1000506"/>
          <p:cNvPicPr/>
          <p:nvPr/>
        </p:nvPicPr>
        <p:blipFill>
          <a:blip r:embed="rId1"/>
          <a:stretch/>
        </p:blipFill>
        <p:spPr>
          <a:xfrm>
            <a:off x="-3809880" y="-1447920"/>
            <a:ext cx="1658124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1000508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1000504"/>
          <p:cNvPicPr/>
          <p:nvPr/>
        </p:nvPicPr>
        <p:blipFill>
          <a:blip r:embed="rId1"/>
          <a:stretch/>
        </p:blipFill>
        <p:spPr>
          <a:xfrm>
            <a:off x="-3809880" y="-1219320"/>
            <a:ext cx="1658124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P1000509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34:5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