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545-AB51-4C7D-987A-CDDD56B1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BB6-0DD8-4684-8E81-3638FE46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7DDA-955C-48B9-BE90-50B317C5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175-48F7-41D7-9826-EE734048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68D5-1B22-456B-B701-240D513E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B874-F9CC-492F-BB87-C7F152AF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6DB2-AF35-4E4B-B8ED-94666E82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25E2-EC88-475F-82E4-15C94E53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D5FA-D541-4A59-AAFF-74953727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BDA0-BEE3-4D75-883C-41A9D996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2D04-C2BC-4E55-AAC9-9ACFD05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FE5-A6BE-4222-85AA-9278F40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6122-D985-43D4-B13F-FA02005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8729-B19B-43CC-A196-54F1135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E531-6EED-42D4-B232-12C277DF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6FAA-3F36-48FB-ACD3-CBD81B3D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0221-7A57-475D-B2A2-92F03A2C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20A-2866-4C48-90C5-861FEFAB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6D82-0774-4E6C-B3B5-B078BE04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96B-BA5D-4A4A-BAB3-0194E4F0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3CE-5DC9-445D-A2F4-B645B3E5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B56-9BE5-450D-A383-D624EAF8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FDE9-1CD5-418B-9FAF-859A61E7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B72-89B3-459E-BD1E-9055BC41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CB8E-CD9B-437C-8F57-8CF5CDFB1C5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C6A0-87FB-44EC-AFAB-2ABEDC78C25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Изображение 085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50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2895480" y="533520"/>
            <a:ext cx="283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сной пожа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007720" y="1141200"/>
            <a:ext cx="55162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т горящей спички лето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гораются ле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ты забудешь это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 спасут и чудеса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 несчастья избежать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Лучше спички в лес не брать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авляй – ка, спички дома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 дразни огонь – дракон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Коль увидишь на полянк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епотушенный костер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 вокруг бутылки, склянки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гореться может бо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ливай костер водою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сыпай его песком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ы не трудною работ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От пожара лес спасешь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-4606920" y="23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2895480" y="1143000"/>
            <a:ext cx="233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екомы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09480" y="2489400"/>
            <a:ext cx="82296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 нашей планете живут два миллиона видов насекомых, более чем всех остальных животных, да и растений, вместе взятых. Они обитаю в почве, на земле, в воде, в воздухе. Есть насекомые большие (жуки, бабочки) и маленькие. Самый главный орган чувств у насекомых – усы. Они очень разнообразные. У комара – звонца они мохнатые, у мухи усики короткие и с вздутиями, словно пилочка, усы жука – щелкуна, как гребеночка. И все предназначено для определенной цел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от у насекомых тоже у всех разный и зависит от их питания. У бабочки длинный хоботок, комар своим хоботком прокалывает кожу слон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асекомые видят плохо, а у некоторых вовсе нет глаз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Крылья у летающих насекомых очень крепкие. Тонкий и нудный писк летающего комара – это пение крыльев, работающих с огромной быстрото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22788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а поведения при встречи с насекомы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видели осиное гнездо, понаблюдайте за его издалека, ни в коем случае не трогайте его, иначе осы вылетят и будут жалить куда попало. Около их жала есть еще ядовитые железы, поэтому ужаленное место сильно распухае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около вас летает пчела, старайтесь быть спокойными, не машите руками, перейдите в другое место. Не спешите губить пчелу, если она вас вдруг ужалит, так как химическое соединение из тельца убитой пчелы, попадая в воздух, приводит всех находящихся поблизости пчел в агрессивное состояние: пчелы в таком случае жалят все живое на своем пути. Если осталось жало пчелы при укусе, то его надо удалить, ужаленное место потереть содовым раствор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ретив на пути муравья, не трогайте его, понаблюдайте, что он тащит по дорожке к муравейнику, каков размер и окраска муравья. Не будешь им мешать, они тебя не укусят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овое нападение комаров на человека может вызвать тяжелое отравление, и даже смерть. Поэтому от комаров надо защищаться, используя мази, отпугивающие насекомых. Наибольшее количество насекомых летает в вечернее время, после захода солнца, или утром, после его восхода. Днем комары сидят в густой растительности, дуплах деревьев, в трещинках и других убежищах. Но в лесу комары нападают в течение всего дн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избавиться от мух, нельзя оставлять гниющие продукты и нечистоты, которые пригодны для развития личинок мух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до соблюдать санитарные правила, касающиеся поддержания чистоты в помещениях и на всей территор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-2174760" y="62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057400" y="228600"/>
            <a:ext cx="5248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енный 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80880" y="699840"/>
            <a:ext cx="822960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Дом по улице идет, на работу всех везе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е на курьих ножках, а в резиновых сапожка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Автобус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***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позаранку за окошком стук, и звон, и кутерьма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 прямым стальным дорожкам ходят красные дом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Трамвай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Удивительный вагон! Посудите сами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Рельсы в воздухе, а он держит их рукам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(Троллейбус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Оплачивайте проезд, будьте вежливы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Крепко держись за поручень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Не высовывайте руки и голову из окн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Уступайте место тем, кто старше, больным и пожилым людям, пассажирам с маленькими детьми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алоне надо вести себя спокойно, не кричать, не мешать проходу пассажиров к дверям и в середину салон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ыйдя из транспорта, подожди, когда он отъедет, чтобы перейти на другую сторону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-1036800" y="-6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3657600" y="304920"/>
            <a:ext cx="2886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ы во двор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157104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ЛЬЗЯ ИГРАТЬ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 В темных мест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 У гараж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надо поднимать с земли осколки стекол, ржавые железк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трогайте неизвестные предметы, расскажите о них взрослы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оло качелей лучше не играть, а когда качаешься сам – смотри, чтобы не ударить других, предупреждай и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одцы, канавы и открытые люки – не место для игр, из них трудно выбраться, там может быть кипят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отри под ноги – ничего не найдешь, так хоть нос не расшибешь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око забираться можно только под страховкой взрослого на специальные детские горки, турники, лестниц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льзя ползать по крышам, деревьям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P1000501"/>
          <p:cNvPicPr/>
          <p:nvPr/>
        </p:nvPicPr>
        <p:blipFill>
          <a:blip r:embed="rId1"/>
          <a:stretch/>
        </p:blipFill>
        <p:spPr>
          <a:xfrm>
            <a:off x="-1646280" y="-4861080"/>
            <a:ext cx="12436560" cy="165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P1000502"/>
          <p:cNvPicPr/>
          <p:nvPr/>
        </p:nvPicPr>
        <p:blipFill>
          <a:blip r:embed="rId1"/>
          <a:stretch/>
        </p:blipFill>
        <p:spPr>
          <a:xfrm>
            <a:off x="-1646280" y="-4861080"/>
            <a:ext cx="12436560" cy="165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28600" y="159984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 детей плавать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огда не ходи к воде один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паться можно только в хорошо известных или специально отведенных местах для купа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льзя нырять и прыгать в воду в незнакомом мест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шали в вод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тплывайте далеко от берега на надувных матрасах, круг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РЕЩАЕТСЯ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ыгать в воду и поднырив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ватать и толкать друг друга в вод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диться друг на друг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ырять навстречу друг друг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ать на помощь без причи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P1000506"/>
          <p:cNvPicPr/>
          <p:nvPr/>
        </p:nvPicPr>
        <p:blipFill>
          <a:blip r:embed="rId1"/>
          <a:stretch/>
        </p:blipFill>
        <p:spPr>
          <a:xfrm>
            <a:off x="-3809880" y="-1447920"/>
            <a:ext cx="1658124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P1000508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P1000504"/>
          <p:cNvPicPr/>
          <p:nvPr/>
        </p:nvPicPr>
        <p:blipFill>
          <a:blip r:embed="rId1"/>
          <a:stretch/>
        </p:blipFill>
        <p:spPr>
          <a:xfrm>
            <a:off x="-3809880" y="-1219320"/>
            <a:ext cx="1658124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P1000509"/>
          <p:cNvPicPr/>
          <p:nvPr/>
        </p:nvPicPr>
        <p:blipFill>
          <a:blip r:embed="rId1"/>
          <a:stretch/>
        </p:blipFill>
        <p:spPr>
          <a:xfrm>
            <a:off x="-3718080" y="-2789280"/>
            <a:ext cx="16581600" cy="12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емент</cp:lastModifiedBy>
  <dcterms:modified xsi:type="dcterms:W3CDTF">2012-07-03T10:34:5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