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gif" ContentType="image/gif"/>
  <Override PartName="/ppt/media/image6.wmf" ContentType="image/x-wmf"/>
  <Override PartName="/ppt/media/image7.jpeg" ContentType="image/jpeg"/>
  <Override PartName="/ppt/media/image10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83562-C3F1-4743-98E7-A708043ED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547AE-DDD1-4E11-BCB5-30D3C08D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61420-69E8-4D6D-B442-94232BB9A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BD12B-945C-47FF-BF6F-44F21A822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AEEC-4BCF-4B28-AA94-0F8CDF32D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4286-9AD8-4820-B396-1A8BCF7B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1FC9-9F26-45FB-9E76-66E48910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FE05-A3D4-4C21-B940-F78EA67E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A09F-8FF2-409E-A8CF-AC511FB8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3987-36B0-4CB9-A739-B13EFC58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3FF8-5A00-4EA9-9FEF-6C88B762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BBB36-3805-4221-B1CE-22DB3494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B357-711C-49CB-A374-145B266E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CCC7-B3C1-4305-B534-3DEE39C9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783C-079D-41FD-AC2A-709458BE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C51E-B0B1-46B7-A1DF-21C95BBD5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7B58-3968-483E-9499-279BE4CD6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4F2D3-D55D-4516-8889-199F5D27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FDBDE-6182-4DCD-B09D-39EEFBA6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7BD89-6050-4E89-A161-B0D86F82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AF3FB-256E-44E6-9775-081CB066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0CE4E-BA4D-42CF-B4F6-1A1C68A1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4442E-1221-4867-AFB8-2499FD6A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B07CC-67E4-44AD-A8AB-6088F7CF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A46C-FAF8-4AE9-829F-A1B56AB753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C6CC-A9DA-4916-95AD-0FE0D93D4C8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WordArt 5"/>
          <p:cNvSpPr txBox="1"/>
          <p:nvPr/>
        </p:nvSpPr>
        <p:spPr>
          <a:xfrm>
            <a:off x="324000" y="765000"/>
            <a:ext cx="8208720" cy="475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сновные этапы</a:t>
            </a:r>
            <a:endParaRPr b="0" lang="en-US" sz="4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4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азработки </a:t>
            </a:r>
            <a:endParaRPr b="0" lang="en-US" sz="4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 исследования </a:t>
            </a:r>
            <a:endParaRPr b="0" lang="en-US" sz="4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оделей</a:t>
            </a:r>
            <a:endParaRPr b="0" lang="en-US" sz="4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4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а компьютере</a:t>
            </a:r>
            <a:endParaRPr b="0" lang="en-US" sz="4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5" name="TextBox 1"/>
          <p:cNvSpPr/>
          <p:nvPr/>
        </p:nvSpPr>
        <p:spPr>
          <a:xfrm>
            <a:off x="3995640" y="573264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у выполнила ученица 9 класс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вешникова Екатер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1 этап:</a:t>
            </a:r>
            <a:br>
              <a:rPr sz="4000"/>
            </a:b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Описательная информационная модель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684360" y="2421000"/>
            <a:ext cx="7920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первом этапе исследования объекта или процесса обычно строится описательна информационная модель. Такая модель выделяет существенные, с точки зрения целей проводимого исследования, свойства объекта, а несущественными свойствами пренебрега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2 этап: </a:t>
            </a:r>
            <a:br>
              <a:rPr sz="4000"/>
            </a:b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формализованная модель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539640" y="1844640"/>
            <a:ext cx="5977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втором этапе создается формализованная модель, т.е. описательная информационная модель записывается с помощью какого-либо формального языка. В такой модели с помощью формул, уравнений или неравенств фиксируются формальные соотношения между начальными и конечными значениями свойств объектов, а также накладываются ограничения на допустимые значения этих свой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Picture 9" descr="MP900439432[1]"/>
          <p:cNvPicPr/>
          <p:nvPr/>
        </p:nvPicPr>
        <p:blipFill>
          <a:blip r:embed="rId1"/>
          <a:stretch/>
        </p:blipFill>
        <p:spPr>
          <a:xfrm>
            <a:off x="6227640" y="1628640"/>
            <a:ext cx="2697120" cy="20275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0" descr="MM900205403[1]"/>
          <p:cNvPicPr/>
          <p:nvPr/>
        </p:nvPicPr>
        <p:blipFill>
          <a:blip r:embed="rId2"/>
          <a:stretch/>
        </p:blipFill>
        <p:spPr>
          <a:xfrm>
            <a:off x="6588000" y="4005360"/>
            <a:ext cx="223200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3 этап: </a:t>
            </a:r>
            <a:br>
              <a:rPr sz="4000"/>
            </a:b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компьютерная модель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468360" y="1628640"/>
            <a:ext cx="5905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третьем этапе необходимо формализованную информационную модель преобразовать в компьютерную моде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уществуют различные пути построения компьютерных моделе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)Создание компьютерной модели в форме проекта на одном из языков программиро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)Построение компьютерной модели с использованием электронных таблиц или других прилож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Picture 7" descr="j0285750"/>
          <p:cNvPicPr/>
          <p:nvPr/>
        </p:nvPicPr>
        <p:blipFill>
          <a:blip r:embed="rId1"/>
          <a:stretch/>
        </p:blipFill>
        <p:spPr>
          <a:xfrm>
            <a:off x="6372360" y="4724280"/>
            <a:ext cx="2544480" cy="15638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8" descr="MP900387687[1]"/>
          <p:cNvPicPr/>
          <p:nvPr/>
        </p:nvPicPr>
        <p:blipFill>
          <a:blip r:embed="rId2"/>
          <a:stretch/>
        </p:blipFill>
        <p:spPr>
          <a:xfrm>
            <a:off x="5796000" y="1628640"/>
            <a:ext cx="29527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4 этап:</a:t>
            </a:r>
            <a:br>
              <a:rPr sz="4000"/>
            </a:b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компьютерный эксперимент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324000" y="1557360"/>
            <a:ext cx="712764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Четвертый  этап исследования информационной модели состоит в проведении компьютерного эксперимента. Если компьютерная модель существует в виде проекта на одном из языков программирования, ее нужно запустить на выполнение, ввести исходные данные и получить результаты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Если компьютерная модель исследуется в приложении, то можно построить диаграмму или график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и использовании готовой компьютерной визуальной модели необходимо ввести исходные данные, запустить модель на выполнение и наблюдать изменени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Picture 5" descr="MC900441309[1]"/>
          <p:cNvPicPr/>
          <p:nvPr/>
        </p:nvPicPr>
        <p:blipFill>
          <a:blip r:embed="rId1"/>
          <a:stretch/>
        </p:blipFill>
        <p:spPr>
          <a:xfrm>
            <a:off x="7020000" y="465300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6" descr="MC900441527[1]"/>
          <p:cNvPicPr/>
          <p:nvPr/>
        </p:nvPicPr>
        <p:blipFill>
          <a:blip r:embed="rId2"/>
          <a:stretch/>
        </p:blipFill>
        <p:spPr>
          <a:xfrm>
            <a:off x="6948360" y="3068640"/>
            <a:ext cx="191160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5 этап:</a:t>
            </a:r>
            <a:br>
              <a:rPr sz="4000"/>
            </a:b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анализ полученных результатов и корректировка исследуемой модели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468360" y="2637000"/>
            <a:ext cx="676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ятый этап состоит  в анализе полученных результатов и корректировке исследуемой модели. В случае расхождения результатов , полученных при исследовании информационной модели, с измеряемыми параметрами реальных объектов можно сделать вывод, что на предыдущих этапах построение модели были допущены ошибки или неточ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Picture 5" descr="MC900078772[1]"/>
          <p:cNvPicPr/>
          <p:nvPr/>
        </p:nvPicPr>
        <p:blipFill>
          <a:blip r:embed="rId1"/>
          <a:stretch/>
        </p:blipFill>
        <p:spPr>
          <a:xfrm>
            <a:off x="6012000" y="4653000"/>
            <a:ext cx="313200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WordArt 4"/>
          <p:cNvSpPr txBox="1"/>
          <p:nvPr/>
        </p:nvSpPr>
        <p:spPr>
          <a:xfrm rot="934200">
            <a:off x="468000" y="2276280"/>
            <a:ext cx="8496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03:29:40Z</dcterms:created>
  <dc:creator>№</dc:creator>
  <dc:description/>
  <dc:language>en-US</dc:language>
  <cp:lastModifiedBy>User</cp:lastModifiedBy>
  <dcterms:modified xsi:type="dcterms:W3CDTF">2012-07-03T11:55:57Z</dcterms:modified>
  <cp:revision>5</cp:revision>
  <dc:subject/>
  <dc:title>Слайд 1</dc:title>
</cp:coreProperties>
</file>