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gif" ContentType="image/gif"/>
  <Override PartName="/ppt/media/image6.wmf" ContentType="image/x-wmf"/>
  <Override PartName="/ppt/media/image7.jpeg" ContentType="image/jpeg"/>
  <Override PartName="/ppt/media/image10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C9C94-93C7-4D41-9862-ACFE766C3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5F05B-F463-4C01-8288-B1276E44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0D320-F4F4-41EE-89F3-DD6F6B87C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A0DBD-33FB-406B-93FA-12E51CCF1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0AFD-14F3-407D-84BB-A5D959FBD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3A92F-72E0-484C-B296-5E8D31CE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877D-2FB8-4B6C-BCD1-74D6ED9F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02B1-450B-40DE-A54B-C10EC9A4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87CB2-3711-4596-9762-68AB802B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813FF-B21C-4D88-B821-BDA07CEB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A23E-A622-4F78-807E-2F53AAD4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99D5A-E577-41DF-9F1D-FA3A1194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D65A-C92E-41DA-AEBB-1D7D30AB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CB3F-1F50-4DB3-B75C-17A67CDB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6CF9-3669-4627-BFA5-CEE354B8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ADE0-9FBA-4306-8E0E-DAAEF2F44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BA9C-BF4B-4E79-89CA-7BC49483D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A681A-BCA0-462B-A531-64CBC6C5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7C034-B6F7-464F-AD98-DCEC4D8F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F022A-8EA6-4629-A968-9FE754C6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A6F38-53D8-45D2-B5A8-FD0B452A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8BC18-35A9-4EDD-A96A-9174D49A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57F3F-102E-44DD-904E-42DC427F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61101-7648-42D1-9EBC-82A480BB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F456-07D1-470D-BFAA-73DD47E90E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D302-42EC-4598-A410-D9B94D42DB5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WordArt 5"/>
          <p:cNvSpPr txBox="1"/>
          <p:nvPr/>
        </p:nvSpPr>
        <p:spPr>
          <a:xfrm>
            <a:off x="324000" y="765000"/>
            <a:ext cx="8208720" cy="475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сновные этапы</a:t>
            </a:r>
            <a:endParaRPr b="0" lang="en-US" sz="4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4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азработки </a:t>
            </a:r>
            <a:endParaRPr b="0" lang="en-US" sz="4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 исследования </a:t>
            </a:r>
            <a:endParaRPr b="0" lang="en-US" sz="4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моделей</a:t>
            </a:r>
            <a:endParaRPr b="0" lang="en-US" sz="4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4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а компьютере</a:t>
            </a:r>
            <a:endParaRPr b="0" lang="en-US" sz="4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5" name="TextBox 1"/>
          <p:cNvSpPr/>
          <p:nvPr/>
        </p:nvSpPr>
        <p:spPr>
          <a:xfrm>
            <a:off x="3995640" y="573264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боту выполнила ученица 9 класс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вешникова Екатер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1 этап:</a:t>
            </a:r>
            <a:br>
              <a:rPr sz="4000"/>
            </a:b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Описательная информационная модель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684360" y="2421000"/>
            <a:ext cx="7920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 первом этапе исследования объекта или процесса обычно строится описательна информационная модель. Такая модель выделяет существенные, с точки зрения целей проводимого исследования, свойства объекта, а несущественными свойствами пренебрега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2 этап: </a:t>
            </a:r>
            <a:br>
              <a:rPr sz="4000"/>
            </a:b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формализованная модель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Text Box 4"/>
          <p:cNvSpPr/>
          <p:nvPr/>
        </p:nvSpPr>
        <p:spPr>
          <a:xfrm>
            <a:off x="539640" y="1844640"/>
            <a:ext cx="5977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втором этапе создается формализованная модель, т.е. описательная информационная модель записывается с помощью какого-либо формального языка. В такой модели с помощью формул, уравнений или неравенств фиксируются формальные соотношения между начальными и конечными значениями свойств объектов, а также накладываются ограничения на допустимые значения этих свой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Picture 9" descr="MP900439432[1]"/>
          <p:cNvPicPr/>
          <p:nvPr/>
        </p:nvPicPr>
        <p:blipFill>
          <a:blip r:embed="rId1"/>
          <a:stretch/>
        </p:blipFill>
        <p:spPr>
          <a:xfrm>
            <a:off x="6227640" y="1628640"/>
            <a:ext cx="2697120" cy="20275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0" descr="MM900205403[1]"/>
          <p:cNvPicPr/>
          <p:nvPr/>
        </p:nvPicPr>
        <p:blipFill>
          <a:blip r:embed="rId2"/>
          <a:stretch/>
        </p:blipFill>
        <p:spPr>
          <a:xfrm>
            <a:off x="6588000" y="4005360"/>
            <a:ext cx="223200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3 этап: </a:t>
            </a:r>
            <a:br>
              <a:rPr sz="4000"/>
            </a:b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компьютерная модель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Rectangle 5"/>
          <p:cNvSpPr/>
          <p:nvPr/>
        </p:nvSpPr>
        <p:spPr>
          <a:xfrm>
            <a:off x="468360" y="1628640"/>
            <a:ext cx="5905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третьем этапе необходимо формализованную информационную модель преобразовать в компьютерную моде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уществуют различные пути построения компьютерных моделе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)Создание компьютерной модели в форме проекта на одном из языков программиров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)Построение компьютерной модели с использованием электронных таблиц или других приложе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Picture 7" descr="j0285750"/>
          <p:cNvPicPr/>
          <p:nvPr/>
        </p:nvPicPr>
        <p:blipFill>
          <a:blip r:embed="rId1"/>
          <a:stretch/>
        </p:blipFill>
        <p:spPr>
          <a:xfrm>
            <a:off x="6372360" y="4724280"/>
            <a:ext cx="2544480" cy="156384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8" descr="MP900387687[1]"/>
          <p:cNvPicPr/>
          <p:nvPr/>
        </p:nvPicPr>
        <p:blipFill>
          <a:blip r:embed="rId2"/>
          <a:stretch/>
        </p:blipFill>
        <p:spPr>
          <a:xfrm>
            <a:off x="5796000" y="1628640"/>
            <a:ext cx="295272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4 этап:</a:t>
            </a:r>
            <a:br>
              <a:rPr sz="4000"/>
            </a:b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 компьютерный эксперимент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324000" y="1557360"/>
            <a:ext cx="712764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Четвертый  этап исследования информационной модели состоит в проведении компьютерного эксперимента. Если компьютерная модель существует в виде проекта на одном из языков программирования, ее нужно запустить на выполнение, ввести исходные данные и получить результаты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Если компьютерная модель исследуется в приложении, то можно построить диаграмму или график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и использовании готовой компьютерной визуальной модели необходимо ввести исходные данные, запустить модель на выполнение и наблюдать изменени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Picture 5" descr="MC900441309[1]"/>
          <p:cNvPicPr/>
          <p:nvPr/>
        </p:nvPicPr>
        <p:blipFill>
          <a:blip r:embed="rId1"/>
          <a:stretch/>
        </p:blipFill>
        <p:spPr>
          <a:xfrm>
            <a:off x="7020000" y="465300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6" descr="MC900441527[1]"/>
          <p:cNvPicPr/>
          <p:nvPr/>
        </p:nvPicPr>
        <p:blipFill>
          <a:blip r:embed="rId2"/>
          <a:stretch/>
        </p:blipFill>
        <p:spPr>
          <a:xfrm>
            <a:off x="6948360" y="3068640"/>
            <a:ext cx="191160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5 этап:</a:t>
            </a:r>
            <a:br>
              <a:rPr sz="4000"/>
            </a:b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анализ полученных результатов и корректировка исследуемой модели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468360" y="2637000"/>
            <a:ext cx="676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ятый этап состоит  в анализе полученных результатов и корректировке исследуемой модели. В случае расхождения результатов , полученных при исследовании информационной модели, с измеряемыми параметрами реальных объектов можно сделать вывод, что на предыдущих этапах построение модели были допущены ошибки или неточ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Picture 5" descr="MC900078772[1]"/>
          <p:cNvPicPr/>
          <p:nvPr/>
        </p:nvPicPr>
        <p:blipFill>
          <a:blip r:embed="rId1"/>
          <a:stretch/>
        </p:blipFill>
        <p:spPr>
          <a:xfrm>
            <a:off x="6012000" y="4653000"/>
            <a:ext cx="313200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WordArt 4"/>
          <p:cNvSpPr txBox="1"/>
          <p:nvPr/>
        </p:nvSpPr>
        <p:spPr>
          <a:xfrm rot="934200">
            <a:off x="468000" y="2276280"/>
            <a:ext cx="8496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0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03:29:40Z</dcterms:created>
  <dc:creator>№</dc:creator>
  <dc:description/>
  <dc:language>en-US</dc:language>
  <cp:lastModifiedBy>User</cp:lastModifiedBy>
  <dcterms:modified xsi:type="dcterms:W3CDTF">2012-07-03T11:55:57Z</dcterms:modified>
  <cp:revision>5</cp:revision>
  <dc:subject/>
  <dc:title>Слайд 1</dc:title>
</cp:coreProperties>
</file>