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792913"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93200" cy="100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360"/>
            <a:ext cx="2944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48040" y="-360"/>
            <a:ext cx="2944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895320" y="750960"/>
            <a:ext cx="5004000" cy="3752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78960" y="4753080"/>
            <a:ext cx="5435640" cy="450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9505440"/>
            <a:ext cx="2944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48040" y="9505440"/>
            <a:ext cx="2944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A1F7-0902-4958-A488-ADF2AD290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0A38-5ACC-4E12-942E-FDD8DA449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895320" y="750960"/>
            <a:ext cx="5004000" cy="3752640"/>
          </a:xfrm>
          <a:prstGeom prst="rect">
            <a:avLst/>
          </a:prstGeom>
          <a:ln w="0">
            <a:noFill/>
          </a:ln>
        </p:spPr>
      </p:sp>
      <p:sp>
        <p:nvSpPr>
          <p:cNvPr id="563"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5EBD-CE89-4FB4-8B9B-2E254869A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895320" y="750960"/>
            <a:ext cx="5004000" cy="3752640"/>
          </a:xfrm>
          <a:prstGeom prst="rect">
            <a:avLst/>
          </a:prstGeom>
          <a:ln w="0">
            <a:noFill/>
          </a:ln>
        </p:spPr>
      </p:sp>
      <p:sp>
        <p:nvSpPr>
          <p:cNvPr id="590"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1745-1E02-4481-A5D9-8F48F00FE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895320" y="750960"/>
            <a:ext cx="5004000" cy="3752640"/>
          </a:xfrm>
          <a:prstGeom prst="rect">
            <a:avLst/>
          </a:prstGeom>
          <a:ln w="0">
            <a:noFill/>
          </a:ln>
        </p:spPr>
      </p:sp>
      <p:sp>
        <p:nvSpPr>
          <p:cNvPr id="593"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BEC5-8605-44F2-8BFD-295D446EA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895320" y="750960"/>
            <a:ext cx="5004000" cy="3752640"/>
          </a:xfrm>
          <a:prstGeom prst="rect">
            <a:avLst/>
          </a:prstGeom>
          <a:ln w="0">
            <a:noFill/>
          </a:ln>
        </p:spPr>
      </p:sp>
      <p:sp>
        <p:nvSpPr>
          <p:cNvPr id="596"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C7E7-EA5E-4159-95F0-878817AE7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895320" y="750960"/>
            <a:ext cx="5004000" cy="3752640"/>
          </a:xfrm>
          <a:prstGeom prst="rect">
            <a:avLst/>
          </a:prstGeom>
          <a:ln w="0">
            <a:noFill/>
          </a:ln>
        </p:spPr>
      </p:sp>
      <p:sp>
        <p:nvSpPr>
          <p:cNvPr id="599"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7EA8-4C85-4AAA-A595-60BB3BD7B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895320" y="750960"/>
            <a:ext cx="5004000" cy="3752640"/>
          </a:xfrm>
          <a:prstGeom prst="rect">
            <a:avLst/>
          </a:prstGeom>
          <a:ln w="0">
            <a:noFill/>
          </a:ln>
        </p:spPr>
      </p:sp>
      <p:sp>
        <p:nvSpPr>
          <p:cNvPr id="602"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E41D-FF86-4668-8F53-3114AC37B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895320" y="750960"/>
            <a:ext cx="5004000" cy="3752640"/>
          </a:xfrm>
          <a:prstGeom prst="rect">
            <a:avLst/>
          </a:prstGeom>
          <a:ln w="0">
            <a:noFill/>
          </a:ln>
        </p:spPr>
      </p:sp>
      <p:sp>
        <p:nvSpPr>
          <p:cNvPr id="566"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FEC8-BEA1-43FE-9A12-76BA17A35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895320" y="750960"/>
            <a:ext cx="5004000" cy="3752640"/>
          </a:xfrm>
          <a:prstGeom prst="rect">
            <a:avLst/>
          </a:prstGeom>
          <a:ln w="0">
            <a:noFill/>
          </a:ln>
        </p:spPr>
      </p:sp>
      <p:sp>
        <p:nvSpPr>
          <p:cNvPr id="569"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13F2-5076-4186-BBB5-F343DEBBF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895320" y="750960"/>
            <a:ext cx="5004000" cy="3752640"/>
          </a:xfrm>
          <a:prstGeom prst="rect">
            <a:avLst/>
          </a:prstGeom>
          <a:ln w="0">
            <a:noFill/>
          </a:ln>
        </p:spPr>
      </p:sp>
      <p:sp>
        <p:nvSpPr>
          <p:cNvPr id="572"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6F84-D7A1-4B21-BE0C-00826114C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895320" y="750960"/>
            <a:ext cx="5004000" cy="3752640"/>
          </a:xfrm>
          <a:prstGeom prst="rect">
            <a:avLst/>
          </a:prstGeom>
          <a:ln w="0">
            <a:noFill/>
          </a:ln>
        </p:spPr>
      </p:sp>
      <p:sp>
        <p:nvSpPr>
          <p:cNvPr id="575"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A3A4-EF54-4FB5-BDD6-7F82C84F6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895320" y="750960"/>
            <a:ext cx="5004000" cy="3752640"/>
          </a:xfrm>
          <a:prstGeom prst="rect">
            <a:avLst/>
          </a:prstGeom>
          <a:ln w="0">
            <a:noFill/>
          </a:ln>
        </p:spPr>
      </p:sp>
      <p:sp>
        <p:nvSpPr>
          <p:cNvPr id="578"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6C83-60E0-4539-A08E-F0D2BDB44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895320" y="750960"/>
            <a:ext cx="5004000" cy="3752640"/>
          </a:xfrm>
          <a:prstGeom prst="rect">
            <a:avLst/>
          </a:prstGeom>
          <a:ln w="0">
            <a:noFill/>
          </a:ln>
        </p:spPr>
      </p:sp>
      <p:sp>
        <p:nvSpPr>
          <p:cNvPr id="581"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21A7-584E-4F48-8CDF-F22D8D9C7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895320" y="750960"/>
            <a:ext cx="5004000" cy="3752640"/>
          </a:xfrm>
          <a:prstGeom prst="rect">
            <a:avLst/>
          </a:prstGeom>
          <a:ln w="0">
            <a:noFill/>
          </a:ln>
        </p:spPr>
      </p:sp>
      <p:sp>
        <p:nvSpPr>
          <p:cNvPr id="584"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AF56-1D60-41FD-A30A-4F41216DB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895320" y="750960"/>
            <a:ext cx="5004000" cy="3752640"/>
          </a:xfrm>
          <a:prstGeom prst="rect">
            <a:avLst/>
          </a:prstGeom>
          <a:ln w="0">
            <a:noFill/>
          </a:ln>
        </p:spPr>
      </p:sp>
      <p:sp>
        <p:nvSpPr>
          <p:cNvPr id="587"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30944-4A63-49C9-B27F-C7CF0988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23655-D992-4BCD-BF98-19BDAFD5E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CFD77-3C8E-4DAF-841A-D4332F0ED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C88BD-44D9-4880-895E-5CD01E744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4B3B0-0B0D-4C0D-8ACD-A243E049F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E077E6-1C17-495F-8708-52F2025F2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00B2B-C2C6-4606-AE81-135F2F43C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39C80-FBAE-4D5B-98AB-1AA8F00EA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E69E2-6C1D-47EE-A1DA-9F2CCF464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9310ED-5A81-4275-BE6F-E6D9374DEA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77AD96-22E1-4397-BF45-1C270D3F1B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F30D76-6F7B-46DF-9F09-4AF30E0A01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2C8BF-19A5-4ED0-B5F4-736A404E1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9ED851-C03E-4679-AA1A-B99DD7CDD8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D6D02D-7DF8-47CC-9587-5FE6C02518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028B81-9398-4582-8C89-410BBA902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345E36-E7B7-4C1B-9793-64A6B47ABE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69B4B5-D2CB-441E-9D4D-E2EF3E2620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E33665-C6DA-48D5-916B-3E25FDAD72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CBE910-6969-45A1-A559-9FFA67CB9C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23099-917E-4E66-9BA4-9CA9B18A10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7A617B-AADA-481C-9709-4FEC40523B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E61383-CD00-41B8-AB61-2320FB7DD2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B13A4-9821-4617-B497-E1F3CFE50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DCE668-1A3D-40D4-88BE-67C58362F2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7B2706-C319-44F4-A33F-AF5618B351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D7B1F6-C981-4E26-AD24-15B24E1B34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8CFFDD-424E-4C7E-A184-7690D18086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BD1EB5-4087-433F-8060-E584B8DC58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4EF3E0-44CE-4452-99A3-F8593946F7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44AED8-8A27-4A6D-BD09-FB952E96F4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0F737-05FB-4C25-988E-6F2F760541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6CEEDF-C891-47C9-A3DE-252C64F2C9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1F03DB-6F82-4A5A-A424-6A3B971125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FC62D-C0AE-4732-A9BB-2E003C7CC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C3A890-FC03-465A-A2E4-C28145C1D8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3A083D-03E8-4CE0-A7DC-4718CEA9C4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E9A4B7-52DD-441B-9355-D2BBC9A170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5252F2-A36C-4EF2-8FD4-F9D373F9D3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709DA6-92B0-451B-BCF0-41254C0DD2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8887F8-0221-4D89-BB58-479A8FBB78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CF45FB-EE7E-43DB-8648-62CC01800B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4C1B2F-6AE4-41A8-A595-6427706327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2DA9B7-B7A8-47A7-A755-26256046AB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C858DA-5F1B-4CF7-94ED-2D2AF3B85A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F10F6-90D3-4BCC-AD4F-83B8A227E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BFED2-F22B-4DEB-8CDD-2A3F58B6C2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DE2780-569D-4961-ADEE-D4B5CE7C27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BF851B-EAD5-4734-9C54-5D78E75B21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4766AA-3BBA-4EB5-95D5-0E92B36BA8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2107A9-A87D-4F3A-AB6B-FD8DE27547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51FA5-84B9-41DC-AB5E-66B3C3FC8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554A2-23DC-486E-A60F-76BEBE5E9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A4572-737A-4EC6-8CA2-CEC27B63D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9AB37-001B-4C27-BF62-4FD506880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E1D3-9CD8-45F7-B96F-3A8E1E3CB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88C1-BD40-43CB-933D-8D93481D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CB34E-1973-4FDB-B822-6BFD72D21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7297C-05F2-4731-BEA6-6A0EE4B73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4F504-620E-44F4-B242-B60BABBE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04A60-9256-4B8D-BF05-577859D12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1CD73-DAFD-4180-A2CD-4B3E3CC13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1E7B0-3E79-46C3-922D-FEF38B57B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1A8C5-7D23-4D8A-A049-8885E1C1F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0EB3A-01ED-4DAE-8D02-3C139ECD1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058EB-A34C-4B57-980E-85F4E16C3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C07A6-D431-4725-8A12-7E93BDC77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06DB7-0E0B-419A-A353-DA6A4C0C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4E4EF-AC2D-466C-840A-84F2ED935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D3232-3685-494C-BE31-3CCEC7DFB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76BA2-08C4-4713-9E89-51FABE8B7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92DCE-1992-4BD3-BAEA-143B9D62A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8C5F3-A2D0-4B76-A0EA-5223C160D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626B8-5328-4E68-BB0C-DFB495020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454D0B-9064-4888-84F2-0CE060E66D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E35D22-26BE-4C28-B217-8AEF48C22B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28788-0678-49CE-91CE-F4903EFAB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E1DCF-A7AC-416A-AAE1-193F036C4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F6A8-97CB-4F7F-B5F7-5740AAA0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B6CA4-D97A-4834-81D7-95A1B68D3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9388F-2C39-4E62-9F75-93D58E1CC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A546F-2C9D-4452-A558-4AFA52078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EC2D7-9590-4B75-9BEA-D4F291B24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54892-1499-4A92-8865-99A39E91F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28BAF-1EB7-42C8-A6E4-65C4EDDF2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8F9B6-A7C8-4C8F-9DAA-A95AB2826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90491-4DC8-4C1E-AFC0-918DC57D6D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654E2-68AE-464E-B303-F46EE907D3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B744C4-9C81-47B9-B54A-96BC30AD4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AEDA3-2212-495A-9CB9-680FE870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393B5-9C1D-4CB0-BD6F-FE6FEB444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B99F4-8C09-4594-9D6D-0339A2628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AC32F-5740-4360-B3A5-02BF07970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DD2B2-C588-4650-983A-81D2E3A1F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90FB4-D291-4012-8D2E-C312C6E37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CB01C-C620-41DD-99E9-1ED8B28EB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C8281-AD1F-49BD-8755-3D09D3FDA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953B3-9398-4E26-8056-72D98BCFF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2CC32-DD28-46D8-B314-CFC4023C2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A475C-15B7-4125-9037-C08328E18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954C-2918-4AEC-90F1-25B0C8FAA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42FFE8-5B3E-4A1A-AC68-20B62814A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DAF0FE-4222-4F7B-991F-84E850E9C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7AA18-8E55-4DCA-AF1D-6067C06C8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99FFC-3508-45F4-AFF4-75AB5BE4E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AE1D5-424F-453C-AF2F-A63DA3458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3AD69-E1C3-42D6-B490-B70DDDBC7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F1EF7-6428-4891-A20A-3653B5451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A195F-CA5F-4107-B1BD-75BDACBA5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28451-C450-4DB0-B15B-A8FDE4B17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092DB-5B15-4DAF-8841-EACC1D494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3D4D-7DAB-45CA-B5BD-DBA117A7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3178F6-2CD7-4CA3-9EDB-1784C7874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967498-874B-4835-88ED-65B37368E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4D34D6-2531-4CE6-82B2-6A07854960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008D7C-1EAD-4C77-A955-EAB359039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239936-E388-4C18-9F80-A1B8CB1EEF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9DCCE-0488-4069-B218-3340EC95F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ECA41-4ABC-4ACD-89A7-446673360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C606E-43D3-4ECB-B7AC-DA6CAF197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58615-F0F2-40E6-AC91-7D8C5D307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11956-6B19-4234-BA60-0715FC610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AC37-1BD3-4640-9692-30F6D563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2519F-5410-45F6-800F-A0DAF8A2C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A5990-FAFD-4D7F-8BB0-06B1461693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18CCE-8186-4B7B-AE74-784CD2E27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9EF45B-95C5-461C-AAA4-5A760318CD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9F568A-9146-4EDA-ABF3-F987C0A48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FF3814-7FCA-47AB-85D5-0597817B47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AEDD33-3E55-48F9-94D9-3FC163258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41232-ADA8-4EA2-9662-A2AB5F1F9E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054C78-DCF0-4028-B92E-90FB07756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D33BE-430E-48C6-83BE-8BB781AC89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C8CD-8ABC-433C-A8C2-3E3B0DA3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BDA1D-2D0C-42BC-A99A-1DB056259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E04E8-9F6F-46C7-B819-B69C50AAC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C0D58-251C-4792-8662-4FF98B85B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6705D-F25B-49B6-A835-94FA3F3E9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C1302-3820-494B-ABD8-18512E896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0F2C01-5CA6-4557-9BC8-BDC43B639D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B19E8B-0C7E-49B9-A942-92DDC24B1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A56C6F-3E65-432D-8B19-A03227CEB4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E746CC-336D-48D4-9CEA-48556543E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75059-D693-497C-80DE-318B086B3E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A2EB-5F81-4AF8-AF67-B20C497792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F32B-07FB-4F30-9298-48D3D035F4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84B6-5BC1-4D90-A9D1-813EC2D526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842E-374D-4909-A999-1E3A405D8F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AAE9-EBA4-453D-AC96-73721097F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DD65-09E7-452B-98B9-2EEEB53EF3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3F2E-96CE-4EBB-ACF7-E6266EAAC6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32DD-3A55-411C-8C60-BF66394ED4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75D3-17B4-4587-B1A9-96D660F984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DA4C-378F-4F9B-93ED-B05B7381B3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7530-D489-4511-9215-83E67F27F1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B043-FF50-4769-8D2E-257E038E97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71600" y="30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Исследование на тему: </a:t>
            </a:r>
            <a:br>
              <a:rPr sz="4000"/>
            </a:br>
            <a:r>
              <a:rPr b="0" lang="ru-RU" sz="4000" spc="-1" strike="noStrike">
                <a:solidFill>
                  <a:srgbClr val="ff0000"/>
                </a:solidFill>
                <a:latin typeface="Palatino Linotype"/>
              </a:rPr>
              <a:t>Как котёнок стал котом </a:t>
            </a:r>
            <a:endParaRPr b="0" lang="en-US" sz="4000" spc="-1" strike="noStrike">
              <a:solidFill>
                <a:srgbClr val="000000"/>
              </a:solidFill>
              <a:latin typeface="Calibri"/>
            </a:endParaRPr>
          </a:p>
        </p:txBody>
      </p:sp>
      <p:sp>
        <p:nvSpPr>
          <p:cNvPr id="500" name=""/>
          <p:cNvSpPr txBox="1"/>
          <p:nvPr/>
        </p:nvSpPr>
        <p:spPr>
          <a:xfrm>
            <a:off x="409320" y="4408560"/>
            <a:ext cx="4079880" cy="1868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Выполнил:</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r>
              <a:rPr b="0" lang="ru-RU" sz="2000" spc="-1" strike="noStrike">
                <a:solidFill>
                  <a:srgbClr val="000000"/>
                </a:solidFill>
                <a:latin typeface="Palatino Linotype"/>
              </a:rPr>
              <a:t>ученик 1«А» класса школы 48</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Мершиев Вадим</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Руководитель работы:</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r>
              <a:rPr b="0" lang="ru-RU" sz="2000" spc="-1" strike="noStrike">
                <a:solidFill>
                  <a:srgbClr val="000000"/>
                </a:solidFill>
                <a:latin typeface="Palatino Linotype"/>
              </a:rPr>
              <a:t>В</a:t>
            </a:r>
            <a:r>
              <a:rPr b="0" lang="ru-RU" sz="2000" spc="-1" strike="noStrike">
                <a:solidFill>
                  <a:srgbClr val="000000"/>
                </a:solidFill>
                <a:latin typeface="Arial"/>
              </a:rPr>
              <a:t>и</a:t>
            </a:r>
            <a:r>
              <a:rPr b="0" lang="ru-RU" sz="2000" spc="-1" strike="noStrike">
                <a:solidFill>
                  <a:srgbClr val="000000"/>
                </a:solidFill>
                <a:latin typeface="Palatino Linotype"/>
              </a:rPr>
              <a:t>денина Инна Анатольевна</a:t>
            </a:r>
            <a:endParaRPr b="0" lang="en-US" sz="2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72FB-9EC2-44E9-9AAA-F95B11EC6F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2" name="Picture 2" descr="C:\Documents and Settings\Администратор\Рабочий стол\проект для вадима\фото КОТА- АЛЕКСА\27072008301.jpg"/>
          <p:cNvPicPr/>
          <p:nvPr/>
        </p:nvPicPr>
        <p:blipFill>
          <a:blip r:embed="rId1"/>
          <a:stretch/>
        </p:blipFill>
        <p:spPr>
          <a:xfrm>
            <a:off x="4395960" y="2933640"/>
            <a:ext cx="4570200" cy="3429000"/>
          </a:xfrm>
          <a:prstGeom prst="rect">
            <a:avLst/>
          </a:prstGeom>
          <a:ln w="0">
            <a:noFill/>
          </a:ln>
        </p:spPr>
      </p:pic>
    </p:spTree>
  </p:cSld>
  <p:transition spd="med">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40880" y="316080"/>
            <a:ext cx="789804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Выводы по работе </a:t>
            </a:r>
            <a:endParaRPr b="0" lang="en-US" sz="4000" spc="-1" strike="noStrike">
              <a:solidFill>
                <a:srgbClr val="000000"/>
              </a:solidFill>
              <a:latin typeface="Calibri"/>
            </a:endParaRPr>
          </a:p>
        </p:txBody>
      </p:sp>
      <p:sp>
        <p:nvSpPr>
          <p:cNvPr id="546" name="PlaceHolder 2"/>
          <p:cNvSpPr>
            <a:spLocks noGrp="1"/>
          </p:cNvSpPr>
          <p:nvPr>
            <p:ph type="subTitle"/>
          </p:nvPr>
        </p:nvSpPr>
        <p:spPr>
          <a:xfrm>
            <a:off x="641520" y="1582560"/>
            <a:ext cx="3916080" cy="44625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Итак, котенок взрослеет очень быстро, всего за один год он превращается во взрослого кота. Но что бы он вырос сильным, здоровым и умным за ним обязательно нужно ухаживать, поить и кормить, следить за здоровьем ,играть с ним и обязательно любить. </a:t>
            </a:r>
            <a:endParaRPr b="0" lang="en-US" sz="24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53EF-1017-4297-B5C1-CE383D0B31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8" name="Picture 6" descr="C:\Documents and Settings\Администратор\Рабочий стол\проект для вадима\фото КОТА- АЛЕКСА\11-1.JPG"/>
          <p:cNvPicPr/>
          <p:nvPr/>
        </p:nvPicPr>
        <p:blipFill>
          <a:blip r:embed="rId1"/>
          <a:stretch/>
        </p:blipFill>
        <p:spPr>
          <a:xfrm>
            <a:off x="5162400" y="1528920"/>
            <a:ext cx="3484800" cy="4844880"/>
          </a:xfrm>
          <a:prstGeom prst="rect">
            <a:avLst/>
          </a:prstGeom>
          <a:ln w="0">
            <a:noFill/>
          </a:ln>
        </p:spPr>
      </p:pic>
    </p:spTree>
  </p:cSld>
  <p:transition spd="med">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27200" y="464760"/>
            <a:ext cx="7897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0" name="PlaceHolder 2"/>
          <p:cNvSpPr>
            <a:spLocks noGrp="1"/>
          </p:cNvSpPr>
          <p:nvPr>
            <p:ph type="subTitle"/>
          </p:nvPr>
        </p:nvSpPr>
        <p:spPr>
          <a:xfrm>
            <a:off x="587160" y="2265120"/>
            <a:ext cx="8078760" cy="180180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Palatino Linotype"/>
              </a:rPr>
              <a:t>Спасибо за внимание!</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Palatino Linotype"/>
              </a:rPr>
              <a:t>До свидания!</a:t>
            </a:r>
            <a:endParaRPr b="0" lang="en-US" sz="44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F521-05D6-4FE4-9A83-1137089320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27200" y="437760"/>
            <a:ext cx="7897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3" name="PlaceHolder 2"/>
          <p:cNvSpPr>
            <a:spLocks noGrp="1"/>
          </p:cNvSpPr>
          <p:nvPr>
            <p:ph type="subTitle"/>
          </p:nvPr>
        </p:nvSpPr>
        <p:spPr>
          <a:xfrm>
            <a:off x="641160" y="3885840"/>
            <a:ext cx="8078760" cy="2158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57F3-E7C1-4357-8366-706DEFC271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27200" y="437760"/>
            <a:ext cx="7897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6" name="PlaceHolder 2"/>
          <p:cNvSpPr>
            <a:spLocks noGrp="1"/>
          </p:cNvSpPr>
          <p:nvPr>
            <p:ph type="subTitle"/>
          </p:nvPr>
        </p:nvSpPr>
        <p:spPr>
          <a:xfrm>
            <a:off x="641160" y="3885840"/>
            <a:ext cx="8078760" cy="2158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7D68-3A3B-41C4-B18B-0F1C4F5C3B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286920"/>
            <a:ext cx="78994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9" name="PlaceHolder 2"/>
          <p:cNvSpPr>
            <a:spLocks noGrp="1"/>
          </p:cNvSpPr>
          <p:nvPr>
            <p:ph type="subTitle"/>
          </p:nvPr>
        </p:nvSpPr>
        <p:spPr>
          <a:xfrm>
            <a:off x="641160" y="2087280"/>
            <a:ext cx="8078760" cy="3957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0D95-0812-4515-8A23-A52793705E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03200" y="220680"/>
            <a:ext cx="8229600" cy="73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Эпиграф</a:t>
            </a:r>
            <a:r>
              <a:rPr b="0" lang="ru-RU" sz="4000" spc="-1" strike="noStrike">
                <a:solidFill>
                  <a:srgbClr val="ff0000"/>
                </a:solidFill>
                <a:latin typeface="Calibri"/>
              </a:rPr>
              <a:t> </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04" name=""/>
          <p:cNvSpPr txBox="1"/>
          <p:nvPr/>
        </p:nvSpPr>
        <p:spPr>
          <a:xfrm>
            <a:off x="258840" y="1009440"/>
            <a:ext cx="5595840" cy="5405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КОТ</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r>
              <a:rPr b="0" lang="ru-RU" sz="1600" spc="-1" strike="noStrike">
                <a:solidFill>
                  <a:srgbClr val="000000"/>
                </a:solidFill>
                <a:latin typeface="Palatino Linotype"/>
                <a:ea typeface="Arial"/>
              </a:rPr>
              <a:t>Друзья, есть дома у меня, большой пушистый кот. Уже три года и два дня, как он у нас живет. Когда еще котёнком был, залез он под кровать,                                              И нам едва хватило сил Проказника поймать. Теперь красив, степенен он, и ходит точно франт. И коротать кошачий сон  он лезет на сервант. Порою любит он ночной  мне под бочок прилечь. Но только не затем, чтоб  мой  спокойный сон стеречь. Он, как обычно, заурчит, меня свой нос уткнув. И скоро тихо засопит, быстрей меня уснув.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r>
              <a:rPr b="0" lang="ru-RU" sz="1600" spc="-1" strike="noStrike">
                <a:solidFill>
                  <a:srgbClr val="000000"/>
                </a:solidFill>
                <a:latin typeface="Palatino Linotype"/>
                <a:ea typeface="Arial"/>
              </a:rPr>
              <a:t>Евгений Корюкин</a:t>
            </a:r>
            <a:endParaRPr b="0" lang="en-US" sz="16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624E-3BA2-43E2-9442-1592DFC8BC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6" name="Picture 7" descr="C:\Documents and Settings\Администратор\Рабочий стол\проект для вадима\фото КОТА- АЛЕКСА\021.jpg"/>
          <p:cNvPicPr/>
          <p:nvPr/>
        </p:nvPicPr>
        <p:blipFill>
          <a:blip r:embed="rId1"/>
          <a:stretch/>
        </p:blipFill>
        <p:spPr>
          <a:xfrm>
            <a:off x="5626080" y="3821040"/>
            <a:ext cx="3324240" cy="2514600"/>
          </a:xfrm>
          <a:prstGeom prst="rect">
            <a:avLst/>
          </a:prstGeom>
          <a:ln w="0">
            <a:noFill/>
          </a:ln>
        </p:spPr>
      </p:pic>
    </p:spTree>
  </p:cSld>
  <p:transition spd="med">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03200" y="2203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ff0000"/>
                </a:solidFill>
                <a:latin typeface="Palatino Linotype"/>
              </a:rPr>
              <a:t>цель: исследовать жизнь котёнка</a:t>
            </a:r>
            <a:endParaRPr b="0" lang="en-US" sz="4000" spc="-1" strike="noStrike">
              <a:solidFill>
                <a:srgbClr val="000000"/>
              </a:solidFill>
              <a:latin typeface="Calibri"/>
            </a:endParaRPr>
          </a:p>
        </p:txBody>
      </p:sp>
      <p:sp>
        <p:nvSpPr>
          <p:cNvPr id="508" name=""/>
          <p:cNvSpPr txBox="1"/>
          <p:nvPr/>
        </p:nvSpPr>
        <p:spPr>
          <a:xfrm>
            <a:off x="587160" y="1499760"/>
            <a:ext cx="5662440" cy="4164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800" spc="-1" strike="noStrike">
                <a:solidFill>
                  <a:srgbClr val="ff0000"/>
                </a:solidFill>
                <a:latin typeface="Palatino Linotype"/>
                <a:ea typeface="Arial"/>
              </a:rPr>
              <a:t>задачи:</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узнать близкого дикого родственника;</a:t>
            </a:r>
            <a:endParaRPr b="0" lang="en-US" sz="2400" spc="-1" strike="noStrike">
              <a:solidFill>
                <a:srgbClr val="000000"/>
              </a:solidFill>
              <a:latin typeface="Calibri"/>
            </a:endParaRPr>
          </a:p>
          <a:p>
            <a:pPr>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изучить влияние питания на жизнь котёнка;</a:t>
            </a:r>
            <a:endParaRPr b="0" lang="en-US" sz="2400" spc="-1" strike="noStrike">
              <a:solidFill>
                <a:srgbClr val="000000"/>
              </a:solidFill>
              <a:latin typeface="Calibri"/>
            </a:endParaRPr>
          </a:p>
          <a:p>
            <a:pPr>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исследовать влияние лечения на качество жизни;</a:t>
            </a:r>
            <a:endParaRPr b="0" lang="en-US" sz="2400" spc="-1" strike="noStrike">
              <a:solidFill>
                <a:srgbClr val="000000"/>
              </a:solidFill>
              <a:latin typeface="Calibri"/>
            </a:endParaRPr>
          </a:p>
          <a:p>
            <a:pPr>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определить роль игр, и доброго отношения хозяина на котёнка</a:t>
            </a:r>
            <a:r>
              <a:rPr b="0" lang="ru-RU" sz="2000" spc="-1" strike="noStrike">
                <a:solidFill>
                  <a:srgbClr val="000000"/>
                </a:solidFill>
                <a:latin typeface="Palatino Linotype"/>
                <a:ea typeface="Arial"/>
              </a:rPr>
              <a:t>;       </a:t>
            </a:r>
            <a:endParaRPr b="0" lang="en-US" sz="2000" spc="-1" strike="noStrike">
              <a:solidFill>
                <a:srgbClr val="000000"/>
              </a:solidFill>
              <a:latin typeface="Calibri"/>
            </a:endParaRPr>
          </a:p>
        </p:txBody>
      </p:sp>
      <p:sp>
        <p:nvSpPr>
          <p:cNvPr id="5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4082-377D-4ADF-A3CA-EC9A0EDBEE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0" name="Рисунок 9" descr="16-03-09_1559.jpg"/>
          <p:cNvPicPr/>
          <p:nvPr/>
        </p:nvPicPr>
        <p:blipFill>
          <a:blip r:embed="rId1"/>
          <a:srcRect l="0" t="21881" r="0" b="21881"/>
          <a:stretch/>
        </p:blipFill>
        <p:spPr>
          <a:xfrm>
            <a:off x="5554800" y="3868560"/>
            <a:ext cx="3313080" cy="2482920"/>
          </a:xfrm>
          <a:prstGeom prst="rect">
            <a:avLst/>
          </a:prstGeom>
          <a:ln w="0">
            <a:noFill/>
          </a:ln>
        </p:spPr>
      </p:pic>
    </p:spTree>
  </p:cSld>
  <p:transition spd="med">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03200" y="2203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000" spc="-1" strike="noStrike">
                <a:solidFill>
                  <a:srgbClr val="ff0000"/>
                </a:solidFill>
                <a:latin typeface="Calibri"/>
              </a:rPr>
              <a:t>Наш котёнок Алекс</a:t>
            </a:r>
            <a:endParaRPr b="0" lang="en-US" sz="4000" spc="-1" strike="noStrike">
              <a:solidFill>
                <a:srgbClr val="000000"/>
              </a:solidFill>
              <a:latin typeface="Calibri"/>
            </a:endParaRPr>
          </a:p>
        </p:txBody>
      </p:sp>
      <p:sp>
        <p:nvSpPr>
          <p:cNvPr id="512" name=""/>
          <p:cNvSpPr txBox="1"/>
          <p:nvPr/>
        </p:nvSpPr>
        <p:spPr>
          <a:xfrm>
            <a:off x="587520" y="1499760"/>
            <a:ext cx="5540400" cy="4164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r>
              <a:rPr b="0" lang="ru-RU" sz="2000" spc="-1" strike="noStrike">
                <a:solidFill>
                  <a:srgbClr val="ff0000"/>
                </a:solidFill>
                <a:latin typeface="Tahoma"/>
                <a:ea typeface="Arial"/>
              </a:rPr>
              <a:t>   </a:t>
            </a:r>
            <a:r>
              <a:rPr b="0" lang="ru-RU" sz="2000" spc="-1" strike="noStrike">
                <a:solidFill>
                  <a:srgbClr val="000000"/>
                </a:solidFill>
                <a:latin typeface="Tahoma"/>
                <a:ea typeface="Arial"/>
              </a:rPr>
              <a:t>У нас живёт кот Алекс. Ему сейчас один год. Он относится к породе британских гладкошерстных кошек, окраса табби. Он очень добрый и умный.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Всего за один год произошли большие перемены с нашим котиком.</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ea typeface="Arial"/>
              </a:rPr>
              <a:t>  </a:t>
            </a:r>
            <a:r>
              <a:rPr b="0" lang="ru-RU" sz="2000" spc="-1" strike="noStrike">
                <a:solidFill>
                  <a:srgbClr val="000000"/>
                </a:solidFill>
                <a:latin typeface="Tahoma"/>
                <a:ea typeface="Arial"/>
              </a:rPr>
              <a:t>Как же быстро наш маленький котенок Алекс стал котом Алексом.</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Как это произошло?  </a:t>
            </a:r>
            <a:endParaRPr b="0" lang="en-US" sz="20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2CBC-BAE7-43D4-9B0A-4B278B5445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4" name="Picture 8" descr="C:\Documents and Settings\Администратор\Рабочий стол\проект для вадима\фото КОТА- АЛЕКСА\01.jpg"/>
          <p:cNvPicPr/>
          <p:nvPr/>
        </p:nvPicPr>
        <p:blipFill>
          <a:blip r:embed="rId1"/>
          <a:stretch/>
        </p:blipFill>
        <p:spPr>
          <a:xfrm>
            <a:off x="3781440" y="4259160"/>
            <a:ext cx="2031840" cy="2070360"/>
          </a:xfrm>
          <a:prstGeom prst="rect">
            <a:avLst/>
          </a:prstGeom>
          <a:ln w="0">
            <a:noFill/>
          </a:ln>
        </p:spPr>
      </p:pic>
      <p:pic>
        <p:nvPicPr>
          <p:cNvPr id="515" name="Picture 9" descr="C:\Documents and Settings\Администратор\Рабочий стол\проект для вадима\фото КОТА- АЛЕКСА\Фото 4-2.jpg"/>
          <p:cNvPicPr/>
          <p:nvPr/>
        </p:nvPicPr>
        <p:blipFill>
          <a:blip r:embed="rId2"/>
          <a:stretch/>
        </p:blipFill>
        <p:spPr>
          <a:xfrm>
            <a:off x="6291360" y="3022560"/>
            <a:ext cx="2579760" cy="3371760"/>
          </a:xfrm>
          <a:prstGeom prst="rect">
            <a:avLst/>
          </a:prstGeom>
          <a:ln w="0">
            <a:noFill/>
          </a:ln>
        </p:spPr>
      </p:pic>
    </p:spTree>
  </p:cSld>
  <p:transition spd="med">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83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Дикие родственники</a:t>
            </a:r>
            <a:endParaRPr b="0" lang="en-US" sz="4000" spc="-1" strike="noStrike">
              <a:solidFill>
                <a:srgbClr val="000000"/>
              </a:solidFill>
              <a:latin typeface="Calibri"/>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6CE7-ACE7-49F9-8E7A-1F43EC64A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8" name=""/>
          <p:cNvSpPr txBox="1"/>
          <p:nvPr/>
        </p:nvSpPr>
        <p:spPr>
          <a:xfrm>
            <a:off x="457200" y="1244520"/>
            <a:ext cx="8229600" cy="1976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r>
              <a:rPr b="0" lang="ru-RU" sz="2000" spc="-1" strike="noStrike">
                <a:solidFill>
                  <a:srgbClr val="000000"/>
                </a:solidFill>
                <a:latin typeface="Tahoma"/>
                <a:ea typeface="Arial"/>
              </a:rPr>
              <a:t>	</a:t>
            </a:r>
            <a:r>
              <a:rPr b="0" lang="ru-RU" sz="2000" spc="-1" strike="noStrike">
                <a:solidFill>
                  <a:srgbClr val="000000"/>
                </a:solidFill>
                <a:latin typeface="Palatino Linotype"/>
                <a:ea typeface="Arial"/>
              </a:rPr>
              <a:t>Оказалось, что наш домашний котёнок относится к семейству кошачьих.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И его дикие родственники: сильные, смелые, ловкие животные.</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Посмотрите как они похожи!      </a:t>
            </a:r>
            <a:endParaRPr b="0" lang="en-US" sz="2000" spc="-1" strike="noStrike">
              <a:solidFill>
                <a:srgbClr val="000000"/>
              </a:solidFill>
              <a:latin typeface="Calibri"/>
            </a:endParaRPr>
          </a:p>
        </p:txBody>
      </p:sp>
      <p:pic>
        <p:nvPicPr>
          <p:cNvPr id="519" name="Picture 7" descr="C:\Documents and Settings\Администратор\Рабочий стол\проект для вадима\дикие кошки\рысь1.jpg"/>
          <p:cNvPicPr/>
          <p:nvPr/>
        </p:nvPicPr>
        <p:blipFill>
          <a:blip r:embed="rId1"/>
          <a:stretch/>
        </p:blipFill>
        <p:spPr>
          <a:xfrm>
            <a:off x="573120" y="3251160"/>
            <a:ext cx="2143080" cy="3067200"/>
          </a:xfrm>
          <a:prstGeom prst="rect">
            <a:avLst/>
          </a:prstGeom>
          <a:ln w="0">
            <a:noFill/>
          </a:ln>
        </p:spPr>
      </p:pic>
      <p:pic>
        <p:nvPicPr>
          <p:cNvPr id="520" name="Picture 8" descr="C:\Documents and Settings\Администратор\Рабочий стол\проект для вадима\дикие кошки\снежный барс1.jpg"/>
          <p:cNvPicPr/>
          <p:nvPr/>
        </p:nvPicPr>
        <p:blipFill>
          <a:blip r:embed="rId2"/>
          <a:stretch/>
        </p:blipFill>
        <p:spPr>
          <a:xfrm>
            <a:off x="6548400" y="3193920"/>
            <a:ext cx="2176560" cy="3070440"/>
          </a:xfrm>
          <a:prstGeom prst="rect">
            <a:avLst/>
          </a:prstGeom>
          <a:ln w="0">
            <a:noFill/>
          </a:ln>
        </p:spPr>
      </p:pic>
      <p:pic>
        <p:nvPicPr>
          <p:cNvPr id="521" name="Picture 10" descr="C:\Documents and Settings\Администратор\Рабочий стол\проект для вадима\фото КОТА- АЛЕКСА\Фото 4-2.jpg"/>
          <p:cNvPicPr/>
          <p:nvPr/>
        </p:nvPicPr>
        <p:blipFill>
          <a:blip r:embed="rId3"/>
          <a:stretch/>
        </p:blipFill>
        <p:spPr>
          <a:xfrm>
            <a:off x="3483000" y="3206880"/>
            <a:ext cx="2340000" cy="3058920"/>
          </a:xfrm>
          <a:prstGeom prst="rect">
            <a:avLst/>
          </a:prstGeom>
          <a:ln w="0">
            <a:noFill/>
          </a:ln>
        </p:spPr>
      </p:pic>
    </p:spTree>
  </p:cSld>
  <p:transition spd="med">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Значение питания для роста котенка</a:t>
            </a:r>
            <a:endParaRPr b="0" lang="en-US" sz="4000" spc="-1" strike="noStrike">
              <a:solidFill>
                <a:srgbClr val="000000"/>
              </a:solidFill>
              <a:latin typeface="Calibri"/>
            </a:endParaRPr>
          </a:p>
        </p:txBody>
      </p:sp>
      <p:sp>
        <p:nvSpPr>
          <p:cNvPr id="523" name=""/>
          <p:cNvSpPr txBox="1"/>
          <p:nvPr/>
        </p:nvSpPr>
        <p:spPr>
          <a:xfrm>
            <a:off x="456840" y="1338120"/>
            <a:ext cx="8250120" cy="263376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Palatino Linotype"/>
              </a:rPr>
              <a:t>Чтобы расти здоровыми, все живые существа должны есть правильную пищу, обогащенную витаминами и питательными веществами в определенном количестве. Оптимальный баланс этих элементов содержится в кормах для котов. Которыми мы кормим нашего Алекса. И обязательно котенок должен пить чистую и свежую воду.</a:t>
            </a:r>
            <a:endParaRPr b="0" lang="en-US" sz="24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4412-8A3E-487D-81EC-2D46FD9D52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25" name="Picture 6" descr="C:\Documents and Settings\Администратор\Мои документы\галин телефон\с телефона гали от 28.03.2010г\Фото5.jpg"/>
          <p:cNvPicPr/>
          <p:nvPr/>
        </p:nvPicPr>
        <p:blipFill>
          <a:blip r:embed="rId1"/>
          <a:stretch/>
        </p:blipFill>
        <p:spPr>
          <a:xfrm>
            <a:off x="3657600" y="3998880"/>
            <a:ext cx="4708440" cy="2482920"/>
          </a:xfrm>
          <a:prstGeom prst="rect">
            <a:avLst/>
          </a:prstGeom>
          <a:ln w="0">
            <a:noFill/>
          </a:ln>
        </p:spPr>
      </p:pic>
    </p:spTree>
  </p:cSld>
  <p:transition spd="med">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73200" y="328680"/>
            <a:ext cx="7897680" cy="73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Роль ветеринара в жизни котёнка</a:t>
            </a:r>
            <a:endParaRPr b="0" lang="en-US" sz="4000" spc="-1" strike="noStrike">
              <a:solidFill>
                <a:srgbClr val="000000"/>
              </a:solidFill>
              <a:latin typeface="Calibri"/>
            </a:endParaRPr>
          </a:p>
        </p:txBody>
      </p:sp>
      <p:sp>
        <p:nvSpPr>
          <p:cNvPr id="527" name="PlaceHolder 2"/>
          <p:cNvSpPr>
            <a:spLocks noGrp="1"/>
          </p:cNvSpPr>
          <p:nvPr>
            <p:ph type="subTitle"/>
          </p:nvPr>
        </p:nvSpPr>
        <p:spPr>
          <a:xfrm>
            <a:off x="546120" y="1487160"/>
            <a:ext cx="4844880" cy="470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Что бы котенок рос здоровым он вместе с хозяином должен посещать ветеринара. Котам делают прививки , что бы они не болели для этого каждому животному дают паспорт, где записывают все чем его лечили.</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Ветеринары дают рекомендации,</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r>
              <a:rPr b="0" lang="ru-RU" sz="2400" spc="-1" strike="noStrike">
                <a:solidFill>
                  <a:srgbClr val="000000"/>
                </a:solidFill>
                <a:latin typeface="Palatino Linotype"/>
              </a:rPr>
              <a:t>какие витамины нужно давать котенку ,как ухаживать и чем кормить, что бы он был полон сил и энергии.</a:t>
            </a:r>
            <a:endParaRPr b="0" lang="en-US" sz="24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EDD2-6035-423B-8419-035B333ADD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29" name="Picture 6" descr="C:\Documents and Settings\Администратор\Рабочий стол\проект для вадима\фото КОТА- АЛЕКСА\паспорт кота 1.jpg"/>
          <p:cNvPicPr/>
          <p:nvPr/>
        </p:nvPicPr>
        <p:blipFill>
          <a:blip r:embed="rId1"/>
          <a:stretch/>
        </p:blipFill>
        <p:spPr>
          <a:xfrm>
            <a:off x="5786280" y="2889360"/>
            <a:ext cx="2799000" cy="3471840"/>
          </a:xfrm>
          <a:prstGeom prst="rect">
            <a:avLst/>
          </a:prstGeom>
          <a:ln w="0">
            <a:noFill/>
          </a:ln>
        </p:spPr>
      </p:pic>
      <p:pic>
        <p:nvPicPr>
          <p:cNvPr id="530" name="Picture 7" descr="C:\Documents and Settings\Администратор\Мои документы\галин телефон\с телефона гали от 28.03.2010г\7-2.jpg"/>
          <p:cNvPicPr/>
          <p:nvPr/>
        </p:nvPicPr>
        <p:blipFill>
          <a:blip r:embed="rId2"/>
          <a:stretch/>
        </p:blipFill>
        <p:spPr>
          <a:xfrm>
            <a:off x="6635880" y="1301760"/>
            <a:ext cx="2288880" cy="1434960"/>
          </a:xfrm>
          <a:prstGeom prst="rect">
            <a:avLst/>
          </a:prstGeom>
          <a:ln w="0">
            <a:noFill/>
          </a:ln>
        </p:spPr>
      </p:pic>
    </p:spTree>
  </p:cSld>
  <p:transition spd="med">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27200" y="438120"/>
            <a:ext cx="789768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Роль сна в развитии котёнка</a:t>
            </a:r>
            <a:endParaRPr b="0" lang="en-US" sz="4000" spc="-1" strike="noStrike">
              <a:solidFill>
                <a:srgbClr val="000000"/>
              </a:solidFill>
              <a:latin typeface="Calibri"/>
            </a:endParaRPr>
          </a:p>
        </p:txBody>
      </p:sp>
      <p:sp>
        <p:nvSpPr>
          <p:cNvPr id="532" name="PlaceHolder 2"/>
          <p:cNvSpPr>
            <a:spLocks noGrp="1"/>
          </p:cNvSpPr>
          <p:nvPr>
            <p:ph type="subTitle"/>
          </p:nvPr>
        </p:nvSpPr>
        <p:spPr>
          <a:xfrm>
            <a:off x="641160" y="1487160"/>
            <a:ext cx="7629480" cy="12286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Чтобы котёнок рос сильным и здоровым он должен восстанавливать свои силы во сне, а Алекс очень у нас любит поспать в разных местах и позах.</a:t>
            </a:r>
            <a:endParaRPr b="0" lang="en-US" sz="20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C1CD-5060-40B6-B398-200403E50A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4" name="Picture 6" descr="C:\Documents and Settings\Администратор\Мои документы\галин телефон\с телефона гали от 28.03.2010г\Фото6.jpg"/>
          <p:cNvPicPr/>
          <p:nvPr/>
        </p:nvPicPr>
        <p:blipFill>
          <a:blip r:embed="rId1"/>
          <a:stretch/>
        </p:blipFill>
        <p:spPr>
          <a:xfrm>
            <a:off x="6181560" y="4313160"/>
            <a:ext cx="2664000" cy="2014560"/>
          </a:xfrm>
          <a:prstGeom prst="rect">
            <a:avLst/>
          </a:prstGeom>
          <a:ln w="0">
            <a:noFill/>
          </a:ln>
        </p:spPr>
      </p:pic>
      <p:pic>
        <p:nvPicPr>
          <p:cNvPr id="535" name="Picture 7" descr="C:\Documents and Settings\Администратор\Рабочий стол\проект для вадима\фото КОТА- АЛЕКСА\8-1.jpg"/>
          <p:cNvPicPr/>
          <p:nvPr/>
        </p:nvPicPr>
        <p:blipFill>
          <a:blip r:embed="rId2"/>
          <a:stretch/>
        </p:blipFill>
        <p:spPr>
          <a:xfrm>
            <a:off x="258840" y="2538360"/>
            <a:ext cx="2228760" cy="1787400"/>
          </a:xfrm>
          <a:prstGeom prst="rect">
            <a:avLst/>
          </a:prstGeom>
          <a:ln w="0">
            <a:noFill/>
          </a:ln>
        </p:spPr>
      </p:pic>
      <p:pic>
        <p:nvPicPr>
          <p:cNvPr id="536" name="Picture 8" descr="C:\Documents and Settings\Администратор\Рабочий стол\проект для вадима\фото КОТА- АЛЕКСА\8-2.jpg"/>
          <p:cNvPicPr/>
          <p:nvPr/>
        </p:nvPicPr>
        <p:blipFill>
          <a:blip r:embed="rId3"/>
          <a:stretch/>
        </p:blipFill>
        <p:spPr>
          <a:xfrm>
            <a:off x="3002040" y="2913120"/>
            <a:ext cx="2867040" cy="2481120"/>
          </a:xfrm>
          <a:prstGeom prst="rect">
            <a:avLst/>
          </a:prstGeom>
          <a:ln w="0">
            <a:noFill/>
          </a:ln>
        </p:spPr>
      </p:pic>
      <p:pic>
        <p:nvPicPr>
          <p:cNvPr id="537" name="Picture 9" descr="C:\Documents and Settings\Администратор\Рабочий стол\проект для вадима\фото КОТА- АЛЕКСА\8-4.jpg"/>
          <p:cNvPicPr/>
          <p:nvPr/>
        </p:nvPicPr>
        <p:blipFill>
          <a:blip r:embed="rId4"/>
          <a:stretch/>
        </p:blipFill>
        <p:spPr>
          <a:xfrm>
            <a:off x="434880" y="5513400"/>
            <a:ext cx="2664000" cy="1138320"/>
          </a:xfrm>
          <a:prstGeom prst="rect">
            <a:avLst/>
          </a:prstGeom>
          <a:ln w="0">
            <a:noFill/>
          </a:ln>
        </p:spPr>
      </p:pic>
      <p:pic>
        <p:nvPicPr>
          <p:cNvPr id="538" name="Picture 10" descr="C:\Documents and Settings\Администратор\Рабочий стол\проект для вадима\фото КОТА- АЛЕКСА\8-5.JPG"/>
          <p:cNvPicPr/>
          <p:nvPr/>
        </p:nvPicPr>
        <p:blipFill>
          <a:blip r:embed="rId5"/>
          <a:stretch/>
        </p:blipFill>
        <p:spPr>
          <a:xfrm>
            <a:off x="6211800" y="2565360"/>
            <a:ext cx="2714760" cy="1433520"/>
          </a:xfrm>
          <a:prstGeom prst="rect">
            <a:avLst/>
          </a:prstGeom>
          <a:ln w="0">
            <a:noFill/>
          </a:ln>
        </p:spPr>
      </p:pic>
    </p:spTree>
  </p:cSld>
  <p:transition spd="med">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27200" y="437760"/>
            <a:ext cx="789768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Игры в жизни котёнка </a:t>
            </a:r>
            <a:endParaRPr b="0" lang="en-US" sz="4000" spc="-1" strike="noStrike">
              <a:solidFill>
                <a:srgbClr val="000000"/>
              </a:solidFill>
              <a:latin typeface="Calibri"/>
            </a:endParaRPr>
          </a:p>
        </p:txBody>
      </p:sp>
      <p:sp>
        <p:nvSpPr>
          <p:cNvPr id="540" name="PlaceHolder 2"/>
          <p:cNvSpPr>
            <a:spLocks noGrp="1"/>
          </p:cNvSpPr>
          <p:nvPr>
            <p:ph type="subTitle"/>
          </p:nvPr>
        </p:nvSpPr>
        <p:spPr>
          <a:xfrm>
            <a:off x="641160" y="1528560"/>
            <a:ext cx="8078760" cy="4516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Что бы котик был весел, что бы ему было хорошо хозяева его должны любить и ласкать. И, конечно, он должен играть, бегать, прыгать, прятаться в разных местах, ведь для него наша квартира целый мир.  </a:t>
            </a:r>
            <a:endParaRPr b="0" lang="en-US" sz="2400" spc="-1" strike="noStrike">
              <a:solidFill>
                <a:srgbClr val="000000"/>
              </a:solidFill>
              <a:latin typeface="Calibri"/>
            </a:endParaRPr>
          </a:p>
        </p:txBody>
      </p:sp>
      <p:sp>
        <p:nvSpPr>
          <p:cNvPr id="5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5C50-FDA0-430A-8698-69E1D2D05B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2" name="Picture 6" descr="C:\Documents and Settings\Администратор\Рабочий стол\проект для вадима\фото КОТА- АЛЕКСА\Кот алекс-британец.jpg"/>
          <p:cNvPicPr/>
          <p:nvPr/>
        </p:nvPicPr>
        <p:blipFill>
          <a:blip r:embed="rId1"/>
          <a:stretch/>
        </p:blipFill>
        <p:spPr>
          <a:xfrm>
            <a:off x="453960" y="3494160"/>
            <a:ext cx="1933560" cy="2579760"/>
          </a:xfrm>
          <a:prstGeom prst="rect">
            <a:avLst/>
          </a:prstGeom>
          <a:ln w="0">
            <a:noFill/>
          </a:ln>
        </p:spPr>
      </p:pic>
      <p:pic>
        <p:nvPicPr>
          <p:cNvPr id="543" name="Picture 7" descr="C:\Documents and Settings\Администратор\Рабочий стол\проект для вадима\фото КОТА- АЛЕКСА\9-1.JPG"/>
          <p:cNvPicPr/>
          <p:nvPr/>
        </p:nvPicPr>
        <p:blipFill>
          <a:blip r:embed="rId2"/>
          <a:stretch/>
        </p:blipFill>
        <p:spPr>
          <a:xfrm>
            <a:off x="2600280" y="3193920"/>
            <a:ext cx="3213000" cy="2511720"/>
          </a:xfrm>
          <a:prstGeom prst="rect">
            <a:avLst/>
          </a:prstGeom>
          <a:ln w="0">
            <a:noFill/>
          </a:ln>
        </p:spPr>
      </p:pic>
      <p:pic>
        <p:nvPicPr>
          <p:cNvPr id="544" name="Picture 8" descr="C:\Documents and Settings\Администратор\Мои документы\галин телефон\с телефона гали от 28.03.2010г\9-3.jpg"/>
          <p:cNvPicPr/>
          <p:nvPr/>
        </p:nvPicPr>
        <p:blipFill>
          <a:blip r:embed="rId3"/>
          <a:stretch/>
        </p:blipFill>
        <p:spPr>
          <a:xfrm>
            <a:off x="5965920" y="3848040"/>
            <a:ext cx="2931840" cy="2546280"/>
          </a:xfrm>
          <a:prstGeom prst="rect">
            <a:avLst/>
          </a:prstGeom>
          <a:ln w="0">
            <a:noFill/>
          </a:ln>
        </p:spPr>
      </p:pic>
    </p:spTree>
  </p:cSld>
  <p:transition spd="med">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0-05-20T11:02:31Z</dcterms:modified>
  <cp:revision>3</cp:revision>
  <dc:subject/>
  <dc:title>Исследование на тему:  Как котёнок стал котом </dc:title>
</cp:coreProperties>
</file>