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720-266D-4AEE-8D2C-D0BC43F9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D0F-80F1-440C-9A90-F64DDC5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6EB-89AF-48CD-9CC8-A672B9B8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05F-95DA-4346-9907-12496355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4CEB-4AC6-485C-ACF1-AF8A4C98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BCF5-CBB3-4E1C-AFF1-5AFE6E50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11C5-0E89-46CB-B81B-EA92D0F7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FCBD-4C30-44A4-940E-04A65877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49A5-EBD7-46B6-A7D5-465CE427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DA3D-8812-429E-B9D9-C3E7AB09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6B7E-4F8A-4B82-B247-7BF52DCB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C6E-0247-45E0-8233-4A82DA63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327C-AE3E-4D69-B266-93B62AFB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EE9C-0D8B-412B-8D02-C46003F4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EE4E-5AD2-4983-9275-0064BF1B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5EFF-C5FE-49C4-A6E8-A1950A69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BF2D-7EE3-419F-8F44-F74FD9CD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AD3-D444-42F6-AB6E-B365B856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114-EBDB-4E25-AEDF-536C2780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228-29EE-4B78-AD48-6B707BB7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D0B-B0B7-4F44-B004-95832B64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D2A-F2E1-4F7C-8789-9DDFD671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758-A77F-45BC-80DE-83866114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2D8-052E-4207-BDF3-DB4A96F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0E03-B84C-407B-8ACB-A2DEEB551C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D7E3-B5A6-4253-9844-02C65AB0F0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Муниципальное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 дошкольное образовательное учреждение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«Детский сад комбинированного вида №177 «Радуга»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44520" y="4019040"/>
            <a:ext cx="6319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Baskerville Old Face"/>
              </a:rPr>
              <a:t>Использование в работе самостоятельно разработанных цифровых ресурсо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Baskerville Old Face"/>
              </a:rPr>
              <a:t>Андреевой Марины Владимировн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Baskerville Old Face"/>
              </a:rPr>
              <a:t>Воспитателя МДОУ «Детский сад комбинированного вида № 177»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Baskerville Old Face"/>
              </a:rPr>
              <a:t>Г. Саратова Ленинского райо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098440" cy="21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51680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Советы доктора градусника!</a:t>
            </a:r>
            <a:br>
              <a:rPr sz="20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важаемые взрослые! В тёплое тихое утро исключительно полезно купание на свежем воздухе. Происходит одновременно закаливание и воздухом и водой. При прохладной погоде рекомендуется принимать душ. Помните, что водные процедуры укрепляют нервную систему ребёнка, предупреждают простудные заболевания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Купание: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Уважаемые взрослые, для первого купания выберите тёплый день. Купание в реке, пруду, озере на море – в открытом водоёме – наиболее эффективный вид  закаливания. Оно весьма приятно детям. Эта процедура рекомендуется лишь после того, как дети привыкли к воздушным и солнечным ваннам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антелькин учит плавать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Дорогие взрослые, сначала научите ребёнк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не бояться воды: пусть он погружается с головой в воду, открывает в воде глаза, делает в воду выдохи. Все упражнения, которые  необходимы, чтобы ребёнок обучился плаванью, сначала отрабатывайте на берегу.</a:t>
            </a:r>
            <a:br>
              <a:rPr sz="2800"/>
            </a:b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7200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важаемые взрослые!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Ребёнку очень полезно Закаливание.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каливание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пособствует    усилению обмена веществ, повышает сопротивляемость организма инфекционным заболеваниям. Из средств закаливания самые доступные – воздух, вода, солнц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оздушные ванны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Закаливание воздухом стимулирует правильный рост и развитие ребёнка. Воздушные ванны рекомендуются всем здоровым детя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олнечные ванны: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Под воздействием ультрафиолетовых лучей образуется витамин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, имеющий огромное значение для нормального роста и развития ребёнка. Солнечный удар: Дорогие мамы, папы, бабушки и дедушки! Ребёнку находиться под прямыми лучами солнца с непокрытой головой ОПАСНО! Это может привести к солнечному удару.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624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Что ты, Лето, принесло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Мячик, лодку и весло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олоко в узорной крынке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дберёзовик в корзинке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олейбол и городки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Ну-ка все  - вперегонки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то из вас домчится первы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т деревни до реки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ы с ребятами бежа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Через рощу прямико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няли сандалии 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 дальше босиком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ПРЕЗЕНТАЦИЮ ДЛЯ РОДИТЕЛЕЙ СОСТАВИ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Verdana"/>
              </a:rPr>
              <a:t>Андреева Марина Владимировна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воспитатель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МДОУ «Детский сад комбинированного вида  № 177 «Радуга»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г.Сарато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7:56:13Z</dcterms:created>
  <dc:creator>Владелец</dc:creator>
  <dc:description/>
  <dc:language>en-US</dc:language>
  <cp:lastModifiedBy>Владелец</cp:lastModifiedBy>
  <dcterms:modified xsi:type="dcterms:W3CDTF">2012-06-01T18:32:09Z</dcterms:modified>
  <cp:revision>2</cp:revision>
  <dc:subject/>
  <dc:title>Муниципальное  дошкольное образовательное учреждение  «Детский сад комбинированного вида №177 «Радуга» </dc:title>
</cp:coreProperties>
</file>