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501E-5828-4FDD-B5D2-8F05FBA1A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93E4-E103-495E-B269-BC3653B8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B0D2-A2A0-4537-AEB7-C8AD5028D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A800-ED62-4F55-BB1A-D5043C49F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33CFA-4F10-4076-9D1E-A3515A22E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9E5C-FEDE-4963-B0AC-1FD22F9B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DB47-09D5-4EB1-8EC6-340FFFFE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EA8C-64A6-41F0-A8B2-2E643B59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2E83-5742-4644-8B22-019F40B3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6BDC-939B-4458-8C83-ECFD12B6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EE62-0AE8-4F6A-88E1-25766141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FB01-C080-43BD-9F90-ACC5223D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FAEE-A0FB-476B-9E57-1CE1D86D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AAF29-C6A8-4727-9183-146F6700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92CC-61B8-4C17-8929-37626F77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6DFA-5677-4767-9B6B-985018915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CCD1-6C2B-4064-989D-4492C332F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0269-A987-45C6-9B79-3A22B0D0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1D9E-DB89-41FC-8EB2-93C9C55A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42C1-10EC-40EF-9EF8-7F8F93D4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46E7-C1B8-49EE-B2A0-5A99EE5B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E521-FC2C-4163-A82A-9F2B2BC2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5D01-4B4C-4B48-A46E-E81C9FDC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7117-881D-4F24-99EC-FEA957A5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E9E4-FD01-42EE-8D80-E928456AE85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57F0-8063-45CC-884E-B91D6193736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32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Arial"/>
              </a:rPr>
              <a:t>Муниципальное</a:t>
            </a:r>
            <a:r>
              <a:rPr b="1" lang="en-US" sz="3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3800" spc="-1" strike="noStrike">
                <a:solidFill>
                  <a:srgbClr val="ffffcc"/>
                </a:solidFill>
                <a:latin typeface="Arial"/>
              </a:rPr>
              <a:t> дошкольное образовательное учреждение </a:t>
            </a:r>
            <a:br>
              <a:rPr sz="3800"/>
            </a:br>
            <a:r>
              <a:rPr b="1" lang="ru-RU" sz="3800" spc="-1" strike="noStrike">
                <a:solidFill>
                  <a:srgbClr val="ffffcc"/>
                </a:solidFill>
                <a:latin typeface="Arial"/>
              </a:rPr>
              <a:t>«Детский сад комбинированного вида №177 «Радуга»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144520" y="4019040"/>
            <a:ext cx="6319800" cy="17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Baskerville Old Face"/>
              </a:rPr>
              <a:t>Использование в работе самостоятельно разработанных цифровых ресурсов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Baskerville Old Face"/>
              </a:rPr>
              <a:t>Андреевой Марины Владимировны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Baskerville Old Face"/>
              </a:rPr>
              <a:t>Воспитателя МДОУ «Детский сад комбинированного вида № 177»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Baskerville Old Face"/>
              </a:rPr>
              <a:t>Г. Саратова Ленинского район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0920" y="4149720"/>
            <a:ext cx="2098440" cy="21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7516800" cy="17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eaeaea"/>
                </a:solidFill>
                <a:uFillTx/>
                <a:latin typeface="Arial"/>
              </a:rPr>
              <a:t>Советы доктора градусника!</a:t>
            </a:r>
            <a:br>
              <a:rPr sz="2000"/>
            </a:b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Уважаемые взрослые! В тёплое тихое утро исключительно полезно купание на свежем воздухе. Происходит одновременно закаливание и воздухом и водой. При прохладной погоде рекомендуется принимать душ. Помните, что водные процедуры укрепляют нервную систему ребёнка, предупреждают простудные заболевания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63520" y="404280"/>
            <a:ext cx="738648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Купание:</a:t>
            </a: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 Уважаемые взрослые, для первого купания выберите тёплый день. Купание в реке, пруду, озере на море – в открытом водоёме – наиболее эффективный вид  закаливания. Оно весьма приятно детям. Эта процедура рекомендуется лишь после того, как дети привыкли к воздушным и солнечным ваннам.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Гантелькин учит плавать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Дорогие взрослые, сначала научите ребёнка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не бояться воды: пусть он погружается с головой в воду, открывает в воде глаза, делает в воду выдохи. Все упражнения, которые  необходимы, чтобы ребёнок обучился плаванью, сначала отрабатывайте на берегу.</a:t>
            </a:r>
            <a:br>
              <a:rPr sz="2800"/>
            </a:br>
            <a:r>
              <a:rPr b="1" lang="en-US" sz="2800" spc="-1" strike="noStrike" u="sng">
                <a:solidFill>
                  <a:srgbClr val="eaeaea"/>
                </a:solidFill>
                <a:uFillTx/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50920" y="549000"/>
            <a:ext cx="720072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Уважаемые взрослые!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 Ребёнку очень полезно Закаливание.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Закаливание 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способствует    усилению обмена веществ, повышает сопротивляемость организма инфекционным заболеваниям. Из средств закаливания самые доступные – воздух, вода, солнц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Воздушные ванны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: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Закаливание воздухом стимулирует правильный рост и развитие ребёнка. Воздушные ванны рекомендуются всем здоровым детям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Солнечные ванны: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 Под воздействием ультрафиолетовых лучей образуется витамин  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D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, имеющий огромное значение для нормального роста и развития ребёнка. Солнечный удар: Дорогие мамы, папы, бабушки и дедушки! Ребёнку находиться под прямыми лучами солнца с непокрытой головой ОПАСНО! Это может привести к солнечному удару.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4360" y="476280"/>
            <a:ext cx="62467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- Что ты, Лето, принесло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- Мячик, лодку и весло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Молоко в узорной крынке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Подберёзовик в корзинке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Волейбол и городки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Ну-ка все  - вперегонки!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Кто из вас домчится первым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От деревни до реки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Мы с ребятами бежал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Через рощу прямиком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Сняли сандалии -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И дальше босиком!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63520" y="981000"/>
            <a:ext cx="738648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ПРЕЗЕНТАЦИЮ ДЛЯ РОДИТЕЛЕЙ СОСТАВИЛ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Verdana"/>
              </a:rPr>
              <a:t>Андреева Марина Владимировна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Verdana"/>
              </a:rPr>
              <a:t>воспитатель</a:t>
            </a:r>
            <a:r>
              <a:rPr b="1" lang="en-US" sz="32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0033cc"/>
                </a:solidFill>
                <a:latin typeface="Verdana"/>
              </a:rPr>
              <a:t>МДОУ «Детский сад комбинированного вида  № 177 «Радуга»</a:t>
            </a:r>
            <a:r>
              <a:rPr b="0" lang="en-US" sz="3200" spc="-1" strike="noStrike">
                <a:solidFill>
                  <a:srgbClr val="0033cc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0033cc"/>
                </a:solidFill>
                <a:latin typeface="Verdana"/>
              </a:rPr>
              <a:t>г.Саратов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1T17:56:13Z</dcterms:created>
  <dc:creator>Владелец</dc:creator>
  <dc:description/>
  <dc:language>en-US</dc:language>
  <cp:lastModifiedBy>Владелец</cp:lastModifiedBy>
  <dcterms:modified xsi:type="dcterms:W3CDTF">2012-06-01T18:32:09Z</dcterms:modified>
  <cp:revision>2</cp:revision>
  <dc:subject/>
  <dc:title>Муниципальное  дошкольное образовательное учреждение  «Детский сад комбинированного вида №177 «Радуга» </dc:title>
</cp:coreProperties>
</file>