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087-4C50-4C19-B93B-A45B6F15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C23-2CCC-4B47-9553-FA4E52E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A1F-3419-4A9D-9EB9-3EFB292C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EC6-3A96-423C-ABA6-4F8AEA5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5F7-E80F-4810-9141-5CB65341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7B7B-D6A1-44B6-A41F-DF5339B8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F3D-7CB5-42AA-AD00-4001CC1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5188-5497-4882-8ED4-F72972EC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7B0-FF86-4D42-876F-056E557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2EB7-1508-48A0-B05E-2CE9CC3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C21F-CBEB-4439-8A5A-BC4526C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B9D-3E2B-429C-B3E2-53BBEFF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A3E-557B-4839-81C7-36C3DE4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2AE-A7CF-4A6E-9C27-814D99A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87D-EA2B-407A-8E69-49E22AA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FBB2-39EF-408F-BC8E-3F0F8646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85A2-121D-41CD-8914-3233E623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C52-8FD2-4A67-A463-3465892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EA1-1147-4710-B5F5-F9E0B128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564-7449-4584-B962-60325AE4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197-6322-4BB0-A54F-BE68B292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0CE-F12B-4A1B-AA70-235DA7E3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95B-DE6E-4CC1-B47D-9FDACA0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0F-C2D0-4FFD-850F-E9A0367A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8BBE-D050-4BB7-8A3B-3C0EE8E486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FE2-DDF3-47FD-B41A-46E5E42810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Admin</cp:lastModifiedBy>
  <dcterms:modified xsi:type="dcterms:W3CDTF">2012-07-04T12:06:23Z</dcterms:modified>
  <cp:revision>4</cp:revision>
  <dc:subject/>
  <dc:title>Царство Грибы.</dc:title>
</cp:coreProperties>
</file>