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59D-B5F9-48E8-A7C2-59B3430F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0E2-379F-4AB4-880F-9A267BC8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16D-FC34-4AA9-A36F-5EC1C14A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43C-8832-416F-AA38-189D5DD1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CFA6-8ADC-45A7-B523-3EE8FA83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6E3B-B71B-4D79-A7F0-01AD6070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B6C0-3601-4599-8B2C-99A985D3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A3ED-BEDE-4F51-A1CC-3526092E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D97A-0D86-438D-9D39-5883BE01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C155-A8CE-4C1F-9503-0DF5426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2E5C-0484-4677-9783-4F8A37FB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0A6-A481-4A84-881C-5C216C5B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914F-54C4-4295-AE9B-2DEB02F3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DE6B-AB1E-4A9C-866F-82C4B838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B627-E7A2-4FB7-9ADB-C08F2719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6F08-6885-47E4-B870-F3CB8FE6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A5B5-8B5A-4266-BE32-8C22C7DC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F6E-C4FB-4951-93A8-76234723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CF7-F407-4F2E-A575-EA554058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57A-C80E-4966-880F-71A0D2B6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3B0D-8E79-4AFC-B5F5-42C464A9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BC9-2E88-4CCC-9B13-0F3B8897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5AC-7C56-46AB-80E9-DA78D49F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E32-53DE-4C6A-8293-11557238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7381-A947-4366-AD6C-77853AB1D1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F132-84A0-4D6F-AEF6-3CE5A8A1B5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</a:rPr>
              <a:t>Царство Грибы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7640" y="24210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Грибы-парази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1916280"/>
            <a:ext cx="2378160" cy="475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гриб-паразит1"/>
          <p:cNvPicPr/>
          <p:nvPr/>
        </p:nvPicPr>
        <p:blipFill>
          <a:blip r:embed="rId2"/>
          <a:stretch/>
        </p:blipFill>
        <p:spPr>
          <a:xfrm>
            <a:off x="2357280" y="3714840"/>
            <a:ext cx="4067280" cy="299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7451640" y="1197000"/>
            <a:ext cx="1428840" cy="1407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6442560" y="4643280"/>
            <a:ext cx="22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ндаренко Е.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сшей катего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-17136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360" y="836280"/>
            <a:ext cx="4530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</a:rPr>
              <a:t>Головневые гри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иболее опасные паразиты злаков. При поражении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головн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место зерна получается черная пыль, представляющая собой споры гриба. Колосья становятся похожими на обугленные голов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Зара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ми видами происходит на стадии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цветения зла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гда споры с пораженного растения попадают на рыльца пестиков здоров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1282680" cy="4191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003-2"/>
          <p:cNvPicPr/>
          <p:nvPr/>
        </p:nvPicPr>
        <p:blipFill>
          <a:blip r:embed="rId2"/>
          <a:stretch/>
        </p:blipFill>
        <p:spPr>
          <a:xfrm>
            <a:off x="1403280" y="1989000"/>
            <a:ext cx="2772000" cy="3171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9"/>
          <p:cNvSpPr/>
          <p:nvPr/>
        </p:nvSpPr>
        <p:spPr>
          <a:xfrm>
            <a:off x="1332000" y="5300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атки кукурузы, пораженные головневым грибо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-4590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11280" y="1483920"/>
            <a:ext cx="493236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Мучнистую рос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лаков вызывает сумчатый гриб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rysiphe gram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каждой их видов злаковых культур паразитируют свои формы гриба, название которым дают с указанием на растение-хозяина.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ни поражают листья, стебли и колосья, мицелий гриба сначала имеет паутинообразный вид, а за тем превращается в подуше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Гриб склеротиния"/>
          <p:cNvPicPr/>
          <p:nvPr/>
        </p:nvPicPr>
        <p:blipFill>
          <a:blip r:embed="rId1"/>
          <a:stretch/>
        </p:blipFill>
        <p:spPr>
          <a:xfrm>
            <a:off x="611280" y="1700280"/>
            <a:ext cx="360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640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Сферотека крыжовн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ыл завезен в начале 20 века в европу из Америки,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азитирует на листьях, стеблях и ягодах образуя мучнистый на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Сферотеку еще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мериканской мучнистой рос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Пораженные части растений обрезают и сжигают. А в борьбе со сферотекой применяют опрыскивание 3%-ным раствором железного купороса ранней весной до распускания почек или поздней осе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Сферотека крыжовника"/>
          <p:cNvPicPr/>
          <p:nvPr/>
        </p:nvPicPr>
        <p:blipFill>
          <a:blip r:embed="rId1"/>
          <a:stretch/>
        </p:blipFill>
        <p:spPr>
          <a:xfrm>
            <a:off x="0" y="1557360"/>
            <a:ext cx="3456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7280" y="836640"/>
            <a:ext cx="507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</a:rPr>
              <a:t>Фитоф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т поражать листья, стебли и клубни растений, особенно опасна для картофеля и том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онце лета на нижней стороне листьев появляются бурые пятна отмершей ткани с белым пушком по кра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рорастает по межклеточным ходам в пораженном органе и распространяется по всему растению. Пораженные части растения темнеют и отмир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Фитофто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ла в Европу в первой половине 19 века из Аме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борьбы с фитофторой применяют опрыскивание бордосской жидкостью и некоторыми другими фунгици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Гриб-паразит ризопус"/>
          <p:cNvPicPr/>
          <p:nvPr/>
        </p:nvPicPr>
        <p:blipFill>
          <a:blip r:embed="rId1"/>
          <a:stretch/>
        </p:blipFill>
        <p:spPr>
          <a:xfrm>
            <a:off x="0" y="1557360"/>
            <a:ext cx="392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11280" y="907560"/>
            <a:ext cx="475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Синхитри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оклеточ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зывает заболевание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рак картоф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Опознать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к картофеля можно по бугристым выростам на клубнях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о многих странах является карантинным заболеванием. Считается, чт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рак картофе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был занесен к нам во время второй мировой войны, так как появился он в основном в западных регионах.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Борьб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этим грибом проводится путем обработки почвы хлорпикрином и другими химикатами, а так же работой над селекцией новых ракоустойчивых сор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Рак катрофеля вызывает гриб синхитриум"/>
          <p:cNvPicPr/>
          <p:nvPr/>
        </p:nvPicPr>
        <p:blipFill>
          <a:blip r:embed="rId1"/>
          <a:stretch/>
        </p:blipFill>
        <p:spPr>
          <a:xfrm>
            <a:off x="250920" y="1557360"/>
            <a:ext cx="4033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лиго Fulig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лизистый гриб, который живет на гниющих пнях, заметен во второй половине лета и осенью. Образует подушковидные наплывы (их называют эталии) рыжеватого или сероватого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Фулиго гриб-сапрофит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42880" y="907920"/>
            <a:ext cx="45435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Венту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будитель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парши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яблонях и грушах и других плодовых деревьях Инфицированная грибом мякоть плодов становится деревянистой, плоды часто не вызревают, трескаются. Деревья обрабатывают фунгицид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Гриб-паразит вентурия вызывает паршу"/>
          <p:cNvPicPr/>
          <p:nvPr/>
        </p:nvPicPr>
        <p:blipFill>
          <a:blip r:embed="rId1"/>
          <a:stretch/>
        </p:blipFill>
        <p:spPr>
          <a:xfrm>
            <a:off x="179280" y="1773360"/>
            <a:ext cx="3745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00320" y="1628640"/>
            <a:ext cx="4454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е один вид головни паразита —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пыльная головня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вращающий колосья пшеницы в пылистую сажистую массу, а сами колосья издали имеют вид обгоревш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Пылист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все части колоса за исключением стержня.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Твердая голов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ажает лишь зерна в коло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Пыльная головня у злаков"/>
          <p:cNvPicPr/>
          <p:nvPr/>
        </p:nvPicPr>
        <p:blipFill>
          <a:blip r:embed="rId1"/>
          <a:stretch/>
        </p:blipFill>
        <p:spPr>
          <a:xfrm>
            <a:off x="826920" y="1700280"/>
            <a:ext cx="2930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Грибы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разиты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могут быть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факультатив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блигатными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аще паразитируют на растениях, чем на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блигатные паразиты</a:t>
            </a:r>
            <a:r>
              <a:rPr b="1" i="1" lang="ru-RU" sz="20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вызывают гибели своих хозяев и ограничены узким кругом хозяев, от которых им нужен специфический набор питательны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915840" y="1600200"/>
            <a:ext cx="3808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57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Факультативные параз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о вызывают гибель своих хозяев и потом живут сапрофитно на мертвых оста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менее специализированы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ут и развиваются на разных субстратах и разных хозяе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Гриб-паразит ризопус"/>
          <p:cNvPicPr/>
          <p:nvPr/>
        </p:nvPicPr>
        <p:blipFill>
          <a:blip r:embed="rId1"/>
          <a:stretch/>
        </p:blipFill>
        <p:spPr>
          <a:xfrm>
            <a:off x="900000" y="2133720"/>
            <a:ext cx="3456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75120" y="1599840"/>
            <a:ext cx="3811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омное количество болезней растений возникает в результате их поражения разнообразными грибами-парази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поры грибов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образующиеся в огромных количествах, распространяются водой и воздушными потоками и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никают в тело растения через повреждения покровов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600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700"/>
            </a:b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000680" y="999720"/>
            <a:ext cx="46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Грибы-трут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Спора трутов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попав на ранку в дереве, прорастает в грибницу и разрушает древесину. Через несколько лет образуются многолетние копытообразные плодовые тела. Трутовики выделяют ферменты, разрушающие древесину и превращающие ее в тр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же после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ибели дер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гриб продолжает жить на мертвом субстрате (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ак сапротроф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жегодно производя большое количество спор и заражая здоровые деревья. Поэтому погибшие деревья и плодовые тела трутовиков рекомендуется удалять из л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8116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5120" y="836640"/>
            <a:ext cx="381168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Гриб-трут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растет на стволах берез. Этот гриб-паразит поселяется еще на живых деревьях, а когда они погибают, трутовик продолжает жить на мертвом субстрате, вед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сапрофитный образ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Гриб-трутовик"/>
          <p:cNvPicPr/>
          <p:nvPr/>
        </p:nvPicPr>
        <p:blipFill>
          <a:blip r:embed="rId1"/>
          <a:stretch/>
        </p:blipFill>
        <p:spPr>
          <a:xfrm>
            <a:off x="539640" y="1700280"/>
            <a:ext cx="3240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51280" y="980640"/>
            <a:ext cx="5292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Ржавчинные грибы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торые в процессе своего жизненного цикла меняют несколько хозяев. Благодаря жизнедеятельности грибов рода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укциния Puccin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обратной стороне листьев возникают подушечки или полосочки бурого и оранжевого цвета. На верхней поверхности гриб обнаружить можно лишь под микроскопом: возникают 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</a:rPr>
              <a:t>кувшинообразные вместилищ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Меры борьб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ржавчинными грибами — опыливание растений коллоидной (молотой) с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479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24360" y="980640"/>
            <a:ext cx="4935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поры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обнаруживается в период цветения: на колосьях среди зерновок хорошо заметны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рно-фиолетовые рожки, выступающие из коло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остоят из плотно переплетенных гифов. Это стадия покоя гриба.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В период созревания ржи они опадают на землю и зимуют под снегом. Весной на них образуются шаровидные головки красноватого цвета на длинных ножках. Созревание спор происходит во время цветения р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2664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0000"/>
                </a:solidFill>
                <a:latin typeface="Times New Roman"/>
              </a:rPr>
              <a:t>Грибы-паразиты.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4000" y="980640"/>
            <a:ext cx="512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ти гриба выделяют сладкую жидкость —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медвяную ро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привлекающую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Кониди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пав на завязь, образуют грибницу, которая к осени уплотняется, наружные слои ее окрашиваются, и вместо зерновки в колосе формируются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Рожки спорыньи содержат ядовитые алкалоиды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щество-алкалоид эрготин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 которые, попадая в организм человека, вызывают отравление (иногда со смертельным исходом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Попадая в муку, гриб способен вызывать сужение кровеносных сосудов и судороги мышц. Действие этого алкалоида используют в гинекологической практике, поэтому спорынью даже выращивают на особо охраняемых участках для медицинских целей. Отравление грибом, содержание которого в муке составляет выше 0,06% может закончиться летальным исх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3354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02:01Z</dcterms:created>
  <dc:creator>Admin</dc:creator>
  <dc:description/>
  <dc:language>en-US</dc:language>
  <cp:lastModifiedBy>Admin</cp:lastModifiedBy>
  <dcterms:modified xsi:type="dcterms:W3CDTF">2012-07-04T12:06:23Z</dcterms:modified>
  <cp:revision>4</cp:revision>
  <dc:subject/>
  <dc:title>Царство Грибы.</dc:title>
</cp:coreProperties>
</file>