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png" ContentType="image/png"/>
  <Override PartName="/ppt/media/image15.jpeg" ContentType="image/jpeg"/>
  <Override PartName="/ppt/media/image14.jpeg" ContentType="image/jpeg"/>
  <Override PartName="/ppt/media/image1.jpeg" ContentType="image/jpeg"/>
  <Override PartName="/ppt/media/image10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5.png" ContentType="image/pn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59321-DF33-44AD-9091-9B3282E20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6808F-EF4E-4387-86F3-598EA3FD4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AB5FC-CAE2-4413-BDE4-73EF6D6A1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FEA57-EA9C-490F-8E8F-331DDDDCF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916F7-98CA-4E46-9B80-709251FAD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8671D-BC82-4C9D-9A76-13B222224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EEFFD-7681-4151-9474-E8BEBC52C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CB0EE-B54C-4E24-B849-C8AC898CF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F7D70-1FD5-45BA-B3D7-D6E369F10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A6AB0-CF4A-4FED-857F-9639E241D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96734-815B-420E-BC44-5CD9873C3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CF15C-87AC-4A0A-A914-89A2A4B98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3CDE4-5254-49F5-BD69-D365591F4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8FD0D-8730-4D8D-9F22-BE4BBE97B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74773-B7F1-4CEA-9A6F-6B4A44517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BCBB5-38B1-410D-AF4F-4D760D0B6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68B14-29A0-42BB-9285-DF24244C7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5E220-E3E8-41F4-BC35-EF4C7C531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FF4D6-A3CC-47D0-9EDD-FC672ED37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6CC36-1C7A-42C9-AF20-CA605807A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DA9C4-8F99-473C-A21D-23AD7F4A1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BC5AC-CBF5-42A7-AE22-C16FBD833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0DA28-B67A-49D2-9B4A-C3C92A866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3CD49-1824-4AED-BF4B-25B81D5DF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80E8D-02EB-48C6-B493-A8BD5F130005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68841-8D11-4E0E-89C9-49433D3B7C62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16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Times New Roman"/>
              </a:rPr>
              <a:t>Царство грибы.</a:t>
            </a:r>
            <a:endParaRPr b="0" lang="en-US" sz="6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785960" y="2999880"/>
            <a:ext cx="6858000" cy="53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Плесневые грибы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5" descr="плесн"/>
          <p:cNvPicPr/>
          <p:nvPr/>
        </p:nvPicPr>
        <p:blipFill>
          <a:blip r:embed="rId1"/>
          <a:stretch/>
        </p:blipFill>
        <p:spPr>
          <a:xfrm>
            <a:off x="0" y="3402000"/>
            <a:ext cx="3313080" cy="3456000"/>
          </a:xfrm>
          <a:prstGeom prst="rect">
            <a:avLst/>
          </a:prstGeom>
          <a:ln w="0">
            <a:noFill/>
          </a:ln>
        </p:spPr>
      </p:pic>
      <p:sp>
        <p:nvSpPr>
          <p:cNvPr id="100" name="TextBox 6"/>
          <p:cNvSpPr/>
          <p:nvPr/>
        </p:nvSpPr>
        <p:spPr>
          <a:xfrm>
            <a:off x="5786280" y="4143240"/>
            <a:ext cx="2928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ондаренко Е.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 биологии высшей катего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.о.Сама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700" spc="-1" strike="noStrike">
                <a:solidFill>
                  <a:srgbClr val="ff0000"/>
                </a:solidFill>
                <a:latin typeface="Times New Roman"/>
              </a:rPr>
              <a:t>Плесневые грибы</a:t>
            </a:r>
            <a:endParaRPr b="0" lang="en-US" sz="57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Широкое применение в </a:t>
            </a:r>
            <a:r>
              <a:rPr b="1" i="1" lang="ru-RU" sz="2000" spc="-1" strike="noStrike">
                <a:solidFill>
                  <a:srgbClr val="0000cc"/>
                </a:solidFill>
                <a:latin typeface="Arial"/>
              </a:rPr>
              <a:t>биотехнологии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лучила способность </a:t>
            </a: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A</a:t>
            </a:r>
            <a:r>
              <a:rPr b="0" i="1" lang="ru-RU" sz="2000" spc="-1" strike="noStrike">
                <a:solidFill>
                  <a:srgbClr val="0000cc"/>
                </a:solidFill>
                <a:latin typeface="Arial"/>
              </a:rPr>
              <a:t>.</a:t>
            </a: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niger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 других видов этой группы к 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образованию лимонной, щавелевой, глюконовой, фумаровой кислот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Кроме органических кислот аспергиллы, и в частности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iger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co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ны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ь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витамины: биотин, тиамин, рибофлавин и др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4" descr="плесневые грибы7"/>
          <p:cNvPicPr/>
          <p:nvPr/>
        </p:nvPicPr>
        <p:blipFill>
          <a:blip r:embed="rId1"/>
          <a:stretch/>
        </p:blipFill>
        <p:spPr>
          <a:xfrm>
            <a:off x="611280" y="1628640"/>
            <a:ext cx="460836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3300"/>
                </a:solidFill>
                <a:latin typeface="Times New Roman"/>
              </a:rPr>
              <a:t>                              </a:t>
            </a:r>
            <a:r>
              <a:rPr b="1" i="1" lang="ru-RU" sz="4400" spc="-1" strike="noStrike">
                <a:solidFill>
                  <a:srgbClr val="ff3300"/>
                </a:solidFill>
                <a:latin typeface="Times New Roman"/>
              </a:rPr>
              <a:t>Дрожжи</a:t>
            </a:r>
            <a:br>
              <a:rPr sz="4400"/>
            </a:b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99680" y="785520"/>
            <a:ext cx="83329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Одноклеточные грибы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 имеют мицелия и представляют собой неподвижные клетки овальной формы размером 2—10 мкм  с одним ядр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Размножаются дрожж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почкованием или делением. У них наблюдается и половой процесс, протекающий в виде копуляции двух клеток. Образовавшаяся при этом зигота превращается в сумку с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—8 спорам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ибольшее практическое значение имеют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пекарские дрожж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представленные несколькими сотнями рас — винными, пивными, хлебопекарными и др. Они применяются в пивоварении, хлебопечении, производстве спирта. Винные дрожжи встречаются в природе на поверхности плодов (например, винограда), в нектаре цветков, в истечениях деревьев и используются в винодел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7" descr=""/>
          <p:cNvPicPr/>
          <p:nvPr/>
        </p:nvPicPr>
        <p:blipFill>
          <a:blip r:embed="rId1"/>
          <a:stretch/>
        </p:blipFill>
        <p:spPr>
          <a:xfrm>
            <a:off x="6791400" y="4334040"/>
            <a:ext cx="223668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</a:t>
            </a:r>
            <a:r>
              <a:rPr b="1" i="1" lang="ru-RU" sz="4400" spc="-1" strike="noStrike">
                <a:solidFill>
                  <a:srgbClr val="ff3300"/>
                </a:solidFill>
                <a:latin typeface="Times New Roman"/>
              </a:rPr>
              <a:t>Дрожжи.</a:t>
            </a:r>
            <a:br>
              <a:rPr sz="16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недостатке питания и избытке кислорода происходит половой процесс в форме </a:t>
            </a:r>
            <a:r>
              <a:rPr b="0" i="1" lang="ru-RU" sz="1800" spc="-1" strike="noStrike">
                <a:solidFill>
                  <a:srgbClr val="0000ff"/>
                </a:solidFill>
                <a:latin typeface="Arial"/>
              </a:rPr>
              <a:t>хологами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— копуляция (слияние) двух гаплоидных клеток. Образовавшаяся зигота превращается в сумку, в которой путем мейоза образуются 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4 аскоспор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каждая из которых развивается в новые дрожжевые клетки.</a:t>
            </a:r>
            <a:br>
              <a:rPr sz="1800"/>
            </a:br>
            <a:br>
              <a:rPr sz="1600"/>
            </a:br>
            <a:endParaRPr b="0" lang="en-US" sz="1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35" name="Picture 6" descr=""/>
          <p:cNvPicPr/>
          <p:nvPr/>
        </p:nvPicPr>
        <p:blipFill>
          <a:blip r:embed="rId1"/>
          <a:stretch/>
        </p:blipFill>
        <p:spPr>
          <a:xfrm>
            <a:off x="0" y="2428920"/>
            <a:ext cx="9001080" cy="4429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3300"/>
                </a:solidFill>
                <a:latin typeface="Times New Roman"/>
              </a:rPr>
              <a:t>                  </a:t>
            </a:r>
            <a:r>
              <a:rPr b="1" i="1" lang="ru-RU" sz="4400" spc="-1" strike="noStrike">
                <a:solidFill>
                  <a:srgbClr val="ff3300"/>
                </a:solidFill>
                <a:latin typeface="Times New Roman"/>
              </a:rPr>
              <a:t>Дрожжи.</a:t>
            </a:r>
            <a:br>
              <a:rPr sz="4400"/>
            </a:b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14400" y="1483920"/>
            <a:ext cx="7772400" cy="46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00cc"/>
                </a:solidFill>
                <a:uFillTx/>
                <a:latin typeface="Arial"/>
              </a:rPr>
              <a:t>Примен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6"/>
          <p:cNvSpPr/>
          <p:nvPr/>
        </p:nvSpPr>
        <p:spPr>
          <a:xfrm>
            <a:off x="755640" y="1989000"/>
            <a:ext cx="7777080" cy="433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ибольшее практическое значение имеют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екарские дрожжи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 представленные несколькими сотнями рас — </a:t>
            </a: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винными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пивными, хлебопекарными и др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 Они применяются в пивоварении, хлебопечении, производстве спирта. Винные дрожжи встречаются в природе на поверхности плодов (например, винограда), в нектаре цветков, в истечениях деревьев и используются в винодел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пособность сбраживать углеводы, расщепляя глюкозу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с образованием этилового спирта и углекислого газ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послужила основой для введения дрожжей в культур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0000"/>
                </a:solidFill>
                <a:latin typeface="Arial"/>
                <a:ea typeface="Arial"/>
              </a:rPr>
              <a:t>Значение грибов.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40" name="Picture 5" descr="maslyatas"/>
          <p:cNvPicPr/>
          <p:nvPr/>
        </p:nvPicPr>
        <p:blipFill>
          <a:blip r:embed="rId1"/>
          <a:stretch/>
        </p:blipFill>
        <p:spPr>
          <a:xfrm>
            <a:off x="3851280" y="1484280"/>
            <a:ext cx="2089080" cy="136224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6" descr="podosinovikb"/>
          <p:cNvPicPr/>
          <p:nvPr/>
        </p:nvPicPr>
        <p:blipFill>
          <a:blip r:embed="rId2"/>
          <a:stretch/>
        </p:blipFill>
        <p:spPr>
          <a:xfrm>
            <a:off x="3851280" y="2781360"/>
            <a:ext cx="2448000" cy="19447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7" descr="smorchoks"/>
          <p:cNvPicPr/>
          <p:nvPr/>
        </p:nvPicPr>
        <p:blipFill>
          <a:blip r:embed="rId3"/>
          <a:stretch/>
        </p:blipFill>
        <p:spPr>
          <a:xfrm>
            <a:off x="5867280" y="1484280"/>
            <a:ext cx="2735280" cy="25210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8" descr="volnushkib"/>
          <p:cNvPicPr/>
          <p:nvPr/>
        </p:nvPicPr>
        <p:blipFill>
          <a:blip r:embed="rId4"/>
          <a:stretch/>
        </p:blipFill>
        <p:spPr>
          <a:xfrm>
            <a:off x="324000" y="4149720"/>
            <a:ext cx="3600360" cy="27082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9" descr="zontb"/>
          <p:cNvPicPr/>
          <p:nvPr/>
        </p:nvPicPr>
        <p:blipFill>
          <a:blip r:embed="rId5"/>
          <a:stretch/>
        </p:blipFill>
        <p:spPr>
          <a:xfrm>
            <a:off x="3851280" y="4005360"/>
            <a:ext cx="4824360" cy="28526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0" descr="i"/>
          <p:cNvPicPr/>
          <p:nvPr/>
        </p:nvPicPr>
        <p:blipFill>
          <a:blip r:embed="rId6"/>
          <a:stretch/>
        </p:blipFill>
        <p:spPr>
          <a:xfrm>
            <a:off x="4651200" y="3654360"/>
            <a:ext cx="298800" cy="4208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1" descr="i"/>
          <p:cNvPicPr/>
          <p:nvPr/>
        </p:nvPicPr>
        <p:blipFill>
          <a:blip r:embed="rId7"/>
          <a:stretch/>
        </p:blipFill>
        <p:spPr>
          <a:xfrm>
            <a:off x="539640" y="1484280"/>
            <a:ext cx="338472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7" name=""/>
          <p:cNvGraphicFramePr/>
          <p:nvPr/>
        </p:nvGraphicFramePr>
        <p:xfrm>
          <a:off x="179280" y="714240"/>
          <a:ext cx="8964720" cy="6086520"/>
        </p:xfrm>
        <a:graphic>
          <a:graphicData uri="http://schemas.openxmlformats.org/drawingml/2006/table">
            <a:tbl>
              <a:tblPr/>
              <a:tblGrid>
                <a:gridCol w="2987640"/>
                <a:gridCol w="2989440"/>
                <a:gridCol w="2987640"/>
              </a:tblGrid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</a:rPr>
                        <a:t>гриб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Отрицательные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свойств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Положительны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свойств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дерматофиты</a:t>
                      </a:r>
                      <a:r>
                        <a:rPr b="0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рибковые заболевания кожи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природе разлагают кератин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спорынья</a:t>
                      </a:r>
                      <a:r>
                        <a:rPr b="0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аразит злаков, ядови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меняется в акушерстве, гинекологии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пенициллы</a:t>
                      </a:r>
                      <a:r>
                        <a:rPr b="0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рча продуктов пита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меняются в производствах антибиотиков, сыро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7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аспергиллы</a:t>
                      </a:r>
                      <a:r>
                        <a:rPr b="0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икозы (болезни птиц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меняются в производствах сыров, соусов, сакэ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13716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100" spc="-1" strike="noStrike">
                <a:solidFill>
                  <a:srgbClr val="ff0000"/>
                </a:solidFill>
                <a:latin typeface="Times New Roman"/>
              </a:rPr>
              <a:t>Плесневые грибы.</a:t>
            </a:r>
            <a:br>
              <a:rPr sz="5100"/>
            </a:br>
            <a:endParaRPr b="0" lang="en-US" sz="51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Плесневые гриб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развиваются сапротрофно в почве, на увлажненных продуктах, плодах и овощах, на животных и растительных остатках, образуя пушистые или паутинистые налеты (плесень) серого, зеленого, черного, сизого цвета. Плесневые грибы встречаются среди зигомицетов (например, мукор), сумчатых и несовершенных гриб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11" descr="Мукор1"/>
          <p:cNvPicPr/>
          <p:nvPr/>
        </p:nvPicPr>
        <p:blipFill>
          <a:blip r:embed="rId1"/>
          <a:stretch/>
        </p:blipFill>
        <p:spPr>
          <a:xfrm>
            <a:off x="755640" y="1484280"/>
            <a:ext cx="3419640" cy="2305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04" name="Picture 12" descr="Мукор"/>
          <p:cNvPicPr/>
          <p:nvPr/>
        </p:nvPicPr>
        <p:blipFill>
          <a:blip r:embed="rId2"/>
          <a:stretch/>
        </p:blipFill>
        <p:spPr>
          <a:xfrm>
            <a:off x="611280" y="3716280"/>
            <a:ext cx="360036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700" spc="-1" strike="noStrike">
                <a:solidFill>
                  <a:srgbClr val="ff0000"/>
                </a:solidFill>
                <a:latin typeface="Times New Roman"/>
              </a:rPr>
              <a:t>Плесневые грибы</a:t>
            </a:r>
            <a:endParaRPr b="0" lang="en-US" sz="57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51280" y="1428480"/>
            <a:ext cx="5292720" cy="52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ff"/>
                </a:solidFill>
                <a:latin typeface="Arial"/>
                <a:ea typeface="Arial"/>
              </a:rPr>
              <a:t>Мукор. Класс Зигомицеты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Мицелий несептированный, ветвящийся, многоядерный (ядра содержат гаплоидный набор хромосом), имеющий вид белой плесе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Образует многочисленные вертикальные спорангиеносцы со спорангиями. В спорангиях </a:t>
            </a:r>
            <a:r>
              <a:rPr b="0" i="1" lang="ru-RU" sz="2000" spc="-1" strike="noStrike">
                <a:solidFill>
                  <a:srgbClr val="0000ff"/>
                </a:solidFill>
                <a:latin typeface="Arial"/>
                <a:ea typeface="Arial"/>
              </a:rPr>
              <a:t>эндогенно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образуется до 10 тыс. многоядерных спор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опадая в подходящие условия, споры прорастают и дают начало новому мицелию мукора. Так происходит бесполое размножение мукор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ри истощении субстрата мукор переходит к половому размножению по типу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зигоогамии (гаметангиогамии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7" descr="Мукор1"/>
          <p:cNvPicPr/>
          <p:nvPr/>
        </p:nvPicPr>
        <p:blipFill>
          <a:blip r:embed="rId1"/>
          <a:stretch/>
        </p:blipFill>
        <p:spPr>
          <a:xfrm>
            <a:off x="0" y="1628640"/>
            <a:ext cx="380988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700" spc="-1" strike="noStrike">
                <a:solidFill>
                  <a:srgbClr val="ff0000"/>
                </a:solidFill>
                <a:latin typeface="Times New Roman"/>
              </a:rPr>
              <a:t>Плесневые грибы</a:t>
            </a:r>
            <a:endParaRPr b="0" lang="en-US" sz="57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916000" y="1599840"/>
            <a:ext cx="62276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Род Пенициллиум (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Penicillium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относится к порядку гифомицетов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yphomycetales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) из класса несовершенных грибов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uteromycota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)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Его мицелий состоит из разветвленных нитей, разделенных перегородками на клетки, а спороношение напоминает кисть, отсюда и его название «кистевик»  На концах разветвленных 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конидиеносцев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образуются цепочки конидий, с помощью которых пеницилл размножается. Этот гриб встречается в виде плесени (зеленого, сизого, голубого цвета) на почве и продуктах растительного происхождения (на плодах, овощах, варенье, томатной пасте и др.). Некоторые виды пеницилла используются для приготовления пенициллина— одного из наиболее известных антибиотик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7" descr=""/>
          <p:cNvPicPr/>
          <p:nvPr/>
        </p:nvPicPr>
        <p:blipFill>
          <a:blip r:embed="rId1"/>
          <a:stretch/>
        </p:blipFill>
        <p:spPr>
          <a:xfrm>
            <a:off x="611280" y="1484280"/>
            <a:ext cx="230004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700" spc="-1" strike="noStrike">
                <a:solidFill>
                  <a:srgbClr val="ff0000"/>
                </a:solidFill>
                <a:latin typeface="Times New Roman"/>
              </a:rPr>
              <a:t>Плесневые грибы</a:t>
            </a:r>
            <a:endParaRPr b="0" lang="en-US" sz="57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56760" y="1500120"/>
            <a:ext cx="436716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8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Пеницилл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Род Пенициллиум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nicillium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) относится к порядку гифомицетов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yphomycetales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) из класса несовершенных грибов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uteromycota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)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Еще в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V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VI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вв. в народной медицине при лечении гнойных ран использовалась зеленая плесень.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  <a:ea typeface="Arial"/>
              </a:rPr>
              <a:t>В 1928 г. английский микробиолог Александр Флеминг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заметил, что пеницилиум, случайно попавший в культуру стафилококка, полностью подавил рост бактерий. Эти наблюдения Флеминга легли в основу учения об антибиозе (антагонизме между отдельными видами микроорганизмов). В развитии исследований микробного антагонизма значительную роль сыграли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  <a:ea typeface="Arial"/>
              </a:rPr>
              <a:t>Л.Пастер, И.И. Мечников</a:t>
            </a:r>
            <a:r>
              <a:rPr b="0" lang="ru-RU" sz="1600" spc="-1" strike="noStrike">
                <a:solidFill>
                  <a:srgbClr val="ff0000"/>
                </a:solidFill>
                <a:latin typeface="Arial"/>
                <a:ea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7" descr=""/>
          <p:cNvPicPr/>
          <p:nvPr/>
        </p:nvPicPr>
        <p:blipFill>
          <a:blip r:embed="rId1"/>
          <a:stretch/>
        </p:blipFill>
        <p:spPr>
          <a:xfrm>
            <a:off x="4932360" y="1773360"/>
            <a:ext cx="385776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700" spc="-1" strike="noStrike">
                <a:solidFill>
                  <a:srgbClr val="ff0000"/>
                </a:solidFill>
                <a:latin typeface="Times New Roman"/>
              </a:rPr>
              <a:t>Плесневые грибы</a:t>
            </a:r>
            <a:endParaRPr b="0" lang="en-US" sz="57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714560" y="1599840"/>
            <a:ext cx="414324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тивомикробное действие зеленой плесени обусловлено особым веществом – 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пенициллино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выделяемым этим грибом в окружающую среду. </a:t>
            </a: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В 1940 г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пенициллин был получен в чистом виде английскими исследователями </a:t>
            </a:r>
            <a:r>
              <a:rPr b="0" i="1" lang="ru-RU" sz="2000" spc="-1" strike="noStrike">
                <a:solidFill>
                  <a:srgbClr val="0000cc"/>
                </a:solidFill>
                <a:latin typeface="Arial"/>
              </a:rPr>
              <a:t>Г.Флори и Э.Чейном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 в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1942 г., независимо от них, советскими учеными З.В. Ермольевой и Т.И. Балезино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Во время второй мировой войны пенициллин спас жизни сотен тысяч раненых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6" descr=""/>
          <p:cNvPicPr/>
          <p:nvPr/>
        </p:nvPicPr>
        <p:blipFill>
          <a:blip r:embed="rId1"/>
          <a:stretch/>
        </p:blipFill>
        <p:spPr>
          <a:xfrm>
            <a:off x="914400" y="1747800"/>
            <a:ext cx="3809880" cy="42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700" spc="-1" strike="noStrike">
                <a:solidFill>
                  <a:srgbClr val="ff0000"/>
                </a:solidFill>
                <a:latin typeface="Times New Roman"/>
              </a:rPr>
              <a:t>Плесневые грибы</a:t>
            </a:r>
            <a:endParaRPr b="0" lang="en-US" sz="57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780000" y="1599840"/>
            <a:ext cx="490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"/>
              </a:rPr>
              <a:t>Пенициллин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няют при пневмонии, сепсисе, гнойничковых заболеваниях кожи, ангине, скарлатине, дифтерии, ревматизме, сифилисе, гонорее и других заболеваниях, вызванных грамположительными бактерия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о зеленые плесени успешно применяются не только в медицине. Большое значение имеют пенициллы вида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oqueforti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В природе они обитают в почве и при приготовлении  сыров, характеризующихся «мраморностью»: «Рокфор», родиной которого является Франция, сыр «Горгонцола» из Северной Италии, сыр «Стилон» из Англии и др. При приготовлении мягких французских сыров «Камамбер», «Бри» и некоторых других используются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amamberti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aseicolum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7" descr=""/>
          <p:cNvPicPr/>
          <p:nvPr/>
        </p:nvPicPr>
        <p:blipFill>
          <a:blip r:embed="rId1"/>
          <a:stretch/>
        </p:blipFill>
        <p:spPr>
          <a:xfrm>
            <a:off x="0" y="1747800"/>
            <a:ext cx="3708360" cy="42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700" spc="-1" strike="noStrike">
                <a:solidFill>
                  <a:srgbClr val="ff0000"/>
                </a:solidFill>
                <a:latin typeface="Times New Roman"/>
              </a:rPr>
              <a:t>Плесневые грибы</a:t>
            </a:r>
            <a:endParaRPr b="0" lang="en-US" sz="57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067280" y="1599840"/>
            <a:ext cx="50767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Аспергилл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так же как и пенициллы, относятся к классу несовершенных грибов. Естественное их местообитание – верхние горизонты почв,   особенно в южных широтах, где их чаще всего обнаруживают на различных субстратах, главным образом растительного происхождения. Большинство представителей этого рода – сапрофиты, но встречаются и </a:t>
            </a:r>
            <a:r>
              <a:rPr b="0" i="1" lang="ru-RU" sz="2000" spc="-1" strike="noStrike">
                <a:solidFill>
                  <a:srgbClr val="0000cc"/>
                </a:solidFill>
                <a:latin typeface="Arial"/>
              </a:rPr>
              <a:t>условные патогены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человека и животных, которые, например, у людей с ослабленным иммунитетом могут вызывать заболевания – </a:t>
            </a:r>
            <a:r>
              <a:rPr b="0" i="1" lang="ru-RU" sz="2000" spc="-1" strike="noStrike">
                <a:solidFill>
                  <a:srgbClr val="0000cc"/>
                </a:solidFill>
                <a:latin typeface="Arial"/>
              </a:rPr>
              <a:t>аспергиллезы.</a:t>
            </a:r>
            <a:br>
              <a:rPr sz="2000"/>
            </a:br>
            <a:r>
              <a:rPr b="0" i="1" lang="ru-RU" sz="20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5" descr="i"/>
          <p:cNvPicPr/>
          <p:nvPr/>
        </p:nvPicPr>
        <p:blipFill>
          <a:blip r:embed="rId1"/>
          <a:stretch/>
        </p:blipFill>
        <p:spPr>
          <a:xfrm>
            <a:off x="0" y="1484280"/>
            <a:ext cx="396072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700" spc="-1" strike="noStrike">
                <a:solidFill>
                  <a:srgbClr val="ff0000"/>
                </a:solidFill>
                <a:latin typeface="Times New Roman"/>
              </a:rPr>
              <a:t>Плесневые грибы</a:t>
            </a:r>
            <a:endParaRPr b="0" lang="en-US" sz="57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928680" y="1428480"/>
            <a:ext cx="490716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Arial"/>
                <a:ea typeface="Arial"/>
              </a:rPr>
              <a:t>Грибы видов </a:t>
            </a:r>
            <a:r>
              <a:rPr b="0" i="1" lang="en-US" sz="2400" spc="-1" strike="noStrike">
                <a:solidFill>
                  <a:srgbClr val="0000cc"/>
                </a:solidFill>
                <a:latin typeface="Arial"/>
                <a:ea typeface="Arial"/>
              </a:rPr>
              <a:t>A</a:t>
            </a:r>
            <a:r>
              <a:rPr b="0" i="1" lang="ru-RU" sz="24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r>
              <a:rPr b="0" i="1" lang="en-US" sz="2400" spc="-1" strike="noStrike">
                <a:solidFill>
                  <a:srgbClr val="0000cc"/>
                </a:solidFill>
                <a:latin typeface="Arial"/>
                <a:ea typeface="Arial"/>
              </a:rPr>
              <a:t>flavus </a:t>
            </a:r>
            <a:r>
              <a:rPr b="0" lang="ru-RU" sz="2400" spc="-1" strike="noStrike">
                <a:solidFill>
                  <a:srgbClr val="0000cc"/>
                </a:solidFill>
                <a:latin typeface="Arial"/>
                <a:ea typeface="Arial"/>
              </a:rPr>
              <a:t>и </a:t>
            </a:r>
            <a:r>
              <a:rPr b="0" i="1" lang="en-US" sz="2400" spc="-1" strike="noStrike">
                <a:solidFill>
                  <a:srgbClr val="0000cc"/>
                </a:solidFill>
                <a:latin typeface="Arial"/>
                <a:ea typeface="Arial"/>
              </a:rPr>
              <a:t>A</a:t>
            </a:r>
            <a:r>
              <a:rPr b="0" i="1" lang="ru-RU" sz="24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r>
              <a:rPr b="0" i="1" lang="en-US" sz="2400" spc="-1" strike="noStrike">
                <a:solidFill>
                  <a:srgbClr val="0000cc"/>
                </a:solidFill>
                <a:latin typeface="Arial"/>
                <a:ea typeface="Arial"/>
              </a:rPr>
              <a:t>oryzae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ни продуцируют ферменты: амилазы, липазы, протеиназы, пектиназы, целлюлазы , именно поэтому используются на Востоке для пищевых целей в течение многих столетий:   для изготовления </a:t>
            </a:r>
            <a:r>
              <a:rPr b="0" lang="ru-RU" sz="2400" spc="-1" strike="noStrike">
                <a:solidFill>
                  <a:srgbClr val="0000cc"/>
                </a:solidFill>
                <a:latin typeface="Arial"/>
                <a:ea typeface="Arial"/>
              </a:rPr>
              <a:t>рисовой водки сакэ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,традиционного соевого соуса«сэю», соево-рисовый соус «тыонг» (Вьетнам), суповой заправки на основе соевых бобов «мисо» (Япония, Китай, Филиппины) и других продуктов питания.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5" descr="плесневые грибы7"/>
          <p:cNvPicPr/>
          <p:nvPr/>
        </p:nvPicPr>
        <p:blipFill>
          <a:blip r:embed="rId1"/>
          <a:stretch/>
        </p:blipFill>
        <p:spPr>
          <a:xfrm>
            <a:off x="0" y="1628640"/>
            <a:ext cx="435780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5T21:36:26Z</dcterms:created>
  <dc:creator>Admin</dc:creator>
  <dc:description/>
  <dc:language>en-US</dc:language>
  <cp:lastModifiedBy>Admin</cp:lastModifiedBy>
  <dcterms:modified xsi:type="dcterms:W3CDTF">2012-07-04T11:52:29Z</dcterms:modified>
  <cp:revision>4</cp:revision>
  <dc:subject/>
  <dc:title>Царство грибы.</dc:title>
</cp:coreProperties>
</file>