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DEE-F1BF-4C4B-B1E5-46E7E406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9A8-8D0F-4652-A0B4-83D8EB9C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C62-30CC-4464-AE56-63DE6B7E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7501-EFA2-4788-933A-E38A4B85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D0D0-64AD-471A-8272-569681D2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1582-5DBB-4F80-882C-1AC23ECD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833B-CF3E-4E95-992B-7CCFCB02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0BF0-7944-4AF8-A7FD-9F2B02F0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79F6-4380-44E5-89FA-7EE2BD47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4C1A-F6A4-429A-8BD3-103C24B7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1D05-248B-4E89-A5AF-FA2056CB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3C1B-3749-41FB-B606-9AC66B37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FB95-1295-4FBD-9555-E4372B3E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EDA1-16B7-4710-A186-B8672056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6266-498D-4BF4-ADF3-ADD04302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3148-467B-4E5E-9EEB-8F0FD71B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0D3D-5E35-4E44-B80C-F2636332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F087-F22B-412F-91E8-163A1AA3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349-1934-45FA-83EB-3D0F77A9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F83-9B93-47B6-A6C6-B5B805DF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F37-BDD7-406E-B12B-3EDC3D7A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1B5-48F3-48E4-B41E-5F2152ED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E83-3A56-45A0-B4EA-0D875CC8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5C7-4447-43A0-9756-3DF1B138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8716-632D-4048-B06C-7A5AC59F3C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9769-B301-4E0B-AC51-9C002798B9C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Царство грибы.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785960" y="2999880"/>
            <a:ext cx="68580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лесневые гриб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плесн"/>
          <p:cNvPicPr/>
          <p:nvPr/>
        </p:nvPicPr>
        <p:blipFill>
          <a:blip r:embed="rId1"/>
          <a:stretch/>
        </p:blipFill>
        <p:spPr>
          <a:xfrm>
            <a:off x="0" y="3402000"/>
            <a:ext cx="3313080" cy="3456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5786280" y="4143240"/>
            <a:ext cx="292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ндаренко Е.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о.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ff0000"/>
                </a:solidFill>
                <a:latin typeface="Times New Roman"/>
              </a:rPr>
              <a:t>Плесневые грибы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ирокое применение в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биотехнолог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ла способность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ig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угих видов этой группы к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образованию лимонной, щавелевой, глюконовой, фумаровой кислот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роме органических кислот аспергиллы, и в част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iger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ь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итамины: биотин, тиамин, рибофлавин и д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плесневые грибы7"/>
          <p:cNvPicPr/>
          <p:nvPr/>
        </p:nvPicPr>
        <p:blipFill>
          <a:blip r:embed="rId1"/>
          <a:stretch/>
        </p:blipFill>
        <p:spPr>
          <a:xfrm>
            <a:off x="611280" y="1628640"/>
            <a:ext cx="4608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Times New Roman"/>
              </a:rPr>
              <a:t>                              </a:t>
            </a: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Дрожжи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785520"/>
            <a:ext cx="8332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дноклеточные гриб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имеют мицелия и представляют собой неподвижные клетки овальной формы размером 2—10 мкм  с одним яд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змножаются дрожж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чкованием или делением. У них наблюдается и половой процесс, протекающий в виде копуляции двух клеток. Образовавшаяся при этом зигота превращается в сумку 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8 спор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ьшее практическое значение имеют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екарские дрожж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едставленные несколькими сотнями рас — винными, пивными, хлебопекарными и др. Они применяются в пивоварении, хлебопечении, производстве спирта. Винные дрожжи встречаются в природе на поверхности плодов (например, винограда), в нектаре цветков, в истечениях деревьев и используются в винодел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6791400" y="4334040"/>
            <a:ext cx="22366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Дрожжи.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едостатке питания и избытке кислорода происходит половой процесс в форме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хологам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копуляция (слияние) двух гаплоидных клеток. Образовавшаяся зигота превращается в сумку, в которой путем мейоза образуются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4 аскосп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ждая из которых развивается в новые дрожжевые клетки.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0" y="2428920"/>
            <a:ext cx="900108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r>
              <a:rPr b="1" i="1" lang="ru-RU" sz="4400" spc="-1" strike="noStrike">
                <a:solidFill>
                  <a:srgbClr val="ff3300"/>
                </a:solidFill>
                <a:latin typeface="Times New Roman"/>
              </a:rPr>
              <a:t>Дрожжи.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Arial"/>
              </a:rPr>
              <a:t>Приме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755640" y="1989000"/>
            <a:ext cx="7777080" cy="43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ибольшее практическое значение имею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карские дрожж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представленные несколькими сотнями рас —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винны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ивными, хлебопекарными и д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Они применяются в пивоварении, хлебопечении, производстве спирта. Винные дрожжи встречаются в природе на поверхности плодов (например, винограда), в нектаре цветков, в истечениях деревьев и используются в винодел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браживать углеводы, расщепляя глюкозу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 образованием этилового спирта и углекислого г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служила основой для введения дрожжей в куль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Arial"/>
                <a:ea typeface="Arial"/>
              </a:rPr>
              <a:t>Значение грибов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Picture 5" descr="maslyatas"/>
          <p:cNvPicPr/>
          <p:nvPr/>
        </p:nvPicPr>
        <p:blipFill>
          <a:blip r:embed="rId1"/>
          <a:stretch/>
        </p:blipFill>
        <p:spPr>
          <a:xfrm>
            <a:off x="3851280" y="1484280"/>
            <a:ext cx="2089080" cy="1362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podosinovikb"/>
          <p:cNvPicPr/>
          <p:nvPr/>
        </p:nvPicPr>
        <p:blipFill>
          <a:blip r:embed="rId2"/>
          <a:stretch/>
        </p:blipFill>
        <p:spPr>
          <a:xfrm>
            <a:off x="3851280" y="2781360"/>
            <a:ext cx="2448000" cy="194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smorchoks"/>
          <p:cNvPicPr/>
          <p:nvPr/>
        </p:nvPicPr>
        <p:blipFill>
          <a:blip r:embed="rId3"/>
          <a:stretch/>
        </p:blipFill>
        <p:spPr>
          <a:xfrm>
            <a:off x="5867280" y="1484280"/>
            <a:ext cx="2735280" cy="252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volnushkib"/>
          <p:cNvPicPr/>
          <p:nvPr/>
        </p:nvPicPr>
        <p:blipFill>
          <a:blip r:embed="rId4"/>
          <a:stretch/>
        </p:blipFill>
        <p:spPr>
          <a:xfrm>
            <a:off x="324000" y="4149720"/>
            <a:ext cx="3600360" cy="270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zontb"/>
          <p:cNvPicPr/>
          <p:nvPr/>
        </p:nvPicPr>
        <p:blipFill>
          <a:blip r:embed="rId5"/>
          <a:stretch/>
        </p:blipFill>
        <p:spPr>
          <a:xfrm>
            <a:off x="3851280" y="4005360"/>
            <a:ext cx="4824360" cy="2852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i"/>
          <p:cNvPicPr/>
          <p:nvPr/>
        </p:nvPicPr>
        <p:blipFill>
          <a:blip r:embed="rId6"/>
          <a:stretch/>
        </p:blipFill>
        <p:spPr>
          <a:xfrm>
            <a:off x="4651200" y="3654360"/>
            <a:ext cx="298800" cy="420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i"/>
          <p:cNvPicPr/>
          <p:nvPr/>
        </p:nvPicPr>
        <p:blipFill>
          <a:blip r:embed="rId7"/>
          <a:stretch/>
        </p:blipFill>
        <p:spPr>
          <a:xfrm>
            <a:off x="539640" y="1484280"/>
            <a:ext cx="3384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79280" y="714240"/>
          <a:ext cx="8964720" cy="6086520"/>
        </p:xfrm>
        <a:graphic>
          <a:graphicData uri="http://schemas.openxmlformats.org/drawingml/2006/table">
            <a:tbl>
              <a:tblPr/>
              <a:tblGrid>
                <a:gridCol w="2987640"/>
                <a:gridCol w="2989440"/>
                <a:gridCol w="29876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гри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Отрицатель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свой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ложитель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вой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рматофиты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ибковые заболевания кож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ироде разлагают керати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порынья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азит злаков, ядов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яется в акушерстве, гинеколог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енициллы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ча продуктов п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яются в производствах антибиотиков, сы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спергиллы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озы (болезни птиц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яются в производствах сыров, соусов, сакэ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100" spc="-1" strike="noStrike">
                <a:solidFill>
                  <a:srgbClr val="ff0000"/>
                </a:solidFill>
                <a:latin typeface="Times New Roman"/>
              </a:rPr>
              <a:t>Плесневые грибы.</a:t>
            </a:r>
            <a:br>
              <a:rPr sz="5100"/>
            </a:b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лесневые гриб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развиваются сапротрофно в почве, на увлажненных продуктах, плодах и овощах, на животных и растительных остатках, образуя пушистые или паутинистые налеты (плесень) серого, зеленого, черного, сизого цвета. Плесневые грибы встречаются среди зигомицетов (например, мукор), сумчатых и несовершенных гриб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Мукор1"/>
          <p:cNvPicPr/>
          <p:nvPr/>
        </p:nvPicPr>
        <p:blipFill>
          <a:blip r:embed="rId1"/>
          <a:stretch/>
        </p:blipFill>
        <p:spPr>
          <a:xfrm>
            <a:off x="755640" y="1484280"/>
            <a:ext cx="341964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12" descr="Мукор"/>
          <p:cNvPicPr/>
          <p:nvPr/>
        </p:nvPicPr>
        <p:blipFill>
          <a:blip r:embed="rId2"/>
          <a:stretch/>
        </p:blipFill>
        <p:spPr>
          <a:xfrm>
            <a:off x="611280" y="3716280"/>
            <a:ext cx="360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ff0000"/>
                </a:solidFill>
                <a:latin typeface="Times New Roman"/>
              </a:rPr>
              <a:t>Плесневые грибы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51280" y="1428480"/>
            <a:ext cx="529272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Мукор. Класс Зигомицеты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целий несептированный, ветвящийся, многоядерный (ядра содержат гаплоидный набор хромосом), имеющий вид белой плес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ует многочисленные вертикальные спорангиеносцы со спорангиями. В спорангиях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эндоген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бразуется до 10 тыс. многоядерных спо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падая в подходящие условия, споры прорастают и дают начало новому мицелию мукора. Так происходит бесполое размножение мук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истощении субстрата мукор переходит к половому размножению по типу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зигоогамии (гаметангиогамии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Мукор1"/>
          <p:cNvPicPr/>
          <p:nvPr/>
        </p:nvPicPr>
        <p:blipFill>
          <a:blip r:embed="rId1"/>
          <a:stretch/>
        </p:blipFill>
        <p:spPr>
          <a:xfrm>
            <a:off x="0" y="1628640"/>
            <a:ext cx="3809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ff0000"/>
                </a:solidFill>
                <a:latin typeface="Times New Roman"/>
              </a:rPr>
              <a:t>Плесневые грибы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16000" y="1599840"/>
            <a:ext cx="6227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од Пенициллиум (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enicillium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тносится к порядку гифомицетов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homycetal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 из класса несовершенных грибов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uteromycot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го мицелий состоит из разветвленных нитей, разделенных перегородками на клетки, а спороношение напоминает кисть, отсюда и его название «кистевик»  На концах разветвленных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конидиеносце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уются цепочки конидий, с помощью которых пеницилл размножается. Этот гриб встречается в виде плесени (зеленого, сизого, голубого цвета) на почве и продуктах растительного происхождения (на плодах, овощах, варенье, томатной пасте и др.). Некоторые виды пеницилла используются для приготовления пенициллина— одного из наиболее известных антибиот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300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ff0000"/>
                </a:solidFill>
                <a:latin typeface="Times New Roman"/>
              </a:rPr>
              <a:t>Плесневые грибы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4367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Пеницил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од Пенициллиум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icilli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относится к порядку гифомицетов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phomycetal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из класса несовершенных грибов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uteromycot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ще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в. в народной медицине при лечении гнойных ран использовалась зеленая плесень.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В 1928 г. английский микробиолог Александр Флеми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заметил, что пеницилиум, случайно попавший в культуру стафилококка, полностью подавил рост бактерий. Эти наблюдения Флеминга легли в основу учения об антибиозе (антагонизме между отдельными видами микроорганизмов). В развитии исследований микробного антагонизма значительную роль сыграл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Л.Пастер, И.И. Мечников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857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ff0000"/>
                </a:solidFill>
                <a:latin typeface="Times New Roman"/>
              </a:rPr>
              <a:t>Плесневые грибы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14560" y="1599840"/>
            <a:ext cx="41432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микробное действие зеленой плесени обусловлено особым веществом –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еницилли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ыделяемым этим грибом в окружающую среду.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 1940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нициллин был получен в чистом виде английскими исследователями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Г.Флори и Э.Чейн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942 г., независимо от них, советскими учеными З.В. Ермольевой и Т.И. Балези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о время второй мировой войны пенициллин спас жизни сотен тысяч ране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914400" y="1747800"/>
            <a:ext cx="38098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ff0000"/>
                </a:solidFill>
                <a:latin typeface="Times New Roman"/>
              </a:rPr>
              <a:t>Плесневые грибы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еницилл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ют при пневмонии, сепсисе, гнойничковых заболеваниях кожи, ангине, скарлатине, дифтерии, ревматизме, сифилисе, гонорее и других заболеваниях, вызванных грамположительными бактер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зеленые плесени успешно применяются не только в медицине. Большое значение имеют пенициллы вид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quefort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природе они обитают в почве и при приготовлении  сыров, характеризующихся «мраморностью»: «Рокфор», родиной которого является Франция, сыр «Горгонцола» из Северной Италии, сыр «Стилон» из Англии и др. При приготовлении мягких французских сыров «Камамбер», «Бри» и некоторых других используютс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mambert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seicol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0" y="1747800"/>
            <a:ext cx="37083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ff0000"/>
                </a:solidFill>
                <a:latin typeface="Times New Roman"/>
              </a:rPr>
              <a:t>Плесневые грибы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067280" y="1599840"/>
            <a:ext cx="50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спергил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ак же как и пенициллы, относятся к классу несовершенных грибов. Естественное их местообитание – верхние горизонты почв,   особенно в южных широтах, где их чаще всего обнаруживают на различных субстратах, главным образом растительного происхождения. Большинство представителей этого рода – сапрофиты, но встречаются и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условные патоген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человека и животных, которые, например, у людей с ослабленным иммунитетом могут вызывать заболевания – 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аспергиллезы.</a:t>
            </a:r>
            <a:br>
              <a:rPr sz="2000"/>
            </a:b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"/>
          <p:cNvPicPr/>
          <p:nvPr/>
        </p:nvPicPr>
        <p:blipFill>
          <a:blip r:embed="rId1"/>
          <a:stretch/>
        </p:blipFill>
        <p:spPr>
          <a:xfrm>
            <a:off x="0" y="1484280"/>
            <a:ext cx="396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700" spc="-1" strike="noStrike">
                <a:solidFill>
                  <a:srgbClr val="ff0000"/>
                </a:solidFill>
                <a:latin typeface="Times New Roman"/>
              </a:rPr>
              <a:t>Плесневые грибы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28680" y="1428480"/>
            <a:ext cx="49071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Грибы видов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A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flavus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и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A</a:t>
            </a:r>
            <a:r>
              <a:rPr b="0" i="1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oryza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ни продуцируют ферменты: амилазы, липазы, протеиназы, пектиназы, целлюлазы , именно поэтому используются на Востоке для пищевых целей в течение многих столетий:   для изготовления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Arial"/>
              </a:rPr>
              <a:t>рисовой водки сак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,традиционного соевого соуса«сэю», соево-рисовый соус «тыонг» (Вьетнам), суповой заправки на основе соевых бобов «мисо» (Япония, Китай, Филиппины) и других продуктов питания.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плесневые грибы7"/>
          <p:cNvPicPr/>
          <p:nvPr/>
        </p:nvPicPr>
        <p:blipFill>
          <a:blip r:embed="rId1"/>
          <a:stretch/>
        </p:blipFill>
        <p:spPr>
          <a:xfrm>
            <a:off x="0" y="1628640"/>
            <a:ext cx="4357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1:36:26Z</dcterms:created>
  <dc:creator>Admin</dc:creator>
  <dc:description/>
  <dc:language>en-US</dc:language>
  <cp:lastModifiedBy>Admin</cp:lastModifiedBy>
  <dcterms:modified xsi:type="dcterms:W3CDTF">2012-07-04T11:52:29Z</dcterms:modified>
  <cp:revision>4</cp:revision>
  <dc:subject/>
  <dc:title>Царство грибы.</dc:title>
</cp:coreProperties>
</file>