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12A-7D58-47F9-A8D8-B5B4C2E4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8A7-074D-4E84-9EF8-D680A96A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107-759C-4C73-BA79-0CACEE1B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91A-B097-459A-9504-340B2430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FF14-9C33-4570-89B3-246F1D0E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DBF8-175B-4CB6-ABBD-C17326D6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E801-D35B-4F89-886A-532A9A23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C9CC-435D-4814-AE88-9EF8A59F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B88B-8D84-4FEF-A26F-7F3D3810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65A0-EDBB-4194-AA5F-C36E0419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9DD3-1F1E-4111-80C8-85711085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2C4-76DD-4596-9704-2C6C845D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DF7C-FD2B-4821-9491-B577D739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DE0E-DD25-4C41-A531-1DFE8329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54A5-107F-4307-8E63-42F734FA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86FC-CA06-41E0-A102-975864BFF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EAFD-8B39-407A-A650-4D809CC7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50D-83E9-4CDF-9C61-22E70E2E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9F1-CEAB-465A-AE78-D4A98277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B3D-DD0F-4F9B-BC5C-4D63DB7C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CBA-FBC1-4BA8-8269-92E6F852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644-439F-42BA-A299-B54AEF5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022-AEC5-4D30-AD3E-9B24C0D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1CE-5E6E-41D5-8F33-DD304921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9484-8453-4E66-9032-82D87FB56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3E84-CEE0-400B-9180-7D2376744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niver.omsk.su/omsk/Edu/Rusanova/tetrangl.htm#parallelogramm" TargetMode="External"/><Relationship Id="rId2" Type="http://schemas.openxmlformats.org/officeDocument/2006/relationships/hyperlink" Target="http://www.univer.omsk.su/omsk/Edu/Rusanova/tetrangl.htm#parallelogramm_propertie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niver.omsk.su/omsk/Edu/Rusanova/tetrangl.htm#straight_angle_shap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niver.omsk.su/omsk/Edu/Rusanova/tetrangl.htm#parallelogramm" TargetMode="External"/><Relationship Id="rId2" Type="http://schemas.openxmlformats.org/officeDocument/2006/relationships/hyperlink" Target="http://www.univer.omsk.su/omsk/Edu/Rusanova/tetrangl.htm#parallelogramm_properties" TargetMode="External"/><Relationship Id="rId3" Type="http://schemas.openxmlformats.org/officeDocument/2006/relationships/hyperlink" Target="http://www.univer.omsk.su/omsk/Edu/Rusanova/triangls.htm" TargetMode="External"/><Relationship Id="rId4" Type="http://schemas.openxmlformats.org/officeDocument/2006/relationships/hyperlink" Target="http://www.univer.omsk.su/omsk/Edu/Rusanova/tetrangl.htm#parallelogramm" TargetMode="External"/><Relationship Id="rId5" Type="http://schemas.openxmlformats.org/officeDocument/2006/relationships/hyperlink" Target="http://www.univer.omsk.su/omsk/Edu/Rusanova/triangls.htm#bissectrisa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bcbcb"/>
                </a:solidFill>
                <a:latin typeface="Times New Roman"/>
              </a:rPr>
              <a:t>Четырехугольники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76560" y="3273480"/>
            <a:ext cx="4259160" cy="18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3300"/>
                </a:solidFill>
                <a:latin typeface="Times New Roman"/>
              </a:rPr>
              <a:t>Четырехугольником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называется фигура, которая состоит из четырех точек и четырех последовательно соединяющих их отрезков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Конец!!!!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кие три из данных точек не должны лежать на одной прямой, а соединяющие их отрезки не должны пересекатьс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нные точки называются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вершин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четырехугольника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соединяющие их отрезки -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сторон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четырехугольник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772400" cy="61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сли вершины четырехугольника являются концами одной из его сторон то их называю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оседними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ершины, не являющиеся соседними называют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отиволежащим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резки ,соединяющие противолежащие вершины четырехугольника, называютс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диагоналями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ороны четырехугольника, исходящие из одной вершины ,называются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оседн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ороны не имеющие общего конца называются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ротиволежащ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79280" y="212760"/>
            <a:ext cx="8964360" cy="6382800"/>
            <a:chOff x="179280" y="212760"/>
            <a:chExt cx="8964360" cy="6382800"/>
          </a:xfrm>
        </p:grpSpPr>
        <p:cxnSp>
          <p:nvCxnSpPr>
            <p:cNvPr id="94" name="_s51219"/>
            <p:cNvCxnSpPr>
              <a:stCxn id="95" idx="0"/>
              <a:endCxn id="96" idx="3"/>
            </p:cNvCxnSpPr>
            <p:nvPr/>
          </p:nvCxnSpPr>
          <p:spPr>
            <a:xfrm flipV="1" rot="16200000">
              <a:off x="5866920" y="1472760"/>
              <a:ext cx="1276920" cy="3863160"/>
            </a:xfrm>
            <a:prstGeom prst="bentConnector3">
              <a:avLst>
                <a:gd name="adj1" fmla="val 89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215"/>
            <p:cNvCxnSpPr>
              <a:stCxn id="98" idx="0"/>
              <a:endCxn id="96" idx="3"/>
            </p:cNvCxnSpPr>
            <p:nvPr/>
          </p:nvCxnSpPr>
          <p:spPr>
            <a:xfrm flipV="1" rot="16200000">
              <a:off x="4944600" y="2395080"/>
              <a:ext cx="1276920" cy="2018160"/>
            </a:xfrm>
            <a:prstGeom prst="bentConnector3">
              <a:avLst>
                <a:gd name="adj1" fmla="val 89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213"/>
            <p:cNvCxnSpPr>
              <a:stCxn id="100" idx="0"/>
              <a:endCxn id="96" idx="3"/>
            </p:cNvCxnSpPr>
            <p:nvPr/>
          </p:nvCxnSpPr>
          <p:spPr>
            <a:xfrm flipV="1" rot="16200000">
              <a:off x="4022640" y="3317040"/>
              <a:ext cx="1276920" cy="174600"/>
            </a:xfrm>
            <a:prstGeom prst="bentConnector3">
              <a:avLst>
                <a:gd name="adj1" fmla="val 89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51212"/>
            <p:cNvCxnSpPr>
              <a:stCxn id="102" idx="0"/>
              <a:endCxn id="96" idx="3"/>
            </p:cNvCxnSpPr>
            <p:nvPr/>
          </p:nvCxnSpPr>
          <p:spPr>
            <a:xfrm flipH="1" flipV="1" rot="5400000">
              <a:off x="3099960" y="2568240"/>
              <a:ext cx="1276920" cy="1672560"/>
            </a:xfrm>
            <a:prstGeom prst="bentConnector3">
              <a:avLst>
                <a:gd name="adj1" fmla="val 89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51211"/>
            <p:cNvCxnSpPr>
              <a:stCxn id="104" idx="0"/>
              <a:endCxn id="96" idx="3"/>
            </p:cNvCxnSpPr>
            <p:nvPr/>
          </p:nvCxnSpPr>
          <p:spPr>
            <a:xfrm flipH="1" flipV="1" rot="5400000">
              <a:off x="2175840" y="1644120"/>
              <a:ext cx="1276920" cy="3520800"/>
            </a:xfrm>
            <a:prstGeom prst="bentConnector3">
              <a:avLst>
                <a:gd name="adj1" fmla="val 89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51207"/>
            <p:cNvSpPr/>
            <p:nvPr/>
          </p:nvSpPr>
          <p:spPr>
            <a:xfrm>
              <a:off x="3869280" y="212760"/>
              <a:ext cx="158220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ff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Times New Roman"/>
                </a:rPr>
                <a:t>Четырехугольник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51208"/>
            <p:cNvSpPr/>
            <p:nvPr/>
          </p:nvSpPr>
          <p:spPr>
            <a:xfrm>
              <a:off x="179280" y="4042440"/>
              <a:ext cx="158220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cc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Параллелограм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51209"/>
            <p:cNvSpPr/>
            <p:nvPr/>
          </p:nvSpPr>
          <p:spPr>
            <a:xfrm>
              <a:off x="2025360" y="4042440"/>
              <a:ext cx="158220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cc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Прямоугольник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51210"/>
            <p:cNvSpPr/>
            <p:nvPr/>
          </p:nvSpPr>
          <p:spPr>
            <a:xfrm>
              <a:off x="3871440" y="4042440"/>
              <a:ext cx="158220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cc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Ром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51214"/>
            <p:cNvSpPr/>
            <p:nvPr/>
          </p:nvSpPr>
          <p:spPr>
            <a:xfrm>
              <a:off x="5717520" y="4042440"/>
              <a:ext cx="158004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cc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Квадр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51218"/>
            <p:cNvSpPr/>
            <p:nvPr/>
          </p:nvSpPr>
          <p:spPr>
            <a:xfrm>
              <a:off x="7561440" y="4042440"/>
              <a:ext cx="1582200" cy="2553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ffcc">
                    <a:alpha val="40000"/>
                  </a:srgbClr>
                </a:gs>
                <a:gs pos="100000">
                  <a:srgbClr val="0066cc"/>
                </a:gs>
              </a:gsLst>
              <a:lin ang="5400000"/>
            </a:gra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Трапе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Параллелограмм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8497800" cy="400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Параллелограммом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ывается четырехугольник, у которого противолежащие стороны попарно параллель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войства параллелограмм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тиволежащие стороны равны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тивоположные углы равны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гонали точкой пересечения делятся пополам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мма углов, прилежащих к одной стороне, равна 180°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мма квадратов диагоналей равна сумме квадратов всех сторон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12000" y="1484280"/>
            <a:ext cx="33843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Прямоугольник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3284280"/>
            <a:ext cx="798984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Прямоугольником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параллелограмм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, у которого все углы прямые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ойства прямоугольника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свойства параллелограмм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гонали равны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419800" y="1413000"/>
            <a:ext cx="3724200" cy="186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Квадрат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1856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вадрато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прямоугольник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, у которого все стороны рав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Свойства квадрат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е углы квадрата прямые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гонали квадрата равны, взаимно перпендикулярны, точкой пересечения делятся пополам и делят углы квадрата пополам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Признаки квадрат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ямоугольник является квадратом, если он обладает каким-нибудь признаком ромба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-17136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Ромб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Ромбом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параллелограмм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, у которого все стороны равны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войства ромб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е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свойства параллелограмма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иагонали перпендикулярны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иагонали являются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биссектрисами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его углов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знаки ромб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Параллелограмм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является ромбом, если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ве его смежные стороны равны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го диагонали перпендикулярны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дна из диагоналей является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биссектрисой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его угла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2627280" y="-45864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Трапец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рапецией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ется четырехугольник, у которого две противолежащие стороны параллельны, а две другие непараллельны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лельные стороны трапеции называются ее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нованиями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непараллельные стороны —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оковыми сторонами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езок, соединяющий середины боковых сторон, называетс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редней линией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пеция называетс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внобедр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ли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внобок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, если ее боковые стороны равны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апеция, один из углов которой прямой, называется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ямоугольной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йства трапе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е средняя линия параллельна основаниям и равна их полусумме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трапеция равнобокая, то ее диагонали равны и углы при основании равны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трапеция равнобокая, то около нее можно описать окружность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умма оснований равна сумме боковых сторон, то в нее можно вписать окружность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знаки трапеции 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тырехугольник является трапецией, если его параллельные стороны не равны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2697480" cy="13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98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98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16:25:30Z</dcterms:created>
  <dc:creator>User</dc:creator>
  <dc:description/>
  <dc:language>en-US</dc:language>
  <cp:lastModifiedBy>Люда</cp:lastModifiedBy>
  <dcterms:modified xsi:type="dcterms:W3CDTF">2012-07-04T13:23:39Z</dcterms:modified>
  <cp:revision>4</cp:revision>
  <dc:subject/>
  <dc:title>Четырехугольники</dc:title>
</cp:coreProperties>
</file>