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317-5AD0-4464-9570-D51D8951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C6F-B4CA-43E5-9304-7F178F8C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86B-E1A9-439D-9382-729EBA2F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127-37A7-46F2-B739-1AD38264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2B00-2EA8-46D8-875D-2FD10849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07DC-1E5E-48A7-B5A9-49B39697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691F-9F2C-4991-9621-B28F3880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E94D-4D8D-412D-BAE8-28782778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B4C1-B43F-40A6-86AF-007CC80E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85A1-AABC-42EB-80F1-62E993AF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EAED-6FB8-4C84-9E0B-AB575A4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C76-507C-48EC-AFE9-DA6CB4B2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44F0-0DFB-4CF4-9D3D-8D1E2F2A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28D2-CDDF-4F82-B232-BA3B0308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0ADA-9485-45A8-A469-899DB0B2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FA2A-2F6C-43D9-8AF9-FD2FDD3F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329E-0F5B-48BA-AB47-9ED54D7F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F59-74DA-4B10-B031-5F58A15E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394-EBD1-4117-840F-3E21DB3F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4CF-89C1-4D02-9233-58B8AD93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D0C-F14D-4EB4-96BE-C3528677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4DF-C8D7-4DCF-9EC6-33826476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6EF-C94C-4B79-A8FE-1B862BA7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E94-1270-404C-875F-1866D2B3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0392-CDC8-498B-A7C9-657E60E6B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7646-967E-44C9-A496-EDBA3F098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niver.omsk.su/omsk/Edu/Rusanova/tetrangl.htm#parallelogramm" TargetMode="External"/><Relationship Id="rId2" Type="http://schemas.openxmlformats.org/officeDocument/2006/relationships/hyperlink" Target="http://www.univer.omsk.su/omsk/Edu/Rusanova/tetrangl.htm#parallelogramm_propertie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niver.omsk.su/omsk/Edu/Rusanova/tetrangl.htm#straight_angle_shap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niver.omsk.su/omsk/Edu/Rusanova/tetrangl.htm#parallelogramm" TargetMode="External"/><Relationship Id="rId2" Type="http://schemas.openxmlformats.org/officeDocument/2006/relationships/hyperlink" Target="http://www.univer.omsk.su/omsk/Edu/Rusanova/tetrangl.htm#parallelogramm_properties" TargetMode="External"/><Relationship Id="rId3" Type="http://schemas.openxmlformats.org/officeDocument/2006/relationships/hyperlink" Target="http://www.univer.omsk.su/omsk/Edu/Rusanova/triangls.htm" TargetMode="External"/><Relationship Id="rId4" Type="http://schemas.openxmlformats.org/officeDocument/2006/relationships/hyperlink" Target="http://www.univer.omsk.su/omsk/Edu/Rusanova/tetrangl.htm#parallelogramm" TargetMode="External"/><Relationship Id="rId5" Type="http://schemas.openxmlformats.org/officeDocument/2006/relationships/hyperlink" Target="http://www.univer.omsk.su/omsk/Edu/Rusanova/triangls.htm#bissectrisa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bcbcb"/>
                </a:solidFill>
                <a:latin typeface="Times New Roman"/>
              </a:rPr>
              <a:t>Четырехугольники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76560" y="3273480"/>
            <a:ext cx="4259160" cy="18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Times New Roman"/>
              </a:rPr>
              <a:t>Четырехугольником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называется фигура, которая состоит из четырех точек и четырех последовательно соединяющих их отрезков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Конец!!!!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кие три из данных точек не должны лежать на одной прямой, а соединяющие их отрезки не должны пересекатьс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нные точки называются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вершин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четырехугольник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соединяющие их отрезки -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сторон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четырехугольник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вершины четырехугольника являются концами одной из его сторон то их называю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оседним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ершины, не являющиеся соседними называют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отиволежащим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резки ,соединяющие противолежащие вершины четырехугольника, называютс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диагоналям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ороны четырехугольника, исходящие из одной вершины ,называются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оседн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ороны не имеющие общего конца называются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отиволежащ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79280" y="212760"/>
            <a:ext cx="8964360" cy="6382800"/>
            <a:chOff x="179280" y="212760"/>
            <a:chExt cx="8964360" cy="6382800"/>
          </a:xfrm>
        </p:grpSpPr>
        <p:cxnSp>
          <p:nvCxnSpPr>
            <p:cNvPr id="94" name="_s51219"/>
            <p:cNvCxnSpPr>
              <a:stCxn id="95" idx="0"/>
              <a:endCxn id="96" idx="3"/>
            </p:cNvCxnSpPr>
            <p:nvPr/>
          </p:nvCxnSpPr>
          <p:spPr>
            <a:xfrm flipV="1" rot="16200000">
              <a:off x="5866920" y="1472760"/>
              <a:ext cx="1276920" cy="386316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215"/>
            <p:cNvCxnSpPr>
              <a:stCxn id="98" idx="0"/>
              <a:endCxn id="96" idx="3"/>
            </p:cNvCxnSpPr>
            <p:nvPr/>
          </p:nvCxnSpPr>
          <p:spPr>
            <a:xfrm flipV="1" rot="16200000">
              <a:off x="4944600" y="2395080"/>
              <a:ext cx="1276920" cy="201816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213"/>
            <p:cNvCxnSpPr>
              <a:stCxn id="100" idx="0"/>
              <a:endCxn id="96" idx="3"/>
            </p:cNvCxnSpPr>
            <p:nvPr/>
          </p:nvCxnSpPr>
          <p:spPr>
            <a:xfrm flipV="1" rot="16200000">
              <a:off x="4022640" y="3317040"/>
              <a:ext cx="1276920" cy="17460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51212"/>
            <p:cNvCxnSpPr>
              <a:stCxn id="102" idx="0"/>
              <a:endCxn id="96" idx="3"/>
            </p:cNvCxnSpPr>
            <p:nvPr/>
          </p:nvCxnSpPr>
          <p:spPr>
            <a:xfrm flipH="1" flipV="1" rot="5400000">
              <a:off x="3099960" y="2568240"/>
              <a:ext cx="1276920" cy="167256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1211"/>
            <p:cNvCxnSpPr>
              <a:stCxn id="104" idx="0"/>
              <a:endCxn id="96" idx="3"/>
            </p:cNvCxnSpPr>
            <p:nvPr/>
          </p:nvCxnSpPr>
          <p:spPr>
            <a:xfrm flipH="1" flipV="1" rot="5400000">
              <a:off x="2175840" y="1644120"/>
              <a:ext cx="1276920" cy="352080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51207"/>
            <p:cNvSpPr/>
            <p:nvPr/>
          </p:nvSpPr>
          <p:spPr>
            <a:xfrm>
              <a:off x="3869280" y="21276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ff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Times New Roman"/>
                </a:rPr>
                <a:t>Четырехугольник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1208"/>
            <p:cNvSpPr/>
            <p:nvPr/>
          </p:nvSpPr>
          <p:spPr>
            <a:xfrm>
              <a:off x="179280" y="404244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Параллелограм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1209"/>
            <p:cNvSpPr/>
            <p:nvPr/>
          </p:nvSpPr>
          <p:spPr>
            <a:xfrm>
              <a:off x="2025360" y="404244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Прямоугольник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51210"/>
            <p:cNvSpPr/>
            <p:nvPr/>
          </p:nvSpPr>
          <p:spPr>
            <a:xfrm>
              <a:off x="3871440" y="404244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Ром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51214"/>
            <p:cNvSpPr/>
            <p:nvPr/>
          </p:nvSpPr>
          <p:spPr>
            <a:xfrm>
              <a:off x="5717520" y="4042440"/>
              <a:ext cx="158004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Квадр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51218"/>
            <p:cNvSpPr/>
            <p:nvPr/>
          </p:nvSpPr>
          <p:spPr>
            <a:xfrm>
              <a:off x="7561440" y="404244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Трапе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Параллелограмм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497800" cy="40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араллелограммом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ывается четырехугольник, у которого противолежащие стороны попарно параллель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войства параллелограмм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тиволежащие стороны равны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тивоположные углы равны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гонали точкой пересечения делятся пополам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мма углов, прилежащих к одной стороне, равна 180°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мма квадратов диагоналей равна сумме квадратов всех сторон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3384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Прямоугольник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ямоугольником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параллелограмм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, у которого все углы прямы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ойства прямоугольника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свойства параллелограмм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гонали равны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419800" y="1413000"/>
            <a:ext cx="3724200" cy="186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Квадра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1856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вадрато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прямоугольник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у которого все стороны рав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войства квадра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 углы квадрата прямые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гонали квадрата равны, взаимно перпендикулярны, точкой пересечения делятся пополам и делят углы квадрата пополам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ризнаки квадра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ямоугольник является квадратом, если он обладает каким-нибудь признаком ромб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-17136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Ромб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омбом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параллелограмм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, у которого все стороны равны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ойства ромб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свойства параллелограмма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агонали перпендикулярны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агонали являются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биссектрисами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его углов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знаки ромб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Параллелограмм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является ромбом, если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ве его смежные стороны равны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го диагонали перпендикулярны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дна из диагоналей является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биссектрисой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его угла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2627280" y="-45864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Трапец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рапецией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ется четырехугольник, у которого две противолежащие стороны параллельны, а две другие непараллельны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лельные стороны трапеции называются е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нованиями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непараллельные стороны —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оковыми сторонами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езок, соединяющий середины боковых сторон, называетс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редней линией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пеция называетс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внобедр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внобок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, если ее боковые стороны равны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пеция, один из углов которой прямой, называетс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ямоугольной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йства трапе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е средняя линия параллельна основаниям и равна их полусумме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трапеция равнобокая, то ее диагонали равны и углы при основании равны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трапеция равнобокая, то около нее можно описать окружность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умма оснований равна сумме боковых сторон, то в нее можно вписать окружность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знаки трапеции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тырехугольник является трапецией, если его параллельные стороны не равн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697480" cy="13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98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98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16:25:30Z</dcterms:created>
  <dc:creator>User</dc:creator>
  <dc:description/>
  <dc:language>en-US</dc:language>
  <cp:lastModifiedBy>Люда</cp:lastModifiedBy>
  <dcterms:modified xsi:type="dcterms:W3CDTF">2012-07-04T13:23:39Z</dcterms:modified>
  <cp:revision>4</cp:revision>
  <dc:subject/>
  <dc:title>Четырехугольники</dc:title>
</cp:coreProperties>
</file>