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F92-66A6-4B97-B2B2-4B4CB18B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45F-2FE6-4BC6-AE09-672FA15F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A78-4731-4EED-9DC2-C1150097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3DC-6318-4BE0-849C-33324DB8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8D8-BE88-4AC6-822F-8A5127B0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F8C-1518-4861-9EEC-E890BC3B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B8A-EF1A-4702-9D63-3B977ECC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868-9863-4894-96AA-9EC416A6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BB9-853E-4554-B6D2-D907C901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043-E7B8-40CF-A2C1-3528AF89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C32-BA1C-494A-973A-5294D7F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35C-0BC3-4A6F-B8D5-9B55ADD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BC80-109D-4D42-8EF0-881FD0E73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213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узей игруш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. Сергиев Пос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4071960"/>
            <a:ext cx="64008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ыполнил Шалина Елена Викторо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спитатель высшей квалификационной категор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«МДОУ Детский сад № 27» г. Пересве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s82930646.jpg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s852252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91-300x2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151-300x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dymkovskaya.jpg"/>
          <p:cNvPicPr/>
          <p:nvPr/>
        </p:nvPicPr>
        <p:blipFill>
          <a:blip r:embed="rId1"/>
          <a:stretch/>
        </p:blipFill>
        <p:spPr>
          <a:xfrm>
            <a:off x="0" y="285840"/>
            <a:ext cx="8999640" cy="6357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skomorohi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002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001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5" descr="a28492d824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54125185_Kopiya_Kopiya_456.jpg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troiefd_3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11" descr="rezba5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sovietskie_kukly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7" descr="2198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sovetskie_igrushki_soldatiki.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07-300x155.jpg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5" descr="066-225x300.jpg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076-300x220.jpg"/>
          <p:cNvPicPr/>
          <p:nvPr/>
        </p:nvPicPr>
        <p:blipFill>
          <a:blip r:embed="rId1"/>
          <a:stretch/>
        </p:blipFill>
        <p:spPr>
          <a:xfrm>
            <a:off x="0" y="0"/>
            <a:ext cx="9352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73-200x30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83-200x300.jpg"/>
          <p:cNvPicPr/>
          <p:nvPr/>
        </p:nvPicPr>
        <p:blipFill>
          <a:blip r:embed="rId1"/>
          <a:stretch/>
        </p:blipFill>
        <p:spPr>
          <a:xfrm>
            <a:off x="25002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113-300x200.jpg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muz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213-300x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08-215x300.jpg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7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02-300x2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03-300x226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05-300x224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331-300x225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82-226x300.jpg"/>
          <p:cNvPicPr/>
          <p:nvPr/>
        </p:nvPicPr>
        <p:blipFill>
          <a:blip r:embed="rId1"/>
          <a:stretch/>
        </p:blipFill>
        <p:spPr>
          <a:xfrm>
            <a:off x="200016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67-230x300.jpg"/>
          <p:cNvPicPr/>
          <p:nvPr/>
        </p:nvPicPr>
        <p:blipFill>
          <a:blip r:embed="rId1"/>
          <a:stretch/>
        </p:blipFill>
        <p:spPr>
          <a:xfrm>
            <a:off x="1643040" y="0"/>
            <a:ext cx="6286680" cy="689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vostochnaya_igrush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vostochnaya_igrushka_2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1250100797_0_1374d_2e826be2_xl.jpg"/>
          <p:cNvPicPr/>
          <p:nvPr/>
        </p:nvPicPr>
        <p:blipFill>
          <a:blip r:embed="rId1"/>
          <a:stretch/>
        </p:blipFill>
        <p:spPr>
          <a:xfrm>
            <a:off x="2428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3" descr="z3-225x300.jpg"/>
          <p:cNvPicPr/>
          <p:nvPr/>
        </p:nvPicPr>
        <p:blipFill>
          <a:blip r:embed="rId1"/>
          <a:stretch/>
        </p:blipFill>
        <p:spPr>
          <a:xfrm>
            <a:off x="207180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54-300x210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212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3-200x300.jpg"/>
          <p:cNvPicPr/>
          <p:nvPr/>
        </p:nvPicPr>
        <p:blipFill>
          <a:blip r:embed="rId1"/>
          <a:stretch/>
        </p:blipFill>
        <p:spPr>
          <a:xfrm>
            <a:off x="228600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62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09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s619398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шка</cp:lastModifiedBy>
  <dcterms:modified xsi:type="dcterms:W3CDTF">2012-05-09T12:10:24Z</dcterms:modified>
  <cp:revision>12</cp:revision>
  <dc:subject/>
  <dc:title> Музей игрушки г. Сергиев Посад </dc:title>
</cp:coreProperties>
</file>