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52C-0974-4532-9D34-079DA056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374-7A7E-4C38-A629-30163E9C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EC6-A743-47FE-B881-0D42EDE6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CE8-6AEE-46D0-8AAB-C227E916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E928-9EA1-44BE-9647-B7FF383B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C26D-D8FA-4EBC-AE2E-85B4179A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FD1E-E7C0-48D7-ABA7-190670B6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A02B-B072-48F0-B269-CFF6EA63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273A-192F-4A62-9E57-303D8821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0BF5-BFE6-4C44-8B32-04EDE380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A26E-1892-4ADD-B8CE-E83634A8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B0C-414A-42FF-A3B9-E7F1EE8C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E78F-B3DC-4A9C-9806-9DC6B072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BA73-A4AC-4BFE-AB3C-83B4B1F6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3671-BE8C-43E8-A256-38823386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B671-738B-48ED-9347-EB2998E3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01E8-5A58-43EE-846B-A03FA667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2C2-1033-486E-A95A-F69809D6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32F-DC20-42D0-BD59-53CDA72D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95D-117F-4A9B-AB31-98043D49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892-2B6A-401C-8693-D3B72153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1FA-9335-4892-99AB-0C42A54B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702-4654-4AF7-98C2-1423187E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B82-7DAB-45F4-806C-8BC9B3A9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6C4A-9C58-4726-8503-FE81039D46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9E7-F568-4B23-AC91-817788BF6A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3800" y="981360"/>
            <a:ext cx="719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д весной бывают дни такие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 плотным снегом отдыхает луг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умят деревья весело-сухие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теплый ветер нежен и упруг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легкости своей дивится тело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дома своего не узнаешь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песню ту, что прежде надоел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новую, с волнением поешь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лексей Саврасов Грачи прилетел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Саврасов. Грачи прилетели. 1871"/>
          <p:cNvPicPr/>
          <p:nvPr/>
        </p:nvPicPr>
        <p:blipFill>
          <a:blip r:embed="rId2"/>
          <a:stretch/>
        </p:blipFill>
        <p:spPr>
          <a:xfrm>
            <a:off x="2411280" y="1628640"/>
            <a:ext cx="434844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онстантин Крыжицкий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нняя вес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Крыжицкий. Ранняя весна. 1905"/>
          <p:cNvPicPr/>
          <p:nvPr/>
        </p:nvPicPr>
        <p:blipFill>
          <a:blip r:embed="rId2"/>
          <a:stretch/>
        </p:blipFill>
        <p:spPr>
          <a:xfrm>
            <a:off x="2195640" y="1628640"/>
            <a:ext cx="4706640" cy="56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лексей Грицай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прель в лесу. Снег сходи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853040" cy="542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аак Левитан Большая во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11280" y="1496880"/>
            <a:ext cx="455148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ихаил Нестеров Начало вес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Нестеров. Начало весны (Ранняя весна). 1905"/>
          <p:cNvPicPr/>
          <p:nvPr/>
        </p:nvPicPr>
        <p:blipFill>
          <a:blip r:embed="rId2"/>
          <a:stretch/>
        </p:blipFill>
        <p:spPr>
          <a:xfrm>
            <a:off x="971640" y="1341360"/>
            <a:ext cx="7157880" cy="56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лексей Грицай Пора вес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24000" y="1341360"/>
            <a:ext cx="506412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27640" y="658080"/>
            <a:ext cx="498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нимы вешними лучами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окрестных гор уже снег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бежали мутными ручьям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потопленные луг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лыбкой ясною природ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квозь сон встречает утро года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инея блещут небес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ще прозрачные, лес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будто пухом зеленеют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чела за данью полево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тит из кельи восково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лины сохнут и пестреют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ада шумят, и солове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ж пел в безмолвии ноче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асилий Бакшеев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 начале вес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Бакшеев. В начале весны. 1917"/>
          <p:cNvPicPr/>
          <p:nvPr/>
        </p:nvPicPr>
        <p:blipFill>
          <a:blip r:embed="rId2"/>
          <a:stretch/>
        </p:blipFill>
        <p:spPr>
          <a:xfrm>
            <a:off x="1476360" y="1628640"/>
            <a:ext cx="626904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саак Левитан Дуб на берегу ре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56000" y="981000"/>
            <a:ext cx="4302000" cy="55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325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Исаак Левитан Ствол распускающегося дуб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0608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иколая Крымов К весн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Крымов. К весне. 1907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205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19720" y="3956040"/>
            <a:ext cx="304560" cy="27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асилий Бакшеев Голубая вес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667560" cy="48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лексей Грицай В весеннем лес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3422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горь Грабарь Майский вече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весна"/>
          <p:cNvPicPr/>
          <p:nvPr/>
        </p:nvPicPr>
        <p:blipFill>
          <a:blip r:embed="rId2"/>
          <a:stretch/>
        </p:blipFill>
        <p:spPr>
          <a:xfrm>
            <a:off x="2340000" y="1341360"/>
            <a:ext cx="4379760" cy="53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иколай Крымов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сле весеннего дожд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Крымов. После весеннего дождя. 1908"/>
          <p:cNvPicPr/>
          <p:nvPr/>
        </p:nvPicPr>
        <p:blipFill>
          <a:blip r:embed="rId2"/>
          <a:stretch/>
        </p:blipFill>
        <p:spPr>
          <a:xfrm>
            <a:off x="1116000" y="1592280"/>
            <a:ext cx="702144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саак Левитан В начале мар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1160" y="1981080"/>
            <a:ext cx="67802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аак Левитан Ма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6336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06120" y="177480"/>
            <a:ext cx="3733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ушует полая во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умит и глухо, и протяж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чей пролетные ст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ичат и весело, и важ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ымятся черные бугр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утром в воздухе нагре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устые белые па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оены теплом и све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в полдень лужи под ок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разливаются и блещу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ярким солнечным пят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 залу «зайчики» трепещ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 круглых рыхлых обл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винно небо голубе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олнце ласковое гре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затишье гумен и дво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сна, весна! И все ей рад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в забытьи каком стоиш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лышишь свежий запах с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еплый запах талых кры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гом вода журчит, сверк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ик петухов звучит пор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ветер, мягкий и сыр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за тихонько закрыва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евитан Последний сне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62472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рхип Куинджи Ранняя вес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8508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ван Ендогуров Ранняя вес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Ендогуров И.. Ранняя весна. 1885"/>
          <p:cNvPicPr/>
          <p:nvPr/>
        </p:nvPicPr>
        <p:blipFill>
          <a:blip r:embed="rId2"/>
          <a:stretch/>
        </p:blipFill>
        <p:spPr>
          <a:xfrm>
            <a:off x="1116000" y="1484280"/>
            <a:ext cx="6945480" cy="51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96040" y="1629720"/>
            <a:ext cx="3664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СЕННИЕ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ще в полях белеет снег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воды уж весной шумят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гут и будят сонный брег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гут, и блещут, и гласят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и гласят во все конц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"Весна идет, весна ид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ы молодой весны гонц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а нас выслала вперед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сна идет, весна ид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ихих, теплых майских д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мяный, светлый хоро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пится весело за ней!..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4:07:39Z</dcterms:created>
  <dc:creator>Тарасова</dc:creator>
  <dc:description/>
  <dc:language>en-US</dc:language>
  <cp:lastModifiedBy>Тарасова</cp:lastModifiedBy>
  <dcterms:modified xsi:type="dcterms:W3CDTF">2010-10-25T18:02:38Z</dcterms:modified>
  <cp:revision>26</cp:revision>
  <dc:subject/>
  <dc:title>Слайд 1</dc:title>
</cp:coreProperties>
</file>