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5D0-1C5A-4AB7-901B-DFBA292C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0E1-15E8-4519-A36D-173BF136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43D-B36F-4CC1-AA2E-6965B42B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9B4-CFC6-48AD-92EA-DE5DD069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C16F-DEC1-4B45-AA83-8C0DFA88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24AB-3EC0-4C2E-92E7-249A2A3A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66E1-7B29-4D8C-8084-DBFADAE7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5E5B-7F96-4A7A-ADAA-0307AE1B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C8D5-52D8-43E7-A3B2-8325C879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167F-26BA-4490-9E47-64A34FC7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BF56-DFB7-4EE9-B904-912E7736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796-9F43-49EC-8CC1-7A4703F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6405-BC42-4028-9B2C-1616FE4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6C3A-E159-4715-916F-78E1CB5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A92F-5598-44F4-B59C-7CD77E59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C255-80A3-46DB-B29F-1E5C04D7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5A14-6E21-406A-AD6B-033BE22F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450-DECE-4892-AAF8-0B8D5EB1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DDF-D6BC-4AA8-8755-BEAB454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668-BF0A-48CE-92D8-B53B5B58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0AB-9AB4-4483-BE51-AF1301C5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DB0-99D7-4F26-922A-48372B13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C7F-9531-4242-98D0-401F1990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187-0C60-4170-B5CE-F2E6DC42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B409-5DB7-4840-ACC2-5335786546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383-619F-4D95-9F37-02D5A0252F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33800" y="981360"/>
            <a:ext cx="7191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д весной бывают дни такие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 плотным снегом отдыхает луг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умят деревья весело-сухие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теплый ветер нежен и упруг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легкости своей дивится тело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дома своего не узнаешь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песню ту, что прежде надоела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новую, с волнением поешь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лексей Саврасов Грачи прилетел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Саврасов. Грачи прилетели. 1871"/>
          <p:cNvPicPr/>
          <p:nvPr/>
        </p:nvPicPr>
        <p:blipFill>
          <a:blip r:embed="rId2"/>
          <a:stretch/>
        </p:blipFill>
        <p:spPr>
          <a:xfrm>
            <a:off x="2411280" y="1628640"/>
            <a:ext cx="434844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онстантин Крыжицкий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нняя вес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Крыжицкий. Ранняя весна. 1905"/>
          <p:cNvPicPr/>
          <p:nvPr/>
        </p:nvPicPr>
        <p:blipFill>
          <a:blip r:embed="rId2"/>
          <a:stretch/>
        </p:blipFill>
        <p:spPr>
          <a:xfrm>
            <a:off x="2195640" y="1628640"/>
            <a:ext cx="4706640" cy="56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лексей Грицай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прель в лесу. Снег сходи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853040" cy="542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аак Левитан Большая во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411280" y="1496880"/>
            <a:ext cx="455148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Михаил Нестеров Начало вес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Нестеров. Начало весны (Ранняя весна). 1905"/>
          <p:cNvPicPr/>
          <p:nvPr/>
        </p:nvPicPr>
        <p:blipFill>
          <a:blip r:embed="rId2"/>
          <a:stretch/>
        </p:blipFill>
        <p:spPr>
          <a:xfrm>
            <a:off x="971640" y="1341360"/>
            <a:ext cx="7157880" cy="56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лексей Грицай Пора вес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506412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27640" y="658080"/>
            <a:ext cx="498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нимы вешними лучами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окрестных гор уже снег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бежали мутными ручьями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потопленные луг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лыбкой ясною природ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квозь сон встречает утро года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инея блещут небес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ще прозрачные, лес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будто пухом зеленеют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чела за данью полево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етит из кельи восковой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лины сохнут и пестреют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ада шумят, и солове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ж пел в безмолвии ноче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асилий Бакшеев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 начале вес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Бакшеев. В начале весны. 1917"/>
          <p:cNvPicPr/>
          <p:nvPr/>
        </p:nvPicPr>
        <p:blipFill>
          <a:blip r:embed="rId2"/>
          <a:stretch/>
        </p:blipFill>
        <p:spPr>
          <a:xfrm>
            <a:off x="1476360" y="1628640"/>
            <a:ext cx="626904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саак Левитан Дуб на берегу ре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56000" y="981000"/>
            <a:ext cx="4302000" cy="55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9325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аак Левитан Ствол распускающегося дуб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27280" y="1052640"/>
            <a:ext cx="406080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Николая Крымов К весн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Крымов. К весне. 1907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205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19720" y="3956040"/>
            <a:ext cx="304560" cy="2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асилий Бакшеев Голубая весн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667560" cy="48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лексей Грицай В весеннем лес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34228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горь Грабарь Майский вече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весна"/>
          <p:cNvPicPr/>
          <p:nvPr/>
        </p:nvPicPr>
        <p:blipFill>
          <a:blip r:embed="rId2"/>
          <a:stretch/>
        </p:blipFill>
        <p:spPr>
          <a:xfrm>
            <a:off x="2340000" y="1341360"/>
            <a:ext cx="4379760" cy="53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Николай Крымов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сле весеннего дожд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Крымов. После весеннего дождя. 1908"/>
          <p:cNvPicPr/>
          <p:nvPr/>
        </p:nvPicPr>
        <p:blipFill>
          <a:blip r:embed="rId2"/>
          <a:stretch/>
        </p:blipFill>
        <p:spPr>
          <a:xfrm>
            <a:off x="1116000" y="1592280"/>
            <a:ext cx="702144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саак Левитан В начале мар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1160" y="1981080"/>
            <a:ext cx="67802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аак Левитан Ма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547640" y="1413000"/>
            <a:ext cx="633600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06120" y="177480"/>
            <a:ext cx="373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ушует полая вод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умит и глухо, и протяж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чей пролетные ст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ичат и весело, и важ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ымятся черные бугр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утром в воздухе нагре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устые белые па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поены теплом и све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в полдень лужи под ок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разливаются и блещу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ярким солнечным пятн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 залу «зайчики» трепещ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 круглых рыхлых обл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винно небо голубе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олнце ласковое гр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затишье гумен и дво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сна, весна! И все ей рад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в забытьи каком стоиш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слышишь свежий запах с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еплый запах талых кры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угом вода журчит, сверка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ик петухов звучит пор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ветер, мягкий и сыр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лаза тихонько закрыва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Левитан Последний снег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62472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Архип Куинджи Ранняя вес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98508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ван Ендогуров Ранняя вес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Ендогуров И.. Ранняя весна. 1885"/>
          <p:cNvPicPr/>
          <p:nvPr/>
        </p:nvPicPr>
        <p:blipFill>
          <a:blip r:embed="rId2"/>
          <a:stretch/>
        </p:blipFill>
        <p:spPr>
          <a:xfrm>
            <a:off x="1116000" y="1484280"/>
            <a:ext cx="6945480" cy="51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96040" y="1629720"/>
            <a:ext cx="3664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СЕННИ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ще в полях белеет снег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воды уж весной шумят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гут и будят сонный брег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гут, и блещут, и гласят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и гласят во все конц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"Весна идет, весна ид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ы молодой весны гонц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на нас выслала вперед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сна идет, весна ид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ихих, теплых майских дн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мяный, светлый хоров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лпится весело за ней!..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4:07:39Z</dcterms:created>
  <dc:creator>Тарасова</dc:creator>
  <dc:description/>
  <dc:language>en-US</dc:language>
  <cp:lastModifiedBy>Тарасова</cp:lastModifiedBy>
  <dcterms:modified xsi:type="dcterms:W3CDTF">2010-10-25T18:02:38Z</dcterms:modified>
  <cp:revision>26</cp:revision>
  <dc:subject/>
  <dc:title>Слайд 1</dc:title>
</cp:coreProperties>
</file>