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F581-8E94-44BA-A4EA-65BA5E92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7D4-C114-487B-B66B-F3CBBD2E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C3B-46DD-42BF-B64C-EEC30138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C78-9EE8-49DE-8EB1-D0520D76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D2FE-302A-402B-9C4D-2E893D31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A3B9-A2B5-4D88-A63B-62DCC194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2E12-006C-4D3C-9A0C-506B840C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E8B5-8F48-4E2A-BFDA-B49DF86A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655D-8CE4-445C-919F-323BA217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158D-978E-471C-8340-7453D962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4FE1-DF56-461E-B37B-AEF2EF85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B91-DA38-426E-B5D7-3A2F72FF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8031-8702-4B76-83A8-5359C3CA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7193-2AF0-4ACB-91BD-4F4AC60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6C13-457B-498F-9DD8-19593E6A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4EBA-D520-4931-973F-3CC6D981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6711-7678-4898-8644-FB960988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0B9-E1E9-471B-8214-8EAF12DD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EB7-77A2-4EA7-9532-E028750D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136-BCA0-44D8-B670-AC5E2DCF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AB4-C8FB-4E67-81FC-B40BFB54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676-83DC-4285-9FDB-7460FE6C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A61-D26C-44BF-A0F0-BF2F8683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0BB-29CE-4F78-8091-33DB0EA8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7CDD-337D-4D03-9DD5-7A621B9A794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469E-5366-47C0-949B-58769DD897F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ards.yandex.ru/card.xml?card_id=438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«Забытый памятник незабытой войны»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оминация «Краеведы рассказывают»</a:t>
            </a:r>
            <a:br>
              <a:rPr sz="2800"/>
            </a:br>
            <a:br>
              <a:rPr sz="3600"/>
            </a:br>
            <a:r>
              <a:rPr b="0" lang="en-US" sz="4000" spc="-1" strike="noStrike">
                <a:solidFill>
                  <a:srgbClr val="00cc99"/>
                </a:solidFill>
                <a:latin typeface="Tahoma"/>
              </a:rPr>
              <a:t>Мы – благодарные потом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2997360"/>
            <a:ext cx="356076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оект Костович Татьяны Витальевн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ученицы 9А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уководитель: Яровая Ольга Алексеевна,  учитель истор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  обществозн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ОУ СОШ № 8 города Ахтубинска Астрахан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41920" y="2997360"/>
            <a:ext cx="27986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4248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Свою подпись Михаил Николаевич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сумел оставить на  стенах рейхстага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аграды Трёкина М.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рден «Отечественной войны»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дали :«За отвагу», «За взятие Берлина», «За победу над Германией в Великой Отечественной войне», юбилей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чки: гвардейский, День Победы, Отечественная война, Ударник Коммунистического труда, Фронтов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рамоты: «Об отличной службе в Советской Армии»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а взятие Берлин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219640" y="3716280"/>
            <a:ext cx="2881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Трёкин Михаил Николаевич – почётный гость нашей школ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84720" y="1197000"/>
            <a:ext cx="2465640" cy="419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3456000" cy="2389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D:\Башкатов 3.jpg"/>
          <p:cNvPicPr/>
          <p:nvPr/>
        </p:nvPicPr>
        <p:blipFill>
          <a:blip r:embed="rId3"/>
          <a:srcRect l="0" t="2176" r="0" b="2176"/>
          <a:stretch/>
        </p:blipFill>
        <p:spPr>
          <a:xfrm>
            <a:off x="2195640" y="4149720"/>
            <a:ext cx="3240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спользованные источник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 слайд Картина«Взятие рейхстаг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images.yandex.ru/search?p=26&amp;stype=simage&amp;text=%D0%B2%D0%B7%D1%8F%D1%82%D0%B8%D0%B5%20%D1%80%D0%B5%D0%B9%D1%85%D1%81%D1%82%D0%B0%D0%B3%D0%B0%20%D1%84%D0%BE%D1%82%D0%BE&amp;spsite=www.barnaul-altai.ru&amp;img_url=www.barnaul-altai.ru%2Fnews%2Fimg%2Fcalendar%2Fdenpobediprazd07_19m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0 слайд Открытка «Победная весн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ards.yandex.ru/card.xml?card_id=43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,5,6 слайды Фотграфии и документы Шишкина П.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8 слайд Фотография Трёкина М.Н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, 11 слайды Фотографии Яровой О.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 слайд Рисунок Костович Т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ект выполнен в программе Microsoft Office PowerPoint 2003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История Великой Отечественной  войны - это военные дороги её участников: один год, два-три года или вся война. Каждая дорога – трудная и трагическая, тяжёлая и героическая, но сво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 своей работе я расскажу о военных дорогах Шишкина П.И. и Трёкина М.Н. Они – мои земляки, я горжусь ими и хочу, чтобы их главное дело жизни не было забыт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Шишкин Пётр Иванович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00360" y="1125000"/>
            <a:ext cx="41036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августе 1941 из Соликамска был призван в армию.  Закончил сапёрное военное инженерное училище города Иркутска. В декабре 1942 года был выпуск. Шишкину Петру Ивановичу присвоили звание лейтенанта. Был назначен командиром сапёрного взвода 396 отдельного сапёрного батальона 217-й стрелковой дивизии 16 арм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30416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931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ействовали в составе дивизионной разведки. Воевал Пётр Иванович на Западном фрон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феврале 1943 года было наступление в Смоленской области. Село находилось на возвышенности, а там немцы. Взвод Шишкина Петра Ивановича должен был укрепить лёд на реке, чтобы пропустить танки. Делали работу ночью, в холодной ледяной воде. Задача была выполне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юль 1943 года, когда шли бои под Курском, стал роковым в судьбе Петра Ивановича. Батальон вёл позиционную деятельность. Бои были сильные. После одной переправы, когда её миномётным огнём обстреливал враг, еле добрались до берега. Вдруг взрыв мины и его ранило в ноги, что не сразу понял Пётр Иванович, пока не указал солд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н получил тяжелое ранение в ноги. Правая нога была иссечена осколками, а на левой ещё перебило к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460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 госпитале вручили Шишкину первую самую дорогую до сих пор для него награду –</a:t>
            </a:r>
            <a:br>
              <a:rPr sz="24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медаль « За отвагу»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88000" y="2924280"/>
            <a:ext cx="3816360" cy="2977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11280" y="2421000"/>
            <a:ext cx="345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грады Шишкина П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даль «За боевые заслуг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рден «Отечественной войны I степен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рден «Красная Звезд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рден «Трудового Красного Знамен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даль «К 100-летию Жуков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едаль ордена «За заслуги перед Отечеством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степен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билейные наград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75280" cy="453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3181680" cy="4292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отограф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00720" y="9806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Рисунок Костович Та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590364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Шишкин П.И. – Почётный гражданин города Ахтубинс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4076640"/>
            <a:ext cx="3311640" cy="2298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516720" y="333360"/>
            <a:ext cx="2374920" cy="3457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859280" y="4149720"/>
            <a:ext cx="3313080" cy="240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619280" y="1484280"/>
            <a:ext cx="34923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рёкин Михаил Николаевич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410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есь боевой путь прошёл Михаил Николаевич в качестве механика- водителя т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-34, С-85 танкового батальо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0240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08720" cy="63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3ноября 1943 года Михаил Николаевич был призван в ряды Советской Армии. Зачислен в 8 роту противотанковой батареи, прослужил 1 год. Был переведён в учебный танковый полк. Учеба велась по ускоренной программе- 6 месяцев. Затем зачислили Михаила Николаевича в маршевую роту и в октябре 1944 года отправили на фрон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2539800"/>
            <a:ext cx="813564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оставе 1-го Белорусского фронта участвовал во взяти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еловских высо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Два дня шли упорные бо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д взятием Берлина танковому батальону была поставлена задача: переправить на левый берег реки Шпрея 30 танков по разбитому мосту. Именно Михаилу Николаевичу было поручено выполнить тяжелое и ответственное задание. За выполнение этого задания командир батальона вручил медаль «За отвагу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пути к рейхстагу задержал продвижение танков зоопарк, пришлось объезж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7:30:43Z</dcterms:created>
  <dc:creator>Admin</dc:creator>
  <dc:description/>
  <dc:language>en-US</dc:language>
  <cp:lastModifiedBy>Admin</cp:lastModifiedBy>
  <dcterms:modified xsi:type="dcterms:W3CDTF">2010-03-02T20:09:00Z</dcterms:modified>
  <cp:revision>9</cp:revision>
  <dc:subject/>
  <dc:title>Интернет-проект  «Забытый памятник незабытой войны»</dc:title>
</cp:coreProperties>
</file>