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A2F-D693-40E4-A33E-F8A9FFE7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2CD-D2A5-45D6-8487-4E7C21EA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8DC-BC04-4EF9-B52A-F89A0D1C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80E-F662-4A90-BF26-CAC6EA76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290F-9411-4CE5-B477-701899B0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098-5B92-45BF-B513-C203A57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390B-7985-4D54-8F84-4D68F43F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87D-C8C0-46DD-817D-B6F6EAC8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B7B3-B44D-4716-8443-BF228EF6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78C-3C33-4DE1-AB00-98DFAD2B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64A1-9173-410F-9AD1-22529FA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F32-28E4-41A7-B231-2393234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2D6-71F2-4016-9ADB-C5DD364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44E-6414-4628-9365-75338008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6BC-A4CF-443C-9766-38CE441C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E9C2-0420-4736-840B-71B3726D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422-AF0D-4234-8780-6002B055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E84-9FE6-44D0-A763-C7E60029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1FB-6124-4FEE-9458-21711B4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660-35FD-4415-8CAF-679786A5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36F-988C-4A6A-9A53-B32AFEF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40F-1CB3-4AFF-9D65-623793C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9E9-463E-4E43-9D65-7A8CC3D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986-4FA9-4FB1-8361-0D45FB83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F58F-436A-4659-A8FA-75598F4138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75C-9170-4FFF-8308-D0AEBE481C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ards.yandex.ru/card.xml?card_id=438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«Забытый памятник незабытой войны»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оминация «Краеведы рассказывают»</a:t>
            </a:r>
            <a:br>
              <a:rPr sz="2800"/>
            </a:br>
            <a:br>
              <a:rPr sz="3600"/>
            </a:br>
            <a:r>
              <a:rPr b="0" lang="en-US" sz="4000" spc="-1" strike="noStrike">
                <a:solidFill>
                  <a:srgbClr val="00cc99"/>
                </a:solidFill>
                <a:latin typeface="Tahoma"/>
              </a:rPr>
              <a:t>Мы – благодарные потом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2997360"/>
            <a:ext cx="3560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ект Костович Татьяны Витальевн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ченицы 9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уководитель: Яровая Ольга Алексеевна,  учитель ис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  общество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У СОШ № 8 города Ахтубинска Астрахан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41920" y="2997360"/>
            <a:ext cx="2798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4248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Свою подпись Михаил Николаевич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сумел оставить на  стенах рейхстага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грады Трёкина М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«Отечественной войны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али :«За отвагу», «За взятие Берлина», «За победу над Германией в Великой Отечественной войне», юбилей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ки: гвардейский, День Победы, Отечественная война, Ударник Коммунистического труда, Фронтов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моты: «Об отличной службе в Советской Армии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 взятие Берлин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2881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рёкин Михаил Николаевич – почётный гость нашей школ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2465640" cy="419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456000" cy="238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Башкатов 3.jpg"/>
          <p:cNvPicPr/>
          <p:nvPr/>
        </p:nvPicPr>
        <p:blipFill>
          <a:blip r:embed="rId3"/>
          <a:srcRect l="0" t="2176" r="0" b="2176"/>
          <a:stretch/>
        </p:blipFill>
        <p:spPr>
          <a:xfrm>
            <a:off x="2195640" y="4149720"/>
            <a:ext cx="3240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пользованные источ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 слайд Картина«Взятие рейхста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images.yandex.ru/search?p=26&amp;stype=simage&amp;text=%D0%B2%D0%B7%D1%8F%D1%82%D0%B8%D0%B5%20%D1%80%D0%B5%D0%B9%D1%85%D1%81%D1%82%D0%B0%D0%B3%D0%B0%20%D1%84%D0%BE%D1%82%D0%BE&amp;spsite=www.barnaul-altai.ru&amp;img_url=www.barnaul-altai.ru%2Fnews%2Fimg%2Fcalendar%2Fdenpobediprazd07_19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 слайд Открытка «Победная весн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ards.yandex.ru/card.xml?card_id=43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,5,6 слайды Фотграфии и документы Шишкина П.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 слайд Фотография Трёкина М.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, 11 слайды Фотографии Яровой О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 слайд Рисунок Костович Т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ект выполнен в программе Microsoft Office PowerPoint 2003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История Великой Отечественной  войны - это военные дороги её участников: один год, два-три года или вся война. Каждая дорога – трудная и трагическая, тяжёлая и героическая, но сво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своей работе я расскажу о военных дорогах Шишкина П.И. и Трёкина М.Н. Они – мои земляки, я горжусь ими и хочу, чтобы их главное дело жизни не было забыт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Шишкин Пётр Иванови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0360" y="1125000"/>
            <a:ext cx="41036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августе 1941 из Соликамска был призван в армию.  Закончил сапёрное военное инженерное училище города Иркутска. В декабре 1942 года был выпуск. Шишкину Петру Ивановичу присвоили звание лейтенанта. Был назначен командиром сапёрного взвода 396 отдельного сапёрного батальона 217-й стрелковой дивизии 16 арм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041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931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йствовали в составе дивизионной разведки. Воевал Пётр Иванович на Западном фрон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феврале 1943 года было наступление в Смоленской области. Село находилось на возвышенности, а там немцы. Взвод Шишкина Петра Ивановича должен был укрепить лёд на реке, чтобы пропустить танки. Делали работу ночью, в холодной ледяной воде. Задача была выполн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юль 1943 года, когда шли бои под Курском, стал роковым в судьбе Петра Ивановича. Батальон вёл позиционную деятельность. Бои были сильные. После одной переправы, когда её миномётным огнём обстреливал враг, еле добрались до берега. Вдруг взрыв мины и его ранило в ноги, что не сразу понял Пётр Иванович, пока не указал солд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н получил тяжелое ранение в ноги. Правая нога была иссечена осколками, а на левой ещё перебило к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460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госпитале вручили Шишкину первую самую дорогую до сих пор для него награду –</a:t>
            </a:r>
            <a:br>
              <a:rPr sz="24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едаль « За отвагу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816360" cy="2977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42100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грады Шишкина П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Отечественной войны I степ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Красная Звез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Трудового Красного Знам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 «К 100-летию Жук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даль ордена «За заслуги перед Отечеством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степ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билейные наград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7528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18168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т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720" y="980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Рисунок Костович Т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9036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Шишкин П.И. – Почётный гражданин города Ахтубинс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3311640" cy="22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374920" cy="3457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3313080" cy="240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3492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ёкин Михаил Николаеви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410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ь боевой путь прошёл Михаил Николаевич в качестве механика- водителя т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-34, С-85 танкового баталь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02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08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3ноября 1943 года Михаил Николаевич был призван в ряды Советской Армии. Зачислен в 8 роту противотанковой батареи, прослужил 1 год. Был переведён в учебный танковый полк. Учеба велась по ускоренной программе- 6 месяцев. Затем зачислили Михаила Николаевича в маршевую роту и в октябре 1944 года отправили на фр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39800"/>
            <a:ext cx="8135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е 1-го Белорусского фронта участвовал во взяти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еловских высо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Два дня шли упорные бо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 взятием Берлина танковому батальону была поставлена задача: переправить на левый берег реки Шпрея 30 танков по разбитому мосту. Именно Михаилу Николаевичу было поручено выполнить тяжелое и ответственное задание. За выполнение этого задания командир батальона вручил медаль «За отваг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ути к рейхстагу задержал продвижение танков зоопарк, пришлось объезж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7:30:43Z</dcterms:created>
  <dc:creator>Admin</dc:creator>
  <dc:description/>
  <dc:language>en-US</dc:language>
  <cp:lastModifiedBy>Admin</cp:lastModifiedBy>
  <dcterms:modified xsi:type="dcterms:W3CDTF">2010-03-02T20:09:00Z</dcterms:modified>
  <cp:revision>9</cp:revision>
  <dc:subject/>
  <dc:title>Интернет-проект  «Забытый памятник незабытой войны»</dc:title>
</cp:coreProperties>
</file>