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761F-2264-4510-8FF1-9B6F9666E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D565-9D99-4B5D-A0D7-06E84637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C07B-6113-43C8-892A-9E5EF4E22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355D-B202-4D51-84CD-3CCD6F34D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D6D9-326D-4E20-8D47-E92CA8A43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EF03-9098-4B4F-A700-38EAAA65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D7F5-42BC-48D5-B1AE-84465B2C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3BDD-6806-4928-8B79-EFDEE5F6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1958-3C15-49C2-974B-B6D39C90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6387-6459-4CEF-A594-6BEC3CBA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2165-640B-4829-A1BA-375EF491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7E57-41A5-4449-9A18-AF7083E0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D85C-05AD-4791-837C-4ED9A4DD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F604-5637-4B07-98CE-0A29E5F8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3DE6-416C-494C-A066-22BB2EB0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6716-695E-4243-9D9E-0D3CE99A0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9990-AC15-4FC5-B1F4-FAF8B0683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53D4-AEFC-449E-B152-51689AE5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579A-42BA-4FE5-9B15-871B4025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8E2C-A831-40FD-8CBA-EBD3B334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8389-3895-497D-87B1-7262EDA0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ED83-180F-466E-9FC8-40934896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032A-9B66-4E92-86F8-98300CA0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C130-6C74-43B6-BFC3-E470E8C1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4A8C-860B-4387-BD3A-25B7B05BC2C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1F89-44FC-4A28-9012-C2B3BE0AF21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257,3,&#1060;&#1086;&#1088;&#1084;&#1091;&#1083;&#1080;&#1088;&#1086;&#1074;&#1082;&#1072; &#1090;&#1077;&#1086;&#1088;&#1077;&#1084;&#1099;." TargetMode="External"/><Relationship Id="rId2" Type="http://schemas.openxmlformats.org/officeDocument/2006/relationships/hyperlink" Target="258,4,&#1044;&#1086;&#1082;&#1072;&#1079;&#1072;&#1090;&#1077;&#1083;&#1100;&#1089;&#1090;&#1074;&#1086;. " TargetMode="Externa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Теорема Пифагор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зентацию подготовил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математики МОУ СОШ № 21  Козачёк Людмила Павловн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315200" y="4267080"/>
            <a:ext cx="1247760" cy="19814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Различные виды доказательства теоремы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наши дни известно несколько десятков различных доказательств теоремы Пифаго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ни из них основан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разбиении квадра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дополнении до равных фигу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том, что высота, опущенная из вершины прямого угла на гипотенузу, делит прямоугольный треугольник на два подобных ему треугольников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нциклопедический словарь юного математи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ометрия 7-9 ( Атанасян Л. С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ометрия 7-11 ( Погорелов А. В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804000" y="4149720"/>
            <a:ext cx="2046240" cy="2490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Цели и задачи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знакомить учащихся с теоремой Пифагора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тивизация мыслительной деятельности на уроке геометр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витие познавательного интереса к предмет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313760" y="5292720"/>
            <a:ext cx="1830240" cy="1565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24000" y="1988640"/>
            <a:ext cx="81784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Формулировка теорем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Доказательств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</a:rPr>
              <a:t>Формулировка обратной теорем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</a:rPr>
              <a:t>Следствия из теорем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</a:rPr>
              <a:t>Пифагоровы треугольник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</a:rPr>
              <a:t>Египетский треугольник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</a:rPr>
              <a:t>Различные виды доказательства теорем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</a:rPr>
              <a:t>Литератур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5724360" y="2133720"/>
            <a:ext cx="1830600" cy="1565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1599840"/>
            <a:ext cx="822960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рямоугольном треугольнике квадрат гипотенузы равен сумме квадратов кате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Формулировка теоремы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32000" y="3716280"/>
            <a:ext cx="2016000" cy="2449440"/>
          </a:xfrm>
          <a:prstGeom prst="rtTriangle">
            <a:avLst/>
          </a:prstGeom>
          <a:solidFill>
            <a:srgbClr val="f8a5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4869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6165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68360" y="4437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95640" y="44370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19640" y="3933720"/>
            <a:ext cx="5400360" cy="1079640"/>
          </a:xfrm>
          <a:custGeom>
            <a:avLst/>
            <a:gdLst>
              <a:gd name="textAreaLeft" fmla="*/ 1350000 w 5400360"/>
              <a:gd name="textAreaRight" fmla="*/ 4050360 w 5400360"/>
              <a:gd name="textAreaTop" fmla="*/ 31680 h 1079640"/>
              <a:gd name="textAreaBottom" fmla="*/ 81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148360" y="3860640"/>
                <a:ext cx="208764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440" y="18864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Доказательство.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00000" y="2565360"/>
            <a:ext cx="3167280" cy="3024360"/>
          </a:xfrm>
          <a:prstGeom prst="rect">
            <a:avLst/>
          </a:prstGeom>
          <a:solidFill>
            <a:srgbClr val="cc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00000" y="2565360"/>
            <a:ext cx="3167280" cy="3024360"/>
          </a:xfrm>
          <a:prstGeom prst="diamond">
            <a:avLst/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458136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32000" y="5734080"/>
            <a:ext cx="3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76360" y="5589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92360" y="4437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92360" y="3429000"/>
            <a:ext cx="35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92360" y="3068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27280" y="314172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43280" y="3068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16360" y="4581360"/>
            <a:ext cx="43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16360" y="4437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3141720"/>
            <a:ext cx="43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76360" y="2060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11640" y="3068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03640" y="5805360"/>
            <a:ext cx="43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32000" y="55897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3068640"/>
            <a:ext cx="3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3141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87640" y="2205000"/>
            <a:ext cx="5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206064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11640" y="43657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84720" y="4581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59280" y="3284640"/>
            <a:ext cx="4105440" cy="129672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38160 h 1296720"/>
              <a:gd name="textAreaBottom" fmla="*/ 1028880 h 1296720"/>
            </a:gdLst>
            <a:ahLst/>
            <a:rect l="textAreaLeft" t="textAreaTop" r="textAreaRight" b="textAreaBottom"/>
            <a:pathLst>
              <a:path w="21600" h="21600">
                <a:moveTo>
                  <a:pt x="0" y="4465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2405"/>
                </a:lnTo>
                <a:arcTo wR="21600" hR="20153" stAng="-4471878" swAng="976834"/>
                <a:lnTo>
                  <a:pt x="18900" y="11803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7293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1803"/>
                </a:lnTo>
                <a:close/>
              </a:path>
              <a:path fill="none" w="21600" h="21600">
                <a:moveTo>
                  <a:pt x="8100" y="17293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7293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2405"/>
                </a:moveTo>
                <a:lnTo>
                  <a:pt x="5400" y="17775"/>
                </a:lnTo>
              </a:path>
              <a:path fill="none" w="21600" h="21600">
                <a:moveTo>
                  <a:pt x="16200" y="2405"/>
                </a:moveTo>
                <a:lnTo>
                  <a:pt x="16200" y="17775"/>
                </a:lnTo>
              </a:path>
            </a:pathLst>
          </a:custGeom>
          <a:solidFill>
            <a:srgbClr val="f8a5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940360" y="3429000"/>
                <a:ext cx="19447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Формулировка обратной теоремы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07840"/>
            <a:ext cx="82296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квадрат одной стороны треугольника равен сумме квадратов двух других сторон, то треугольник прямоугольны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Следствия из теоремы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прямоугольном треугольнике любой из катетов меньше гипотенуз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синус любого острого угла меньше 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к прямой из одной точки проведены перпендикуляр и наклонные, то любая наклонная больше перпендикуляра, равные наклонные имеют равные проекции, из двух наклонных больше та, у которой проекция больш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ифагоров треугольник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ямоугольные треугольники , у которых длины сторон выражаются целыми числами, называются пифагоровы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жно доказать, что катеты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гипотенуз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таких треугольников выражаются формулам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=2m*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=m^2-n^2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где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n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юбые натуральные числа (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&gt;n )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Египетский треугольник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емлемеры Древнего Египта для построения прямого угла пользовались следующим приемом. Бечевку узлами делили на 12 равных частей и концы связывали. Затем бечевку растягивали на земле так, что получался треугольник со сторонами 3, 4 и 5 делений. Угол треугольника, противолежащий стороне с 5 делениями, был прямой. ( Почему?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вязи с указанным способом построения прямого угла треугольник со сторонами 3, 4 и 5 единиц иногда называют египетски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09:53:28Z</dcterms:created>
  <dc:creator>1</dc:creator>
  <dc:description/>
  <dc:language>en-US</dc:language>
  <cp:lastModifiedBy>Jeam-T</cp:lastModifiedBy>
  <dcterms:modified xsi:type="dcterms:W3CDTF">2007-06-27T19:14:32Z</dcterms:modified>
  <cp:revision>17</cp:revision>
  <dc:subject/>
  <dc:title>Теорема Пифагора</dc:title>
</cp:coreProperties>
</file>