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104-EED2-40DE-AB1F-A6F6B206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EFB-4B0B-42EC-B276-E707AF51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60D-592A-409C-9919-4FB76919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FE6-4C61-48E0-B373-D3B25460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F5D7-D8B9-4C22-8AE4-326AD039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2A31-996C-4AB4-ABFB-6D5720DA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6BF1-10A2-432F-8267-A80B0184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C98A-5F4C-4111-ADE3-3E471A89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DF7A-EE50-4539-BBA3-255B2BB4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4AEC-E223-4335-8C3F-5D8BA36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AE98-893E-48A0-846C-A33E1C19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505-2197-429B-A7DA-F89C9490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91A1-417A-4BB0-B56E-795F7AF9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A449-FD85-44C3-B8CF-BBC2182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3598-2DED-4361-8834-DC5B68D0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0317-A4BA-41A8-B53C-A19ED3E0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9F9-1F9D-4E22-B59C-E965C207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A6A-778E-4DF5-BF5F-1C2F6CEB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A8A-460E-4419-8B52-71F95730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DA7-3D1F-489C-8980-3F06544D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FB7-94C7-407E-9497-D6E94DDA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4E5-28A3-4699-8438-4E9829A2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CDD-13C9-4E49-B244-9B7FB5A7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7CB-6FB0-492C-A51E-F41ADE09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D2CF-00D8-4530-B177-C34C54D517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2F34-A5DF-4F40-8997-CCC9916CFB8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7,3,&#1060;&#1086;&#1088;&#1084;&#1091;&#1083;&#1080;&#1088;&#1086;&#1074;&#1082;&#1072; &#1090;&#1077;&#1086;&#1088;&#1077;&#1084;&#1099;." TargetMode="External"/><Relationship Id="rId2" Type="http://schemas.openxmlformats.org/officeDocument/2006/relationships/hyperlink" Target="258,4,&#1044;&#1086;&#1082;&#1072;&#1079;&#1072;&#1090;&#1077;&#1083;&#1100;&#1089;&#1090;&#1074;&#1086;. 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Теорема Пифаго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ю подготовил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МОУ СОШ № 21  Козачёк Людмила Павловн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15200" y="4267080"/>
            <a:ext cx="1247760" cy="19814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азличные виды доказательства теор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аши дни известно несколько десятков различных доказательств теоремы Пифаг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и из них основан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разбиении квад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дополнении до равных фиг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том, что высота, опущенная из вершины прямого угла на гипотенузу, делит прямоугольный треугольник на два подобных ему треугольников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нциклопедический словарь юного математи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7-9 ( Атанасян Л. С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метрия 7-11 ( Погорелов А. В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04000" y="4149720"/>
            <a:ext cx="2046240" cy="2490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комить учащихся с теоремой Пифагор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изация мыслительной деятельности на уроке геометр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витие познавательного интереса к предме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3760" y="52927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4000" y="1988640"/>
            <a:ext cx="8178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Формулировка теор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Доказательств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Формулировка обратной теор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Следствия из теор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Пифагоровы треугольни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Египетский 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Различные виды доказательства теор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</a:rPr>
              <a:t>Литератур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724360" y="213372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59984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улировка теоремы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3716280"/>
            <a:ext cx="2016000" cy="2449440"/>
          </a:xfrm>
          <a:prstGeom prst="rtTriangle">
            <a:avLst/>
          </a:prstGeom>
          <a:solidFill>
            <a:srgbClr val="f8a5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4869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44370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3933720"/>
            <a:ext cx="5400360" cy="1079640"/>
          </a:xfrm>
          <a:custGeom>
            <a:avLst/>
            <a:gdLst>
              <a:gd name="textAreaLeft" fmla="*/ 1350000 w 5400360"/>
              <a:gd name="textAreaRight" fmla="*/ 4050360 w 5400360"/>
              <a:gd name="textAreaTop" fmla="*/ 3168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148360" y="3860640"/>
                <a:ext cx="208764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18864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оказательство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565360"/>
            <a:ext cx="3167280" cy="3024360"/>
          </a:xfrm>
          <a:prstGeom prst="rect">
            <a:avLst/>
          </a:prstGeom>
          <a:solidFill>
            <a:srgbClr val="cc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00" y="2565360"/>
            <a:ext cx="3167280" cy="3024360"/>
          </a:xfrm>
          <a:prstGeom prst="diamond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57340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44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3429000"/>
            <a:ext cx="35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306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14172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306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458136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44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314172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2060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11640" y="306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80536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32000" y="558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3141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2205000"/>
            <a:ext cx="5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060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11640" y="436572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45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3284640"/>
            <a:ext cx="4105440" cy="129672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38160 h 1296720"/>
              <a:gd name="textAreaBottom" fmla="*/ 10288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4465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2405"/>
                </a:lnTo>
                <a:arcTo wR="21600" hR="20153" stAng="-4471878" swAng="976834"/>
                <a:lnTo>
                  <a:pt x="18900" y="11803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7293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1803"/>
                </a:lnTo>
                <a:close/>
              </a:path>
              <a:path fill="none" w="21600" h="21600">
                <a:moveTo>
                  <a:pt x="8100" y="17293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7293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2405"/>
                </a:moveTo>
                <a:lnTo>
                  <a:pt x="5400" y="17775"/>
                </a:lnTo>
              </a:path>
              <a:path fill="none" w="21600" h="21600">
                <a:moveTo>
                  <a:pt x="16200" y="2405"/>
                </a:moveTo>
                <a:lnTo>
                  <a:pt x="16200" y="17775"/>
                </a:lnTo>
              </a:path>
            </a:pathLst>
          </a:custGeom>
          <a:solidFill>
            <a:srgbClr val="f8a5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940360" y="3429000"/>
                <a:ext cx="1944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улировка обратной теоремы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07840"/>
            <a:ext cx="8229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вадрат одной стороны треугольника равен сумме квадратов двух других сторон, то треугольник прямоугольны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ледствия из теор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рямоугольном треугольнике любой из катетов меньше гипотенуз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синус любого острого угла меньше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к прямой из одной точки проведены перпендикуляр и наклонные, то любая наклонная больше перпендикуляра, равные наклонные имеют равные проекции, из двух наклонных больше та, у которой проекция боль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ифагоров треугольник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ямоугольные треугольники , у которых длины сторон выражаются целыми числами, называются пифагоров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жно доказать, что катеты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гипотенуз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таких треугольников выражаются формулам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=2m*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=m^2-n^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гд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ые натуральные числа (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&gt;n 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гипетский треугольни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лемеры Древнего Египта для построения прямого угла пользовались следующим приемом. Бечевку узлами делили на 12 равных частей и концы связывали. Затем бечевку растягивали на земле так, что получался треугольник со сторонами 3, 4 и 5 делений. Угол треугольника, противолежащий стороне с 5 делениями, был прямой. ( Почему?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вязи с указанным способом построения прямого угла треугольник со сторонами 3, 4 и 5 единиц иногда называют египетски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09:53:28Z</dcterms:created>
  <dc:creator>1</dc:creator>
  <dc:description/>
  <dc:language>en-US</dc:language>
  <cp:lastModifiedBy>Jeam-T</cp:lastModifiedBy>
  <dcterms:modified xsi:type="dcterms:W3CDTF">2007-06-27T19:14:32Z</dcterms:modified>
  <cp:revision>17</cp:revision>
  <dc:subject/>
  <dc:title>Теорема Пифагора</dc:title>
</cp:coreProperties>
</file>