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FBDC-DD51-4BB3-AFF6-CC23CC38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7FBB-A54A-4C9B-89AB-E79729D6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11F2-B882-4DBB-BE27-809A9A8F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0FF6A-D776-44C1-A6CE-58ED1441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2EA9-960B-410D-ABFA-176017AD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6529-5166-4944-8166-EC87A1C1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8D37-BAD7-4B70-9EC9-06EFEB6F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9A34-5729-4E07-BC31-6B33F617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12FF-2FBF-430C-8A4B-BD0DC0F7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1D1E-F554-4AA8-91F3-282C4D76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1E4B-58B0-4C27-91FA-AEF182EB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8C321-5F11-4BD7-8B02-874A6061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0608-E26F-4953-8415-CF4ED4EA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EC7A-D6AE-4BA8-A446-B814303F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7FEF-9C89-4807-A354-9B421510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99D1-39EE-4373-952E-DC47AF2B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DA55-5AB5-41C9-B41A-422706E2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FEF1-46F6-4CA1-96DC-828D8350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41C5-ED7F-4E3C-94D0-D119A07B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2A7A-EF6E-433D-B9EB-14173F5A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24F0-D9B6-46AE-AEAF-DD860FE9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9D5F-CB20-4DF3-AA83-897CC4B6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C9BD-21C8-4691-A1D9-868D9E45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0F11-951F-41DA-B149-65C4257B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EDF5-59CA-44BA-A3CB-7EAEF66B83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16A9-2183-4B60-BEEB-FB0C83FDED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263700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Т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Н</a:t>
            </a:r>
            <a:r>
              <a:rPr b="1" lang="ru-RU" sz="10000" spc="-1" strike="noStrike">
                <a:solidFill>
                  <a:srgbClr val="33cc33"/>
                </a:solidFill>
                <a:latin typeface="Chicago"/>
              </a:rPr>
              <a:t>С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ПО</a:t>
            </a:r>
            <a:r>
              <a:rPr b="1" lang="ru-RU" sz="10000" spc="-1" strike="noStrike">
                <a:solidFill>
                  <a:srgbClr val="33cc33"/>
                </a:solidFill>
                <a:latin typeface="Chicago"/>
              </a:rPr>
              <a:t>Р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Т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3005280" cy="1141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221280" cy="1069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9640" y="5300640"/>
            <a:ext cx="3527640" cy="85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953240" cy="4319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8760" y="4869000"/>
            <a:ext cx="7971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МО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ЦИ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Л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95880" cy="3549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32240" y="5013360"/>
            <a:ext cx="5014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М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П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5894280" cy="3755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8920" y="4724280"/>
            <a:ext cx="8181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В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Л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СИ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П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48000" y="476280"/>
            <a:ext cx="5043600" cy="3944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0760" y="3429000"/>
            <a:ext cx="65541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Н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Н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Я</a:t>
            </a:r>
            <a:r>
              <a:rPr b="1" lang="ru-RU" sz="10000" spc="-1" strike="noStrike">
                <a:solidFill>
                  <a:srgbClr val="9999cc"/>
                </a:solidFill>
                <a:latin typeface="Chicago"/>
              </a:rPr>
              <a:t>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П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В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З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791320" cy="3286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87160" y="4653000"/>
            <a:ext cx="7219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С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НЕ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Г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ХО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019560" cy="3100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01760" y="4869000"/>
            <a:ext cx="86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ДИ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РИ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Ж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Б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ЛЬ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19640" y="0"/>
            <a:ext cx="3606840" cy="4800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2040" y="4292640"/>
            <a:ext cx="8314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ВО</a:t>
            </a: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З</a:t>
            </a:r>
            <a:r>
              <a:rPr b="1" lang="ru-RU" sz="9000" spc="-1" strike="noStrike">
                <a:solidFill>
                  <a:srgbClr val="000000"/>
                </a:solidFill>
                <a:latin typeface="Chicago"/>
              </a:rPr>
              <a:t>ДУ</a:t>
            </a: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Ш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НЫ</a:t>
            </a: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9999cc"/>
                </a:solidFill>
                <a:latin typeface="Chicago"/>
              </a:rPr>
              <a:t> </a:t>
            </a:r>
            <a:r>
              <a:rPr b="1" lang="ru-RU" sz="9000" spc="-1" strike="noStrike">
                <a:solidFill>
                  <a:srgbClr val="000000"/>
                </a:solidFill>
                <a:latin typeface="Chicago"/>
              </a:rPr>
              <a:t>ША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Р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239240" cy="3537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46040" y="5029200"/>
            <a:ext cx="4152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Т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Р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4496040" cy="4022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654640" y="4952880"/>
            <a:ext cx="4836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Л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Д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543800" cy="1825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21160" y="3429000"/>
            <a:ext cx="7622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М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Т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Р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Н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Я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Л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Д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943600" cy="328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58920" y="4508640"/>
            <a:ext cx="69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А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В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ТО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БУ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С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620120" cy="3114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03200" y="4952880"/>
            <a:ext cx="6676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Г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Н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ДО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Л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5081400" cy="4254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43280" y="4941720"/>
            <a:ext cx="5116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А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НО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Э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35481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081400" y="4724280"/>
            <a:ext cx="3483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Я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Х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3909960" cy="495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86800" y="5013360"/>
            <a:ext cx="5028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РА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3726000" cy="4724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72160" y="5013360"/>
            <a:ext cx="6561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9999cc"/>
                </a:solidFill>
                <a:latin typeface="Chicago"/>
              </a:rPr>
              <a:t>Т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РА</a:t>
            </a:r>
            <a:r>
              <a:rPr b="1" lang="ru-RU" sz="10000" spc="-1" strike="noStrike">
                <a:solidFill>
                  <a:srgbClr val="9999cc"/>
                </a:solidFill>
                <a:latin typeface="Chicago"/>
              </a:rPr>
              <a:t>М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ВА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Й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543800" cy="2908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68200" y="4876920"/>
            <a:ext cx="464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П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З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2720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20880" y="4724280"/>
            <a:ext cx="646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С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М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ЛЁ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6324480" cy="3835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26720" y="4797360"/>
            <a:ext cx="6677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ВЕ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Р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ЛЁ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10640" cy="3132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7760" y="3809880"/>
            <a:ext cx="854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ЛЕ</a:t>
            </a: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Г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КО</a:t>
            </a:r>
            <a:r>
              <a:rPr b="1" lang="ru-RU" sz="9000" spc="-1" strike="noStrike">
                <a:solidFill>
                  <a:srgbClr val="000000"/>
                </a:solidFill>
                <a:latin typeface="Chicago"/>
              </a:rPr>
              <a:t>ВО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А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В</a:t>
            </a: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ТО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МО</a:t>
            </a:r>
            <a:r>
              <a:rPr b="1" lang="ru-RU" sz="9000" spc="-1" strike="noStrike">
                <a:solidFill>
                  <a:srgbClr val="000000"/>
                </a:solidFill>
                <a:latin typeface="Chicago"/>
              </a:rPr>
              <a:t>БИ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Л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963520" y="4876920"/>
            <a:ext cx="450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К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И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872400" cy="282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94400" y="4797360"/>
            <a:ext cx="7116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Г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РУ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З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ВИ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8:31:47Z</dcterms:created>
  <dc:creator>yuliya</dc:creator>
  <dc:description/>
  <dc:language>en-US</dc:language>
  <cp:lastModifiedBy>Лена Данилова</cp:lastModifiedBy>
  <dcterms:modified xsi:type="dcterms:W3CDTF">2005-02-20T16:30:11Z</dcterms:modified>
  <cp:revision>9</cp:revision>
  <dc:subject/>
  <dc:title>Заголовок слайда отсутствует</dc:title>
</cp:coreProperties>
</file>