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E8ED6-AE2D-42CF-A907-6636AD1C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064A8-DC14-4F3F-A492-C301BF8E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73FB0-B1C3-4D94-90E0-5A0BB303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5193B-8A17-4138-8014-8334CA97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8310-A7DC-444F-AD66-D97E6722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29E3-E5DB-4718-AB51-A8B3E766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D4C6-9B60-4EF0-A394-1BB4D0B3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CDB7-DBAB-4360-AEE1-BAE46D64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973B-194A-405D-A78A-4713566D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6375-829A-4AE3-B297-7E10B9BE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6FCC-092F-4F09-9C2C-6C2E357F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F31E1-0D15-4B5F-B3CE-A195F64F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D5AB-4568-4333-94D9-910D8468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1810-1955-4BA3-A150-D801C3AB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9ABB-3801-4CEC-9CDA-25D08FC3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F7ED-D43C-4C61-B600-4D962108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0008-1229-493C-B897-7E5FEA68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33B78-1142-4494-A93E-DDA5F7BF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28E22-3A92-4AEC-BC71-FAD3F9A0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AD695-BC16-447A-9733-B23573E2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D403A-753D-4118-9A6F-25C18431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40A00-0EEA-4954-8362-C458414E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32545-D897-4AE7-8C02-B88E7AB9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D6902-694E-436B-99BF-F63EB905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1FD9-FA1B-4093-89A7-3F120BAB5A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48D4-279C-458E-A1BA-8C6085D049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263700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Т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А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Н</a:t>
            </a:r>
            <a:r>
              <a:rPr b="1" lang="ru-RU" sz="10000" spc="-1" strike="noStrike">
                <a:solidFill>
                  <a:srgbClr val="33cc33"/>
                </a:solidFill>
                <a:latin typeface="Chicago"/>
              </a:rPr>
              <a:t>С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ПО</a:t>
            </a:r>
            <a:r>
              <a:rPr b="1" lang="ru-RU" sz="10000" spc="-1" strike="noStrike">
                <a:solidFill>
                  <a:srgbClr val="33cc33"/>
                </a:solidFill>
                <a:latin typeface="Chicago"/>
              </a:rPr>
              <a:t>Р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Т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3005280" cy="1141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64000" y="4292640"/>
            <a:ext cx="3221280" cy="1069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39640" y="5300640"/>
            <a:ext cx="3527640" cy="85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953240" cy="4319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18760" y="4869000"/>
            <a:ext cx="7971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МО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ТО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ЦИ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К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Л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6095880" cy="3549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632240" y="5013360"/>
            <a:ext cx="5014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МО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ПЕ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Д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5894280" cy="3755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8920" y="4724280"/>
            <a:ext cx="8181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ВЕ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ЛО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СИ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ПЕ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Д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348000" y="476280"/>
            <a:ext cx="5043600" cy="3944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0760" y="3429000"/>
            <a:ext cx="65541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КО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Н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НА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Я</a:t>
            </a:r>
            <a:r>
              <a:rPr b="1" lang="ru-RU" sz="10000" spc="-1" strike="noStrike">
                <a:solidFill>
                  <a:srgbClr val="9999cc"/>
                </a:solidFill>
                <a:latin typeface="Chicago"/>
              </a:rPr>
              <a:t>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ПО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ВО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З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К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791320" cy="3286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87160" y="4653000"/>
            <a:ext cx="7219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С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НЕ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ГО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ХО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Д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019560" cy="3100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01760" y="4869000"/>
            <a:ext cx="867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ДИ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РИ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ЖА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Б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ЛЬ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219640" y="0"/>
            <a:ext cx="3606840" cy="4800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22040" y="4292640"/>
            <a:ext cx="8314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009900"/>
                </a:solidFill>
                <a:latin typeface="Chicago"/>
              </a:rPr>
              <a:t>ВО</a:t>
            </a:r>
            <a:r>
              <a:rPr b="1" lang="ru-RU" sz="9000" spc="-1" strike="noStrike">
                <a:solidFill>
                  <a:srgbClr val="006600"/>
                </a:solidFill>
                <a:latin typeface="Chicago"/>
              </a:rPr>
              <a:t>З</a:t>
            </a:r>
            <a:r>
              <a:rPr b="1" lang="ru-RU" sz="9000" spc="-1" strike="noStrike">
                <a:solidFill>
                  <a:srgbClr val="000000"/>
                </a:solidFill>
                <a:latin typeface="Chicago"/>
              </a:rPr>
              <a:t>ДУ</a:t>
            </a:r>
            <a:r>
              <a:rPr b="1" lang="ru-RU" sz="9000" spc="-1" strike="noStrike">
                <a:solidFill>
                  <a:srgbClr val="006600"/>
                </a:solidFill>
                <a:latin typeface="Chicago"/>
              </a:rPr>
              <a:t>Ш</a:t>
            </a:r>
            <a:r>
              <a:rPr b="1" lang="ru-RU" sz="9000" spc="-1" strike="noStrike">
                <a:solidFill>
                  <a:srgbClr val="009900"/>
                </a:solidFill>
                <a:latin typeface="Chicago"/>
              </a:rPr>
              <a:t>НЫ</a:t>
            </a:r>
            <a:r>
              <a:rPr b="1" lang="ru-RU" sz="9000" spc="-1" strike="noStrike">
                <a:solidFill>
                  <a:srgbClr val="006600"/>
                </a:solidFill>
                <a:latin typeface="Chicago"/>
              </a:rPr>
              <a:t>Й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9999cc"/>
                </a:solidFill>
                <a:latin typeface="Chicago"/>
              </a:rPr>
              <a:t> </a:t>
            </a:r>
            <a:r>
              <a:rPr b="1" lang="ru-RU" sz="9000" spc="-1" strike="noStrike">
                <a:solidFill>
                  <a:srgbClr val="000000"/>
                </a:solidFill>
                <a:latin typeface="Chicago"/>
              </a:rPr>
              <a:t>ША</a:t>
            </a:r>
            <a:r>
              <a:rPr b="1" lang="ru-RU" sz="9000" spc="-1" strike="noStrike">
                <a:solidFill>
                  <a:srgbClr val="009900"/>
                </a:solidFill>
                <a:latin typeface="Chicago"/>
              </a:rPr>
              <a:t>Р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239240" cy="3537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146040" y="5029200"/>
            <a:ext cx="4152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КА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ТЕ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Р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4496040" cy="4022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654640" y="4952880"/>
            <a:ext cx="4836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ЛО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Д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К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543800" cy="1825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21160" y="3429000"/>
            <a:ext cx="76222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МО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ТО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Р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НА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Я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ЛО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Д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К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943600" cy="3282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58920" y="4508640"/>
            <a:ext cx="6913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А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В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ТО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БУ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С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620120" cy="3114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03200" y="4952880"/>
            <a:ext cx="6676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ГО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Н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ДО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Л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5081400" cy="4254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843280" y="4941720"/>
            <a:ext cx="5116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КА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НО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Э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354816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081400" y="4724280"/>
            <a:ext cx="3483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Я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Х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Т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284720" y="260280"/>
            <a:ext cx="3909960" cy="495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86800" y="5013360"/>
            <a:ext cx="5028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РА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КЕ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ТА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666880" y="228600"/>
            <a:ext cx="3726000" cy="4724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72160" y="5013360"/>
            <a:ext cx="6561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9999cc"/>
                </a:solidFill>
                <a:latin typeface="Chicago"/>
              </a:rPr>
              <a:t>Т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РА</a:t>
            </a:r>
            <a:r>
              <a:rPr b="1" lang="ru-RU" sz="10000" spc="-1" strike="noStrike">
                <a:solidFill>
                  <a:srgbClr val="9999cc"/>
                </a:solidFill>
                <a:latin typeface="Chicago"/>
              </a:rPr>
              <a:t>М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ВА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Й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543800" cy="2908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968200" y="4876920"/>
            <a:ext cx="4640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ПО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Е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З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Д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162560" cy="2720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820880" y="4724280"/>
            <a:ext cx="646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СА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МО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ЛЁ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Т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00200" y="838080"/>
            <a:ext cx="6324480" cy="3835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26720" y="4797360"/>
            <a:ext cx="6677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ВЕ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Р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ТО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ЛЁ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Т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010640" cy="3132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37760" y="3809880"/>
            <a:ext cx="8549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009900"/>
                </a:solidFill>
                <a:latin typeface="Chicago"/>
              </a:rPr>
              <a:t>ЛЕ</a:t>
            </a:r>
            <a:r>
              <a:rPr b="1" lang="ru-RU" sz="9000" spc="-1" strike="noStrike">
                <a:solidFill>
                  <a:srgbClr val="006600"/>
                </a:solidFill>
                <a:latin typeface="Chicago"/>
              </a:rPr>
              <a:t>Г</a:t>
            </a:r>
            <a:r>
              <a:rPr b="1" lang="ru-RU" sz="9000" spc="-1" strike="noStrike">
                <a:solidFill>
                  <a:srgbClr val="009900"/>
                </a:solidFill>
                <a:latin typeface="Chicago"/>
              </a:rPr>
              <a:t>КО</a:t>
            </a:r>
            <a:r>
              <a:rPr b="1" lang="ru-RU" sz="9000" spc="-1" strike="noStrike">
                <a:solidFill>
                  <a:srgbClr val="000000"/>
                </a:solidFill>
                <a:latin typeface="Chicago"/>
              </a:rPr>
              <a:t>ВО</a:t>
            </a:r>
            <a:r>
              <a:rPr b="1" lang="ru-RU" sz="9000" spc="-1" strike="noStrike">
                <a:solidFill>
                  <a:srgbClr val="009900"/>
                </a:solidFill>
                <a:latin typeface="Chicago"/>
              </a:rPr>
              <a:t>Й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006600"/>
                </a:solidFill>
                <a:latin typeface="Chicago"/>
              </a:rPr>
              <a:t>А</a:t>
            </a:r>
            <a:r>
              <a:rPr b="1" lang="ru-RU" sz="9000" spc="-1" strike="noStrike">
                <a:solidFill>
                  <a:srgbClr val="009900"/>
                </a:solidFill>
                <a:latin typeface="Chicago"/>
              </a:rPr>
              <a:t>В</a:t>
            </a:r>
            <a:r>
              <a:rPr b="1" lang="ru-RU" sz="9000" spc="-1" strike="noStrike">
                <a:solidFill>
                  <a:srgbClr val="006600"/>
                </a:solidFill>
                <a:latin typeface="Chicago"/>
              </a:rPr>
              <a:t>ТО</a:t>
            </a:r>
            <a:r>
              <a:rPr b="1" lang="ru-RU" sz="9000" spc="-1" strike="noStrike">
                <a:solidFill>
                  <a:srgbClr val="009900"/>
                </a:solidFill>
                <a:latin typeface="Chicago"/>
              </a:rPr>
              <a:t>МО</a:t>
            </a:r>
            <a:r>
              <a:rPr b="1" lang="ru-RU" sz="9000" spc="-1" strike="noStrike">
                <a:solidFill>
                  <a:srgbClr val="000000"/>
                </a:solidFill>
                <a:latin typeface="Chicago"/>
              </a:rPr>
              <a:t>БИ</a:t>
            </a:r>
            <a:r>
              <a:rPr b="1" lang="ru-RU" sz="9000" spc="-1" strike="noStrike">
                <a:solidFill>
                  <a:srgbClr val="009900"/>
                </a:solidFill>
                <a:latin typeface="Chicago"/>
              </a:rPr>
              <a:t>ЛЬ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15200" cy="2428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963520" y="4876920"/>
            <a:ext cx="450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ТА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К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СИ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872400" cy="2826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094400" y="4797360"/>
            <a:ext cx="7116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Г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РУ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ЗО</a:t>
            </a: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ВИ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К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8:31:47Z</dcterms:created>
  <dc:creator>yuliya</dc:creator>
  <dc:description/>
  <dc:language>en-US</dc:language>
  <cp:lastModifiedBy>Лена Данилова</cp:lastModifiedBy>
  <dcterms:modified xsi:type="dcterms:W3CDTF">2005-02-20T16:30:11Z</dcterms:modified>
  <cp:revision>9</cp:revision>
  <dc:subject/>
  <dc:title>Заголовок слайда отсутствует</dc:title>
</cp:coreProperties>
</file>