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C93-9FC5-4A9C-9FF9-6309524A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872-43C5-4E07-8FB0-6C5178E3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091-5F34-430E-AAEF-6D60D195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2B8-0D79-4883-B3B8-1E88889F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719-2BF7-4057-9E27-DA670AB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F67-337C-4E4D-879E-876058A4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1B5-D8AD-4748-B616-4E616D5B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025-2546-4FA8-AFDA-0C2D90CE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1C2-67B3-49F3-8348-4BFC09BF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71E-FD80-4C20-A30F-5E40A47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545-4C92-49D6-B55D-04479369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71C-DD5C-4F54-9C87-ACF67FA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D5A6-3C29-4971-BCA1-E34AAE47E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ЖИ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ВО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Т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НЫ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Е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ДО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Ш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319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СО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БА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60080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ВО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Л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С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ТЫ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Е </a:t>
            </a:r>
            <a:br>
              <a:rPr sz="6600"/>
            </a:b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ПО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ПУ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ГА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Й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ЧИ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27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МО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Р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С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КА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Я С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ВИ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Н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3978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ЧЕ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РЕ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ПА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Х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4007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А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К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ВА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РИ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У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М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НЫ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Е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РЫ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Б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24836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ХО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МЯ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ЧО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9607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00:30:26Z</dcterms:created>
  <dc:creator>Irina</dc:creator>
  <dc:description/>
  <dc:language>en-US</dc:language>
  <cp:lastModifiedBy>User</cp:lastModifiedBy>
  <dcterms:modified xsi:type="dcterms:W3CDTF">2009-08-19T10:31:04Z</dcterms:modified>
  <cp:revision>8</cp:revision>
  <dc:subject/>
  <dc:title>Slide 1</dc:title>
</cp:coreProperties>
</file>