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3E4-DC7C-40F2-82C1-89342283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60F-E8A3-4837-A642-9757F4C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B7B-7A05-4ACB-9831-8E7B9797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BB4-918A-4BE6-A196-85FC24DB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CFB-6C8B-47A3-AD5E-3BACC922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A78-C55D-43DD-958D-4F0D41B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820-B330-4C81-826F-92170048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8F3-E588-49B7-BE48-28BCCDE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DEA-8011-434E-8DDF-3B76D653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219-C513-4EFE-9F4B-229B2C7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DC8-7CFF-4CCE-A75B-81052EEF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CE8-B31E-40E5-A35A-0D49F76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E99-5BA4-4FED-B748-036BC65CD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ЖИ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В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Т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НЫ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Е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К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Ш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31964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СО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Б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476280"/>
            <a:ext cx="460080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ВО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Л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С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ТЫ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Е </a:t>
            </a:r>
            <a:br>
              <a:rPr sz="6600"/>
            </a:b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ПО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ПУ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ГА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Й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ЧИ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27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М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Р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С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К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Я С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Н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3978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ЧЕ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РЕ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Х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4007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А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К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ВА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РИ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У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М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НЫ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Е</a:t>
            </a: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РЫ</a:t>
            </a:r>
            <a:r>
              <a:rPr b="0" lang="en-US" sz="6600" spc="-1" strike="noStrike">
                <a:solidFill>
                  <a:srgbClr val="008000"/>
                </a:solidFill>
                <a:latin typeface="Arial Black"/>
              </a:rPr>
              <a:t>Б</a:t>
            </a:r>
            <a:r>
              <a:rPr b="0" lang="en-US" sz="6600" spc="-1" strike="noStrike">
                <a:solidFill>
                  <a:srgbClr val="006600"/>
                </a:solidFill>
                <a:latin typeface="Arial Black"/>
              </a:rPr>
              <a:t>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424836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ХО</a:t>
            </a:r>
            <a:r>
              <a:rPr b="0" lang="en-US" sz="7200" spc="-1" strike="noStrike">
                <a:solidFill>
                  <a:srgbClr val="008000"/>
                </a:solidFill>
                <a:latin typeface="Arial Black"/>
              </a:rPr>
              <a:t>МЯ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ЧО</a:t>
            </a:r>
            <a:r>
              <a:rPr b="0" lang="en-US" sz="7200" spc="-1" strike="noStrike">
                <a:solidFill>
                  <a:srgbClr val="006600"/>
                </a:solidFill>
                <a:latin typeface="Arial Black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9607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1T00:30:26Z</dcterms:created>
  <dc:creator>Irina</dc:creator>
  <dc:description/>
  <dc:language>en-US</dc:language>
  <cp:lastModifiedBy>User</cp:lastModifiedBy>
  <dcterms:modified xsi:type="dcterms:W3CDTF">2009-08-19T10:31:04Z</dcterms:modified>
  <cp:revision>8</cp:revision>
  <dc:subject/>
  <dc:title>Slide 1</dc:title>
</cp:coreProperties>
</file>