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181-F73D-4B09-B140-C6BA0310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2C7-E311-449B-9AD9-53D7C579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B1B-0E5F-461E-A68D-53BD229C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495-5DE5-4851-A9C1-DF9121E9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C12-14BD-4D5E-A7E3-3E6B690D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251-D627-47F2-8C56-EBB72C91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C68-3025-4F44-AE1B-C811EE75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C8F-827E-4B96-8BB3-2070BC78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BCB-2801-4F11-B963-EAB99BA1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DDA-772C-4723-B673-52FF69B9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627-3DED-4D19-ACA5-9BF8F0FD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4DB-FC5D-4EFB-BFE1-C1D9E6E7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12B2-49AC-417D-A6F9-0CC3048F0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oazisdlyavas.ucoz.ru/photo/44" TargetMode="External"/><Relationship Id="rId3" Type="http://schemas.openxmlformats.org/officeDocument/2006/relationships/hyperlink" Target="http://galereika.net/photo/animacija/dozhd_animacija/15" TargetMode="External"/><Relationship Id="rId4" Type="http://schemas.openxmlformats.org/officeDocument/2006/relationships/hyperlink" Target="http://galereika.net/photo/animacija/dozhd_animacija/15" TargetMode="External"/><Relationship Id="rId5" Type="http://schemas.openxmlformats.org/officeDocument/2006/relationships/hyperlink" Target="http://galereika.net/photo/animacija/dozhd_animacija/15" TargetMode="External"/><Relationship Id="rId6" Type="http://schemas.openxmlformats.org/officeDocument/2006/relationships/hyperlink" Target="http://galereika.net/photo/animacija/dozhd_animacija/15" TargetMode="External"/><Relationship Id="rId7" Type="http://schemas.openxmlformats.org/officeDocument/2006/relationships/hyperlink" Target="http://galereika.net/photo/animacija/dozhd_animacija/15" TargetMode="External"/><Relationship Id="rId8" Type="http://schemas.openxmlformats.org/officeDocument/2006/relationships/hyperlink" Target="http://galereika.net/photo/animacija/dozhd_animacija/15" TargetMode="External"/><Relationship Id="rId9" Type="http://schemas.openxmlformats.org/officeDocument/2006/relationships/hyperlink" Target="http://galereika.net/photo/animacija/dozhd_animacija/15" TargetMode="External"/><Relationship Id="rId10" Type="http://schemas.openxmlformats.org/officeDocument/2006/relationships/hyperlink" Target="http://galereika.net/photo/animacija/dozhd_animacija/15" TargetMode="External"/><Relationship Id="rId11" Type="http://schemas.openxmlformats.org/officeDocument/2006/relationships/hyperlink" Target="http://galereika.net/photo/animacija/dozhd_animacija/15" TargetMode="External"/><Relationship Id="rId12" Type="http://schemas.openxmlformats.org/officeDocument/2006/relationships/hyperlink" Target="http://galereika.net/photo/animacija/dozhd_animacija/15" TargetMode="External"/><Relationship Id="rId13" Type="http://schemas.openxmlformats.org/officeDocument/2006/relationships/hyperlink" Target="http://vsyaanimaciya.ru/photo/23-2-0-0-2" TargetMode="External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odogde.ru/fantazii-o-dozhde/letnij-dozhd.html" TargetMode="External"/><Relationship Id="rId3" Type="http://schemas.openxmlformats.org/officeDocument/2006/relationships/hyperlink" Target="http://odogde.ru/interesnoe-o-dozhde/polza-vesennix-dozhdej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708360" y="2565360"/>
            <a:ext cx="388944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66ff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жд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66ff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66ff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окн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66ff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6732720" y="4581360"/>
            <a:ext cx="21589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БДОУ д/с №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Терем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опыл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6093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мбов -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333360"/>
            <a:ext cx="529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40428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ня просят и ждут, а как приду – убегают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3357360"/>
            <a:ext cx="82072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azisdlyavas.ucoz.ru/photo/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ereika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hoto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nimacija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dozhd_animacija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vsyaanimaciya.ru/photo/23-2-0-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odogde.ru/dozhd-i-tvorchestvo/zagadki-pro-dozh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odogde.ru/interesnoe-o-dozhde/udivitelnye-osadki-v-vide-dozhdya.html#more-1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835280" y="189000"/>
            <a:ext cx="5472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 - ресур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Стихи про дождь"/>
          <p:cNvPicPr/>
          <p:nvPr/>
        </p:nvPicPr>
        <p:blipFill>
          <a:blip r:embed="rId14"/>
          <a:srcRect l="0" t="0" r="3205" b="1571"/>
          <a:stretch/>
        </p:blipFill>
        <p:spPr>
          <a:xfrm>
            <a:off x="3708360" y="836640"/>
            <a:ext cx="166680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211640" y="189000"/>
            <a:ext cx="5041800" cy="6480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010120" cy="5373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27640" y="860400"/>
            <a:ext cx="381636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окна дождик гулко стука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пли пели: кап-кап-кап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будили капли куко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дит Ветер-косолап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чаще сада. Что-то ел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-то липы зашумели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пли роем загудели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п-кап-кап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тру любо потолкать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меж елей:                           скрип-скрип-скрип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юбо золотом кидать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тополей и желтых лип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чут быстрые капели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-то липы зашумел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ачались, заскрипели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рип-скрип-скрип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С.Северны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920" y="333360"/>
            <a:ext cx="489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ихотвор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932360" y="2997360"/>
            <a:ext cx="4176720" cy="3860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79280" y="3068640"/>
            <a:ext cx="4608720" cy="3789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3851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500280"/>
            <a:ext cx="33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ёплый дождик лил да лил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ло делал, не шалил 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мыл крышу у скворечн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мыл ягоды-черешни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тянули мы ладошк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ждик их помыл немножк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Босе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4392720" cy="3295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39240" y="3501000"/>
            <a:ext cx="366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кнет ежик, мокнет птичк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кнет в поле электpичк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кнyт ветки и соседки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yспели до беседк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кнyт зонтики и шляп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кнyт чьи-то мамы, пап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кнyт лавочки, огpад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лягyшки очень pады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лyжах скачyт, песни пляшy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еленым флагом маш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12000" y="189000"/>
            <a:ext cx="2376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476280"/>
            <a:ext cx="331308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5111640" cy="203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549360"/>
            <a:ext cx="324000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просёлочной дороге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опал дождик длинноногий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арабанил, шелестел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У меня так много дел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 полью всё по порядку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ес, поля, сады и грядку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ужи сделаю больши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убже моря, речки шире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кна вымою и крыши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 потом пошёл потиш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п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п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п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перестал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тому что дождь устал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 Кулиш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708360" y="2637000"/>
            <a:ext cx="5111640" cy="38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4221000"/>
            <a:ext cx="338472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4294440"/>
            <a:ext cx="337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идет, а мы бежим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догонит все равно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ом укрыться мы спешим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ет к нам стучать в окн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о крыше тук да тук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, не впустим, милый друг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ответ: дождь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95640" y="260280"/>
            <a:ext cx="460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гад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125360"/>
            <a:ext cx="302436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ил, бродил по крыше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громко, то потиш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ил, бродил, постукивал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зяев убаюкив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052640"/>
            <a:ext cx="295272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янул дробно с высот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ыл деревья и цвет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омчался во всю прыть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назад не воро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24360" y="4221000"/>
            <a:ext cx="324036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всю ночь по крыше бьё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постукивае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бормочет, и поё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баюкивае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1557360"/>
            <a:ext cx="273528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чит поле, лес и луг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од, дом и все вокруг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лаков и туч он вождь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же знаешь, это -…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419640" y="2997360"/>
            <a:ext cx="2320920" cy="30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04640"/>
            <a:ext cx="31669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ебристый занавес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неба вдруг спустил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ебристый занавес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плями пролил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нила занавес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чка, представляешь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за чудный занавес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, угадаеш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4149720"/>
            <a:ext cx="381636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неба пришёл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землю ушё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ли, звали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показался 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прочь побежал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зонтик забыл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о … намочил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4365720"/>
            <a:ext cx="3095640" cy="19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учки, как из решета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п-кап – капает вода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ы ей цветы и птички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же это за водич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404640"/>
            <a:ext cx="3887640" cy="15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ешеход, а идё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кнут люди у воро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вит дворник его в кадку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трудная загад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822000">
            <a:off x="5651280" y="2204640"/>
            <a:ext cx="308772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жд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635280" y="234936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 rot="822000">
            <a:off x="394920" y="3284280"/>
            <a:ext cx="3087720" cy="50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жд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067280" y="260280"/>
            <a:ext cx="5076720" cy="60483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7440" y="1244520"/>
            <a:ext cx="33706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Times New Roman"/>
              </a:rPr>
              <a:t>Сколько знаю я дождей?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считайте поскорей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ждик с ветром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ждь грибной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ждик с радугой-дугой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ждик с солнцем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ждик с градом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ждик с рыжим листопадо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825720" cy="561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68360" y="333360"/>
            <a:ext cx="8207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ой бывает дождь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341360"/>
            <a:ext cx="8569080" cy="53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557360"/>
            <a:ext cx="820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м нравится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летний дожд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за его прохладу и свежесть, которую он несет, за его запах. Дождевые капли, вступая в реакцию с землей, начинают благоухать ароматами различных веществ, находящихся в поч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есенни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плый, ласковый и звонкий дождь не нарушает всеобщей гармонии, а лишь привносит нотку чистоты в обновление природы. Интересно, что название цветка гиацинт означает «цветок дождей» (в переводе с греческого). Он распускается после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теплых весенних дожд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и привлекает особое внимание цветов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вот поздней осенью дождь зачастую навивает тоску. Он все льет и льет не переставая! Однако, именно холодны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енние дож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подчеркивают тепло и уют собственного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1052640"/>
            <a:ext cx="864216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05264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Дождь в Португалии – это одна из уважительных причин не выходить на работу и не идти в шк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ногие люди сверяют часы по солнцу, а вот в городе Пара часы сверяют по дождю, потому что е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жеднев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ждь идет в одно и то ж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 Ботсване очень редко идут дожди, поэтому все люди здороваются, говоря слово «пула»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в переводе означает «дождь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циональная валюта в этой стране также зовется «дожд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аиланде дожди идут только в ночное врем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Человек может под дождём и остаться абсолютно сухим, если будет находиться в пустыне. Ведь на самом деле, в пустыне идут дожди, но о них просто невозможно узнать, так как капельки просто не успевают долететь до земли, потому что испаряется в горячем пустынном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В штате Огайо в городе Уайнсберг, 29 июля ежегодно обязательно идет дождь вот уже на протяжении ста л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00000" y="260280"/>
            <a:ext cx="748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есные фак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5805360"/>
            <a:ext cx="86421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от такой вот своеобразный характер дождей быв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а нашей прекрасной планет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1T18:46:33Z</dcterms:created>
  <dc:creator>1</dc:creator>
  <dc:description/>
  <dc:language>en-US</dc:language>
  <cp:lastModifiedBy>1</cp:lastModifiedBy>
  <dcterms:modified xsi:type="dcterms:W3CDTF">2012-07-06T14:56:05Z</dcterms:modified>
  <cp:revision>41</cp:revision>
  <dc:subject/>
  <dc:title>Слайд 1</dc:title>
</cp:coreProperties>
</file>