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11.gif" ContentType="image/gif"/>
  <Override PartName="/ppt/media/image7.gif" ContentType="image/gif"/>
  <Override PartName="/ppt/media/image8.gif" ContentType="image/gif"/>
  <Override PartName="/ppt/media/image9.gif" ContentType="image/gif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41F1-F48C-4171-85CA-5F4C3BB99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487D-4025-4880-9357-3120676E1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693E-F5ED-4F2B-AFE9-9CA2230BA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2EDB-69D7-4A9B-A26F-8B7A2B451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AFE4-BA15-4BFA-937D-25E1BC81C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D577-C255-45AC-B250-C44454AC4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BA02-512A-4E25-9DB0-549470B2C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7E84-CC7F-449C-8F4A-5E0CC2E05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7184-5002-46CF-A6A1-19849937D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FA49-2EA6-4774-B8CA-61B56B19C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477A-8D27-4702-9CE5-F2CF609BD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4330-0F5F-48E3-9E17-A08A0CCCD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564E4-B4AD-42AE-B0A5-411A05E91B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oazisdlyavas.ucoz.ru/photo/44" TargetMode="External"/><Relationship Id="rId3" Type="http://schemas.openxmlformats.org/officeDocument/2006/relationships/hyperlink" Target="http://galereika.net/photo/animacija/dozhd_animacija/15" TargetMode="External"/><Relationship Id="rId4" Type="http://schemas.openxmlformats.org/officeDocument/2006/relationships/hyperlink" Target="http://galereika.net/photo/animacija/dozhd_animacija/15" TargetMode="External"/><Relationship Id="rId5" Type="http://schemas.openxmlformats.org/officeDocument/2006/relationships/hyperlink" Target="http://galereika.net/photo/animacija/dozhd_animacija/15" TargetMode="External"/><Relationship Id="rId6" Type="http://schemas.openxmlformats.org/officeDocument/2006/relationships/hyperlink" Target="http://galereika.net/photo/animacija/dozhd_animacija/15" TargetMode="External"/><Relationship Id="rId7" Type="http://schemas.openxmlformats.org/officeDocument/2006/relationships/hyperlink" Target="http://galereika.net/photo/animacija/dozhd_animacija/15" TargetMode="External"/><Relationship Id="rId8" Type="http://schemas.openxmlformats.org/officeDocument/2006/relationships/hyperlink" Target="http://galereika.net/photo/animacija/dozhd_animacija/15" TargetMode="External"/><Relationship Id="rId9" Type="http://schemas.openxmlformats.org/officeDocument/2006/relationships/hyperlink" Target="http://galereika.net/photo/animacija/dozhd_animacija/15" TargetMode="External"/><Relationship Id="rId10" Type="http://schemas.openxmlformats.org/officeDocument/2006/relationships/hyperlink" Target="http://galereika.net/photo/animacija/dozhd_animacija/15" TargetMode="External"/><Relationship Id="rId11" Type="http://schemas.openxmlformats.org/officeDocument/2006/relationships/hyperlink" Target="http://galereika.net/photo/animacija/dozhd_animacija/15" TargetMode="External"/><Relationship Id="rId12" Type="http://schemas.openxmlformats.org/officeDocument/2006/relationships/hyperlink" Target="http://galereika.net/photo/animacija/dozhd_animacija/15" TargetMode="External"/><Relationship Id="rId13" Type="http://schemas.openxmlformats.org/officeDocument/2006/relationships/hyperlink" Target="http://vsyaanimaciya.ru/photo/23-2-0-0-2" TargetMode="External"/><Relationship Id="rId14" Type="http://schemas.openxmlformats.org/officeDocument/2006/relationships/image" Target="../media/image12.png"/><Relationship Id="rId1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odogde.ru/fantazii-o-dozhde/letnij-dozhd.html" TargetMode="External"/><Relationship Id="rId3" Type="http://schemas.openxmlformats.org/officeDocument/2006/relationships/hyperlink" Target="http://odogde.ru/interesnoe-o-dozhde/polza-vesennix-dozhdej.html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3708360" y="2565360"/>
            <a:ext cx="3889440" cy="155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66ff"/>
                    </a:gs>
                    <a:gs pos="100000">
                      <a:srgbClr val="ffffff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ождь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0066ff"/>
                  </a:gs>
                  <a:gs pos="100000">
                    <a:srgbClr val="ffffff"/>
                  </a:gs>
                </a:gsLst>
                <a:lin ang="135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66ff"/>
                    </a:gs>
                    <a:gs pos="100000">
                      <a:srgbClr val="ffffff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 окном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0066ff"/>
                  </a:gs>
                  <a:gs pos="100000">
                    <a:srgbClr val="ffffff"/>
                  </a:gs>
                </a:gsLst>
                <a:lin ang="135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"/>
          <p:cNvSpPr/>
          <p:nvPr/>
        </p:nvSpPr>
        <p:spPr>
          <a:xfrm>
            <a:off x="6732720" y="4581360"/>
            <a:ext cx="2158920" cy="166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оспита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БДОУ д/с №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«Теремок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Копылова И.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348000" y="6093000"/>
            <a:ext cx="30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амбов -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51280" y="333360"/>
            <a:ext cx="529272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851280" y="404280"/>
            <a:ext cx="529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еня просят и ждут, а как приду – убегают!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468360" y="3357360"/>
            <a:ext cx="8207280" cy="32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oazisdlyavas.ucoz.ru/photo/4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://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galereika.net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/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photo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/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animacija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/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dozhd_animacija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/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http://vsyaanimaciya.ru/photo/23-2-0-0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http://odogde.ru/dozhd-i-tvorchestvo/zagadki-pro-dozhd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http://odogde.ru/interesnoe-o-dozhde/udivitelnye-osadki-v-vide-dozhdya.html#more-11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835280" y="189000"/>
            <a:ext cx="54720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нтернет - ресурс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9" name="" descr="Стихи про дождь"/>
          <p:cNvPicPr/>
          <p:nvPr/>
        </p:nvPicPr>
        <p:blipFill>
          <a:blip r:embed="rId14"/>
          <a:srcRect l="0" t="0" r="3205" b="1571"/>
          <a:stretch/>
        </p:blipFill>
        <p:spPr>
          <a:xfrm>
            <a:off x="3708360" y="836640"/>
            <a:ext cx="1666800" cy="244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211640" y="189000"/>
            <a:ext cx="5041800" cy="6480000"/>
          </a:xfrm>
          <a:prstGeom prst="vertic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1341360"/>
            <a:ext cx="5010120" cy="53737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327640" y="860400"/>
            <a:ext cx="3816360" cy="599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 окна дождик гулко стукал.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апли пели: кап-кап-кап!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азбудили капли кукол.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родит Ветер-косолап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 чаще сада. Что-то ели,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Что-то липы зашумели!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апли роем загудели: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ап-кап-кап!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етру любо потолкаться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омеж елей:                           скрип-скрип-скрип!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Любо золотом кидаться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 тополей и желтых лип;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лачут быстрые капели;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Что-то липы зашумели,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Закачались, заскрипели: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крип-скрип-скрип!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С.Северный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4920" y="333360"/>
            <a:ext cx="489744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тихотворения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932360" y="2997360"/>
            <a:ext cx="4176720" cy="386064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179280" y="3068640"/>
            <a:ext cx="4608720" cy="378936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0" y="549360"/>
            <a:ext cx="385128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39640" y="3500280"/>
            <a:ext cx="3384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ёплый дождик лил да лил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ело делал, не шалил :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ымыл крышу у скворечни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ымыл ягоды-черешни..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отянули мы ладошки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ождик их помыл немножко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. Босев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95280" y="189000"/>
            <a:ext cx="4392720" cy="32954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439240" y="3501000"/>
            <a:ext cx="3669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кнет ежик, мокнет птичка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кнет в поле электpичка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кнyт ветки и соседки: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 yспели до беседки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кнyт зонтики и шляпы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кнyт чьи-то мамы, папы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кнyт лавочки, огpады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ишь лягyшки очень pады: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лyжах скачyт, песни пляшyт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зеленым флагом машу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6012000" y="189000"/>
            <a:ext cx="2376360" cy="3168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50920" y="476280"/>
            <a:ext cx="3313080" cy="597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708360" y="404640"/>
            <a:ext cx="5111640" cy="20307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24000" y="549360"/>
            <a:ext cx="3240000" cy="572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о просёлочной дороге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Топал дождик длинноногий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Барабанил, шелестел: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 У меня так много дел!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Я полью всё по порядку,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Лес, поля, сады и грядку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Лужи сделаю большие,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Глубже моря, речки шире!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Окна вымою и крыши..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А потом пошёл потише,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ап,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ап,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ап..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и перестал,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отому что дождь устал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. Кулиш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708360" y="2637000"/>
            <a:ext cx="5111640" cy="3867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79280" y="4221000"/>
            <a:ext cx="3384720" cy="23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78560" y="4294440"/>
            <a:ext cx="3376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н идет, а мы бежим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н догонит все равно!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дом укрыться мы спешим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удет к нам стучать в окно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 по крыше тук да тук!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т, не впустим, милый друг!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ответ: дождь)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2195640" y="260280"/>
            <a:ext cx="46083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гадк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5" name=""/>
          <p:cNvSpPr/>
          <p:nvPr/>
        </p:nvSpPr>
        <p:spPr>
          <a:xfrm>
            <a:off x="5867280" y="1125360"/>
            <a:ext cx="3024360" cy="151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одил, бродил по крыше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о громко, то потише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одил, бродил, постукивал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озяев убаюкива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79280" y="1052640"/>
            <a:ext cx="2952720" cy="143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рянул дробно с высоты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мыл деревья и цветы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 помчался во всю прыть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 назад не вороти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724360" y="4221000"/>
            <a:ext cx="3240360" cy="23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то всю ночь по крыше бьёт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 постукивает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 бормочет, и поёт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баюкивает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32000" y="1557360"/>
            <a:ext cx="2735280" cy="151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очит поле, лес и луг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ород, дом и все вокруг!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блаков и туч он вождь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ы же знаешь, это -…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3419640" y="2997360"/>
            <a:ext cx="2320920" cy="3097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84360" y="404640"/>
            <a:ext cx="3166920" cy="244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еребристый занавес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 неба вдруг спустился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еребристый занавес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плями пролился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ронила занавес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учка, представляешь?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то за чудный занавес?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ожет, угадаешь?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003640" y="4149720"/>
            <a:ext cx="3816360" cy="230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 неба пришёл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землю ушёл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Ждали, звали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 показался -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се прочь побежали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то зонтик забыл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ого … намочил!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55640" y="4365720"/>
            <a:ext cx="3095640" cy="194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 тучки, как из решета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п-кап – капает вода!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ды ей цветы и птички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то же это за водичк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932360" y="404640"/>
            <a:ext cx="3887640" cy="151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 пешеход, а идёт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окнут люди у ворот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овит дворник его в кадку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чень трудная загадка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 rot="822000">
            <a:off x="5651280" y="2204640"/>
            <a:ext cx="3087720" cy="50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ождь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635280" y="2349360"/>
            <a:ext cx="2286000" cy="30481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 txBox="1"/>
          <p:nvPr/>
        </p:nvSpPr>
        <p:spPr>
          <a:xfrm rot="822000">
            <a:off x="394920" y="3284280"/>
            <a:ext cx="3087720" cy="50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ождь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4067280" y="260280"/>
            <a:ext cx="5076720" cy="6048360"/>
          </a:xfrm>
          <a:prstGeom prst="vertic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077440" y="1244520"/>
            <a:ext cx="3370680" cy="43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00"/>
                </a:solidFill>
                <a:uFillTx/>
                <a:latin typeface="Times New Roman"/>
              </a:rPr>
              <a:t>Сколько знаю я дождей?</a:t>
            </a: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Сосчитайте поскорей: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Дождик с ветром,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Дождь грибной,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Дождик с радугой-дугой,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Дождик с солнцем,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Дождик с градом,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Дождик с рыжим листопадом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3825720" cy="5616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468360" y="333360"/>
            <a:ext cx="82072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акой бывает дождь?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1" name=""/>
          <p:cNvSpPr/>
          <p:nvPr/>
        </p:nvSpPr>
        <p:spPr>
          <a:xfrm>
            <a:off x="324000" y="1341360"/>
            <a:ext cx="8569080" cy="532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11280" y="1557360"/>
            <a:ext cx="82087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ам нравится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летний дожд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за его прохладу и свежесть, которую он несет, за его запах. Дождевые капли, вступая в реакцию с землей, начинают благоухать ароматами различных веществ, находящихся в почв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Весенний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теплый, ласковый и звонкий дождь не нарушает всеобщей гармонии, а лишь привносит нотку чистоты в обновление природы. Интересно, что название цветка гиацинт означает «цветок дождей» (в переводе с греческого). Он распускается после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теплых весенних дождей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и привлекает особое внимание цветовод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А вот поздней осенью дождь зачастую навивает тоску. Он все льет и льет не переставая! Однако, именно холодные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осенние дожди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подчеркивают тепло и уют собственного до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50920" y="1052640"/>
            <a:ext cx="8642160" cy="468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39640" y="1052640"/>
            <a:ext cx="82803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Дождь в Португалии – это одна из уважительных причин не выходить на работу и не идти в школ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Многие люди сверяют часы по солнцу, а вот в городе Пара часы сверяют по дождю, потому что е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жедневно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дождь идет в одно и то же врем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В Ботсване очень редко идут дожди, поэтому все люди здороваются, говоря слово «пула»,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что в переводе означает «дождь»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Национальная валюта в этой стране также зовется «дождем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Таиланде дожди идут только в ночное время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Человек может под дождём и остаться абсолютно сухим, если будет находиться в пустыне. Ведь на самом деле, в пустыне идут дожди, но о них просто невозможно узнать, так как капельки просто не успевают долететь до земли, потому что испаряется в горячем пустынном воздух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В штате Огайо в городе Уайнсберг, 29 июля ежегодно обязательно идет дождь вот уже на протяжении ста лет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900000" y="260280"/>
            <a:ext cx="74883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нтересные факт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6" name=""/>
          <p:cNvSpPr/>
          <p:nvPr/>
        </p:nvSpPr>
        <p:spPr>
          <a:xfrm>
            <a:off x="250920" y="5805360"/>
            <a:ext cx="8642160" cy="7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Вот такой вот своеобразный характер дождей бывает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на нашей прекрасной планете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01T18:46:33Z</dcterms:created>
  <dc:creator>1</dc:creator>
  <dc:description/>
  <dc:language>en-US</dc:language>
  <cp:lastModifiedBy>1</cp:lastModifiedBy>
  <dcterms:modified xsi:type="dcterms:W3CDTF">2012-07-06T14:56:05Z</dcterms:modified>
  <cp:revision>41</cp:revision>
  <dc:subject/>
  <dc:title>Слайд 1</dc:title>
</cp:coreProperties>
</file>