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3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5B689-6FFA-4DF7-96BD-02FAA9E660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B7A22-8426-4111-BA72-6B57647582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99B58-FE88-4440-9B35-54263BF70C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5FE7A-4842-4D4D-8AB7-77B65863BE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218E5-344B-4D7E-B65C-03B0A4E3CB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9E5-DE1B-4647-BFD9-EB563CBF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D63-B0A0-4C59-B948-0C406EF7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713-66BC-4ACE-BC55-294FB0B0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FA1-9843-4E48-AC80-C68D4BFE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CB5-2381-4A71-815E-BD02685F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475-0845-4D95-9BFC-81F0F804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D38-EC6D-4F96-8070-AE26A7B2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B5D-ABB7-427D-93E3-6088841D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C87-6F6B-47B2-B3AB-6862D075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545-06C2-42DC-81DE-DF4537E0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0B1-39C0-46F7-B066-2DC590DA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04D-1FBC-430E-ADCF-3C16D59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B3F53B-52BE-4AEC-88EA-4A8C3A4A31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115920"/>
            <a:ext cx="1127772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896760" y="708120"/>
            <a:ext cx="828684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 без меня предметы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ишь названи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 я приду 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сё в действие придё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тит ракет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юди строят здани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Цветут сад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 хлеб в полях растё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см13.gif"/>
          <p:cNvPicPr/>
          <p:nvPr/>
        </p:nvPicPr>
        <p:blipFill>
          <a:blip r:embed="rId1"/>
          <a:stretch/>
        </p:blipFill>
        <p:spPr>
          <a:xfrm>
            <a:off x="968400" y="636480"/>
            <a:ext cx="1714320" cy="2143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325680" y="1708200"/>
            <a:ext cx="614376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пришёл из школ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учу глаг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е их выучить – пустяк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Рисунок 3" descr="см48.gif"/>
          <p:cNvPicPr/>
          <p:nvPr/>
        </p:nvPicPr>
        <p:blipFill>
          <a:blip r:embed="rId2"/>
          <a:stretch/>
        </p:blipFill>
        <p:spPr>
          <a:xfrm>
            <a:off x="1182600" y="3137040"/>
            <a:ext cx="1181160" cy="1238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см23.gif"/>
          <p:cNvPicPr/>
          <p:nvPr/>
        </p:nvPicPr>
        <p:blipFill>
          <a:blip r:embed="rId3"/>
          <a:stretch/>
        </p:blipFill>
        <p:spPr>
          <a:xfrm>
            <a:off x="3040200" y="4065480"/>
            <a:ext cx="1276200" cy="7905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см24.gif"/>
          <p:cNvPicPr/>
          <p:nvPr/>
        </p:nvPicPr>
        <p:blipFill>
          <a:blip r:embed="rId4"/>
          <a:stretch/>
        </p:blipFill>
        <p:spPr>
          <a:xfrm>
            <a:off x="5111640" y="4422600"/>
            <a:ext cx="105732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см10.gif"/>
          <p:cNvPicPr/>
          <p:nvPr/>
        </p:nvPicPr>
        <p:blipFill>
          <a:blip r:embed="rId5"/>
          <a:stretch/>
        </p:blipFill>
        <p:spPr>
          <a:xfrm>
            <a:off x="7112160" y="5137200"/>
            <a:ext cx="1333440" cy="11905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7" descr=""/>
          <p:cNvPicPr/>
          <p:nvPr/>
        </p:nvPicPr>
        <p:blipFill>
          <a:blip r:embed="rId6"/>
          <a:stretch/>
        </p:blipFill>
        <p:spPr>
          <a:xfrm>
            <a:off x="3267000" y="146160"/>
            <a:ext cx="51148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3" descr=""/>
          <p:cNvPicPr/>
          <p:nvPr/>
        </p:nvPicPr>
        <p:blipFill>
          <a:blip r:embed="rId2"/>
          <a:stretch/>
        </p:blipFill>
        <p:spPr>
          <a:xfrm>
            <a:off x="407880" y="1859040"/>
            <a:ext cx="9064800" cy="534024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1468440" y="351000"/>
            <a:ext cx="75722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етафор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2322360" y="1938240"/>
            <a:ext cx="5864400" cy="4992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825560" y="779400"/>
            <a:ext cx="72867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Синоним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1" descr=""/>
          <p:cNvPicPr/>
          <p:nvPr/>
        </p:nvPicPr>
        <p:blipFill>
          <a:blip r:embed="rId1"/>
          <a:stretch/>
        </p:blipFill>
        <p:spPr>
          <a:xfrm>
            <a:off x="933480" y="2036880"/>
            <a:ext cx="8113680" cy="4535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54240" y="636480"/>
            <a:ext cx="72151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Олицетворе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536400" y="2712960"/>
            <a:ext cx="8869680" cy="3730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2325600" y="1351080"/>
            <a:ext cx="56642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Антоним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13:29Z</dcterms:created>
  <dc:creator/>
  <dc:description/>
  <dc:language>en-US</dc:language>
  <cp:lastModifiedBy>1</cp:lastModifiedBy>
  <dcterms:modified xsi:type="dcterms:W3CDTF">2012-07-02T12:44:06Z</dcterms:modified>
  <cp:revision>7</cp:revision>
  <dc:subject/>
  <dc:title>Слайд 1</dc:title>
</cp:coreProperties>
</file>