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0F95B-391E-436F-BB30-B69AE8192C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5EFAC-9FFA-4E89-943B-FDDC594C09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6BD9B-5B68-4488-B840-9874EDEB10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C82F9-D952-4991-89A5-EAB907D84F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8CE01-87BA-4A21-8F8F-DF0C09E59B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418-F240-4A3F-8D85-9AEBBE52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55B-2955-4483-875A-C1542F08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7E6-3A6A-45CC-BC9F-3FA0678D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7EA-8D20-4DD5-A8AF-EA74F4FC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819-76C4-48B8-9142-3256BD52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67A-331E-49FC-AF3A-FB01C72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C8A-A395-436A-8737-6FACE7FF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C7D-0BD3-4F5D-8A4F-97099542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645-6E6F-4525-9DDF-F9F1C56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B57-2F06-4D56-BADD-BBD36F8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0E7-4C54-4CED-B73B-E407FC5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373-85E7-4077-AF5A-148A56C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9F6B5E-D07C-45C9-ADE0-7E5DB4BE5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115920"/>
            <a:ext cx="112777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896760" y="708120"/>
            <a:ext cx="828684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без меня предмет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ишь назва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 я приду 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сё в действие придё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етит раке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юди строят здан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Цветут сад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 хлеб в полях растё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см13.gif"/>
          <p:cNvPicPr/>
          <p:nvPr/>
        </p:nvPicPr>
        <p:blipFill>
          <a:blip r:embed="rId1"/>
          <a:stretch/>
        </p:blipFill>
        <p:spPr>
          <a:xfrm>
            <a:off x="968400" y="636480"/>
            <a:ext cx="1714320" cy="2143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325680" y="1708200"/>
            <a:ext cx="61437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пришёл из школы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учу глаг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 их выучить – пустя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Рисунок 3" descr="см48.gif"/>
          <p:cNvPicPr/>
          <p:nvPr/>
        </p:nvPicPr>
        <p:blipFill>
          <a:blip r:embed="rId2"/>
          <a:stretch/>
        </p:blipFill>
        <p:spPr>
          <a:xfrm>
            <a:off x="1182600" y="3137040"/>
            <a:ext cx="1181160" cy="1238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см23.gif"/>
          <p:cNvPicPr/>
          <p:nvPr/>
        </p:nvPicPr>
        <p:blipFill>
          <a:blip r:embed="rId3"/>
          <a:stretch/>
        </p:blipFill>
        <p:spPr>
          <a:xfrm>
            <a:off x="3040200" y="4065480"/>
            <a:ext cx="1276200" cy="7905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см24.gif"/>
          <p:cNvPicPr/>
          <p:nvPr/>
        </p:nvPicPr>
        <p:blipFill>
          <a:blip r:embed="rId4"/>
          <a:stretch/>
        </p:blipFill>
        <p:spPr>
          <a:xfrm>
            <a:off x="5111640" y="4422600"/>
            <a:ext cx="10573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см10.gif"/>
          <p:cNvPicPr/>
          <p:nvPr/>
        </p:nvPicPr>
        <p:blipFill>
          <a:blip r:embed="rId5"/>
          <a:stretch/>
        </p:blipFill>
        <p:spPr>
          <a:xfrm>
            <a:off x="7112160" y="5137200"/>
            <a:ext cx="1333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7" descr=""/>
          <p:cNvPicPr/>
          <p:nvPr/>
        </p:nvPicPr>
        <p:blipFill>
          <a:blip r:embed="rId6"/>
          <a:stretch/>
        </p:blipFill>
        <p:spPr>
          <a:xfrm>
            <a:off x="3267000" y="146160"/>
            <a:ext cx="51148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3" descr=""/>
          <p:cNvPicPr/>
          <p:nvPr/>
        </p:nvPicPr>
        <p:blipFill>
          <a:blip r:embed="rId2"/>
          <a:stretch/>
        </p:blipFill>
        <p:spPr>
          <a:xfrm>
            <a:off x="407880" y="1859040"/>
            <a:ext cx="9064800" cy="534024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468440" y="351000"/>
            <a:ext cx="75722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2322360" y="1938240"/>
            <a:ext cx="5864400" cy="4992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825560" y="779400"/>
            <a:ext cx="72867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Прямоугольник 1" descr=""/>
          <p:cNvPicPr/>
          <p:nvPr/>
        </p:nvPicPr>
        <p:blipFill>
          <a:blip r:embed="rId1"/>
          <a:stretch/>
        </p:blipFill>
        <p:spPr>
          <a:xfrm>
            <a:off x="933480" y="2036880"/>
            <a:ext cx="8113680" cy="453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54240" y="636480"/>
            <a:ext cx="72151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Олицетворе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2712960"/>
            <a:ext cx="8869680" cy="3730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2325600" y="1351080"/>
            <a:ext cx="5664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нтоним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1</cp:lastModifiedBy>
  <dcterms:modified xsi:type="dcterms:W3CDTF">2012-07-02T12:44:06Z</dcterms:modified>
  <cp:revision>7</cp:revision>
  <dc:subject/>
  <dc:title>Слайд 1</dc:title>
</cp:coreProperties>
</file>