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1BC15-C377-478F-8610-1EF268F3B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5BE10-C6D5-440D-A0B4-51FE3E565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3B300-8AFC-45B9-97F0-B5322C6B4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62677-BED3-41A0-989B-717B00DCC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B4B3A8-16CC-4BDC-AF65-8E23801C9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8E3752-DCFD-42EF-BB99-D1B3C5879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8F194D-B9F8-4DD1-A100-624110EA6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428F5B-70B3-4D57-9DF2-E4868B78D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6FF095-589A-4BE7-B350-1B0ECD2AC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33A075-F3FB-48BB-8341-3CAE0F1ED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72AF1C-B357-41A3-BE4D-8E0096C2D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BA4B7-1A12-4AEE-B5F0-7EDC6E94E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BBEEC7-3F0F-4044-BAA6-A94B5A120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923CB0-F598-4A18-A086-A5998F6FD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1ED768-65D7-4C19-A7B8-E7C10CDD6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F573B3-A50A-48EF-920C-5EAA31754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56E39B-2C4E-41BA-95DE-60245AB99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B2EB8-FCA6-4A0E-8AA7-B9512FD3B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4D86B-3A05-4490-9F29-548176497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6F2C7-6508-4ECA-9084-57D451AD8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34464-1224-4158-AF71-8AAB4A30F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73C16-2B51-43AB-BFA3-A535E6240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03F85-E5CA-468E-A8BF-7B0A04FE1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FB465-B23A-4DE0-850A-A5071B1FF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322F0-9F17-48AD-9872-3FA0B956650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>
              <a:gd name="textAreaLeft" fmla="*/ 0 w 1440"/>
              <a:gd name="textAreaRight" fmla="*/ 1800 w 1440"/>
              <a:gd name="textAreaTop" fmla="*/ 0 h 3035160"/>
              <a:gd name="textAreaBottom" fmla="*/ 3035520 h 3035160"/>
            </a:gdLst>
            <a:ahLst/>
            <a:rect l="textAreaLeft" t="textAreaTop" r="textAreaRight" b="textAreaBottom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3DF70-D52C-4B9E-9317-1DB0D12DB1A5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Охрана гидросферы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285800" y="4572000"/>
            <a:ext cx="44290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plit dir="in" orient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В этом случае для обеспечения надлежащей осадки и безопасности плавания танки судна наполняются балластной водой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Picture 4" descr="i[51]"/>
          <p:cNvPicPr/>
          <p:nvPr/>
        </p:nvPicPr>
        <p:blipFill>
          <a:blip r:embed="rId1"/>
          <a:stretch/>
        </p:blipFill>
        <p:spPr>
          <a:xfrm>
            <a:off x="4648320" y="2360520"/>
            <a:ext cx="4038480" cy="3202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Эта вода загрязняется нефтяными остатками, а перед погрузкой нефти и нефтепродуктов выливается в море.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Picture 4" descr="i[49]"/>
          <p:cNvPicPr/>
          <p:nvPr/>
        </p:nvPicPr>
        <p:blipFill>
          <a:blip r:embed="rId1"/>
          <a:stretch/>
        </p:blipFill>
        <p:spPr>
          <a:xfrm>
            <a:off x="5354640" y="2133720"/>
            <a:ext cx="230832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з общего грузооборота мирового морского флота в настоящее время 49% падает на нефть и ее производны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7" name="Picture 4" descr="пипиип"/>
          <p:cNvPicPr/>
          <p:nvPr/>
        </p:nvPicPr>
        <p:blipFill>
          <a:blip r:embed="rId1"/>
          <a:stretch/>
        </p:blipFill>
        <p:spPr>
          <a:xfrm>
            <a:off x="4859280" y="2349360"/>
            <a:ext cx="3238560" cy="217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Ежегодно около 6000 танкеров международных флотилий транспортируют 3 млрд. т нефт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" name="Picture 4" descr="i[38]"/>
          <p:cNvPicPr/>
          <p:nvPr/>
        </p:nvPicPr>
        <p:blipFill>
          <a:blip r:embed="rId1"/>
          <a:stretch/>
        </p:blipFill>
        <p:spPr>
          <a:xfrm>
            <a:off x="5048280" y="1905120"/>
            <a:ext cx="2444760" cy="31082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 мере роста перевозок нефтегрузов все большее количество нефти стало попадать в океан при авариях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3" name="Picture 4" descr="i[41]"/>
          <p:cNvPicPr/>
          <p:nvPr/>
        </p:nvPicPr>
        <p:blipFill>
          <a:blip r:embed="rId1"/>
          <a:stretch/>
        </p:blipFill>
        <p:spPr>
          <a:xfrm>
            <a:off x="4648320" y="2535120"/>
            <a:ext cx="4038480" cy="285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громный ущерб океану нанесло крушение американского супертанкера «Торри Каньон» у юго-западного побережья Англии в марте 1967 года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6" name="Picture 4" descr="i[50]"/>
          <p:cNvPicPr/>
          <p:nvPr/>
        </p:nvPicPr>
        <p:blipFill>
          <a:blip r:embed="rId1"/>
          <a:stretch/>
        </p:blipFill>
        <p:spPr>
          <a:xfrm>
            <a:off x="4648320" y="2502000"/>
            <a:ext cx="4038480" cy="29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120 тысяч т нефти вылилось на воду и было подожжено зажигательными бомбами с самолето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9" name="Picture 4" descr="i[47]"/>
          <p:cNvPicPr/>
          <p:nvPr/>
        </p:nvPicPr>
        <p:blipFill>
          <a:blip r:embed="rId1"/>
          <a:stretch/>
        </p:blipFill>
        <p:spPr>
          <a:xfrm>
            <a:off x="4648320" y="2065320"/>
            <a:ext cx="4038480" cy="37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0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За десятилетие после катастрофы танкера «Торри Канон» в морях и океанах погибло более 750 крупных танкеро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2" name="Picture 4" descr="i[39]"/>
          <p:cNvPicPr/>
          <p:nvPr/>
        </p:nvPicPr>
        <p:blipFill>
          <a:blip r:embed="rId1"/>
          <a:stretch/>
        </p:blipFill>
        <p:spPr>
          <a:xfrm>
            <a:off x="4648320" y="2689200"/>
            <a:ext cx="3524040" cy="22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Большинство этих крушений сопровождалось массовыми выбросами нефти и нефтепродуктов в море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5" name="Picture 4" descr="i[40]"/>
          <p:cNvPicPr/>
          <p:nvPr/>
        </p:nvPicPr>
        <p:blipFill>
          <a:blip r:embed="rId1"/>
          <a:stretch/>
        </p:blipFill>
        <p:spPr>
          <a:xfrm>
            <a:off x="5076720" y="2133720"/>
            <a:ext cx="3452760" cy="25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1978 году у французских берегов снова произошла катастрофа, еще более значительная по последствиям, чем в 1967 году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8" name="Picture 4" descr="пппвпвяпвпв"/>
          <p:cNvPicPr/>
          <p:nvPr/>
        </p:nvPicPr>
        <p:blipFill>
          <a:blip r:embed="rId1"/>
          <a:stretch/>
        </p:blipFill>
        <p:spPr>
          <a:xfrm>
            <a:off x="4643280" y="2060640"/>
            <a:ext cx="3168720" cy="29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Загрязнение океанов и морей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Ежегодно в Мировой океан попадает более 10 млн. т нефти и до 20% его площади уже покрыты нефтяной пленкой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7" name="Picture 4" descr="i[33]"/>
          <p:cNvPicPr/>
          <p:nvPr/>
        </p:nvPicPr>
        <p:blipFill>
          <a:blip r:embed="rId1"/>
          <a:stretch/>
        </p:blipFill>
        <p:spPr>
          <a:xfrm>
            <a:off x="4648320" y="2454120"/>
            <a:ext cx="4038480" cy="301644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2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Здесь в шторм разбился американский супертанкер «Амоно Кодис». Из судна вылилось более 220 тыс т нефти, покрыв площадь 3,5 тыс. кв. км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1" name="Picture 4" descr="i[43]"/>
          <p:cNvPicPr/>
          <p:nvPr/>
        </p:nvPicPr>
        <p:blipFill>
          <a:blip r:embed="rId1"/>
          <a:stretch/>
        </p:blipFill>
        <p:spPr>
          <a:xfrm>
            <a:off x="4648320" y="2441520"/>
            <a:ext cx="4038480" cy="30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Был нанесен огромный ущерб рыболовству, рыбоводству, устричным «плантациям», всем морским обитателям этого района. На протяжении 180 км. побережье покрылось черным траурным «крепом»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4" name="Picture 4" descr="пппа"/>
          <p:cNvPicPr/>
          <p:nvPr/>
        </p:nvPicPr>
        <p:blipFill>
          <a:blip r:embed="rId1"/>
          <a:stretch/>
        </p:blipFill>
        <p:spPr>
          <a:xfrm>
            <a:off x="4648320" y="2629080"/>
            <a:ext cx="4038480" cy="266508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1989 году авария танкера «Валдиз» вблизи побережья Аляски стала крупнейшей экологической катастрофой подобного рода в истории США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7" name="Picture 4" descr="i[72]"/>
          <p:cNvPicPr/>
          <p:nvPr/>
        </p:nvPicPr>
        <p:blipFill>
          <a:blip r:embed="rId1"/>
          <a:stretch/>
        </p:blipFill>
        <p:spPr>
          <a:xfrm>
            <a:off x="4648320" y="2346480"/>
            <a:ext cx="3236760" cy="25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громный, с полкилометра длиной, танкер сел на мель примерно в 25 милях от берега. Тогда в море вылилось около 40 тыс. т нефти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0" name="Picture 4" descr="жжээж"/>
          <p:cNvPicPr/>
          <p:nvPr/>
        </p:nvPicPr>
        <p:blipFill>
          <a:blip r:embed="rId1"/>
          <a:stretch/>
        </p:blipFill>
        <p:spPr>
          <a:xfrm>
            <a:off x="4648320" y="2441520"/>
            <a:ext cx="3524040" cy="265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громное нефтяное пятно растеклось в радиусе 50 миль от места аварии, покрыв плотной пленкой пространство 80 кв. км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3" name="Picture 4" descr="i[92]"/>
          <p:cNvPicPr/>
          <p:nvPr/>
        </p:nvPicPr>
        <p:blipFill>
          <a:blip r:embed="rId1"/>
          <a:stretch/>
        </p:blipFill>
        <p:spPr>
          <a:xfrm>
            <a:off x="5003640" y="2349360"/>
            <a:ext cx="2997360" cy="239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Были отравлены самые чистые и богатые фауной прибрежные районы Северной Америк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6" name="Picture 4" descr="i[84]"/>
          <p:cNvPicPr/>
          <p:nvPr/>
        </p:nvPicPr>
        <p:blipFill>
          <a:blip r:embed="rId1"/>
          <a:stretch/>
        </p:blipFill>
        <p:spPr>
          <a:xfrm>
            <a:off x="4859280" y="2060640"/>
            <a:ext cx="323712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ля предотвращения подобных катастроф разрабатываются двухкорпусные танкеры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9" name="Picture 4" descr="рпа"/>
          <p:cNvPicPr/>
          <p:nvPr/>
        </p:nvPicPr>
        <p:blipFill>
          <a:blip r:embed="rId1"/>
          <a:stretch/>
        </p:blipFill>
        <p:spPr>
          <a:xfrm>
            <a:off x="5219640" y="2133720"/>
            <a:ext cx="323712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6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и аварии, если будет поврежден один корпус, второй предотвратит попадание нефти в мор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2" name="Picture 4" descr="i[63]"/>
          <p:cNvPicPr/>
          <p:nvPr/>
        </p:nvPicPr>
        <p:blipFill>
          <a:blip r:embed="rId1"/>
          <a:stretch/>
        </p:blipFill>
        <p:spPr>
          <a:xfrm>
            <a:off x="5724360" y="2349360"/>
            <a:ext cx="2448000" cy="18446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898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 первую очередь это связано с тем, что добыча нефти и газа в Мировом океане стала важнейшим компонентом нефтегазового комплекса. В 1993 году в океане добыто 850 млн. т нефти (почти 30% мировой добычи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Picture 4" descr="оаог"/>
          <p:cNvPicPr/>
          <p:nvPr/>
        </p:nvPicPr>
        <p:blipFill>
          <a:blip r:embed="rId1"/>
          <a:stretch/>
        </p:blipFill>
        <p:spPr>
          <a:xfrm>
            <a:off x="5148360" y="2565360"/>
            <a:ext cx="3192480" cy="24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мире пробурено около 2500 скважин, из них 800 в США, 540 - в Юго-Восточной Азии, 400 - в Северном море, 150 - в Персидском заливе. Эти скважины пробурены на глубинах до 900 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Picture 4" descr="i[42]"/>
          <p:cNvPicPr/>
          <p:nvPr/>
        </p:nvPicPr>
        <p:blipFill>
          <a:blip r:embed="rId1"/>
          <a:stretch/>
        </p:blipFill>
        <p:spPr>
          <a:xfrm>
            <a:off x="5148360" y="2205000"/>
            <a:ext cx="2963880" cy="222264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Загрязнение гидросферы водным транспортом происходит по двум каналам. Во-первых, морские и речные суда загрязняют ее отходами, получаемыми в результате эксплуатационной деятельности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Picture 4" descr="рттррчт"/>
          <p:cNvPicPr/>
          <p:nvPr/>
        </p:nvPicPr>
        <p:blipFill>
          <a:blip r:embed="rId1"/>
          <a:stretch/>
        </p:blipFill>
        <p:spPr>
          <a:xfrm>
            <a:off x="5148360" y="2781360"/>
            <a:ext cx="3087720" cy="221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и, во-вторых, выбросами в случае аварий токсичных грузов, большей частью нефти и нефтепродуктов.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Picture 4" descr="ооеоы"/>
          <p:cNvPicPr/>
          <p:nvPr/>
        </p:nvPicPr>
        <p:blipFill>
          <a:blip r:embed="rId1"/>
          <a:stretch/>
        </p:blipFill>
        <p:spPr>
          <a:xfrm>
            <a:off x="4954680" y="1905120"/>
            <a:ext cx="2946240" cy="353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Нефть и нефтепродукты являются главными загрязнителями водного бассейна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Picture 4" descr="ждлор"/>
          <p:cNvPicPr/>
          <p:nvPr/>
        </p:nvPicPr>
        <p:blipFill>
          <a:blip r:embed="rId1"/>
          <a:stretch/>
        </p:blipFill>
        <p:spPr>
          <a:xfrm>
            <a:off x="4648320" y="2616120"/>
            <a:ext cx="4038480" cy="26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На танкерах, перевозящих нефть и ее производные, перед каждой очередной загрузкой, как правило, промываются емкости (танки) для удаления остатков ранее перевезенного груза.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Picture 4" descr="i[48]"/>
          <p:cNvPicPr/>
          <p:nvPr/>
        </p:nvPicPr>
        <p:blipFill>
          <a:blip r:embed="rId1"/>
          <a:stretch/>
        </p:blipFill>
        <p:spPr>
          <a:xfrm>
            <a:off x="5796000" y="2421000"/>
            <a:ext cx="1893960" cy="2562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. Промывочная вода, а с ней и остатки груза обычно сбрасываются за борт. Кроме того, после доставки нефтегрузов в порты назначения танкеры чаще всего направляются к пункту новой погрузки порожними.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8" name="Picture 4" descr="i[44]"/>
          <p:cNvPicPr/>
          <p:nvPr/>
        </p:nvPicPr>
        <p:blipFill>
          <a:blip r:embed="rId1"/>
          <a:stretch/>
        </p:blipFill>
        <p:spPr>
          <a:xfrm>
            <a:off x="5724360" y="2637000"/>
            <a:ext cx="2005200" cy="257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1T10:59:09Z</dcterms:created>
  <dc:creator>Настя</dc:creator>
  <dc:description/>
  <dc:language>en-US</dc:language>
  <cp:lastModifiedBy>Sea</cp:lastModifiedBy>
  <dcterms:modified xsi:type="dcterms:W3CDTF">2012-07-06T02:35:59Z</dcterms:modified>
  <cp:revision>4</cp:revision>
  <dc:subject/>
  <dc:title>Охрана гидросферы</dc:title>
</cp:coreProperties>
</file>