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8B7-2061-40E8-8F94-CDE58760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C57-9BFF-4C62-AB1B-0B7C47E9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06D-D9B6-49F5-BC60-578548BD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6D1-99B5-4503-8B35-7FD2E70A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B7020-CC63-4DE9-B704-A87D54A0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13B72-8625-4C4E-AA3D-0FAB036C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CB141-6951-422F-9764-393A4271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72B63-3486-43B4-9551-B9EC27E9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F8F9E-DB97-414B-9D83-8C2D8BF7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473C9-C2DE-48F3-AF29-3B23BC0C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2CC15-5578-4D43-9E7C-D738FC6C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907-88EB-4DEE-87C8-468CE7B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5E5EA-C41B-4ECD-867C-E081913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A5D8-9150-44EC-BF43-894C08DA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1D2DA-29A7-4C9C-B672-6A87628F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67BD-AB4E-4FD9-82D6-BE5E2C04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D4DE-D2B4-40A1-B0AB-27A567D7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701-547B-4C99-B10E-6B833CE0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B7A-EF7C-4E0F-AA44-A83F43F0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4F0-C180-420E-9C73-0AECD4B2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C8D5-3745-4C1B-926D-186A997C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86-694B-4C7F-89CA-6249D41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7FC-BD66-4822-9F26-C8398B5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4A2-7316-4B35-91A9-DFFA870D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8CD-6FFB-41AB-B2F6-6ECB2EAB0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74C-6A49-44AD-BF01-964FDC37EF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храна гидросфе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5800" y="4572000"/>
            <a:ext cx="4429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случае для обеспечения надлежащей осадки и безопасности плавания танки судна наполняются балластной вод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i[51]"/>
          <p:cNvPicPr/>
          <p:nvPr/>
        </p:nvPicPr>
        <p:blipFill>
          <a:blip r:embed="rId1"/>
          <a:stretch/>
        </p:blipFill>
        <p:spPr>
          <a:xfrm>
            <a:off x="4648320" y="2360520"/>
            <a:ext cx="403848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а вода загрязняется нефтяными остатками, а перед погрузкой нефти и нефтепродуктов выливается в море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i[49]"/>
          <p:cNvPicPr/>
          <p:nvPr/>
        </p:nvPicPr>
        <p:blipFill>
          <a:blip r:embed="rId1"/>
          <a:stretch/>
        </p:blipFill>
        <p:spPr>
          <a:xfrm>
            <a:off x="5354640" y="2133720"/>
            <a:ext cx="2308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общего грузооборота мирового морского флота в настоящее время 49% падает на нефть и ее производны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пипиип"/>
          <p:cNvPicPr/>
          <p:nvPr/>
        </p:nvPicPr>
        <p:blipFill>
          <a:blip r:embed="rId1"/>
          <a:stretch/>
        </p:blipFill>
        <p:spPr>
          <a:xfrm>
            <a:off x="4859280" y="2349360"/>
            <a:ext cx="32385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жегодно около 6000 танкеров международных флотилий транспортируют 3 млрд. т неф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i[38]"/>
          <p:cNvPicPr/>
          <p:nvPr/>
        </p:nvPicPr>
        <p:blipFill>
          <a:blip r:embed="rId1"/>
          <a:stretch/>
        </p:blipFill>
        <p:spPr>
          <a:xfrm>
            <a:off x="5048280" y="1905120"/>
            <a:ext cx="2444760" cy="310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мере роста перевозок нефтегрузов все большее количество нефти стало попадать в океан при авар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i[41]"/>
          <p:cNvPicPr/>
          <p:nvPr/>
        </p:nvPicPr>
        <p:blipFill>
          <a:blip r:embed="rId1"/>
          <a:stretch/>
        </p:blipFill>
        <p:spPr>
          <a:xfrm>
            <a:off x="4648320" y="2535120"/>
            <a:ext cx="40384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ый ущерб океану нанесло крушение американского супертанкера «Торри Каньон» у юго-западного побережья Англии в марте 1967 г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i[50]"/>
          <p:cNvPicPr/>
          <p:nvPr/>
        </p:nvPicPr>
        <p:blipFill>
          <a:blip r:embed="rId1"/>
          <a:stretch/>
        </p:blipFill>
        <p:spPr>
          <a:xfrm>
            <a:off x="4648320" y="2502000"/>
            <a:ext cx="40384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0 тысяч т нефти вылилось на воду и было подожжено зажигательными бомбами с самоле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i[47]"/>
          <p:cNvPicPr/>
          <p:nvPr/>
        </p:nvPicPr>
        <p:blipFill>
          <a:blip r:embed="rId1"/>
          <a:stretch/>
        </p:blipFill>
        <p:spPr>
          <a:xfrm>
            <a:off x="4648320" y="2065320"/>
            <a:ext cx="40384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 десятилетие после катастрофы танкера «Торри Канон» в морях и океанах погибло более 750 крупных танк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i[39]"/>
          <p:cNvPicPr/>
          <p:nvPr/>
        </p:nvPicPr>
        <p:blipFill>
          <a:blip r:embed="rId1"/>
          <a:stretch/>
        </p:blipFill>
        <p:spPr>
          <a:xfrm>
            <a:off x="4648320" y="2689200"/>
            <a:ext cx="352404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инство этих крушений сопровождалось массовыми выбросами нефти и нефтепродуктов в мор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[40]"/>
          <p:cNvPicPr/>
          <p:nvPr/>
        </p:nvPicPr>
        <p:blipFill>
          <a:blip r:embed="rId1"/>
          <a:stretch/>
        </p:blipFill>
        <p:spPr>
          <a:xfrm>
            <a:off x="5076720" y="2133720"/>
            <a:ext cx="3452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78 году у французских берегов снова произошла катастрофа, еще более значительная по последствиям, чем в 1967 год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пппвпвяпвпв"/>
          <p:cNvPicPr/>
          <p:nvPr/>
        </p:nvPicPr>
        <p:blipFill>
          <a:blip r:embed="rId1"/>
          <a:stretch/>
        </p:blipFill>
        <p:spPr>
          <a:xfrm>
            <a:off x="4643280" y="2060640"/>
            <a:ext cx="3168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грязнение океанов и море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жегодно в Мировой океан попадает более 10 млн. т нефти и до 20% его площади уже покрыты нефтяной пленк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i[33]"/>
          <p:cNvPicPr/>
          <p:nvPr/>
        </p:nvPicPr>
        <p:blipFill>
          <a:blip r:embed="rId1"/>
          <a:stretch/>
        </p:blipFill>
        <p:spPr>
          <a:xfrm>
            <a:off x="4648320" y="2454120"/>
            <a:ext cx="4038480" cy="3016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есь в шторм разбился американский супертанкер «Амоно Кодис». Из судна вылилось более 220 тыс т нефти, покрыв площадь 3,5 тыс. кв.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i[43]"/>
          <p:cNvPicPr/>
          <p:nvPr/>
        </p:nvPicPr>
        <p:blipFill>
          <a:blip r:embed="rId1"/>
          <a:stretch/>
        </p:blipFill>
        <p:spPr>
          <a:xfrm>
            <a:off x="4648320" y="2441520"/>
            <a:ext cx="40384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 нанесен огромный ущерб рыболовству, рыбоводству, устричным «плантациям», всем морским обитателям этого района. На протяжении 180 км. побережье покрылось черным траурным «крепом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пппа"/>
          <p:cNvPicPr/>
          <p:nvPr/>
        </p:nvPicPr>
        <p:blipFill>
          <a:blip r:embed="rId1"/>
          <a:stretch/>
        </p:blipFill>
        <p:spPr>
          <a:xfrm>
            <a:off x="4648320" y="2629080"/>
            <a:ext cx="4038480" cy="2665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89 году авария танкера «Валдиз» вблизи побережья Аляски стала крупнейшей экологической катастрофой подобного рода в истории СШ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i[72]"/>
          <p:cNvPicPr/>
          <p:nvPr/>
        </p:nvPicPr>
        <p:blipFill>
          <a:blip r:embed="rId1"/>
          <a:stretch/>
        </p:blipFill>
        <p:spPr>
          <a:xfrm>
            <a:off x="4648320" y="2346480"/>
            <a:ext cx="32367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ый, с полкилометра длиной, танкер сел на мель примерно в 25 милях от берега. Тогда в море вылилось около 40 тыс. т неф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жжээж"/>
          <p:cNvPicPr/>
          <p:nvPr/>
        </p:nvPicPr>
        <p:blipFill>
          <a:blip r:embed="rId1"/>
          <a:stretch/>
        </p:blipFill>
        <p:spPr>
          <a:xfrm>
            <a:off x="4648320" y="2441520"/>
            <a:ext cx="35240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омное нефтяное пятно растеклось в радиусе 50 миль от места аварии, покрыв плотной пленкой пространство 80 кв. к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i[92]"/>
          <p:cNvPicPr/>
          <p:nvPr/>
        </p:nvPicPr>
        <p:blipFill>
          <a:blip r:embed="rId1"/>
          <a:stretch/>
        </p:blipFill>
        <p:spPr>
          <a:xfrm>
            <a:off x="5003640" y="2349360"/>
            <a:ext cx="299736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и отравлены самые чистые и богатые фауной прибрежные районы Северной Амер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i[84]"/>
          <p:cNvPicPr/>
          <p:nvPr/>
        </p:nvPicPr>
        <p:blipFill>
          <a:blip r:embed="rId1"/>
          <a:stretch/>
        </p:blipFill>
        <p:spPr>
          <a:xfrm>
            <a:off x="4859280" y="2060640"/>
            <a:ext cx="323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предотвращения подобных катастроф разрабатываются двухкорпусные танкер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рпа"/>
          <p:cNvPicPr/>
          <p:nvPr/>
        </p:nvPicPr>
        <p:blipFill>
          <a:blip r:embed="rId1"/>
          <a:stretch/>
        </p:blipFill>
        <p:spPr>
          <a:xfrm>
            <a:off x="5219640" y="2133720"/>
            <a:ext cx="3237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аварии, если будет поврежден один корпус, второй предотвратит попадание нефти в мо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4" descr="i[63]"/>
          <p:cNvPicPr/>
          <p:nvPr/>
        </p:nvPicPr>
        <p:blipFill>
          <a:blip r:embed="rId1"/>
          <a:stretch/>
        </p:blipFill>
        <p:spPr>
          <a:xfrm>
            <a:off x="5724360" y="234936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первую очередь это связано с тем, что добыча нефти и газа в Мировом океане стала важнейшим компонентом нефтегазового комплекса. В 1993 году в океане добыто 850 млн. т нефти (почти 30% мировой добыч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оаог"/>
          <p:cNvPicPr/>
          <p:nvPr/>
        </p:nvPicPr>
        <p:blipFill>
          <a:blip r:embed="rId1"/>
          <a:stretch/>
        </p:blipFill>
        <p:spPr>
          <a:xfrm>
            <a:off x="5148360" y="2565360"/>
            <a:ext cx="31924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ире пробурено около 2500 скважин, из них 800 в США, 540 - в Юго-Восточной Азии, 400 - в Северном море, 150 - в Персидском заливе. Эти скважины пробурены на глубинах до 900 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i[42]"/>
          <p:cNvPicPr/>
          <p:nvPr/>
        </p:nvPicPr>
        <p:blipFill>
          <a:blip r:embed="rId1"/>
          <a:stretch/>
        </p:blipFill>
        <p:spPr>
          <a:xfrm>
            <a:off x="5148360" y="2205000"/>
            <a:ext cx="2963880" cy="2222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грязнение гидросферы водным транспортом происходит по двум каналам. Во-первых, морские и речные суда загрязняют ее отходами, получаемыми в результате эксплуатационной деятельност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рттррчт"/>
          <p:cNvPicPr/>
          <p:nvPr/>
        </p:nvPicPr>
        <p:blipFill>
          <a:blip r:embed="rId1"/>
          <a:stretch/>
        </p:blipFill>
        <p:spPr>
          <a:xfrm>
            <a:off x="5148360" y="2781360"/>
            <a:ext cx="3087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, во-вторых, выбросами в случае аварий токсичных грузов, большей частью нефти и нефтепродуктов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ооеоы"/>
          <p:cNvPicPr/>
          <p:nvPr/>
        </p:nvPicPr>
        <p:blipFill>
          <a:blip r:embed="rId1"/>
          <a:stretch/>
        </p:blipFill>
        <p:spPr>
          <a:xfrm>
            <a:off x="4954680" y="1905120"/>
            <a:ext cx="294624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фть и нефтепродукты являются главными загрязнителями водного бассей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ждлор"/>
          <p:cNvPicPr/>
          <p:nvPr/>
        </p:nvPicPr>
        <p:blipFill>
          <a:blip r:embed="rId1"/>
          <a:stretch/>
        </p:blipFill>
        <p:spPr>
          <a:xfrm>
            <a:off x="4648320" y="26161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танкерах, перевозящих нефть и ее производные, перед каждой очередной загрузкой, как правило, промываются емкости (танки) для удаления остатков ранее перевезенного груз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i[48]"/>
          <p:cNvPicPr/>
          <p:nvPr/>
        </p:nvPicPr>
        <p:blipFill>
          <a:blip r:embed="rId1"/>
          <a:stretch/>
        </p:blipFill>
        <p:spPr>
          <a:xfrm>
            <a:off x="5796000" y="2421000"/>
            <a:ext cx="1893960" cy="25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Промывочная вода, а с ней и остатки груза обычно сбрасываются за борт. Кроме того, после доставки нефтегрузов в порты назначения танкеры чаще всего направляются к пункту новой погрузки порожним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i[44]"/>
          <p:cNvPicPr/>
          <p:nvPr/>
        </p:nvPicPr>
        <p:blipFill>
          <a:blip r:embed="rId1"/>
          <a:stretch/>
        </p:blipFill>
        <p:spPr>
          <a:xfrm>
            <a:off x="5724360" y="2637000"/>
            <a:ext cx="20052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59:09Z</dcterms:created>
  <dc:creator>Настя</dc:creator>
  <dc:description/>
  <dc:language>en-US</dc:language>
  <cp:lastModifiedBy>Sea</cp:lastModifiedBy>
  <dcterms:modified xsi:type="dcterms:W3CDTF">2012-07-06T02:35:59Z</dcterms:modified>
  <cp:revision>4</cp:revision>
  <dc:subject/>
  <dc:title>Охрана гидросферы</dc:title>
</cp:coreProperties>
</file>