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chimes.wav" ContentType="audio/x-wav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B498-5CDC-4105-8DDB-99A3D58C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D503-EC97-4D63-8BFE-417A5B97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C4C99-A78A-4C66-BA75-772E1DA7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C9C78-21C2-4954-96ED-40F2B4C0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861BB-441A-441F-A69C-A97FF11B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E22C5-BFB2-4CF8-A9FF-3DF0963F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84A9F-DE52-47A0-8E64-851D47A3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F87F4-6C5B-499A-9C94-6A647B50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4B714-D244-4E9C-B4F5-B09FDB5B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D101E-9427-49DE-B6F0-9175D3E5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483A3-05D8-4AF4-8DE7-E03EDE3E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C2B2-ADDD-4763-846A-C7BDFA81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C18-39ED-4140-8E4E-5F59284C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559C-28C9-4579-8998-E2DF7AD8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611B-B1D0-4BCC-A03B-157A2BBB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7EE1-0E6C-43DA-B414-178C1A47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54AF-AC74-4380-AD40-C15EE56D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C7DD-D7E8-4742-B304-D60362E3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651F-7B2D-46A7-B87F-9777D1AA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7A83-BFDA-4C62-A8C9-DBB7FB3E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F16E-B4C8-44CB-BFE9-8B6B6968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A5A2-727C-43A3-B9E0-E99E2C49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2ECB-2784-4808-A62E-42C1E6E5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2CAC-DC05-482D-BCC6-74BD8B9E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BE5A-EC6D-48AB-A2EB-29F67ADE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5A66-A638-4513-88A5-905E9F4D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A92B2-264B-4E78-8F8D-19C672EE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9FB60-1821-4D45-9E45-EF6FADA2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B794A8-0FD0-4E7C-BDE9-00C3D1F8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CA69C-AF7B-4DE1-BBCD-359A7D99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6AB83-2D14-4486-90E8-6E2F4D25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E594-D79A-43F2-93E7-0E419851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435B5-D85C-4649-8D08-02DD1704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A82F6-CEA9-4E06-92BE-1E8646AD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1E4E4-73B0-427F-B426-3F5EEBC3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9D33B-3F2D-4EFE-8555-FF4E25CF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F6643-7DF5-45CB-BD67-1FF4E881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56CD5-F792-4D93-A212-7C3B8D88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EC920-240D-4611-B5EB-45FA3286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66720-C712-498B-AE46-E0A776A4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38DD5-088C-4F19-8108-82C623D3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03758-6FD7-404F-BFA7-DE7E35B3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E75-99D0-48C8-91F2-2CD1C77A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A0412-3E1D-4A20-BC42-9F06004A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50AAA-25FE-4A39-B606-AAB20ABE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B40C8-F35C-4358-900A-BDA945FF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2D0F1-5820-4606-8E4A-BFA8FC0B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58CC9-14A9-4293-97F1-17E4A6AC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D90C5-D9AE-4904-BF35-CA478D20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A51FD-05AC-47EF-8057-E6361177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39ECD-7DDD-4BDE-88B6-7F96BB64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1BE12-67C1-4BD6-A1F6-92D2F088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E968A-BB28-4682-80AE-2D24EB67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4151-5434-4051-9567-87CA3E8E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A4A00-C0FC-4218-B699-0C774805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9B2D0-D7E4-4740-ACFD-FA85E3D7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DC79B-6556-44BA-A0DE-C1B4F1B0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DD212-3530-4446-8081-F4F176D3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9E59A-A02F-4DAF-9B65-1ADF840F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227B6-9241-47FB-B1BA-70136B77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83DCF-260C-4CA5-9C70-0D4367F2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5FE43-DCF6-403D-9616-0FCC9C9E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01C15-68F2-4C1D-95DB-4ECD10B3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38169-66B5-4A91-B898-B2DAD01C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984-2870-41FA-A0FF-529A67B9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F2F9D-BB43-482C-B5FA-2B2B577B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1F263-615A-47E8-8550-F3958890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3BD06-FBC1-4005-9FBB-C3450043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C85EF-5116-4DA8-92E1-7BA8043D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1F8BF-6DAC-4A64-9CB1-E577734F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723A6-539C-4CDC-82D5-0FB804F3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CB54C-8FF1-4E36-9547-D1F92CDB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3DCB7-8F11-46AC-8B95-204D001C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0283E-062A-4585-9641-BCD99118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FF0E0-6A5E-42A2-9495-52C4E629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39D-C60F-4300-8893-B4DCA22F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B06AE-75DD-4E72-BD79-4F9F8DBE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79D82-669E-4C49-B758-C59F8A6A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EF624-DC93-411B-B53D-6709F82A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BFAD76-204B-46AB-8145-B035C408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42D460-E2F5-4AB0-A0A6-2CA560EB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CE7784-E61C-456C-91E5-E3708020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DB2989-2D16-4322-9486-2531BBCB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523A16-ADE8-423A-97CE-DF4D214E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4CC2CD-F601-4344-BFC2-BD156B3A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99308D-B2FE-4743-9423-91597D80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879-33ED-4154-B596-C00F8FA2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D6CE63-9B74-4AF9-A31A-CE3754D1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8CFE06-7060-4B14-A180-974E645C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314357-B3D5-404A-9658-5AF882E2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CCDFF4-13F5-4CD1-B5C9-A161BE06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34E7DA-95F2-4772-8CB0-CD9871EC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39D8D-C6CA-4AE5-BEF5-916B4F15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27CB2-5FF5-4AE5-96AB-7CFD12F5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81D7C-9E60-4A1F-A2B8-86586AFA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21ED7-8C29-40F5-876C-BD71EDB9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A378E-9320-4173-BAF7-D8EA2B6C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47A-F70E-42A0-8CD2-5D31B828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3F187-9B51-40CC-B0BA-E044C55C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9911E-3B79-4400-B2BA-F036A465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FDE8C-0C41-48D4-9E1F-9909F67C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EC536-26A5-4723-807B-44124B10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3049C-69E4-4DE5-B2AB-22047D49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734AE-2C89-41C6-9C05-917947B0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26737-2459-4BE7-AD67-9C71FE12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E63D7-F86C-4625-9103-5BCC094E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29241-59CC-4F5C-B73F-485BA478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AFB93-A7E7-4B70-80FA-CF8A43B8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E9E6-FC91-471C-B784-295DF754948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5086-09E8-4097-8561-97C277B2694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30CF-8816-4DCC-9737-3C77E0A8362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5208-CDAD-4252-A309-F5AE64A626A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56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3EC4-7A8E-4090-AF73-3D04D35E831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00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E759-B84B-43CA-9541-5415F56B927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4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DBCF-F397-4DF8-B20F-2900A67DAD2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0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19D1-99C3-47A2-BE63-0E6E4F09F61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7C55-50F9-4E80-A254-BFC4A2C2A8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gabook.ru/bes_98/reclam.asp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6;&#1083;&#1103;_%28&#1095;&#1072;&#1089;&#1090;&#1100;%29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1685" TargetMode="External"/><Relationship Id="rId3" Type="http://schemas.openxmlformats.org/officeDocument/2006/relationships/hyperlink" Target="http://ru.wikipedia.org/wiki/&#1055;&#1072;&#1088;&#1080;&#1078;" TargetMode="External"/><Relationship Id="rId4" Type="http://schemas.openxmlformats.org/officeDocument/2006/relationships/hyperlink" Target="http://ru.wikipedia.org/w/index.php?title=&#1055;&#1086;&#1088;&#1090;%2C_&#1052;&#1072;&#1090;&#1100;&#1077;_&#1076;&#1077;_&#1083;&#1072;&amp;action=edit&amp;redlink=1" TargetMode="External"/><Relationship Id="rId5" Type="http://schemas.openxmlformats.org/officeDocument/2006/relationships/hyperlink" Target="http://ru.wikipedia.org/w/index.php?title=&#1055;&#1086;&#1088;&#1090;%2C_&#1052;&#1072;&#1090;&#1100;&#1077;_&#1076;&#1077;_&#1083;&#1072;&amp;action=edit&amp;redlink=1" TargetMode="External"/><Relationship Id="rId6" Type="http://schemas.openxmlformats.org/officeDocument/2006/relationships/hyperlink" Target="http://ru.wikipedia.org/w/index.php?title=&#1055;&#1086;&#1088;&#1090;%2C_&#1052;&#1072;&#1090;&#1100;&#1077;_&#1076;&#1077;_&#1083;&#1072;&amp;action=edit&amp;redlink=1" TargetMode="External"/><Relationship Id="rId7" Type="http://schemas.openxmlformats.org/officeDocument/2006/relationships/hyperlink" Target="http://ru.wikipedia.org/w/index.php?title=&#1055;&#1086;&#1088;&#1090;%2C_&#1052;&#1072;&#1090;&#1100;&#1077;_&#1076;&#1077;_&#1083;&#1072;&amp;action=edit&amp;redlink=1" TargetMode="External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4920" y="259920"/>
            <a:ext cx="907416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Счет и вычисления – основа порядка в голове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(Песталоцци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34920" y="4941360"/>
            <a:ext cx="9145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ЕСТАЛОЦЦИ (Pestalozzi) Иоганн Генрих (1746-1827)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349360"/>
            <a:ext cx="2071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Monotype Corsiva"/>
              </a:rPr>
              <a:t>Основные типы задач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396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Часть по целому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"/>
          <p:cNvSpPr/>
          <p:nvPr/>
        </p:nvSpPr>
        <p:spPr>
          <a:xfrm>
            <a:off x="4716360" y="162864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Целое по ча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084720" y="2276640"/>
            <a:ext cx="2024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124680" y="4102200"/>
            <a:ext cx="20239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64000" y="2781360"/>
            <a:ext cx="3457800" cy="1558800"/>
            <a:chOff x="5364000" y="2781360"/>
            <a:chExt cx="3457800" cy="1558800"/>
          </a:xfrm>
        </p:grpSpPr>
        <p:sp>
          <p:nvSpPr>
            <p:cNvPr id="553" name=""/>
            <p:cNvSpPr/>
            <p:nvPr/>
          </p:nvSpPr>
          <p:spPr>
            <a:xfrm>
              <a:off x="5364000" y="3492360"/>
              <a:ext cx="3457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821800" y="3232080"/>
              <a:ext cx="0" cy="43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64000" y="3232080"/>
              <a:ext cx="0" cy="43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64000" y="3492360"/>
              <a:ext cx="3457800" cy="675000"/>
            </a:xfrm>
            <a:custGeom>
              <a:avLst/>
              <a:gdLst/>
              <a:ahLst/>
              <a:rect l="l" t="t" r="r" b="b"/>
              <a:pathLst>
                <a:path w="1860" h="352">
                  <a:moveTo>
                    <a:pt x="0" y="0"/>
                  </a:moveTo>
                  <a:cubicBezTo>
                    <a:pt x="11" y="20"/>
                    <a:pt x="41" y="91"/>
                    <a:pt x="64" y="120"/>
                  </a:cubicBezTo>
                  <a:cubicBezTo>
                    <a:pt x="87" y="149"/>
                    <a:pt x="107" y="157"/>
                    <a:pt x="137" y="175"/>
                  </a:cubicBezTo>
                  <a:cubicBezTo>
                    <a:pt x="167" y="193"/>
                    <a:pt x="188" y="209"/>
                    <a:pt x="247" y="230"/>
                  </a:cubicBezTo>
                  <a:cubicBezTo>
                    <a:pt x="306" y="251"/>
                    <a:pt x="386" y="283"/>
                    <a:pt x="494" y="303"/>
                  </a:cubicBezTo>
                  <a:cubicBezTo>
                    <a:pt x="602" y="323"/>
                    <a:pt x="744" y="352"/>
                    <a:pt x="896" y="349"/>
                  </a:cubicBezTo>
                  <a:cubicBezTo>
                    <a:pt x="1048" y="346"/>
                    <a:pt x="1247" y="343"/>
                    <a:pt x="1408" y="285"/>
                  </a:cubicBezTo>
                  <a:cubicBezTo>
                    <a:pt x="1569" y="227"/>
                    <a:pt x="1766" y="60"/>
                    <a:pt x="186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797520" y="3232080"/>
              <a:ext cx="0" cy="43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64000" y="3492360"/>
              <a:ext cx="1433520" cy="260640"/>
            </a:xfrm>
            <a:custGeom>
              <a:avLst/>
              <a:gdLst/>
              <a:ahLst/>
              <a:rect l="l" t="t" r="r" b="b"/>
              <a:pathLst>
                <a:path w="771" h="136">
                  <a:moveTo>
                    <a:pt x="0" y="0"/>
                  </a:moveTo>
                  <a:cubicBezTo>
                    <a:pt x="140" y="68"/>
                    <a:pt x="281" y="136"/>
                    <a:pt x="409" y="136"/>
                  </a:cubicBezTo>
                  <a:cubicBezTo>
                    <a:pt x="537" y="136"/>
                    <a:pt x="711" y="23"/>
                    <a:pt x="771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08720" y="3645000"/>
              <a:ext cx="20239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В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64000" y="2865600"/>
              <a:ext cx="3440160" cy="634680"/>
            </a:xfrm>
            <a:custGeom>
              <a:avLst/>
              <a:gdLst/>
              <a:ahLst/>
              <a:rect l="l" t="t" r="r" b="b"/>
              <a:pathLst>
                <a:path w="2167" h="400">
                  <a:moveTo>
                    <a:pt x="0" y="400"/>
                  </a:moveTo>
                  <a:cubicBezTo>
                    <a:pt x="40" y="364"/>
                    <a:pt x="127" y="244"/>
                    <a:pt x="238" y="183"/>
                  </a:cubicBezTo>
                  <a:cubicBezTo>
                    <a:pt x="349" y="122"/>
                    <a:pt x="528" y="67"/>
                    <a:pt x="668" y="37"/>
                  </a:cubicBezTo>
                  <a:cubicBezTo>
                    <a:pt x="808" y="7"/>
                    <a:pt x="953" y="0"/>
                    <a:pt x="1079" y="0"/>
                  </a:cubicBezTo>
                  <a:cubicBezTo>
                    <a:pt x="1205" y="0"/>
                    <a:pt x="1300" y="10"/>
                    <a:pt x="1426" y="37"/>
                  </a:cubicBezTo>
                  <a:cubicBezTo>
                    <a:pt x="1552" y="64"/>
                    <a:pt x="1715" y="107"/>
                    <a:pt x="1838" y="165"/>
                  </a:cubicBezTo>
                  <a:cubicBezTo>
                    <a:pt x="1961" y="223"/>
                    <a:pt x="2099" y="338"/>
                    <a:pt x="2167" y="38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364000" y="3286080"/>
              <a:ext cx="1441440" cy="214200"/>
            </a:xfrm>
            <a:custGeom>
              <a:avLst/>
              <a:gdLst/>
              <a:ahLst/>
              <a:rect l="l" t="t" r="r" b="b"/>
              <a:pathLst>
                <a:path w="908" h="135">
                  <a:moveTo>
                    <a:pt x="0" y="135"/>
                  </a:moveTo>
                  <a:cubicBezTo>
                    <a:pt x="73" y="112"/>
                    <a:pt x="288" y="0"/>
                    <a:pt x="439" y="0"/>
                  </a:cubicBezTo>
                  <a:cubicBezTo>
                    <a:pt x="590" y="0"/>
                    <a:pt x="810" y="107"/>
                    <a:pt x="908" y="13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64000" y="2781360"/>
              <a:ext cx="1729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1444680" y="4102200"/>
            <a:ext cx="20239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332000" y="2276640"/>
            <a:ext cx="20239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84360" y="2781360"/>
            <a:ext cx="3457440" cy="1558800"/>
            <a:chOff x="684360" y="2781360"/>
            <a:chExt cx="3457440" cy="1558800"/>
          </a:xfrm>
        </p:grpSpPr>
        <p:sp>
          <p:nvSpPr>
            <p:cNvPr id="566" name=""/>
            <p:cNvSpPr/>
            <p:nvPr/>
          </p:nvSpPr>
          <p:spPr>
            <a:xfrm>
              <a:off x="684360" y="3492360"/>
              <a:ext cx="3457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141800" y="3232080"/>
              <a:ext cx="0" cy="43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4360" y="3232080"/>
              <a:ext cx="0" cy="43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4360" y="3492360"/>
              <a:ext cx="3457440" cy="675000"/>
            </a:xfrm>
            <a:custGeom>
              <a:avLst/>
              <a:gdLst/>
              <a:ahLst/>
              <a:rect l="l" t="t" r="r" b="b"/>
              <a:pathLst>
                <a:path w="1860" h="352">
                  <a:moveTo>
                    <a:pt x="0" y="0"/>
                  </a:moveTo>
                  <a:cubicBezTo>
                    <a:pt x="11" y="20"/>
                    <a:pt x="41" y="91"/>
                    <a:pt x="64" y="120"/>
                  </a:cubicBezTo>
                  <a:cubicBezTo>
                    <a:pt x="87" y="149"/>
                    <a:pt x="107" y="157"/>
                    <a:pt x="137" y="175"/>
                  </a:cubicBezTo>
                  <a:cubicBezTo>
                    <a:pt x="167" y="193"/>
                    <a:pt x="188" y="209"/>
                    <a:pt x="247" y="230"/>
                  </a:cubicBezTo>
                  <a:cubicBezTo>
                    <a:pt x="306" y="251"/>
                    <a:pt x="386" y="283"/>
                    <a:pt x="494" y="303"/>
                  </a:cubicBezTo>
                  <a:cubicBezTo>
                    <a:pt x="602" y="323"/>
                    <a:pt x="744" y="352"/>
                    <a:pt x="896" y="349"/>
                  </a:cubicBezTo>
                  <a:cubicBezTo>
                    <a:pt x="1048" y="346"/>
                    <a:pt x="1247" y="343"/>
                    <a:pt x="1408" y="285"/>
                  </a:cubicBezTo>
                  <a:cubicBezTo>
                    <a:pt x="1569" y="227"/>
                    <a:pt x="1766" y="60"/>
                    <a:pt x="186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17880" y="3232080"/>
              <a:ext cx="0" cy="43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4360" y="3492360"/>
              <a:ext cx="1433520" cy="260640"/>
            </a:xfrm>
            <a:custGeom>
              <a:avLst/>
              <a:gdLst/>
              <a:ahLst/>
              <a:rect l="l" t="t" r="r" b="b"/>
              <a:pathLst>
                <a:path w="771" h="136">
                  <a:moveTo>
                    <a:pt x="0" y="0"/>
                  </a:moveTo>
                  <a:cubicBezTo>
                    <a:pt x="140" y="68"/>
                    <a:pt x="281" y="136"/>
                    <a:pt x="409" y="136"/>
                  </a:cubicBezTo>
                  <a:cubicBezTo>
                    <a:pt x="537" y="136"/>
                    <a:pt x="711" y="23"/>
                    <a:pt x="771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5640" y="3645000"/>
              <a:ext cx="20239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В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4360" y="2852640"/>
              <a:ext cx="3439800" cy="635040"/>
            </a:xfrm>
            <a:custGeom>
              <a:avLst/>
              <a:gdLst/>
              <a:ahLst/>
              <a:rect l="l" t="t" r="r" b="b"/>
              <a:pathLst>
                <a:path w="2167" h="400">
                  <a:moveTo>
                    <a:pt x="0" y="400"/>
                  </a:moveTo>
                  <a:cubicBezTo>
                    <a:pt x="40" y="364"/>
                    <a:pt x="127" y="244"/>
                    <a:pt x="238" y="183"/>
                  </a:cubicBezTo>
                  <a:cubicBezTo>
                    <a:pt x="349" y="122"/>
                    <a:pt x="528" y="67"/>
                    <a:pt x="668" y="37"/>
                  </a:cubicBezTo>
                  <a:cubicBezTo>
                    <a:pt x="808" y="7"/>
                    <a:pt x="953" y="0"/>
                    <a:pt x="1079" y="0"/>
                  </a:cubicBezTo>
                  <a:cubicBezTo>
                    <a:pt x="1205" y="0"/>
                    <a:pt x="1300" y="10"/>
                    <a:pt x="1426" y="37"/>
                  </a:cubicBezTo>
                  <a:cubicBezTo>
                    <a:pt x="1552" y="64"/>
                    <a:pt x="1715" y="107"/>
                    <a:pt x="1838" y="165"/>
                  </a:cubicBezTo>
                  <a:cubicBezTo>
                    <a:pt x="1961" y="223"/>
                    <a:pt x="2099" y="338"/>
                    <a:pt x="2167" y="38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4360" y="3286080"/>
              <a:ext cx="1441440" cy="214200"/>
            </a:xfrm>
            <a:custGeom>
              <a:avLst/>
              <a:gdLst/>
              <a:ahLst/>
              <a:rect l="l" t="t" r="r" b="b"/>
              <a:pathLst>
                <a:path w="908" h="135">
                  <a:moveTo>
                    <a:pt x="0" y="135"/>
                  </a:moveTo>
                  <a:cubicBezTo>
                    <a:pt x="73" y="112"/>
                    <a:pt x="288" y="0"/>
                    <a:pt x="439" y="0"/>
                  </a:cubicBezTo>
                  <a:cubicBezTo>
                    <a:pt x="590" y="0"/>
                    <a:pt x="810" y="107"/>
                    <a:pt x="908" y="13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4360" y="278136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х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68360" y="4724280"/>
            <a:ext cx="30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х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а :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0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•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508720" y="4724280"/>
            <a:ext cx="30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х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а : в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9640" y="5661000"/>
            <a:ext cx="302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Известно цело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айти ча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651640" y="5734080"/>
            <a:ext cx="30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Известна ча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айти цел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64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Monotype Corsiva"/>
              </a:rPr>
              <a:t>Решения некоторых задач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9280" y="3933720"/>
            <a:ext cx="87854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Цена альбома 100%. Увеличим этот отрезок  на 25%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т.е. на ¼ его часть, получим отрезок  , соответствующий цен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книги. Теперь цена книги составляет 100%. Цена альбо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меньше  цены книги на 1/5 этого отрезка , т.е. на 20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"/>
          <p:cNvSpPr/>
          <p:nvPr/>
        </p:nvSpPr>
        <p:spPr>
          <a:xfrm>
            <a:off x="10800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onotype Corsiva"/>
              </a:rPr>
              <a:t>Книга дороже альбома на 25%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Monotype Corsiva"/>
              </a:rPr>
              <a:t>На сколько процентов альбом дешевле книг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3348000" y="1773360"/>
            <a:ext cx="2879640" cy="2519280"/>
            <a:chOff x="3348000" y="1773360"/>
            <a:chExt cx="2879640" cy="2519280"/>
          </a:xfrm>
        </p:grpSpPr>
        <p:sp>
          <p:nvSpPr>
            <p:cNvPr id="584" name=""/>
            <p:cNvSpPr/>
            <p:nvPr/>
          </p:nvSpPr>
          <p:spPr>
            <a:xfrm>
              <a:off x="3348000" y="249408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348000" y="2638440"/>
              <a:ext cx="287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27640" y="249408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24360" y="249408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500720" y="249408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76720" y="249408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51640" y="249408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492360" y="1773360"/>
              <a:ext cx="2089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Monotype Corsiva"/>
                </a:rPr>
                <a:t>10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3348000" y="2708280"/>
              <a:ext cx="2879640" cy="1584360"/>
              <a:chOff x="3348000" y="2708280"/>
              <a:chExt cx="2879640" cy="158436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3348000" y="2708280"/>
                <a:ext cx="2879640" cy="1076400"/>
                <a:chOff x="3348000" y="2708280"/>
                <a:chExt cx="2879640" cy="107640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3348000" y="3500640"/>
                  <a:ext cx="2879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348000" y="3356280"/>
                  <a:ext cx="0" cy="287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227640" y="3356280"/>
                  <a:ext cx="0" cy="287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5651280" y="3356280"/>
                  <a:ext cx="0" cy="287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348000" y="3211560"/>
                  <a:ext cx="2879640" cy="289080"/>
                </a:xfrm>
                <a:custGeom>
                  <a:avLst/>
                  <a:gdLst/>
                  <a:ahLst/>
                  <a:rect l="l" t="t" r="r" b="b"/>
                  <a:pathLst>
                    <a:path w="1814" h="273">
                      <a:moveTo>
                        <a:pt x="0" y="273"/>
                      </a:moveTo>
                      <a:cubicBezTo>
                        <a:pt x="302" y="136"/>
                        <a:pt x="605" y="0"/>
                        <a:pt x="907" y="0"/>
                      </a:cubicBezTo>
                      <a:cubicBezTo>
                        <a:pt x="1209" y="0"/>
                        <a:pt x="1511" y="136"/>
                        <a:pt x="1814" y="27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779640" y="2708280"/>
                  <a:ext cx="2088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cc"/>
                      </a:solidFill>
                      <a:latin typeface="Monotype Corsiva"/>
                    </a:rPr>
                    <a:t>100%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348000" y="3500640"/>
                  <a:ext cx="2303280" cy="284040"/>
                </a:xfrm>
                <a:custGeom>
                  <a:avLst/>
                  <a:gdLst/>
                  <a:ahLst/>
                  <a:rect l="l" t="t" r="r" b="b"/>
                  <a:pathLst>
                    <a:path w="1451" h="179">
                      <a:moveTo>
                        <a:pt x="0" y="0"/>
                      </a:moveTo>
                      <a:cubicBezTo>
                        <a:pt x="124" y="30"/>
                        <a:pt x="502" y="179"/>
                        <a:pt x="744" y="179"/>
                      </a:cubicBezTo>
                      <a:cubicBezTo>
                        <a:pt x="986" y="179"/>
                        <a:pt x="1304" y="37"/>
                        <a:pt x="1451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"/>
              <p:cNvSpPr/>
              <p:nvPr/>
            </p:nvSpPr>
            <p:spPr>
              <a:xfrm>
                <a:off x="3492360" y="3645000"/>
                <a:ext cx="208944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cc"/>
                    </a:solidFill>
                    <a:latin typeface="Monotype Corsiva"/>
                  </a:rPr>
                  <a:t>80%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3348000" y="2276640"/>
              <a:ext cx="2303640" cy="360360"/>
            </a:xfrm>
            <a:custGeom>
              <a:avLst/>
              <a:gdLst/>
              <a:ahLst/>
              <a:rect l="l" t="t" r="r" b="b"/>
              <a:pathLst>
                <a:path w="1451" h="227">
                  <a:moveTo>
                    <a:pt x="0" y="227"/>
                  </a:moveTo>
                  <a:cubicBezTo>
                    <a:pt x="242" y="113"/>
                    <a:pt x="484" y="0"/>
                    <a:pt x="726" y="0"/>
                  </a:cubicBezTo>
                  <a:cubicBezTo>
                    <a:pt x="968" y="0"/>
                    <a:pt x="1209" y="113"/>
                    <a:pt x="1451" y="227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Сколько воды надо выпарить из 350 граммов 42%-го раствора соли, чтобы получить 60% раствор</a:t>
            </a: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-360" y="4076640"/>
            <a:ext cx="876924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) 350 : 100 • 42 = 147 (г) соли в раствор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) 147 : 60 • 100 = 245 (г) масса раствора после выпари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) 350 – 245 = 105 (г) воды выпари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Ответ: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105 г. воды выпари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5148360" y="1413000"/>
            <a:ext cx="1530360" cy="2462040"/>
            <a:chOff x="5148360" y="1413000"/>
            <a:chExt cx="1530360" cy="2462040"/>
          </a:xfrm>
        </p:grpSpPr>
        <p:sp>
          <p:nvSpPr>
            <p:cNvPr id="606" name=""/>
            <p:cNvSpPr/>
            <p:nvPr/>
          </p:nvSpPr>
          <p:spPr>
            <a:xfrm>
              <a:off x="5148360" y="1989000"/>
              <a:ext cx="0" cy="180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59640" y="1989000"/>
              <a:ext cx="0" cy="180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148360" y="3789360"/>
              <a:ext cx="151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48360" y="3284640"/>
              <a:ext cx="151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148360" y="2852640"/>
              <a:ext cx="151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5159520" y="3283560"/>
              <a:ext cx="1519200" cy="591480"/>
              <a:chOff x="5159520" y="3283560"/>
              <a:chExt cx="1519200" cy="591480"/>
            </a:xfrm>
          </p:grpSpPr>
          <p:sp>
            <p:nvSpPr>
              <p:cNvPr id="612" name=""/>
              <p:cNvSpPr/>
              <p:nvPr/>
            </p:nvSpPr>
            <p:spPr>
              <a:xfrm>
                <a:off x="6023160" y="3283560"/>
                <a:ext cx="223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Verdana"/>
                  </a:rPr>
                  <a:t>•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023160" y="3643920"/>
                <a:ext cx="223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Verdana"/>
                  </a:rPr>
                  <a:t>•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159520" y="3572280"/>
                <a:ext cx="223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Verdana"/>
                  </a:rPr>
                  <a:t>•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591520" y="3283560"/>
                <a:ext cx="223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Verdana"/>
                  </a:rPr>
                  <a:t>•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591520" y="3572280"/>
                <a:ext cx="223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Verdana"/>
                  </a:rPr>
                  <a:t>•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383520" y="3427920"/>
                <a:ext cx="223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Verdana"/>
                  </a:rPr>
                  <a:t>•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304240" y="3427920"/>
                <a:ext cx="223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Verdana"/>
                  </a:rPr>
                  <a:t>•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455160" y="3572280"/>
                <a:ext cx="223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Verdana"/>
                  </a:rPr>
                  <a:t>•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5159520" y="3356640"/>
              <a:ext cx="223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Verdana"/>
                </a:rPr>
                <a:t>•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375160" y="3572280"/>
              <a:ext cx="223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Verdana"/>
                </a:rPr>
                <a:t>•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148360" y="3284640"/>
              <a:ext cx="151128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20000"/>
                  </a:solidFill>
                  <a:latin typeface="Garamond"/>
                </a:rPr>
                <a:t>со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75160" y="3283560"/>
              <a:ext cx="223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Verdana"/>
                </a:rPr>
                <a:t>•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38800" y="3499200"/>
              <a:ext cx="223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Verdana"/>
                </a:rPr>
                <a:t>•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38800" y="3283560"/>
              <a:ext cx="223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Verdana"/>
                </a:rPr>
                <a:t>•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148360" y="2852640"/>
              <a:ext cx="1511280" cy="4320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Garamond"/>
                </a:rPr>
                <a:t>во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19640" y="292428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00720" y="292428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24360" y="292428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19640" y="306864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19640" y="3213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300720" y="306864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227640" y="3213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724360" y="3213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19640" y="1413000"/>
              <a:ext cx="140328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Garamond"/>
                </a:rPr>
                <a:t>6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250920" y="1413000"/>
            <a:ext cx="2808360" cy="2376360"/>
            <a:chOff x="250920" y="1413000"/>
            <a:chExt cx="2808360" cy="2376360"/>
          </a:xfrm>
        </p:grpSpPr>
        <p:sp>
          <p:nvSpPr>
            <p:cNvPr id="637" name=""/>
            <p:cNvSpPr/>
            <p:nvPr/>
          </p:nvSpPr>
          <p:spPr>
            <a:xfrm>
              <a:off x="1547640" y="1989000"/>
              <a:ext cx="0" cy="180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059280" y="1989000"/>
              <a:ext cx="0" cy="180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0920" y="1916280"/>
              <a:ext cx="140328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Garamond"/>
                </a:rPr>
                <a:t>35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619280" y="1413000"/>
              <a:ext cx="140328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Garamond"/>
                </a:rPr>
                <a:t>4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547640" y="2421000"/>
              <a:ext cx="1511640" cy="8636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Garamond"/>
                </a:rPr>
                <a:t>во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1547640" y="2421000"/>
              <a:ext cx="1511640" cy="720720"/>
              <a:chOff x="1547640" y="2421000"/>
              <a:chExt cx="1511640" cy="720720"/>
            </a:xfrm>
          </p:grpSpPr>
          <p:sp>
            <p:nvSpPr>
              <p:cNvPr id="643" name=""/>
              <p:cNvSpPr/>
              <p:nvPr/>
            </p:nvSpPr>
            <p:spPr>
              <a:xfrm>
                <a:off x="1547640" y="2421000"/>
                <a:ext cx="1511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547640" y="2565360"/>
                <a:ext cx="2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692360" y="2708280"/>
                <a:ext cx="215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050920" y="2565360"/>
                <a:ext cx="2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195640" y="2781360"/>
                <a:ext cx="215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556000" y="2565360"/>
                <a:ext cx="215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00360" y="2708280"/>
                <a:ext cx="2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619280" y="3141720"/>
                <a:ext cx="2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050920" y="3141720"/>
                <a:ext cx="2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411280" y="3141720"/>
                <a:ext cx="2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700360" y="2924280"/>
                <a:ext cx="2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619280" y="2924280"/>
                <a:ext cx="2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771640" y="3141720"/>
                <a:ext cx="2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1547640" y="3213000"/>
              <a:ext cx="151164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20000"/>
                  </a:solidFill>
                  <a:latin typeface="Garamond"/>
                </a:rPr>
                <a:t>со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47640" y="3789360"/>
              <a:ext cx="1511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Высказывания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Лучший способ изучить что – либо – это открыть самом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Д. Пой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Математике должно учить в школе еще с той целью, чтобы познания, здесь приобретаемые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были достаточными для обыкновенных потребностей в жизн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 И.Л. Лобачевский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Рано или поздно всякая правильная математическая идея находит применение в том или ином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ел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 А.Н. Крылов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Если вы хотите участвовать в большой жизни, то наполняйте свою голову математикой, пок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есть к тому возможность. Она окажет вам потом огромную помощь во всей вашей  работ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 М.И. Калинин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Было бы хорошо, если бы эти знания требовало само государство и если бы лиц, занимающих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ысшие государственные должности, приучали заниматься  математикой и в нужных  случаях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к ней  обращатьс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латон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6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6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6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6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6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6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6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6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122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25%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4920" y="260280"/>
            <a:ext cx="9145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Заштрихуйте на рисунках  указанную часть круг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604080" y="1334160"/>
            <a:ext cx="1607400" cy="1607400"/>
            <a:chOff x="604080" y="1334160"/>
            <a:chExt cx="1607400" cy="1607400"/>
          </a:xfrm>
        </p:grpSpPr>
        <p:grpSp>
          <p:nvGrpSpPr>
            <p:cNvPr id="663" name=""/>
            <p:cNvGrpSpPr/>
            <p:nvPr/>
          </p:nvGrpSpPr>
          <p:grpSpPr>
            <a:xfrm>
              <a:off x="604080" y="1341360"/>
              <a:ext cx="1599480" cy="1600200"/>
              <a:chOff x="604080" y="1341360"/>
              <a:chExt cx="1599480" cy="1600200"/>
            </a:xfrm>
          </p:grpSpPr>
          <p:sp>
            <p:nvSpPr>
              <p:cNvPr id="664" name=""/>
              <p:cNvSpPr/>
              <p:nvPr/>
            </p:nvSpPr>
            <p:spPr>
              <a:xfrm>
                <a:off x="1403640" y="1341360"/>
                <a:ext cx="720" cy="80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403640" y="2141640"/>
                <a:ext cx="799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04080" y="1341360"/>
                <a:ext cx="1599120" cy="160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604080" y="1334160"/>
              <a:ext cx="1599480" cy="1599480"/>
              <a:chOff x="604080" y="1334160"/>
              <a:chExt cx="1599480" cy="1599480"/>
            </a:xfrm>
          </p:grpSpPr>
          <p:sp>
            <p:nvSpPr>
              <p:cNvPr id="668" name=""/>
              <p:cNvSpPr/>
              <p:nvPr/>
            </p:nvSpPr>
            <p:spPr>
              <a:xfrm flipH="1">
                <a:off x="1403640" y="2133720"/>
                <a:ext cx="79992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403640" y="2133720"/>
                <a:ext cx="0" cy="79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5400000">
                <a:off x="604080" y="1333800"/>
                <a:ext cx="1599120" cy="159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610920" y="1334160"/>
              <a:ext cx="1600200" cy="1599480"/>
              <a:chOff x="610920" y="1334160"/>
              <a:chExt cx="1600200" cy="1599480"/>
            </a:xfrm>
          </p:grpSpPr>
          <p:sp>
            <p:nvSpPr>
              <p:cNvPr id="672" name=""/>
              <p:cNvSpPr/>
              <p:nvPr/>
            </p:nvSpPr>
            <p:spPr>
              <a:xfrm flipH="1" flipV="1">
                <a:off x="1410480" y="2133720"/>
                <a:ext cx="720" cy="79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610920" y="2133720"/>
                <a:ext cx="800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0800000">
                <a:off x="611280" y="1334160"/>
                <a:ext cx="1599840" cy="159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611280" y="1341000"/>
              <a:ext cx="1600200" cy="1600200"/>
              <a:chOff x="611280" y="1341000"/>
              <a:chExt cx="1600200" cy="1600200"/>
            </a:xfrm>
          </p:grpSpPr>
          <p:sp>
            <p:nvSpPr>
              <p:cNvPr id="676" name=""/>
              <p:cNvSpPr/>
              <p:nvPr/>
            </p:nvSpPr>
            <p:spPr>
              <a:xfrm flipV="1">
                <a:off x="611280" y="2140560"/>
                <a:ext cx="80028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1411560" y="1341000"/>
                <a:ext cx="0" cy="80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6200000">
                <a:off x="611280" y="1341000"/>
                <a:ext cx="1599840" cy="160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79" name=""/>
          <p:cNvGrpSpPr/>
          <p:nvPr/>
        </p:nvGrpSpPr>
        <p:grpSpPr>
          <a:xfrm>
            <a:off x="603000" y="1334160"/>
            <a:ext cx="1600200" cy="1599480"/>
            <a:chOff x="603000" y="1334160"/>
            <a:chExt cx="1600200" cy="1599480"/>
          </a:xfrm>
        </p:grpSpPr>
        <p:sp>
          <p:nvSpPr>
            <p:cNvPr id="680" name=""/>
            <p:cNvSpPr/>
            <p:nvPr/>
          </p:nvSpPr>
          <p:spPr>
            <a:xfrm flipH="1">
              <a:off x="1402920" y="2133720"/>
              <a:ext cx="80028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402920" y="2133720"/>
              <a:ext cx="0" cy="79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5400000">
              <a:off x="603360" y="1333440"/>
              <a:ext cx="1599120" cy="160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f75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93160" y="1405800"/>
            <a:ext cx="1607400" cy="1607400"/>
            <a:chOff x="2693160" y="1405800"/>
            <a:chExt cx="1607400" cy="1607400"/>
          </a:xfrm>
        </p:grpSpPr>
        <p:grpSp>
          <p:nvGrpSpPr>
            <p:cNvPr id="684" name=""/>
            <p:cNvGrpSpPr/>
            <p:nvPr/>
          </p:nvGrpSpPr>
          <p:grpSpPr>
            <a:xfrm>
              <a:off x="2693160" y="1413000"/>
              <a:ext cx="1599480" cy="1600200"/>
              <a:chOff x="2693160" y="1413000"/>
              <a:chExt cx="1599480" cy="1600200"/>
            </a:xfrm>
          </p:grpSpPr>
          <p:sp>
            <p:nvSpPr>
              <p:cNvPr id="685" name=""/>
              <p:cNvSpPr/>
              <p:nvPr/>
            </p:nvSpPr>
            <p:spPr>
              <a:xfrm>
                <a:off x="3492720" y="1413000"/>
                <a:ext cx="720" cy="80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492720" y="2213280"/>
                <a:ext cx="799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693160" y="1413000"/>
                <a:ext cx="1599120" cy="160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2693160" y="1405800"/>
              <a:ext cx="1599480" cy="1599480"/>
              <a:chOff x="2693160" y="1405800"/>
              <a:chExt cx="1599480" cy="1599480"/>
            </a:xfrm>
          </p:grpSpPr>
          <p:sp>
            <p:nvSpPr>
              <p:cNvPr id="689" name=""/>
              <p:cNvSpPr/>
              <p:nvPr/>
            </p:nvSpPr>
            <p:spPr>
              <a:xfrm flipH="1">
                <a:off x="3492720" y="2205360"/>
                <a:ext cx="79992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492720" y="2205360"/>
                <a:ext cx="0" cy="79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5400000">
                <a:off x="2693160" y="1405440"/>
                <a:ext cx="1599120" cy="159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700000" y="1405800"/>
              <a:ext cx="1600200" cy="1599480"/>
              <a:chOff x="2700000" y="1405800"/>
              <a:chExt cx="1600200" cy="1599480"/>
            </a:xfrm>
          </p:grpSpPr>
          <p:sp>
            <p:nvSpPr>
              <p:cNvPr id="693" name=""/>
              <p:cNvSpPr/>
              <p:nvPr/>
            </p:nvSpPr>
            <p:spPr>
              <a:xfrm flipH="1" flipV="1">
                <a:off x="3499560" y="2205360"/>
                <a:ext cx="720" cy="79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2700000" y="2205360"/>
                <a:ext cx="800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0800000">
                <a:off x="2700360" y="1405800"/>
                <a:ext cx="1599840" cy="159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2700360" y="1412640"/>
              <a:ext cx="1600200" cy="1600200"/>
              <a:chOff x="2700360" y="1412640"/>
              <a:chExt cx="1600200" cy="1600200"/>
            </a:xfrm>
          </p:grpSpPr>
          <p:sp>
            <p:nvSpPr>
              <p:cNvPr id="697" name=""/>
              <p:cNvSpPr/>
              <p:nvPr/>
            </p:nvSpPr>
            <p:spPr>
              <a:xfrm flipV="1">
                <a:off x="2700360" y="2212200"/>
                <a:ext cx="80028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500640" y="1412640"/>
                <a:ext cx="0" cy="80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6200000">
                <a:off x="2700360" y="1412640"/>
                <a:ext cx="1599840" cy="160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00" name=""/>
          <p:cNvGrpSpPr/>
          <p:nvPr/>
        </p:nvGrpSpPr>
        <p:grpSpPr>
          <a:xfrm>
            <a:off x="4709160" y="1405800"/>
            <a:ext cx="1607400" cy="1607400"/>
            <a:chOff x="4709160" y="1405800"/>
            <a:chExt cx="1607400" cy="1607400"/>
          </a:xfrm>
        </p:grpSpPr>
        <p:grpSp>
          <p:nvGrpSpPr>
            <p:cNvPr id="701" name=""/>
            <p:cNvGrpSpPr/>
            <p:nvPr/>
          </p:nvGrpSpPr>
          <p:grpSpPr>
            <a:xfrm>
              <a:off x="4709160" y="1413000"/>
              <a:ext cx="1599480" cy="1600200"/>
              <a:chOff x="4709160" y="1413000"/>
              <a:chExt cx="1599480" cy="1600200"/>
            </a:xfrm>
          </p:grpSpPr>
          <p:sp>
            <p:nvSpPr>
              <p:cNvPr id="702" name=""/>
              <p:cNvSpPr/>
              <p:nvPr/>
            </p:nvSpPr>
            <p:spPr>
              <a:xfrm>
                <a:off x="5508720" y="1413000"/>
                <a:ext cx="720" cy="80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508720" y="2213280"/>
                <a:ext cx="799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709160" y="1413000"/>
                <a:ext cx="1599120" cy="160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4709160" y="1405800"/>
              <a:ext cx="1599480" cy="1599480"/>
              <a:chOff x="4709160" y="1405800"/>
              <a:chExt cx="1599480" cy="1599480"/>
            </a:xfrm>
          </p:grpSpPr>
          <p:sp>
            <p:nvSpPr>
              <p:cNvPr id="706" name=""/>
              <p:cNvSpPr/>
              <p:nvPr/>
            </p:nvSpPr>
            <p:spPr>
              <a:xfrm flipH="1">
                <a:off x="5508720" y="2205360"/>
                <a:ext cx="79992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508720" y="2205360"/>
                <a:ext cx="0" cy="79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5400000">
                <a:off x="4709160" y="1405440"/>
                <a:ext cx="1599120" cy="159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4716000" y="1405800"/>
              <a:ext cx="1600200" cy="1599480"/>
              <a:chOff x="4716000" y="1405800"/>
              <a:chExt cx="1600200" cy="1599480"/>
            </a:xfrm>
          </p:grpSpPr>
          <p:sp>
            <p:nvSpPr>
              <p:cNvPr id="710" name=""/>
              <p:cNvSpPr/>
              <p:nvPr/>
            </p:nvSpPr>
            <p:spPr>
              <a:xfrm flipH="1" flipV="1">
                <a:off x="5515560" y="2205360"/>
                <a:ext cx="720" cy="79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4716000" y="2205360"/>
                <a:ext cx="800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10800000">
                <a:off x="4716360" y="1405800"/>
                <a:ext cx="1599840" cy="159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4716360" y="1412640"/>
              <a:ext cx="1600200" cy="1600200"/>
              <a:chOff x="4716360" y="1412640"/>
              <a:chExt cx="1600200" cy="1600200"/>
            </a:xfrm>
          </p:grpSpPr>
          <p:sp>
            <p:nvSpPr>
              <p:cNvPr id="714" name=""/>
              <p:cNvSpPr/>
              <p:nvPr/>
            </p:nvSpPr>
            <p:spPr>
              <a:xfrm flipV="1">
                <a:off x="4716360" y="2212200"/>
                <a:ext cx="80028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5516640" y="1412640"/>
                <a:ext cx="0" cy="80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6200000">
                <a:off x="4716360" y="1412640"/>
                <a:ext cx="1599840" cy="160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6796800" y="1405800"/>
            <a:ext cx="1607400" cy="1607400"/>
            <a:chOff x="6796800" y="1405800"/>
            <a:chExt cx="1607400" cy="1607400"/>
          </a:xfrm>
        </p:grpSpPr>
        <p:grpSp>
          <p:nvGrpSpPr>
            <p:cNvPr id="718" name=""/>
            <p:cNvGrpSpPr/>
            <p:nvPr/>
          </p:nvGrpSpPr>
          <p:grpSpPr>
            <a:xfrm>
              <a:off x="6796800" y="1413000"/>
              <a:ext cx="1599480" cy="1600200"/>
              <a:chOff x="6796800" y="1413000"/>
              <a:chExt cx="1599480" cy="1600200"/>
            </a:xfrm>
          </p:grpSpPr>
          <p:sp>
            <p:nvSpPr>
              <p:cNvPr id="719" name=""/>
              <p:cNvSpPr/>
              <p:nvPr/>
            </p:nvSpPr>
            <p:spPr>
              <a:xfrm>
                <a:off x="7596360" y="1413000"/>
                <a:ext cx="720" cy="80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596360" y="2213280"/>
                <a:ext cx="799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796800" y="1413000"/>
                <a:ext cx="1599120" cy="160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796800" y="1405800"/>
              <a:ext cx="1599480" cy="1599480"/>
              <a:chOff x="6796800" y="1405800"/>
              <a:chExt cx="1599480" cy="1599480"/>
            </a:xfrm>
          </p:grpSpPr>
          <p:sp>
            <p:nvSpPr>
              <p:cNvPr id="723" name=""/>
              <p:cNvSpPr/>
              <p:nvPr/>
            </p:nvSpPr>
            <p:spPr>
              <a:xfrm flipH="1">
                <a:off x="7596360" y="2205360"/>
                <a:ext cx="79992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96360" y="2205360"/>
                <a:ext cx="0" cy="79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5400000">
                <a:off x="6796800" y="1405440"/>
                <a:ext cx="1599120" cy="159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6803640" y="1405800"/>
              <a:ext cx="1600200" cy="1599480"/>
              <a:chOff x="6803640" y="1405800"/>
              <a:chExt cx="1600200" cy="1599480"/>
            </a:xfrm>
          </p:grpSpPr>
          <p:sp>
            <p:nvSpPr>
              <p:cNvPr id="727" name=""/>
              <p:cNvSpPr/>
              <p:nvPr/>
            </p:nvSpPr>
            <p:spPr>
              <a:xfrm flipH="1" flipV="1">
                <a:off x="7603200" y="2205360"/>
                <a:ext cx="720" cy="79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6803640" y="2205360"/>
                <a:ext cx="800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10800000">
                <a:off x="6804000" y="1405800"/>
                <a:ext cx="1599840" cy="159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6804000" y="1412640"/>
              <a:ext cx="1600200" cy="1600200"/>
              <a:chOff x="6804000" y="1412640"/>
              <a:chExt cx="1600200" cy="1600200"/>
            </a:xfrm>
          </p:grpSpPr>
          <p:sp>
            <p:nvSpPr>
              <p:cNvPr id="731" name=""/>
              <p:cNvSpPr/>
              <p:nvPr/>
            </p:nvSpPr>
            <p:spPr>
              <a:xfrm flipV="1">
                <a:off x="6804000" y="2212200"/>
                <a:ext cx="80028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7604280" y="1412640"/>
                <a:ext cx="0" cy="80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6200000">
                <a:off x="6804000" y="1412640"/>
                <a:ext cx="1599840" cy="160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2692080" y="1405080"/>
            <a:ext cx="1600200" cy="1600200"/>
            <a:chOff x="2692080" y="1405080"/>
            <a:chExt cx="1600200" cy="1600200"/>
          </a:xfrm>
        </p:grpSpPr>
        <p:sp>
          <p:nvSpPr>
            <p:cNvPr id="735" name=""/>
            <p:cNvSpPr/>
            <p:nvPr/>
          </p:nvSpPr>
          <p:spPr>
            <a:xfrm flipH="1">
              <a:off x="3492000" y="2205000"/>
              <a:ext cx="800280" cy="720"/>
            </a:xfrm>
            <a:prstGeom prst="line">
              <a:avLst/>
            </a:prstGeom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492000" y="2205000"/>
              <a:ext cx="0" cy="800280"/>
            </a:xfrm>
            <a:prstGeom prst="line">
              <a:avLst/>
            </a:prstGeom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5400000">
              <a:off x="2692080" y="1404720"/>
              <a:ext cx="1599840" cy="160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692440" y="1413000"/>
            <a:ext cx="1600200" cy="1599480"/>
            <a:chOff x="2692440" y="1413000"/>
            <a:chExt cx="1600200" cy="1599480"/>
          </a:xfrm>
        </p:grpSpPr>
        <p:sp>
          <p:nvSpPr>
            <p:cNvPr id="739" name=""/>
            <p:cNvSpPr/>
            <p:nvPr/>
          </p:nvSpPr>
          <p:spPr>
            <a:xfrm>
              <a:off x="3492360" y="1413000"/>
              <a:ext cx="720" cy="79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492360" y="2212920"/>
              <a:ext cx="800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692440" y="1413000"/>
              <a:ext cx="1599840" cy="159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709160" y="1405080"/>
            <a:ext cx="1599480" cy="1600200"/>
            <a:chOff x="4709160" y="1405080"/>
            <a:chExt cx="1599480" cy="1600200"/>
          </a:xfrm>
        </p:grpSpPr>
        <p:sp>
          <p:nvSpPr>
            <p:cNvPr id="743" name=""/>
            <p:cNvSpPr/>
            <p:nvPr/>
          </p:nvSpPr>
          <p:spPr>
            <a:xfrm flipH="1">
              <a:off x="5508720" y="2205000"/>
              <a:ext cx="79992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508720" y="2205000"/>
              <a:ext cx="0" cy="80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5400000">
              <a:off x="4708800" y="1405080"/>
              <a:ext cx="1599840" cy="159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4709160" y="1413000"/>
            <a:ext cx="1599480" cy="1599480"/>
            <a:chOff x="4709160" y="1413000"/>
            <a:chExt cx="1599480" cy="1599480"/>
          </a:xfrm>
        </p:grpSpPr>
        <p:sp>
          <p:nvSpPr>
            <p:cNvPr id="747" name=""/>
            <p:cNvSpPr/>
            <p:nvPr/>
          </p:nvSpPr>
          <p:spPr>
            <a:xfrm>
              <a:off x="5508720" y="1413000"/>
              <a:ext cx="720" cy="79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08720" y="2212920"/>
              <a:ext cx="799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709160" y="1413000"/>
              <a:ext cx="1599120" cy="159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716000" y="1404720"/>
            <a:ext cx="1600200" cy="1600200"/>
            <a:chOff x="4716000" y="1404720"/>
            <a:chExt cx="1600200" cy="1600200"/>
          </a:xfrm>
        </p:grpSpPr>
        <p:sp>
          <p:nvSpPr>
            <p:cNvPr id="751" name=""/>
            <p:cNvSpPr/>
            <p:nvPr/>
          </p:nvSpPr>
          <p:spPr>
            <a:xfrm flipH="1" flipV="1">
              <a:off x="5515560" y="2204640"/>
              <a:ext cx="720" cy="80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716000" y="2204640"/>
              <a:ext cx="800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10800000">
              <a:off x="4716360" y="1404720"/>
              <a:ext cx="1599840" cy="160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6803640" y="1404720"/>
            <a:ext cx="1600200" cy="1600200"/>
            <a:chOff x="6803640" y="1404720"/>
            <a:chExt cx="1600200" cy="1600200"/>
          </a:xfrm>
        </p:grpSpPr>
        <p:sp>
          <p:nvSpPr>
            <p:cNvPr id="755" name=""/>
            <p:cNvSpPr/>
            <p:nvPr/>
          </p:nvSpPr>
          <p:spPr>
            <a:xfrm flipH="1" flipV="1">
              <a:off x="7603200" y="2204640"/>
              <a:ext cx="720" cy="80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6803640" y="2204640"/>
              <a:ext cx="800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0800000">
              <a:off x="6804000" y="1404720"/>
              <a:ext cx="1599840" cy="160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f75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6796800" y="1405080"/>
            <a:ext cx="1599480" cy="1600200"/>
            <a:chOff x="6796800" y="1405080"/>
            <a:chExt cx="1599480" cy="1600200"/>
          </a:xfrm>
        </p:grpSpPr>
        <p:sp>
          <p:nvSpPr>
            <p:cNvPr id="759" name=""/>
            <p:cNvSpPr/>
            <p:nvPr/>
          </p:nvSpPr>
          <p:spPr>
            <a:xfrm flipH="1">
              <a:off x="7596360" y="2205000"/>
              <a:ext cx="79992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96360" y="2205000"/>
              <a:ext cx="0" cy="80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5400000">
              <a:off x="6796440" y="1405080"/>
              <a:ext cx="1599840" cy="159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f75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6804000" y="1413000"/>
            <a:ext cx="1600200" cy="1599480"/>
            <a:chOff x="6804000" y="1413000"/>
            <a:chExt cx="1600200" cy="1599480"/>
          </a:xfrm>
        </p:grpSpPr>
        <p:sp>
          <p:nvSpPr>
            <p:cNvPr id="763" name=""/>
            <p:cNvSpPr/>
            <p:nvPr/>
          </p:nvSpPr>
          <p:spPr>
            <a:xfrm flipV="1">
              <a:off x="6804000" y="2212200"/>
              <a:ext cx="80028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7604280" y="1413000"/>
              <a:ext cx="0" cy="79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16200000">
              <a:off x="6804360" y="1412640"/>
              <a:ext cx="1599120" cy="160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f75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6796800" y="1413000"/>
            <a:ext cx="1599480" cy="1599480"/>
            <a:chOff x="6796800" y="1413000"/>
            <a:chExt cx="1599480" cy="1599480"/>
          </a:xfrm>
        </p:grpSpPr>
        <p:sp>
          <p:nvSpPr>
            <p:cNvPr id="767" name=""/>
            <p:cNvSpPr/>
            <p:nvPr/>
          </p:nvSpPr>
          <p:spPr>
            <a:xfrm>
              <a:off x="7596360" y="1413000"/>
              <a:ext cx="720" cy="79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596360" y="2212920"/>
              <a:ext cx="799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796800" y="1413000"/>
              <a:ext cx="1599120" cy="159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f75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2843280" y="306864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859280" y="306864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7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948360" y="306864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1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2700360" y="4292640"/>
            <a:ext cx="1752480" cy="1600200"/>
            <a:chOff x="2700360" y="4292640"/>
            <a:chExt cx="1752480" cy="1600200"/>
          </a:xfrm>
        </p:grpSpPr>
        <p:sp>
          <p:nvSpPr>
            <p:cNvPr id="774" name=""/>
            <p:cNvSpPr/>
            <p:nvPr/>
          </p:nvSpPr>
          <p:spPr>
            <a:xfrm>
              <a:off x="3564360" y="4292640"/>
              <a:ext cx="0" cy="160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2700360" y="4292640"/>
              <a:ext cx="1752480" cy="1600200"/>
              <a:chOff x="2700360" y="4292640"/>
              <a:chExt cx="1752480" cy="1600200"/>
            </a:xfrm>
          </p:grpSpPr>
          <p:sp>
            <p:nvSpPr>
              <p:cNvPr id="776" name=""/>
              <p:cNvSpPr/>
              <p:nvPr/>
            </p:nvSpPr>
            <p:spPr>
              <a:xfrm>
                <a:off x="2700360" y="4292640"/>
                <a:ext cx="1752480" cy="16002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V="1">
                <a:off x="3565080" y="4867200"/>
                <a:ext cx="844560" cy="191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65080" y="5060880"/>
                <a:ext cx="850320" cy="25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565080" y="5060880"/>
                <a:ext cx="519120" cy="67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3045960" y="5060880"/>
                <a:ext cx="519120" cy="66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2786040" y="5060880"/>
                <a:ext cx="779040" cy="34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 flipV="1">
                <a:off x="3110760" y="4421520"/>
                <a:ext cx="454320" cy="63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3565080" y="4421520"/>
                <a:ext cx="454320" cy="63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737440" y="4868280"/>
                <a:ext cx="827640" cy="197640"/>
              </a:xfrm>
              <a:custGeom>
                <a:avLst/>
                <a:gdLst/>
                <a:ahLst/>
                <a:rect l="l" t="t" r="r" b="b"/>
                <a:pathLst>
                  <a:path w="1303" h="311">
                    <a:moveTo>
                      <a:pt x="1303" y="311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"/>
          <p:cNvGrpSpPr/>
          <p:nvPr/>
        </p:nvGrpSpPr>
        <p:grpSpPr>
          <a:xfrm>
            <a:off x="611280" y="4292640"/>
            <a:ext cx="1752480" cy="1600200"/>
            <a:chOff x="611280" y="4292640"/>
            <a:chExt cx="1752480" cy="1600200"/>
          </a:xfrm>
        </p:grpSpPr>
        <p:sp>
          <p:nvSpPr>
            <p:cNvPr id="786" name=""/>
            <p:cNvSpPr/>
            <p:nvPr/>
          </p:nvSpPr>
          <p:spPr>
            <a:xfrm>
              <a:off x="1475280" y="4292640"/>
              <a:ext cx="0" cy="160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611280" y="4292640"/>
              <a:ext cx="1752480" cy="1600200"/>
              <a:chOff x="611280" y="4292640"/>
              <a:chExt cx="1752480" cy="1600200"/>
            </a:xfrm>
          </p:grpSpPr>
          <p:sp>
            <p:nvSpPr>
              <p:cNvPr id="788" name=""/>
              <p:cNvSpPr/>
              <p:nvPr/>
            </p:nvSpPr>
            <p:spPr>
              <a:xfrm>
                <a:off x="611280" y="4292640"/>
                <a:ext cx="1752480" cy="16002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V="1">
                <a:off x="1476000" y="4867200"/>
                <a:ext cx="844560" cy="191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476000" y="5060880"/>
                <a:ext cx="850320" cy="25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476000" y="5060880"/>
                <a:ext cx="519120" cy="67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956880" y="5060880"/>
                <a:ext cx="519120" cy="66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696960" y="5060880"/>
                <a:ext cx="779040" cy="34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 flipV="1">
                <a:off x="1021680" y="4421520"/>
                <a:ext cx="454320" cy="63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1476000" y="4421520"/>
                <a:ext cx="454320" cy="63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48360" y="4868280"/>
                <a:ext cx="827640" cy="197640"/>
              </a:xfrm>
              <a:custGeom>
                <a:avLst/>
                <a:gdLst/>
                <a:ahLst/>
                <a:rect l="l" t="t" r="r" b="b"/>
                <a:pathLst>
                  <a:path w="1303" h="311">
                    <a:moveTo>
                      <a:pt x="1303" y="311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"/>
          <p:cNvGrpSpPr/>
          <p:nvPr/>
        </p:nvGrpSpPr>
        <p:grpSpPr>
          <a:xfrm>
            <a:off x="4788000" y="4292640"/>
            <a:ext cx="1800000" cy="1657440"/>
            <a:chOff x="4788000" y="4292640"/>
            <a:chExt cx="1800000" cy="1657440"/>
          </a:xfrm>
        </p:grpSpPr>
        <p:sp>
          <p:nvSpPr>
            <p:cNvPr id="798" name=""/>
            <p:cNvSpPr/>
            <p:nvPr/>
          </p:nvSpPr>
          <p:spPr>
            <a:xfrm>
              <a:off x="4788000" y="4292640"/>
              <a:ext cx="1800000" cy="1657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680800" y="4292640"/>
              <a:ext cx="6840" cy="840240"/>
            </a:xfrm>
            <a:custGeom>
              <a:avLst/>
              <a:gdLst/>
              <a:ahLst/>
              <a:rect l="l" t="t" r="r" b="b"/>
              <a:pathLst>
                <a:path w="14" h="1826">
                  <a:moveTo>
                    <a:pt x="14" y="0"/>
                  </a:moveTo>
                  <a:lnTo>
                    <a:pt x="0" y="18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688000" y="5121000"/>
              <a:ext cx="539640" cy="66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148000" y="5121000"/>
              <a:ext cx="540360" cy="663120"/>
            </a:xfrm>
            <a:custGeom>
              <a:avLst/>
              <a:gdLst/>
              <a:ahLst/>
              <a:rect l="l" t="t" r="r" b="b"/>
              <a:pathLst>
                <a:path w="1376" h="1181">
                  <a:moveTo>
                    <a:pt x="1376" y="0"/>
                  </a:moveTo>
                  <a:lnTo>
                    <a:pt x="0" y="1181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688000" y="4789800"/>
              <a:ext cx="810000" cy="331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818240" y="4885560"/>
              <a:ext cx="869400" cy="235440"/>
            </a:xfrm>
            <a:custGeom>
              <a:avLst/>
              <a:gdLst/>
              <a:ahLst/>
              <a:rect l="l" t="t" r="r" b="b"/>
              <a:pathLst>
                <a:path w="1739" h="512">
                  <a:moveTo>
                    <a:pt x="1739" y="51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6948360" y="4292640"/>
            <a:ext cx="1727280" cy="1657440"/>
            <a:chOff x="6948360" y="4292640"/>
            <a:chExt cx="1727280" cy="1657440"/>
          </a:xfrm>
        </p:grpSpPr>
        <p:sp>
          <p:nvSpPr>
            <p:cNvPr id="805" name=""/>
            <p:cNvSpPr/>
            <p:nvPr/>
          </p:nvSpPr>
          <p:spPr>
            <a:xfrm>
              <a:off x="6948360" y="4292640"/>
              <a:ext cx="1727280" cy="1657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805160" y="4292640"/>
              <a:ext cx="6480" cy="840240"/>
            </a:xfrm>
            <a:custGeom>
              <a:avLst/>
              <a:gdLst/>
              <a:ahLst/>
              <a:rect l="l" t="t" r="r" b="b"/>
              <a:pathLst>
                <a:path w="14" h="1826">
                  <a:moveTo>
                    <a:pt x="14" y="0"/>
                  </a:moveTo>
                  <a:lnTo>
                    <a:pt x="0" y="18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812000" y="5121000"/>
              <a:ext cx="518040" cy="66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293600" y="5121000"/>
              <a:ext cx="518760" cy="663120"/>
            </a:xfrm>
            <a:custGeom>
              <a:avLst/>
              <a:gdLst/>
              <a:ahLst/>
              <a:rect l="l" t="t" r="r" b="b"/>
              <a:pathLst>
                <a:path w="1376" h="1181">
                  <a:moveTo>
                    <a:pt x="1376" y="0"/>
                  </a:moveTo>
                  <a:lnTo>
                    <a:pt x="0" y="1181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812000" y="4789800"/>
              <a:ext cx="777240" cy="331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977520" y="4885560"/>
              <a:ext cx="834120" cy="235440"/>
            </a:xfrm>
            <a:custGeom>
              <a:avLst/>
              <a:gdLst/>
              <a:ahLst/>
              <a:rect l="l" t="t" r="r" b="b"/>
              <a:pathLst>
                <a:path w="1739" h="512">
                  <a:moveTo>
                    <a:pt x="1739" y="51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755640" y="595008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987640" y="595008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7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076720" y="595008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164360" y="595008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6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557520" y="4400640"/>
            <a:ext cx="870120" cy="666720"/>
          </a:xfrm>
          <a:custGeom>
            <a:avLst/>
            <a:gdLst/>
            <a:ahLst/>
            <a:rect l="l" t="t" r="r" b="b"/>
            <a:pathLst>
              <a:path w="548" h="420">
                <a:moveTo>
                  <a:pt x="0" y="420"/>
                </a:moveTo>
                <a:lnTo>
                  <a:pt x="294" y="0"/>
                </a:lnTo>
                <a:lnTo>
                  <a:pt x="411" y="93"/>
                </a:lnTo>
                <a:lnTo>
                  <a:pt x="483" y="180"/>
                </a:lnTo>
                <a:lnTo>
                  <a:pt x="548" y="295"/>
                </a:lnTo>
                <a:lnTo>
                  <a:pt x="9" y="417"/>
                </a:lnTo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567240" y="4869000"/>
            <a:ext cx="885600" cy="446040"/>
          </a:xfrm>
          <a:custGeom>
            <a:avLst/>
            <a:gdLst/>
            <a:ahLst/>
            <a:rect l="l" t="t" r="r" b="b"/>
            <a:pathLst>
              <a:path w="558" h="281">
                <a:moveTo>
                  <a:pt x="0" y="128"/>
                </a:moveTo>
                <a:lnTo>
                  <a:pt x="542" y="0"/>
                </a:lnTo>
                <a:lnTo>
                  <a:pt x="558" y="143"/>
                </a:lnTo>
                <a:lnTo>
                  <a:pt x="546" y="218"/>
                </a:lnTo>
                <a:lnTo>
                  <a:pt x="540" y="260"/>
                </a:lnTo>
                <a:lnTo>
                  <a:pt x="534" y="281"/>
                </a:lnTo>
                <a:lnTo>
                  <a:pt x="525" y="281"/>
                </a:lnTo>
                <a:lnTo>
                  <a:pt x="0" y="128"/>
                </a:lnTo>
                <a:close/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562200" y="5067360"/>
            <a:ext cx="847800" cy="671400"/>
          </a:xfrm>
          <a:custGeom>
            <a:avLst/>
            <a:gdLst/>
            <a:ahLst/>
            <a:rect l="l" t="t" r="r" b="b"/>
            <a:pathLst>
              <a:path w="534" h="423">
                <a:moveTo>
                  <a:pt x="0" y="0"/>
                </a:moveTo>
                <a:lnTo>
                  <a:pt x="534" y="159"/>
                </a:lnTo>
                <a:lnTo>
                  <a:pt x="492" y="258"/>
                </a:lnTo>
                <a:lnTo>
                  <a:pt x="414" y="354"/>
                </a:lnTo>
                <a:lnTo>
                  <a:pt x="366" y="393"/>
                </a:lnTo>
                <a:lnTo>
                  <a:pt x="360" y="399"/>
                </a:lnTo>
                <a:lnTo>
                  <a:pt x="321" y="42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557520" y="5084640"/>
            <a:ext cx="514440" cy="801720"/>
          </a:xfrm>
          <a:custGeom>
            <a:avLst/>
            <a:gdLst/>
            <a:ahLst/>
            <a:rect l="l" t="t" r="r" b="b"/>
            <a:pathLst>
              <a:path w="324" h="505">
                <a:moveTo>
                  <a:pt x="4" y="0"/>
                </a:moveTo>
                <a:lnTo>
                  <a:pt x="324" y="418"/>
                </a:lnTo>
                <a:lnTo>
                  <a:pt x="264" y="451"/>
                </a:lnTo>
                <a:lnTo>
                  <a:pt x="195" y="475"/>
                </a:lnTo>
                <a:lnTo>
                  <a:pt x="111" y="496"/>
                </a:lnTo>
                <a:lnTo>
                  <a:pt x="18" y="505"/>
                </a:lnTo>
                <a:lnTo>
                  <a:pt x="0" y="505"/>
                </a:lnTo>
                <a:lnTo>
                  <a:pt x="4" y="0"/>
                </a:lnTo>
                <a:close/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048120" y="5072040"/>
            <a:ext cx="504720" cy="814320"/>
          </a:xfrm>
          <a:custGeom>
            <a:avLst/>
            <a:gdLst/>
            <a:ahLst/>
            <a:rect l="l" t="t" r="r" b="b"/>
            <a:pathLst>
              <a:path w="318" h="513">
                <a:moveTo>
                  <a:pt x="318" y="0"/>
                </a:moveTo>
                <a:lnTo>
                  <a:pt x="318" y="513"/>
                </a:lnTo>
                <a:lnTo>
                  <a:pt x="207" y="504"/>
                </a:lnTo>
                <a:lnTo>
                  <a:pt x="90" y="462"/>
                </a:lnTo>
                <a:lnTo>
                  <a:pt x="0" y="411"/>
                </a:lnTo>
                <a:lnTo>
                  <a:pt x="318" y="0"/>
                </a:lnTo>
                <a:close/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781360" y="5072040"/>
            <a:ext cx="766800" cy="652320"/>
          </a:xfrm>
          <a:custGeom>
            <a:avLst/>
            <a:gdLst/>
            <a:ahLst/>
            <a:rect l="l" t="t" r="r" b="b"/>
            <a:pathLst>
              <a:path w="483" h="411">
                <a:moveTo>
                  <a:pt x="0" y="216"/>
                </a:moveTo>
                <a:lnTo>
                  <a:pt x="483" y="0"/>
                </a:lnTo>
                <a:lnTo>
                  <a:pt x="159" y="411"/>
                </a:lnTo>
                <a:lnTo>
                  <a:pt x="84" y="342"/>
                </a:lnTo>
                <a:lnTo>
                  <a:pt x="33" y="273"/>
                </a:lnTo>
                <a:lnTo>
                  <a:pt x="0" y="216"/>
                </a:lnTo>
                <a:close/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564000" y="4292640"/>
            <a:ext cx="446040" cy="792000"/>
          </a:xfrm>
          <a:custGeom>
            <a:avLst/>
            <a:gdLst/>
            <a:ahLst/>
            <a:rect l="l" t="t" r="r" b="b"/>
            <a:pathLst>
              <a:path w="281" h="499">
                <a:moveTo>
                  <a:pt x="0" y="0"/>
                </a:moveTo>
                <a:lnTo>
                  <a:pt x="0" y="499"/>
                </a:lnTo>
                <a:lnTo>
                  <a:pt x="281" y="71"/>
                </a:lnTo>
                <a:lnTo>
                  <a:pt x="215" y="38"/>
                </a:lnTo>
                <a:lnTo>
                  <a:pt x="149" y="20"/>
                </a:lnTo>
                <a:lnTo>
                  <a:pt x="68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476360" y="5072040"/>
            <a:ext cx="523800" cy="814320"/>
          </a:xfrm>
          <a:custGeom>
            <a:avLst/>
            <a:gdLst/>
            <a:ahLst/>
            <a:rect l="l" t="t" r="r" b="b"/>
            <a:pathLst>
              <a:path w="330" h="513">
                <a:moveTo>
                  <a:pt x="0" y="0"/>
                </a:moveTo>
                <a:lnTo>
                  <a:pt x="330" y="420"/>
                </a:lnTo>
                <a:lnTo>
                  <a:pt x="288" y="444"/>
                </a:lnTo>
                <a:lnTo>
                  <a:pt x="228" y="471"/>
                </a:lnTo>
                <a:lnTo>
                  <a:pt x="147" y="495"/>
                </a:lnTo>
                <a:lnTo>
                  <a:pt x="99" y="504"/>
                </a:lnTo>
                <a:lnTo>
                  <a:pt x="42" y="513"/>
                </a:lnTo>
                <a:lnTo>
                  <a:pt x="0" y="51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686560" y="4781520"/>
            <a:ext cx="900000" cy="1004760"/>
          </a:xfrm>
          <a:custGeom>
            <a:avLst/>
            <a:gdLst/>
            <a:ahLst/>
            <a:rect l="l" t="t" r="r" b="b"/>
            <a:pathLst>
              <a:path w="567" h="633">
                <a:moveTo>
                  <a:pt x="0" y="213"/>
                </a:moveTo>
                <a:lnTo>
                  <a:pt x="519" y="0"/>
                </a:lnTo>
                <a:lnTo>
                  <a:pt x="552" y="96"/>
                </a:lnTo>
                <a:lnTo>
                  <a:pt x="561" y="153"/>
                </a:lnTo>
                <a:lnTo>
                  <a:pt x="567" y="204"/>
                </a:lnTo>
                <a:lnTo>
                  <a:pt x="561" y="267"/>
                </a:lnTo>
                <a:lnTo>
                  <a:pt x="552" y="321"/>
                </a:lnTo>
                <a:lnTo>
                  <a:pt x="531" y="393"/>
                </a:lnTo>
                <a:lnTo>
                  <a:pt x="501" y="450"/>
                </a:lnTo>
                <a:lnTo>
                  <a:pt x="477" y="489"/>
                </a:lnTo>
                <a:lnTo>
                  <a:pt x="438" y="540"/>
                </a:lnTo>
                <a:lnTo>
                  <a:pt x="396" y="582"/>
                </a:lnTo>
                <a:lnTo>
                  <a:pt x="342" y="633"/>
                </a:lnTo>
                <a:lnTo>
                  <a:pt x="0" y="213"/>
                </a:lnTo>
                <a:close/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819920" y="4786200"/>
            <a:ext cx="847800" cy="1005120"/>
          </a:xfrm>
          <a:custGeom>
            <a:avLst/>
            <a:gdLst/>
            <a:ahLst/>
            <a:rect l="l" t="t" r="r" b="b"/>
            <a:pathLst>
              <a:path w="534" h="633">
                <a:moveTo>
                  <a:pt x="0" y="210"/>
                </a:moveTo>
                <a:lnTo>
                  <a:pt x="495" y="0"/>
                </a:lnTo>
                <a:lnTo>
                  <a:pt x="522" y="93"/>
                </a:lnTo>
                <a:lnTo>
                  <a:pt x="531" y="147"/>
                </a:lnTo>
                <a:lnTo>
                  <a:pt x="534" y="246"/>
                </a:lnTo>
                <a:lnTo>
                  <a:pt x="522" y="330"/>
                </a:lnTo>
                <a:lnTo>
                  <a:pt x="498" y="399"/>
                </a:lnTo>
                <a:lnTo>
                  <a:pt x="456" y="480"/>
                </a:lnTo>
                <a:lnTo>
                  <a:pt x="414" y="540"/>
                </a:lnTo>
                <a:lnTo>
                  <a:pt x="363" y="594"/>
                </a:lnTo>
                <a:lnTo>
                  <a:pt x="312" y="633"/>
                </a:lnTo>
                <a:lnTo>
                  <a:pt x="0" y="210"/>
                </a:lnTo>
                <a:close/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812000" y="4292640"/>
            <a:ext cx="792360" cy="825480"/>
          </a:xfrm>
          <a:custGeom>
            <a:avLst/>
            <a:gdLst/>
            <a:ahLst/>
            <a:rect l="l" t="t" r="r" b="b"/>
            <a:pathLst>
              <a:path w="499" h="520">
                <a:moveTo>
                  <a:pt x="0" y="0"/>
                </a:moveTo>
                <a:lnTo>
                  <a:pt x="3" y="520"/>
                </a:lnTo>
                <a:lnTo>
                  <a:pt x="499" y="318"/>
                </a:lnTo>
                <a:lnTo>
                  <a:pt x="455" y="236"/>
                </a:lnTo>
                <a:lnTo>
                  <a:pt x="379" y="144"/>
                </a:lnTo>
                <a:lnTo>
                  <a:pt x="287" y="80"/>
                </a:lnTo>
                <a:lnTo>
                  <a:pt x="215" y="44"/>
                </a:lnTo>
                <a:lnTo>
                  <a:pt x="107" y="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978600" y="4292640"/>
            <a:ext cx="833400" cy="819000"/>
          </a:xfrm>
          <a:custGeom>
            <a:avLst/>
            <a:gdLst/>
            <a:ahLst/>
            <a:rect l="l" t="t" r="r" b="b"/>
            <a:pathLst>
              <a:path w="525" h="516">
                <a:moveTo>
                  <a:pt x="0" y="372"/>
                </a:moveTo>
                <a:lnTo>
                  <a:pt x="520" y="516"/>
                </a:lnTo>
                <a:lnTo>
                  <a:pt x="525" y="0"/>
                </a:lnTo>
                <a:lnTo>
                  <a:pt x="424" y="12"/>
                </a:lnTo>
                <a:lnTo>
                  <a:pt x="324" y="36"/>
                </a:lnTo>
                <a:lnTo>
                  <a:pt x="252" y="72"/>
                </a:lnTo>
                <a:lnTo>
                  <a:pt x="200" y="108"/>
                </a:lnTo>
                <a:lnTo>
                  <a:pt x="148" y="152"/>
                </a:lnTo>
                <a:lnTo>
                  <a:pt x="88" y="212"/>
                </a:lnTo>
                <a:lnTo>
                  <a:pt x="36" y="292"/>
                </a:lnTo>
                <a:lnTo>
                  <a:pt x="0" y="372"/>
                </a:lnTo>
                <a:close/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4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7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0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3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6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2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5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Monotype Corsiva"/>
              </a:rPr>
              <a:t>В пятых классах была проведена контрольная работа по математике. Были получены следующие результаты: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4560" y="5373720"/>
            <a:ext cx="9001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Как  сравнить какой класс лучше справился с  контроль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ной работо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971640" y="1844640"/>
          <a:ext cx="6913440" cy="3456000"/>
        </p:xfrm>
        <a:graphic>
          <a:graphicData uri="http://schemas.openxmlformats.org/drawingml/2006/table">
            <a:tbl>
              <a:tblPr/>
              <a:tblGrid>
                <a:gridCol w="1382760"/>
                <a:gridCol w="1382400"/>
                <a:gridCol w="1382760"/>
                <a:gridCol w="1382760"/>
                <a:gridCol w="1382760"/>
              </a:tblGrid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цен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2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300" spc="-1" strike="noStrike">
                <a:solidFill>
                  <a:srgbClr val="ff0000"/>
                </a:solidFill>
                <a:latin typeface="Arial"/>
              </a:rPr>
              <a:t>Проценты</a:t>
            </a:r>
            <a:endParaRPr b="0" lang="en-US" sz="123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3276720" y="3933720"/>
            <a:ext cx="28573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50000">
              <a:srgbClr val="66ff33"/>
            </a:gs>
            <a:gs pos="100000">
              <a:srgbClr val="2f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ed0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6c00"/>
                </a:solidFill>
                <a:latin typeface="Courier New"/>
              </a:rPr>
              <a:t>Процент</a:t>
            </a:r>
            <a:r>
              <a:rPr b="0" lang="en-US" sz="3200" spc="-1" strike="noStrike">
                <a:solidFill>
                  <a:srgbClr val="006c00"/>
                </a:solidFill>
                <a:latin typeface="Courier New"/>
              </a:rPr>
              <a:t> — </a:t>
            </a:r>
            <a:r>
              <a:rPr b="1" lang="en-US" sz="3200" spc="-1" strike="noStrike">
                <a:solidFill>
                  <a:srgbClr val="006c00"/>
                </a:solidFill>
                <a:latin typeface="Courier New"/>
              </a:rPr>
              <a:t>одна сотая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доля</a:t>
            </a:r>
            <a:r>
              <a:rPr b="0" lang="en-US" sz="3200" spc="-1" strike="noStrike" u="sng">
                <a:solidFill>
                  <a:srgbClr val="006c00"/>
                </a:solidFill>
                <a:uFillTx/>
                <a:latin typeface="Courier New"/>
              </a:rPr>
              <a:t>. Обозначается знаком «%». Используется для обозначения доли чего-либо по отношению к целому. Например, 17 % от 500 кг означает 17 частей по 5 кг каждая, то есть 85 к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2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Verdana"/>
              </a:rPr>
              <a:t>       </a:t>
            </a:r>
            <a:r>
              <a:rPr b="1" lang="ru-RU" sz="3200" spc="-1" strike="noStrike">
                <a:solidFill>
                  <a:srgbClr val="f60404"/>
                </a:solidFill>
                <a:latin typeface="Arial Black"/>
              </a:rPr>
              <a:t>Происхождение обознач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Само слово «процент» происходит от  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лат.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 </a:t>
            </a:r>
            <a:r>
              <a:rPr b="0" i="1" lang="ru-RU" sz="3200" spc="-1" strike="noStrike">
                <a:solidFill>
                  <a:srgbClr val="ff0066"/>
                </a:solidFill>
                <a:latin typeface="Verdana"/>
              </a:rPr>
              <a:t>«pro centum»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, что означает в переводе «сотая доля». В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1685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 году в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Париже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 была издана книга «Руководство по коммерческой арифметике»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Матье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 де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ла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 Порта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. В одном месте речь шла о процентах, которые тогда обозначали «cto» (сокращенно от cento). Однако наборщик принял это «cto» за дробь и напечатал «%». Так из-за опечатки этот знак вошёл в обихо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en-US" sz="3200" spc="-1" strike="noStrike">
                <a:solidFill>
                  <a:srgbClr val="800080"/>
                </a:solidFill>
                <a:latin typeface="Verdana"/>
              </a:rPr>
              <a:t>Разговорное употребл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</a:rPr>
              <a:t>«Работать за проценты» — работать за         вознаграждение, исчисляемое в зависимости от прибыли или оборо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</a:rPr>
              <a:t>«На (все) сто процентов» — полностью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</a:rPr>
              <a:t>«Процентщик» — человек, ссужающий деньги под большие проценты, ростовщи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3203640" y="4149720"/>
            <a:ext cx="19908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0 0 L 0 -0.33302 E">
                                      <p:cBhvr>
                                        <p:cTn id="70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0 0 L 0 -0.33302 E">
                                      <p:cBhvr>
                                        <p:cTn id="73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0 0 L 0 -0.33302 E">
                                      <p:cBhvr>
                                        <p:cTn id="76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0 0 L 0 -0.33302 E">
                                      <p:cBhvr>
                                        <p:cTn id="79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Motion origin="layout" path="M 0 0 C 0.012 -0.02398 0.033 -0.05861 0.058 -0.05861 C 0.095 -0.05861 0.125 -0.02265 0.125 0.02265 C 0.125 0.0373 0.122 0.05062 0.116 0.06261 C 0.117 0.06261 0 0.24244 0 0.24377 C 0 0.24244 -0.117 0.06261 -0.116 0.06261 C -0.122 0.05062 -0.125 0.0373 -0.125 0.02265 C -0.125 -0.02265 -0.095 -0.05861 -0.057 -0.05861 C -0.033 -0.05861 -0.012 -0.02398 0 0 Z">
                                      <p:cBhvr>
                                        <p:cTn id="82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Motion origin="layout" path="M 0 0 C 0.012 -0.02398 0.033 -0.05861 0.058 -0.05861 C 0.095 -0.05861 0.125 -0.02265 0.125 0.02265 C 0.125 0.0373 0.122 0.05062 0.116 0.06261 C 0.117 0.06261 0 0.24244 0 0.24377 C 0 0.24244 -0.117 0.06261 -0.116 0.06261 C -0.122 0.05062 -0.125 0.0373 -0.125 0.02265 C -0.125 -0.02265 -0.095 -0.05861 -0.057 -0.05861 C -0.033 -0.05861 -0.012 -0.02398 0 0 Z">
                                      <p:cBhvr>
                                        <p:cTn id="85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Motion origin="layout" path="M 0 0 C 0.012 -0.02398 0.033 -0.05861 0.058 -0.05861 C 0.095 -0.05861 0.125 -0.02265 0.125 0.02265 C 0.125 0.0373 0.122 0.05062 0.116 0.06261 C 0.117 0.06261 0 0.24244 0 0.24377 C 0 0.24244 -0.117 0.06261 -0.116 0.06261 C -0.122 0.05062 -0.125 0.0373 -0.125 0.02265 C -0.125 -0.02265 -0.095 -0.05861 -0.057 -0.05861 C -0.033 -0.05861 -0.012 -0.02398 0 0 Z">
                                      <p:cBhvr>
                                        <p:cTn id="88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Motion origin="layout" path="M 0 0 C 0.012 -0.02398 0.033 -0.05861 0.058 -0.05861 C 0.095 -0.05861 0.125 -0.02265 0.125 0.02265 C 0.125 0.0373 0.122 0.05062 0.116 0.06261 C 0.117 0.06261 0 0.24244 0 0.24377 C 0 0.24244 -0.117 0.06261 -0.116 0.06261 C -0.122 0.05062 -0.125 0.0373 -0.125 0.02265 C -0.125 -0.02265 -0.095 -0.05861 -0.057 -0.05861 C -0.033 -0.05861 -0.012 -0.02398 0 0 Z">
                                      <p:cBhvr>
                                        <p:cTn id="91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1 0.058 -0.05861 C 0.095 -0.05861 0.125 -0.02265 0.125 0.02265 C 0.125 0.0373 0.122 0.05062 0.116 0.06261 C 0.117 0.06261 0 0.24244 0 0.24377 C 0 0.24244 -0.117 0.06261 -0.116 0.06261 C -0.122 0.05062 -0.125 0.0373 -0.125 0.02265 C -0.125 -0.02265 -0.095 -0.05861 -0.057 -0.05861 C -0.033 -0.05861 -0.012 -0.02398 0 0 Z">
                                      <p:cBhvr>
                                        <p:cTn id="94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                               </a:t>
            </a:r>
            <a:r>
              <a:rPr b="1" lang="ru-RU" sz="2400" spc="-1" strike="noStrike">
                <a:solidFill>
                  <a:srgbClr val="00cc00"/>
                </a:solidFill>
                <a:latin typeface="Verdana"/>
              </a:rPr>
              <a:t>Правила набо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В тексте знак процента используется только при числах в цифровой форме, от которых при наборе отделяется неразрывным пробелом (</a:t>
            </a:r>
            <a:r>
              <a:rPr b="0" i="1" lang="ru-RU" sz="2400" spc="-1" strike="noStrike">
                <a:solidFill>
                  <a:srgbClr val="00ffff"/>
                </a:solidFill>
                <a:latin typeface="Verdana"/>
              </a:rPr>
              <a:t>доход 67 %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), кроме случаев, когда знак процента используется для сокращённой записи сложных слов, образованных при помощи числительного и прилагательного </a:t>
            </a:r>
            <a:r>
              <a:rPr b="0" i="1" lang="ru-RU" sz="2400" spc="-1" strike="noStrike">
                <a:solidFill>
                  <a:srgbClr val="00ffff"/>
                </a:solidFill>
                <a:latin typeface="Verdana"/>
              </a:rPr>
              <a:t>процентный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. Например: </a:t>
            </a:r>
            <a:r>
              <a:rPr b="0" i="1" lang="ru-RU" sz="2400" spc="-1" strike="noStrike">
                <a:solidFill>
                  <a:srgbClr val="00ffff"/>
                </a:solidFill>
                <a:latin typeface="Verdana"/>
              </a:rPr>
              <a:t>20%-я сметана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 (означает </a:t>
            </a:r>
            <a:r>
              <a:rPr b="0" i="1" lang="ru-RU" sz="2400" spc="-1" strike="noStrike">
                <a:solidFill>
                  <a:srgbClr val="00ffff"/>
                </a:solidFill>
                <a:latin typeface="Verdana"/>
              </a:rPr>
              <a:t>двадцатипроцентная сметана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), </a:t>
            </a:r>
            <a:r>
              <a:rPr b="0" i="1" lang="ru-RU" sz="2400" spc="-1" strike="noStrike">
                <a:solidFill>
                  <a:srgbClr val="00ffff"/>
                </a:solidFill>
                <a:latin typeface="Verdana"/>
              </a:rPr>
              <a:t>10%-й раствор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, </a:t>
            </a:r>
            <a:r>
              <a:rPr b="0" i="1" lang="ru-RU" sz="2400" spc="-1" strike="noStrike">
                <a:solidFill>
                  <a:srgbClr val="00ffff"/>
                </a:solidFill>
                <a:latin typeface="Verdana"/>
              </a:rPr>
              <a:t>20%-му раствору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, но </a:t>
            </a:r>
            <a:r>
              <a:rPr b="0" i="1" lang="ru-RU" sz="2400" spc="-1" strike="noStrike">
                <a:solidFill>
                  <a:srgbClr val="00ffff"/>
                </a:solidFill>
                <a:latin typeface="Verdana"/>
              </a:rPr>
              <a:t>жирность сметаны составляет 20 %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, </a:t>
            </a:r>
            <a:r>
              <a:rPr b="0" i="1" lang="ru-RU" sz="2400" spc="-1" strike="noStrike">
                <a:solidFill>
                  <a:srgbClr val="00ffff"/>
                </a:solidFill>
                <a:latin typeface="Verdana"/>
              </a:rPr>
              <a:t>раствор концентрацией 10 %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 и т. п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Это правило набора введено в действие в 2003 году, ранее нормой было не отделять знак процента пробелом от предшествующей цифр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6732720" y="4724280"/>
            <a:ext cx="11905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7205 0.11055 C -0.73333 0.02776 -0.69462 -0.05504 -0.68403 -0.05111 C -0.67344 -0.04718 -0.72136 0.13113 -0.70799 0.13368 C -0.69462 0.13622 -0.6158 -0.03607 -0.60399 -0.03515 C -0.59219 -0.03422 -0.65191 0.13714 -0.63733 0.139 C -0.62274 0.14085 -0.53889 -0.02544 -0.51597 -0.02451 C -0.49306 -0.02359 -0.52587 0.15218 -0.5 0.14431 C -0.47448 0.13645 -0.39427 -0.07423 -0.36146 -0.07238 C -0.32865 -0.07053 -0.32604 0.15819 -0.30295 0.15495 C -0.27951 0.15171 -0.17882 -0.05897 -0.22136 -0.09204 C -0.26406 -0.12511 -0.57431 -0.06591 -0.55868 -0.04394 C -0.5434 -0.02197 -0.22847 0.0414 -0.1283 0.03955 C -0.02778 0.0377 0.03819 -0.06683 0.04392 -0.05481 C 0.04965 -0.04278 -0.09497 0.10477 -0.0934 0.11217 C -0.09219 0.11957 0.01875 0.00301 0.05191 -0.0104 C 0.08507 -0.02382 0.09514 0.00417 0.10503 0.03238 E">
                                      <p:cBhvr>
                                        <p:cTn id="112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58920" y="1844280"/>
            <a:ext cx="122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10%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3628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Monotype Corsiva"/>
              </a:rPr>
              <a:t>Выберите для каждого процента в левом столбце соответствующую ему дробь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"/>
          <p:cNvSpPr/>
          <p:nvPr/>
        </p:nvSpPr>
        <p:spPr>
          <a:xfrm>
            <a:off x="1332000" y="263700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332000" y="335772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332000" y="407664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7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332000" y="4724280"/>
            <a:ext cx="122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9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332000" y="5445000"/>
            <a:ext cx="122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940360" y="184464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1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084720" y="263700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9/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84720" y="328464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1/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012000" y="407664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1/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84720" y="4724280"/>
            <a:ext cx="122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3/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012000" y="5445000"/>
            <a:ext cx="122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3/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195640" y="2133720"/>
            <a:ext cx="4105080" cy="1366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2340000" y="2205000"/>
            <a:ext cx="381636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3645000"/>
            <a:ext cx="403236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268360" y="4437000"/>
            <a:ext cx="403236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340000" y="2997360"/>
            <a:ext cx="3959280" cy="20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268360" y="4436640"/>
            <a:ext cx="4032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Сколько процентов площади квадрата на рисунке заштриховано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5076720" y="2060640"/>
          <a:ext cx="3456000" cy="3242880"/>
        </p:xfrm>
        <a:graphic>
          <a:graphicData uri="http://schemas.openxmlformats.org/drawingml/2006/table">
            <a:tbl>
              <a:tblPr/>
              <a:tblGrid>
                <a:gridCol w="345600"/>
                <a:gridCol w="345600"/>
                <a:gridCol w="345600"/>
                <a:gridCol w="345600"/>
                <a:gridCol w="345600"/>
                <a:gridCol w="345600"/>
                <a:gridCol w="345600"/>
                <a:gridCol w="345600"/>
                <a:gridCol w="345600"/>
                <a:gridCol w="345600"/>
              </a:tblGrid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468360" y="2060640"/>
          <a:ext cx="3610080" cy="3242880"/>
        </p:xfrm>
        <a:graphic>
          <a:graphicData uri="http://schemas.openxmlformats.org/drawingml/2006/table">
            <a:tbl>
              <a:tblPr/>
              <a:tblGrid>
                <a:gridCol w="360360"/>
                <a:gridCol w="361800"/>
                <a:gridCol w="360720"/>
                <a:gridCol w="361440"/>
                <a:gridCol w="360720"/>
                <a:gridCol w="360360"/>
                <a:gridCol w="361800"/>
                <a:gridCol w="360720"/>
                <a:gridCol w="361440"/>
                <a:gridCol w="360720"/>
              </a:tblGrid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1" name=""/>
          <p:cNvSpPr/>
          <p:nvPr/>
        </p:nvSpPr>
        <p:spPr>
          <a:xfrm>
            <a:off x="971640" y="5516640"/>
            <a:ext cx="2448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35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435640" y="5516640"/>
            <a:ext cx="2448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56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3609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5e5ff"/>
                </a:solidFill>
                <a:latin typeface="Garamond"/>
              </a:rPr>
              <a:t>Найдите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36716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%  от  24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%  от  700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0%  от  24,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75%  от  3200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2,5%  от  40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"/>
          <p:cNvSpPr/>
          <p:nvPr/>
        </p:nvSpPr>
        <p:spPr>
          <a:xfrm>
            <a:off x="4067280" y="620640"/>
            <a:ext cx="4824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5e5ff"/>
                </a:solidFill>
                <a:latin typeface="Garamond"/>
              </a:rPr>
              <a:t>Найдите число, есл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500720" y="1916280"/>
            <a:ext cx="4464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0% его равны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5% его равны 3,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% его равны 2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% его равны 4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3 1/3 его равны 1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0:07:57Z</dcterms:created>
  <dc:creator>Дмитрий</dc:creator>
  <dc:description/>
  <dc:language>en-US</dc:language>
  <cp:lastModifiedBy>Ольга Александровна</cp:lastModifiedBy>
  <dcterms:modified xsi:type="dcterms:W3CDTF">2008-08-20T13:16:11Z</dcterms:modified>
  <cp:revision>26</cp:revision>
  <dc:subject/>
  <dc:title>«Арифметика – гимнастика ума». </dc:title>
</cp:coreProperties>
</file>