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4F5-2021-4415-8880-CFB12502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52E-0090-4D3D-92D1-AA3B4B8D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B77B1-83DF-48DF-BDAD-6BDEFEC9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53AB2-F789-4995-A8CD-76FD3D37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87526-9C99-48FD-B4CF-351DA2BF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7A353-E1B1-4CD8-9516-ADD97D83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4BED-1EAB-4E15-9891-D9DA5652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357AE-6106-424E-9F9B-D69CF2C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10027-3952-460C-965D-5677E9C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CAA13-25FA-4C99-AD5A-68762FFF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2419E-920E-426F-B6EE-170BF68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FE2-EAD2-45CC-BBDE-83422443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D01-8EFB-49D3-9B9D-CFBE3A7A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275-272F-4B92-A4B3-4AE962CB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66B9-A4F6-4BED-9B2C-1B77EF72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EF3-334A-42AD-95C6-102CB0DF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73D4-1871-4663-8C56-B5D95E2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93E8-4399-4A29-B91D-6DC263B0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2DCF-1012-4FAD-B1DA-2E6CCFE9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B26E-6CBD-4144-A928-4F41D150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5020-E89C-4942-873B-AC20614C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A29-127A-45FE-823F-D07AA7F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DF25-AEB0-4EC1-BC26-9CD7840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3DCF-FCA6-4691-A406-1AE1EE94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A242-53BE-49AD-95A8-321CA081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B637-F24F-467D-A66E-02849C55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C5CA2-62BA-4710-A871-6944050C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02CB3-1623-4DB2-9804-B06D048E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999FC-58F8-496A-B088-D06D969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AB14C-A917-43BF-B689-765989F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ACF64-E174-40EE-8C82-CAD4A0C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DEF-DBAF-417E-AD1E-7FC42F22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E2F54-4A97-495D-AC5C-5F35A751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222B8-AA99-434A-9F15-976586C7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188F1-EB9E-48C0-9892-AB6636E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12CFA-B7EA-457D-958B-191D0D5B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9CCF7-4308-4940-8527-A2B0BA4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7A0957-E778-4872-8908-7FD1C78B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25BE2-36D5-4B71-97EA-F1590D01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27D0-A95D-4AE3-85AC-72FD915B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E600F-0A7A-4446-8F8A-7FD9D51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68FD7-7417-4028-807F-842F0F9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7E2-23B1-4245-B8C1-CD4A4F08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B2F7-1261-47BD-9461-8EFF7301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86CC-1D36-4B1C-BC5C-7E0D1B3F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60F9-BC9A-4791-8EC1-926DEFF3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7C34A-2DA3-42BB-A712-2C81AF8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DDB02-D703-4362-8F8D-840672A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EBD3-9FF6-40B0-A080-6F95341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CC73-D972-452F-833C-E094225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27883-B513-4AAA-8F66-42CEDD19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90F4-39B4-4685-8926-0FF1A41F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293F-D5AC-426D-B87D-4A10DEE5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C32-DECF-4AAC-A048-57896A1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3863-F9D5-45B5-9E95-38BCE0CE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84DE1-05AC-4365-B0B3-5BB615F9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3145-DC73-4E94-8E64-A6B23D5F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0DA91-54E3-4560-9A3B-97CE15B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1CE6-E527-4F8F-9BB3-35E97EB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21257-4F60-457E-AB63-50511F2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B464D-74C6-4E97-9F5D-9EDD2DC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8521-8BDB-44DA-8B72-AF0922A9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3162B-90EF-4A7A-827B-65B987BC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F7EA3-CDBC-41D1-B52E-BB368056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096-0DDF-4C9C-A658-C92560F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0F95E-9735-4834-A29F-D8D689A8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2E9D-44EF-4E54-BFB4-E0670B10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0948-1BAA-47F0-89D7-8B5CB387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905BF-2B44-4CDC-8DD8-9090B7AC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2A6A-02E5-4D49-B6A5-2AB62E85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5E2EA-AA58-4291-96C0-20F9A61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8D924-E68B-49EC-BEAA-793BEAD0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F209-C7FB-4874-B7ED-C580480C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14305-338A-4C66-B2D9-FEB7BE2F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5828-F97E-41CA-9DD0-6BCEF513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93B7-C407-4F0E-B042-AC2EC770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71310-9D23-47E3-8DF9-3B5F7C2C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58E5D-4933-4600-A214-EC733E6D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E43D-CED7-4042-987A-7D292319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3DD35F-FDF5-4756-AA63-9EF899BD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8F780-22CF-417D-ACE8-5260A587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A0B42-E8AA-498F-B979-953DFAB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2DBC7-5F30-4823-863D-5C393B1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6209E-98A5-4C09-AAB8-21EC613A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26D10-9813-47EC-8E49-C7DEEE5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BF412-DC86-4D23-BD90-90C4BCC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A354-1E3D-48DE-9954-49CD316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BEAC5C-7B9F-4985-85A3-6308F45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530D19-A7B8-431C-A206-EDED5EDE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AB25F-3981-41C2-AC4F-4CB758F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EE635-1554-4D7C-80DD-05ACE774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00063-04D8-4D05-BF5B-997BD671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8D5BF-D531-4712-B235-0AC9C96D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3003-E67D-432F-BADA-2FCD641D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CF37-09D6-4CEF-814D-EB0AB6C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36EF7-3073-40D8-889D-72D4DBB9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66626-C3D0-434F-A94D-1051C2EE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8CD-04B5-47B8-977F-B5EF4B8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41095-7A79-4B50-A489-92665ED2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D867D-9B95-493D-BE38-4107455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75B99-D973-4232-A20E-F961B79E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397A3-2D60-4BA0-A8C3-7966C1F1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4D86-BCB7-4DD6-BE2E-32F97E7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2948-058A-483C-8D51-37B4B290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2039C-0615-4987-87C2-01EE2315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F1B0B-EC42-4158-8156-4946DA8A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77448-1EAA-4EE5-8A54-485521CF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292CB-57E8-44DE-9517-3D17050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8FBF-5258-4160-84EF-7DE961C3EAE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A7BC-BEA5-4845-B0BE-D783DC270DF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B4C-A3FB-4665-A736-CAE172E735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0E9C-BB9E-4394-8B21-D6DA93BF0A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4292-82AF-4BBD-8D32-77AAD30777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DE4D-05BC-4852-A15E-ABA1438F42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5351-D6CE-4569-AC1E-0DDEBD4BD79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9562-E8D3-45B3-A4F2-FC0BD45AFE0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3313-C82D-4247-95EA-2358DD0ABB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gabook.ru/bes_98/reclam.as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6;&#1083;&#1103;_%28&#1095;&#1072;&#1089;&#1090;&#1100;%29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2;&#1090;&#1080;&#1085;&#1089;&#1082;&#1080;&#1081;_&#1103;&#1079;&#1099;&#1082;" TargetMode="External"/><Relationship Id="rId2" Type="http://schemas.openxmlformats.org/officeDocument/2006/relationships/hyperlink" Target="http://ru.wikipedia.org/wiki/1685" TargetMode="External"/><Relationship Id="rId3" Type="http://schemas.openxmlformats.org/officeDocument/2006/relationships/hyperlink" Target="http://ru.wikipedia.org/wiki/&#1055;&#1072;&#1088;&#1080;&#1078;" TargetMode="External"/><Relationship Id="rId4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5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6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7" Type="http://schemas.openxmlformats.org/officeDocument/2006/relationships/hyperlink" Target="http://ru.wikipedia.org/w/index.php?title=&#1055;&#1086;&#1088;&#1090;%2C_&#1052;&#1072;&#1090;&#1100;&#1077;_&#1076;&#1077;_&#1083;&#1072;&amp;action=edit&amp;redlink=1" TargetMode="External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920" y="259920"/>
            <a:ext cx="90741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Счет и вычисления – основа порядка в голове.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(Песталоцци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4920" y="4941360"/>
            <a:ext cx="914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ЕСТАЛОЦЦИ (Pestalozzi) Иоганн Генрих (1746-1827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349360"/>
            <a:ext cx="2071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Monotype Corsiva"/>
              </a:rPr>
              <a:t>Основные типы задач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396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Часть по целом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628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Целое по ча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84720" y="2276640"/>
            <a:ext cx="202428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24680" y="410220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364000" y="2781360"/>
            <a:ext cx="3457800" cy="1558800"/>
            <a:chOff x="5364000" y="2781360"/>
            <a:chExt cx="3457800" cy="1558800"/>
          </a:xfrm>
        </p:grpSpPr>
        <p:sp>
          <p:nvSpPr>
            <p:cNvPr id="553" name=""/>
            <p:cNvSpPr/>
            <p:nvPr/>
          </p:nvSpPr>
          <p:spPr>
            <a:xfrm>
              <a:off x="5364000" y="3492360"/>
              <a:ext cx="3457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8218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640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64000" y="3492360"/>
              <a:ext cx="3457800" cy="675000"/>
            </a:xfrm>
            <a:custGeom>
              <a:avLst/>
              <a:gdLst/>
              <a:ahLst/>
              <a:rect l="l" t="t" r="r" b="b"/>
              <a:pathLst>
                <a:path w="1860" h="352">
                  <a:moveTo>
                    <a:pt x="0" y="0"/>
                  </a:moveTo>
                  <a:cubicBezTo>
                    <a:pt x="11" y="20"/>
                    <a:pt x="41" y="91"/>
                    <a:pt x="64" y="120"/>
                  </a:cubicBezTo>
                  <a:cubicBezTo>
                    <a:pt x="87" y="149"/>
                    <a:pt x="107" y="157"/>
                    <a:pt x="137" y="175"/>
                  </a:cubicBezTo>
                  <a:cubicBezTo>
                    <a:pt x="167" y="193"/>
                    <a:pt x="188" y="209"/>
                    <a:pt x="247" y="230"/>
                  </a:cubicBezTo>
                  <a:cubicBezTo>
                    <a:pt x="306" y="251"/>
                    <a:pt x="386" y="283"/>
                    <a:pt x="494" y="303"/>
                  </a:cubicBezTo>
                  <a:cubicBezTo>
                    <a:pt x="602" y="323"/>
                    <a:pt x="744" y="352"/>
                    <a:pt x="896" y="349"/>
                  </a:cubicBezTo>
                  <a:cubicBezTo>
                    <a:pt x="1048" y="346"/>
                    <a:pt x="1247" y="343"/>
                    <a:pt x="1408" y="285"/>
                  </a:cubicBezTo>
                  <a:cubicBezTo>
                    <a:pt x="1569" y="227"/>
                    <a:pt x="1766" y="60"/>
                    <a:pt x="186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79752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64000" y="3492360"/>
              <a:ext cx="1433520" cy="260640"/>
            </a:xfrm>
            <a:custGeom>
              <a:avLst/>
              <a:gdLst/>
              <a:ahLst/>
              <a:rect l="l" t="t" r="r" b="b"/>
              <a:pathLst>
                <a:path w="771" h="136">
                  <a:moveTo>
                    <a:pt x="0" y="0"/>
                  </a:moveTo>
                  <a:cubicBezTo>
                    <a:pt x="140" y="68"/>
                    <a:pt x="281" y="136"/>
                    <a:pt x="409" y="136"/>
                  </a:cubicBezTo>
                  <a:cubicBezTo>
                    <a:pt x="537" y="136"/>
                    <a:pt x="711" y="23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08720" y="3645000"/>
              <a:ext cx="20239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В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64000" y="2865600"/>
              <a:ext cx="3440160" cy="634680"/>
            </a:xfrm>
            <a:custGeom>
              <a:avLst/>
              <a:gdLst/>
              <a:ahLst/>
              <a:rect l="l" t="t" r="r" b="b"/>
              <a:pathLst>
                <a:path w="2167" h="400">
                  <a:moveTo>
                    <a:pt x="0" y="400"/>
                  </a:moveTo>
                  <a:cubicBezTo>
                    <a:pt x="40" y="364"/>
                    <a:pt x="127" y="244"/>
                    <a:pt x="238" y="183"/>
                  </a:cubicBezTo>
                  <a:cubicBezTo>
                    <a:pt x="349" y="122"/>
                    <a:pt x="528" y="67"/>
                    <a:pt x="668" y="37"/>
                  </a:cubicBezTo>
                  <a:cubicBezTo>
                    <a:pt x="808" y="7"/>
                    <a:pt x="953" y="0"/>
                    <a:pt x="1079" y="0"/>
                  </a:cubicBezTo>
                  <a:cubicBezTo>
                    <a:pt x="1205" y="0"/>
                    <a:pt x="1300" y="10"/>
                    <a:pt x="1426" y="37"/>
                  </a:cubicBezTo>
                  <a:cubicBezTo>
                    <a:pt x="1552" y="64"/>
                    <a:pt x="1715" y="107"/>
                    <a:pt x="1838" y="165"/>
                  </a:cubicBezTo>
                  <a:cubicBezTo>
                    <a:pt x="1961" y="223"/>
                    <a:pt x="2099" y="338"/>
                    <a:pt x="2167" y="3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64000" y="3286080"/>
              <a:ext cx="1441440" cy="214200"/>
            </a:xfrm>
            <a:custGeom>
              <a:avLst/>
              <a:gdLst/>
              <a:ahLst/>
              <a:rect l="l" t="t" r="r" b="b"/>
              <a:pathLst>
                <a:path w="908" h="135">
                  <a:moveTo>
                    <a:pt x="0" y="135"/>
                  </a:moveTo>
                  <a:cubicBezTo>
                    <a:pt x="73" y="112"/>
                    <a:pt x="288" y="0"/>
                    <a:pt x="439" y="0"/>
                  </a:cubicBezTo>
                  <a:cubicBezTo>
                    <a:pt x="590" y="0"/>
                    <a:pt x="810" y="107"/>
                    <a:pt x="908" y="1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64000" y="2781360"/>
              <a:ext cx="1729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444680" y="410220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332000" y="2276640"/>
            <a:ext cx="20239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84360" y="2781360"/>
            <a:ext cx="3457440" cy="1558800"/>
            <a:chOff x="684360" y="2781360"/>
            <a:chExt cx="3457440" cy="1558800"/>
          </a:xfrm>
        </p:grpSpPr>
        <p:sp>
          <p:nvSpPr>
            <p:cNvPr id="566" name=""/>
            <p:cNvSpPr/>
            <p:nvPr/>
          </p:nvSpPr>
          <p:spPr>
            <a:xfrm>
              <a:off x="684360" y="3492360"/>
              <a:ext cx="345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4180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8436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4360" y="3492360"/>
              <a:ext cx="3457440" cy="675000"/>
            </a:xfrm>
            <a:custGeom>
              <a:avLst/>
              <a:gdLst/>
              <a:ahLst/>
              <a:rect l="l" t="t" r="r" b="b"/>
              <a:pathLst>
                <a:path w="1860" h="352">
                  <a:moveTo>
                    <a:pt x="0" y="0"/>
                  </a:moveTo>
                  <a:cubicBezTo>
                    <a:pt x="11" y="20"/>
                    <a:pt x="41" y="91"/>
                    <a:pt x="64" y="120"/>
                  </a:cubicBezTo>
                  <a:cubicBezTo>
                    <a:pt x="87" y="149"/>
                    <a:pt x="107" y="157"/>
                    <a:pt x="137" y="175"/>
                  </a:cubicBezTo>
                  <a:cubicBezTo>
                    <a:pt x="167" y="193"/>
                    <a:pt x="188" y="209"/>
                    <a:pt x="247" y="230"/>
                  </a:cubicBezTo>
                  <a:cubicBezTo>
                    <a:pt x="306" y="251"/>
                    <a:pt x="386" y="283"/>
                    <a:pt x="494" y="303"/>
                  </a:cubicBezTo>
                  <a:cubicBezTo>
                    <a:pt x="602" y="323"/>
                    <a:pt x="744" y="352"/>
                    <a:pt x="896" y="349"/>
                  </a:cubicBezTo>
                  <a:cubicBezTo>
                    <a:pt x="1048" y="346"/>
                    <a:pt x="1247" y="343"/>
                    <a:pt x="1408" y="285"/>
                  </a:cubicBezTo>
                  <a:cubicBezTo>
                    <a:pt x="1569" y="227"/>
                    <a:pt x="1766" y="60"/>
                    <a:pt x="186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17880" y="3232080"/>
              <a:ext cx="0" cy="434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84360" y="3492360"/>
              <a:ext cx="1433520" cy="260640"/>
            </a:xfrm>
            <a:custGeom>
              <a:avLst/>
              <a:gdLst/>
              <a:ahLst/>
              <a:rect l="l" t="t" r="r" b="b"/>
              <a:pathLst>
                <a:path w="771" h="136">
                  <a:moveTo>
                    <a:pt x="0" y="0"/>
                  </a:moveTo>
                  <a:cubicBezTo>
                    <a:pt x="140" y="68"/>
                    <a:pt x="281" y="136"/>
                    <a:pt x="409" y="136"/>
                  </a:cubicBezTo>
                  <a:cubicBezTo>
                    <a:pt x="537" y="136"/>
                    <a:pt x="711" y="23"/>
                    <a:pt x="771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5640" y="3645000"/>
              <a:ext cx="20239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В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4360" y="2852640"/>
              <a:ext cx="3439800" cy="635040"/>
            </a:xfrm>
            <a:custGeom>
              <a:avLst/>
              <a:gdLst/>
              <a:ahLst/>
              <a:rect l="l" t="t" r="r" b="b"/>
              <a:pathLst>
                <a:path w="2167" h="400">
                  <a:moveTo>
                    <a:pt x="0" y="400"/>
                  </a:moveTo>
                  <a:cubicBezTo>
                    <a:pt x="40" y="364"/>
                    <a:pt x="127" y="244"/>
                    <a:pt x="238" y="183"/>
                  </a:cubicBezTo>
                  <a:cubicBezTo>
                    <a:pt x="349" y="122"/>
                    <a:pt x="528" y="67"/>
                    <a:pt x="668" y="37"/>
                  </a:cubicBezTo>
                  <a:cubicBezTo>
                    <a:pt x="808" y="7"/>
                    <a:pt x="953" y="0"/>
                    <a:pt x="1079" y="0"/>
                  </a:cubicBezTo>
                  <a:cubicBezTo>
                    <a:pt x="1205" y="0"/>
                    <a:pt x="1300" y="10"/>
                    <a:pt x="1426" y="37"/>
                  </a:cubicBezTo>
                  <a:cubicBezTo>
                    <a:pt x="1552" y="64"/>
                    <a:pt x="1715" y="107"/>
                    <a:pt x="1838" y="165"/>
                  </a:cubicBezTo>
                  <a:cubicBezTo>
                    <a:pt x="1961" y="223"/>
                    <a:pt x="2099" y="338"/>
                    <a:pt x="2167" y="38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4360" y="3286080"/>
              <a:ext cx="1441440" cy="214200"/>
            </a:xfrm>
            <a:custGeom>
              <a:avLst/>
              <a:gdLst/>
              <a:ahLst/>
              <a:rect l="l" t="t" r="r" b="b"/>
              <a:pathLst>
                <a:path w="908" h="135">
                  <a:moveTo>
                    <a:pt x="0" y="135"/>
                  </a:moveTo>
                  <a:cubicBezTo>
                    <a:pt x="73" y="112"/>
                    <a:pt x="288" y="0"/>
                    <a:pt x="439" y="0"/>
                  </a:cubicBezTo>
                  <a:cubicBezTo>
                    <a:pt x="590" y="0"/>
                    <a:pt x="810" y="107"/>
                    <a:pt x="908" y="135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4360" y="2781360"/>
              <a:ext cx="172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marL="301680" indent="-301680"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68360" y="47242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а :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08720" y="47242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х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а : 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5661000"/>
            <a:ext cx="302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вестно цел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йти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651640" y="5734080"/>
            <a:ext cx="302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Известна ча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йти цел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Monotype Corsiva"/>
              </a:rPr>
              <a:t>Решения некоторых задач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9280" y="3933720"/>
            <a:ext cx="87854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Цена альбома 100%. Увеличим этот отрезок  на 25%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т.е. на ¼ его часть, получим отрезок  , соответствующий цен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книги. Теперь цена книги составляет 100%. Цена альбо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меньше  цены книги на 1/5 этого отрезка , т.е. на 20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10800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Книга дороже альбома на 25%.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Monotype Corsiva"/>
              </a:rPr>
              <a:t>На сколько процентов альбом дешевле книг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3348000" y="1773360"/>
            <a:ext cx="2879640" cy="2519280"/>
            <a:chOff x="3348000" y="1773360"/>
            <a:chExt cx="2879640" cy="2519280"/>
          </a:xfrm>
        </p:grpSpPr>
        <p:sp>
          <p:nvSpPr>
            <p:cNvPr id="584" name=""/>
            <p:cNvSpPr/>
            <p:nvPr/>
          </p:nvSpPr>
          <p:spPr>
            <a:xfrm>
              <a:off x="334800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48000" y="2638440"/>
              <a:ext cx="287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2764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2436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0072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7672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51640" y="2494080"/>
              <a:ext cx="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92360" y="1773360"/>
              <a:ext cx="208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Monotype Corsiva"/>
                </a:rPr>
                <a:t>10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3348000" y="2708280"/>
              <a:ext cx="2879640" cy="1584360"/>
              <a:chOff x="3348000" y="2708280"/>
              <a:chExt cx="2879640" cy="158436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3348000" y="2708280"/>
                <a:ext cx="2879640" cy="1076400"/>
                <a:chOff x="3348000" y="2708280"/>
                <a:chExt cx="2879640" cy="10764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3348000" y="3500640"/>
                  <a:ext cx="2879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34800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22764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651280" y="3356280"/>
                  <a:ext cx="0" cy="287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48000" y="3211560"/>
                  <a:ext cx="2879640" cy="289080"/>
                </a:xfrm>
                <a:custGeom>
                  <a:avLst/>
                  <a:gdLst/>
                  <a:ahLst/>
                  <a:rect l="l" t="t" r="r" b="b"/>
                  <a:pathLst>
                    <a:path w="1814" h="273">
                      <a:moveTo>
                        <a:pt x="0" y="273"/>
                      </a:moveTo>
                      <a:cubicBezTo>
                        <a:pt x="302" y="136"/>
                        <a:pt x="605" y="0"/>
                        <a:pt x="907" y="0"/>
                      </a:cubicBezTo>
                      <a:cubicBezTo>
                        <a:pt x="1209" y="0"/>
                        <a:pt x="1511" y="136"/>
                        <a:pt x="1814" y="27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779640" y="2708280"/>
                  <a:ext cx="2088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cc"/>
                      </a:solidFill>
                      <a:latin typeface="Monotype Corsiva"/>
                    </a:rPr>
                    <a:t>100%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48000" y="3500640"/>
                  <a:ext cx="2303280" cy="284040"/>
                </a:xfrm>
                <a:custGeom>
                  <a:avLst/>
                  <a:gdLst/>
                  <a:ahLst/>
                  <a:rect l="l" t="t" r="r" b="b"/>
                  <a:pathLst>
                    <a:path w="1451" h="179">
                      <a:moveTo>
                        <a:pt x="0" y="0"/>
                      </a:moveTo>
                      <a:cubicBezTo>
                        <a:pt x="124" y="30"/>
                        <a:pt x="502" y="179"/>
                        <a:pt x="744" y="179"/>
                      </a:cubicBezTo>
                      <a:cubicBezTo>
                        <a:pt x="986" y="179"/>
                        <a:pt x="1304" y="37"/>
                        <a:pt x="1451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3492360" y="3645000"/>
                <a:ext cx="208944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Monotype Corsiva"/>
                  </a:rPr>
                  <a:t>80%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3348000" y="2276640"/>
              <a:ext cx="2303640" cy="360360"/>
            </a:xfrm>
            <a:custGeom>
              <a:avLst/>
              <a:gdLst/>
              <a:ahLst/>
              <a:rect l="l" t="t" r="r" b="b"/>
              <a:pathLst>
                <a:path w="1451" h="227">
                  <a:moveTo>
                    <a:pt x="0" y="227"/>
                  </a:moveTo>
                  <a:cubicBezTo>
                    <a:pt x="242" y="113"/>
                    <a:pt x="484" y="0"/>
                    <a:pt x="726" y="0"/>
                  </a:cubicBezTo>
                  <a:cubicBezTo>
                    <a:pt x="968" y="0"/>
                    <a:pt x="1209" y="113"/>
                    <a:pt x="1451" y="227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Garamond"/>
              </a:rPr>
              <a:t>Сколько воды надо выпарить из 350 граммов 42%-го раствора соли, чтобы получить 60% раствор</a:t>
            </a:r>
            <a:r>
              <a:rPr b="1" lang="en-US" sz="2400" spc="-1" strike="noStrike">
                <a:solidFill>
                  <a:srgbClr val="ffffcc"/>
                </a:solidFill>
                <a:latin typeface="Garamond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876924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) 350 : 100 • 42 = 147 (г) соли в раствор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) 147 : 60 • 100 = 245 (г) масса раствора после выпари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3) 350 – 245 = 105 (г) воды выпа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твет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105 г. воды выпари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148360" y="1413000"/>
            <a:ext cx="1530360" cy="2462040"/>
            <a:chOff x="5148360" y="1413000"/>
            <a:chExt cx="1530360" cy="2462040"/>
          </a:xfrm>
        </p:grpSpPr>
        <p:sp>
          <p:nvSpPr>
            <p:cNvPr id="606" name=""/>
            <p:cNvSpPr/>
            <p:nvPr/>
          </p:nvSpPr>
          <p:spPr>
            <a:xfrm>
              <a:off x="514836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5964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48360" y="37893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48360" y="328464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148360" y="285264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5159520" y="3283560"/>
              <a:ext cx="1519200" cy="591480"/>
              <a:chOff x="5159520" y="3283560"/>
              <a:chExt cx="1519200" cy="591480"/>
            </a:xfrm>
          </p:grpSpPr>
          <p:sp>
            <p:nvSpPr>
              <p:cNvPr id="612" name=""/>
              <p:cNvSpPr/>
              <p:nvPr/>
            </p:nvSpPr>
            <p:spPr>
              <a:xfrm>
                <a:off x="6023160" y="328356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023160" y="3643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15952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91520" y="328356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9152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83520" y="3427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04240" y="342792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55160" y="3572280"/>
                <a:ext cx="223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Verdana"/>
                  </a:rPr>
                  <a:t>•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5159520" y="335664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75160" y="357228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48360" y="3284640"/>
              <a:ext cx="151128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0000"/>
                  </a:solidFill>
                  <a:latin typeface="Garamond"/>
                </a:rPr>
                <a:t>с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75160" y="328356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38800" y="349920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8800" y="3283560"/>
              <a:ext cx="223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•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8360" y="2852640"/>
              <a:ext cx="1511280" cy="4320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964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0072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24360" y="292428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19640" y="30686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1964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0720" y="306864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2764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24360" y="3213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19640" y="141300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6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50920" y="1413000"/>
            <a:ext cx="2808360" cy="2376360"/>
            <a:chOff x="250920" y="1413000"/>
            <a:chExt cx="2808360" cy="2376360"/>
          </a:xfrm>
        </p:grpSpPr>
        <p:sp>
          <p:nvSpPr>
            <p:cNvPr id="637" name=""/>
            <p:cNvSpPr/>
            <p:nvPr/>
          </p:nvSpPr>
          <p:spPr>
            <a:xfrm>
              <a:off x="154764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59280" y="19890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0920" y="191628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35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9280" y="1413000"/>
              <a:ext cx="14032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4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547640" y="2421000"/>
              <a:ext cx="1511640" cy="8636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Garamond"/>
                </a:rPr>
                <a:t>в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547640" y="2421000"/>
              <a:ext cx="1511640" cy="720720"/>
              <a:chOff x="1547640" y="2421000"/>
              <a:chExt cx="1511640" cy="720720"/>
            </a:xfrm>
          </p:grpSpPr>
          <p:sp>
            <p:nvSpPr>
              <p:cNvPr id="643" name=""/>
              <p:cNvSpPr/>
              <p:nvPr/>
            </p:nvSpPr>
            <p:spPr>
              <a:xfrm>
                <a:off x="1547640" y="2421000"/>
                <a:ext cx="151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47640" y="256536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92360" y="270828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050920" y="256536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195640" y="278136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6000" y="2565360"/>
                <a:ext cx="215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2708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61928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05092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1128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00360" y="2924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19280" y="292428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71640" y="3141720"/>
                <a:ext cx="21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7640" y="3213000"/>
              <a:ext cx="151164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20000"/>
                  </a:solidFill>
                  <a:latin typeface="Garamond"/>
                </a:rPr>
                <a:t>сол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547640" y="3789360"/>
              <a:ext cx="1511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Высказывани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Лучший способ изучить что – либо – это открыть самом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Д. Пой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атематике должно учить в школе еще с той целью, чтобы познания, здесь приобретаемы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ыли достаточными для обыкновенных потребностей в жизн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И.Л. Лобачевский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но или поздно всякая правильная математическая идея находит применение в том или ино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ел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А.Н. Крыл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Если вы хотите участвовать в большой жизни, то наполняйте свою голову математикой, по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есть к тому возможность. Она окажет вам потом огромную помощь во всей вашей  работ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М.И. Калинин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ыло бы хорошо, если бы эти знания требовало само государство и если бы лиц, занимающи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ысшие государственные должности, приучали заниматься  математикой и в нужных  случаях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к ней  обращать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латон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4920" y="260280"/>
            <a:ext cx="9145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Заштрихуйте на рисунках  указанную часть круг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04080" y="1334160"/>
            <a:ext cx="1607400" cy="1607400"/>
            <a:chOff x="604080" y="1334160"/>
            <a:chExt cx="1607400" cy="1607400"/>
          </a:xfrm>
        </p:grpSpPr>
        <p:grpSp>
          <p:nvGrpSpPr>
            <p:cNvPr id="663" name=""/>
            <p:cNvGrpSpPr/>
            <p:nvPr/>
          </p:nvGrpSpPr>
          <p:grpSpPr>
            <a:xfrm>
              <a:off x="604080" y="1341360"/>
              <a:ext cx="1599480" cy="1600200"/>
              <a:chOff x="604080" y="1341360"/>
              <a:chExt cx="1599480" cy="1600200"/>
            </a:xfrm>
          </p:grpSpPr>
          <p:sp>
            <p:nvSpPr>
              <p:cNvPr id="664" name=""/>
              <p:cNvSpPr/>
              <p:nvPr/>
            </p:nvSpPr>
            <p:spPr>
              <a:xfrm>
                <a:off x="1403640" y="134136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403640" y="214164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080" y="134136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04080" y="1334160"/>
              <a:ext cx="1599480" cy="1599480"/>
              <a:chOff x="604080" y="1334160"/>
              <a:chExt cx="1599480" cy="1599480"/>
            </a:xfrm>
          </p:grpSpPr>
          <p:sp>
            <p:nvSpPr>
              <p:cNvPr id="668" name=""/>
              <p:cNvSpPr/>
              <p:nvPr/>
            </p:nvSpPr>
            <p:spPr>
              <a:xfrm flipH="1">
                <a:off x="1403640" y="213372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403640" y="213372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5400000">
                <a:off x="604080" y="133380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10920" y="1334160"/>
              <a:ext cx="1600200" cy="1599480"/>
              <a:chOff x="610920" y="1334160"/>
              <a:chExt cx="1600200" cy="1599480"/>
            </a:xfrm>
          </p:grpSpPr>
          <p:sp>
            <p:nvSpPr>
              <p:cNvPr id="672" name=""/>
              <p:cNvSpPr/>
              <p:nvPr/>
            </p:nvSpPr>
            <p:spPr>
              <a:xfrm flipH="1" flipV="1">
                <a:off x="1410480" y="213372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610920" y="213372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0800000">
                <a:off x="611280" y="133416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611280" y="1341000"/>
              <a:ext cx="1600200" cy="1600200"/>
              <a:chOff x="611280" y="1341000"/>
              <a:chExt cx="1600200" cy="1600200"/>
            </a:xfrm>
          </p:grpSpPr>
          <p:sp>
            <p:nvSpPr>
              <p:cNvPr id="676" name=""/>
              <p:cNvSpPr/>
              <p:nvPr/>
            </p:nvSpPr>
            <p:spPr>
              <a:xfrm flipV="1">
                <a:off x="611280" y="214056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1411560" y="134100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6200000">
                <a:off x="611280" y="134100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603000" y="1334160"/>
            <a:ext cx="1600200" cy="1599480"/>
            <a:chOff x="603000" y="1334160"/>
            <a:chExt cx="1600200" cy="1599480"/>
          </a:xfrm>
        </p:grpSpPr>
        <p:sp>
          <p:nvSpPr>
            <p:cNvPr id="680" name=""/>
            <p:cNvSpPr/>
            <p:nvPr/>
          </p:nvSpPr>
          <p:spPr>
            <a:xfrm flipH="1">
              <a:off x="1402920" y="2133720"/>
              <a:ext cx="80028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02920" y="213372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5400000">
              <a:off x="603360" y="1333440"/>
              <a:ext cx="159912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93160" y="1405800"/>
            <a:ext cx="1607400" cy="1607400"/>
            <a:chOff x="2693160" y="1405800"/>
            <a:chExt cx="1607400" cy="1607400"/>
          </a:xfrm>
        </p:grpSpPr>
        <p:grpSp>
          <p:nvGrpSpPr>
            <p:cNvPr id="684" name=""/>
            <p:cNvGrpSpPr/>
            <p:nvPr/>
          </p:nvGrpSpPr>
          <p:grpSpPr>
            <a:xfrm>
              <a:off x="2693160" y="1413000"/>
              <a:ext cx="1599480" cy="1600200"/>
              <a:chOff x="2693160" y="1413000"/>
              <a:chExt cx="1599480" cy="1600200"/>
            </a:xfrm>
          </p:grpSpPr>
          <p:sp>
            <p:nvSpPr>
              <p:cNvPr id="685" name=""/>
              <p:cNvSpPr/>
              <p:nvPr/>
            </p:nvSpPr>
            <p:spPr>
              <a:xfrm>
                <a:off x="349272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49272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9316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2693160" y="1405800"/>
              <a:ext cx="1599480" cy="1599480"/>
              <a:chOff x="2693160" y="1405800"/>
              <a:chExt cx="1599480" cy="159948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349272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49272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5400000">
                <a:off x="269316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700000" y="1405800"/>
              <a:ext cx="1600200" cy="1599480"/>
              <a:chOff x="2700000" y="1405800"/>
              <a:chExt cx="1600200" cy="1599480"/>
            </a:xfrm>
          </p:grpSpPr>
          <p:sp>
            <p:nvSpPr>
              <p:cNvPr id="693" name=""/>
              <p:cNvSpPr/>
              <p:nvPr/>
            </p:nvSpPr>
            <p:spPr>
              <a:xfrm flipH="1" flipV="1">
                <a:off x="349956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270000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0800000">
                <a:off x="270036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2700360" y="1412640"/>
              <a:ext cx="1600200" cy="1600200"/>
              <a:chOff x="2700360" y="1412640"/>
              <a:chExt cx="1600200" cy="160020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270036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50064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270036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4709160" y="1405800"/>
            <a:ext cx="1607400" cy="1607400"/>
            <a:chOff x="4709160" y="1405800"/>
            <a:chExt cx="1607400" cy="1607400"/>
          </a:xfrm>
        </p:grpSpPr>
        <p:grpSp>
          <p:nvGrpSpPr>
            <p:cNvPr id="701" name=""/>
            <p:cNvGrpSpPr/>
            <p:nvPr/>
          </p:nvGrpSpPr>
          <p:grpSpPr>
            <a:xfrm>
              <a:off x="4709160" y="1413000"/>
              <a:ext cx="1599480" cy="1600200"/>
              <a:chOff x="4709160" y="1413000"/>
              <a:chExt cx="1599480" cy="1600200"/>
            </a:xfrm>
          </p:grpSpPr>
          <p:sp>
            <p:nvSpPr>
              <p:cNvPr id="702" name=""/>
              <p:cNvSpPr/>
              <p:nvPr/>
            </p:nvSpPr>
            <p:spPr>
              <a:xfrm>
                <a:off x="550872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50872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70916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4709160" y="1405800"/>
              <a:ext cx="1599480" cy="1599480"/>
              <a:chOff x="4709160" y="1405800"/>
              <a:chExt cx="1599480" cy="1599480"/>
            </a:xfrm>
          </p:grpSpPr>
          <p:sp>
            <p:nvSpPr>
              <p:cNvPr id="706" name=""/>
              <p:cNvSpPr/>
              <p:nvPr/>
            </p:nvSpPr>
            <p:spPr>
              <a:xfrm flipH="1">
                <a:off x="550872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50872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5400000">
                <a:off x="470916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4716000" y="1405800"/>
              <a:ext cx="1600200" cy="1599480"/>
              <a:chOff x="4716000" y="1405800"/>
              <a:chExt cx="1600200" cy="1599480"/>
            </a:xfrm>
          </p:grpSpPr>
          <p:sp>
            <p:nvSpPr>
              <p:cNvPr id="710" name=""/>
              <p:cNvSpPr/>
              <p:nvPr/>
            </p:nvSpPr>
            <p:spPr>
              <a:xfrm flipH="1" flipV="1">
                <a:off x="551556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71600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0800000">
                <a:off x="471636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716360" y="1412640"/>
              <a:ext cx="1600200" cy="1600200"/>
              <a:chOff x="4716360" y="1412640"/>
              <a:chExt cx="1600200" cy="1600200"/>
            </a:xfrm>
          </p:grpSpPr>
          <p:sp>
            <p:nvSpPr>
              <p:cNvPr id="714" name=""/>
              <p:cNvSpPr/>
              <p:nvPr/>
            </p:nvSpPr>
            <p:spPr>
              <a:xfrm flipV="1">
                <a:off x="471636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551664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471636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6796800" y="1405800"/>
            <a:ext cx="1607400" cy="1607400"/>
            <a:chOff x="6796800" y="1405800"/>
            <a:chExt cx="1607400" cy="1607400"/>
          </a:xfrm>
        </p:grpSpPr>
        <p:grpSp>
          <p:nvGrpSpPr>
            <p:cNvPr id="718" name=""/>
            <p:cNvGrpSpPr/>
            <p:nvPr/>
          </p:nvGrpSpPr>
          <p:grpSpPr>
            <a:xfrm>
              <a:off x="6796800" y="1413000"/>
              <a:ext cx="1599480" cy="1600200"/>
              <a:chOff x="6796800" y="1413000"/>
              <a:chExt cx="1599480" cy="1600200"/>
            </a:xfrm>
          </p:grpSpPr>
          <p:sp>
            <p:nvSpPr>
              <p:cNvPr id="719" name=""/>
              <p:cNvSpPr/>
              <p:nvPr/>
            </p:nvSpPr>
            <p:spPr>
              <a:xfrm>
                <a:off x="7596360" y="1413000"/>
                <a:ext cx="72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596360" y="2213280"/>
                <a:ext cx="799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96800" y="1413000"/>
                <a:ext cx="159912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96800" y="1405800"/>
              <a:ext cx="1599480" cy="1599480"/>
              <a:chOff x="6796800" y="1405800"/>
              <a:chExt cx="1599480" cy="1599480"/>
            </a:xfrm>
          </p:grpSpPr>
          <p:sp>
            <p:nvSpPr>
              <p:cNvPr id="723" name=""/>
              <p:cNvSpPr/>
              <p:nvPr/>
            </p:nvSpPr>
            <p:spPr>
              <a:xfrm flipH="1">
                <a:off x="7596360" y="2205360"/>
                <a:ext cx="79992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96360" y="2205360"/>
                <a:ext cx="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5400000">
                <a:off x="6796800" y="1405440"/>
                <a:ext cx="159912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803640" y="1405800"/>
              <a:ext cx="1600200" cy="1599480"/>
              <a:chOff x="6803640" y="1405800"/>
              <a:chExt cx="1600200" cy="1599480"/>
            </a:xfrm>
          </p:grpSpPr>
          <p:sp>
            <p:nvSpPr>
              <p:cNvPr id="727" name=""/>
              <p:cNvSpPr/>
              <p:nvPr/>
            </p:nvSpPr>
            <p:spPr>
              <a:xfrm flipH="1" flipV="1">
                <a:off x="7603200" y="2205360"/>
                <a:ext cx="720" cy="79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803640" y="2205360"/>
                <a:ext cx="80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10800000">
                <a:off x="6804000" y="1405800"/>
                <a:ext cx="1599840" cy="159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6804000" y="1412640"/>
              <a:ext cx="1600200" cy="1600200"/>
              <a:chOff x="6804000" y="1412640"/>
              <a:chExt cx="1600200" cy="1600200"/>
            </a:xfrm>
          </p:grpSpPr>
          <p:sp>
            <p:nvSpPr>
              <p:cNvPr id="731" name=""/>
              <p:cNvSpPr/>
              <p:nvPr/>
            </p:nvSpPr>
            <p:spPr>
              <a:xfrm flipV="1">
                <a:off x="6804000" y="2212200"/>
                <a:ext cx="800280" cy="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604280" y="1412640"/>
                <a:ext cx="0" cy="800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16200000">
                <a:off x="6804000" y="1412640"/>
                <a:ext cx="1599840" cy="160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2692080" y="1405080"/>
            <a:ext cx="1600200" cy="1600200"/>
            <a:chOff x="2692080" y="1405080"/>
            <a:chExt cx="1600200" cy="1600200"/>
          </a:xfrm>
        </p:grpSpPr>
        <p:sp>
          <p:nvSpPr>
            <p:cNvPr id="735" name=""/>
            <p:cNvSpPr/>
            <p:nvPr/>
          </p:nvSpPr>
          <p:spPr>
            <a:xfrm flipH="1">
              <a:off x="3492000" y="2205000"/>
              <a:ext cx="800280" cy="720"/>
            </a:xfrm>
            <a:prstGeom prst="line">
              <a:avLst/>
            </a:prstGeom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92000" y="2205000"/>
              <a:ext cx="0" cy="800280"/>
            </a:xfrm>
            <a:prstGeom prst="line">
              <a:avLst/>
            </a:prstGeom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269208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692440" y="1413000"/>
            <a:ext cx="1600200" cy="1599480"/>
            <a:chOff x="2692440" y="1413000"/>
            <a:chExt cx="1600200" cy="1599480"/>
          </a:xfrm>
        </p:grpSpPr>
        <p:sp>
          <p:nvSpPr>
            <p:cNvPr id="739" name=""/>
            <p:cNvSpPr/>
            <p:nvPr/>
          </p:nvSpPr>
          <p:spPr>
            <a:xfrm>
              <a:off x="349236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492360" y="221292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92440" y="141300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709160" y="1405080"/>
            <a:ext cx="1599480" cy="1600200"/>
            <a:chOff x="4709160" y="1405080"/>
            <a:chExt cx="1599480" cy="1600200"/>
          </a:xfrm>
        </p:grpSpPr>
        <p:sp>
          <p:nvSpPr>
            <p:cNvPr id="743" name=""/>
            <p:cNvSpPr/>
            <p:nvPr/>
          </p:nvSpPr>
          <p:spPr>
            <a:xfrm flipH="1">
              <a:off x="5508720" y="2205000"/>
              <a:ext cx="7999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08720" y="2205000"/>
              <a:ext cx="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4708800" y="140508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4709160" y="1413000"/>
            <a:ext cx="1599480" cy="1599480"/>
            <a:chOff x="4709160" y="1413000"/>
            <a:chExt cx="1599480" cy="1599480"/>
          </a:xfrm>
        </p:grpSpPr>
        <p:sp>
          <p:nvSpPr>
            <p:cNvPr id="747" name=""/>
            <p:cNvSpPr/>
            <p:nvPr/>
          </p:nvSpPr>
          <p:spPr>
            <a:xfrm>
              <a:off x="550872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08720" y="2212920"/>
              <a:ext cx="79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09160" y="1413000"/>
              <a:ext cx="159912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716000" y="1404720"/>
            <a:ext cx="1600200" cy="1600200"/>
            <a:chOff x="4716000" y="1404720"/>
            <a:chExt cx="1600200" cy="1600200"/>
          </a:xfrm>
        </p:grpSpPr>
        <p:sp>
          <p:nvSpPr>
            <p:cNvPr id="751" name=""/>
            <p:cNvSpPr/>
            <p:nvPr/>
          </p:nvSpPr>
          <p:spPr>
            <a:xfrm flipH="1" flipV="1">
              <a:off x="5515560" y="2204640"/>
              <a:ext cx="72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716000" y="220464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0800000">
              <a:off x="471636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803640" y="1404720"/>
            <a:ext cx="1600200" cy="1600200"/>
            <a:chOff x="6803640" y="1404720"/>
            <a:chExt cx="1600200" cy="1600200"/>
          </a:xfrm>
        </p:grpSpPr>
        <p:sp>
          <p:nvSpPr>
            <p:cNvPr id="755" name=""/>
            <p:cNvSpPr/>
            <p:nvPr/>
          </p:nvSpPr>
          <p:spPr>
            <a:xfrm flipH="1" flipV="1">
              <a:off x="7603200" y="2204640"/>
              <a:ext cx="72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803640" y="2204640"/>
              <a:ext cx="800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0800000">
              <a:off x="6804000" y="1404720"/>
              <a:ext cx="159984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796800" y="1405080"/>
            <a:ext cx="1599480" cy="1600200"/>
            <a:chOff x="6796800" y="1405080"/>
            <a:chExt cx="1599480" cy="1600200"/>
          </a:xfrm>
        </p:grpSpPr>
        <p:sp>
          <p:nvSpPr>
            <p:cNvPr id="759" name=""/>
            <p:cNvSpPr/>
            <p:nvPr/>
          </p:nvSpPr>
          <p:spPr>
            <a:xfrm flipH="1">
              <a:off x="7596360" y="2205000"/>
              <a:ext cx="79992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96360" y="2205000"/>
              <a:ext cx="0" cy="80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5400000">
              <a:off x="6796440" y="1405080"/>
              <a:ext cx="159984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6804000" y="1413000"/>
            <a:ext cx="1600200" cy="1599480"/>
            <a:chOff x="6804000" y="1413000"/>
            <a:chExt cx="1600200" cy="1599480"/>
          </a:xfrm>
        </p:grpSpPr>
        <p:sp>
          <p:nvSpPr>
            <p:cNvPr id="763" name=""/>
            <p:cNvSpPr/>
            <p:nvPr/>
          </p:nvSpPr>
          <p:spPr>
            <a:xfrm flipV="1">
              <a:off x="6804000" y="2212200"/>
              <a:ext cx="800280" cy="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604280" y="1413000"/>
              <a:ext cx="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6200000">
              <a:off x="6804360" y="1412640"/>
              <a:ext cx="159912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6796800" y="1413000"/>
            <a:ext cx="1599480" cy="1599480"/>
            <a:chOff x="6796800" y="1413000"/>
            <a:chExt cx="1599480" cy="1599480"/>
          </a:xfrm>
        </p:grpSpPr>
        <p:sp>
          <p:nvSpPr>
            <p:cNvPr id="767" name=""/>
            <p:cNvSpPr/>
            <p:nvPr/>
          </p:nvSpPr>
          <p:spPr>
            <a:xfrm>
              <a:off x="7596360" y="1413000"/>
              <a:ext cx="720" cy="799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96360" y="2212920"/>
              <a:ext cx="799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96800" y="1413000"/>
              <a:ext cx="1599120" cy="15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2f751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84328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85928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48360" y="3068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2700360" y="4292640"/>
            <a:ext cx="1752480" cy="1600200"/>
            <a:chOff x="2700360" y="4292640"/>
            <a:chExt cx="1752480" cy="1600200"/>
          </a:xfrm>
        </p:grpSpPr>
        <p:sp>
          <p:nvSpPr>
            <p:cNvPr id="774" name=""/>
            <p:cNvSpPr/>
            <p:nvPr/>
          </p:nvSpPr>
          <p:spPr>
            <a:xfrm>
              <a:off x="3564360" y="429264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2700360" y="4292640"/>
              <a:ext cx="1752480" cy="1600200"/>
              <a:chOff x="2700360" y="4292640"/>
              <a:chExt cx="1752480" cy="1600200"/>
            </a:xfrm>
          </p:grpSpPr>
          <p:sp>
            <p:nvSpPr>
              <p:cNvPr id="776" name=""/>
              <p:cNvSpPr/>
              <p:nvPr/>
            </p:nvSpPr>
            <p:spPr>
              <a:xfrm>
                <a:off x="2700360" y="4292640"/>
                <a:ext cx="1752480" cy="160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565080" y="4867200"/>
                <a:ext cx="844560" cy="19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65080" y="5060880"/>
                <a:ext cx="850320" cy="25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65080" y="5060880"/>
                <a:ext cx="519120" cy="67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3045960" y="5060880"/>
                <a:ext cx="519120" cy="66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786040" y="5060880"/>
                <a:ext cx="779040" cy="34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311076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56508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737440" y="4868280"/>
                <a:ext cx="827640" cy="197640"/>
              </a:xfrm>
              <a:custGeom>
                <a:avLst/>
                <a:gdLst/>
                <a:ahLst/>
                <a:rect l="l" t="t" r="r" b="b"/>
                <a:pathLst>
                  <a:path w="1303" h="311">
                    <a:moveTo>
                      <a:pt x="1303" y="31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611280" y="4292640"/>
            <a:ext cx="1752480" cy="1600200"/>
            <a:chOff x="611280" y="4292640"/>
            <a:chExt cx="1752480" cy="1600200"/>
          </a:xfrm>
        </p:grpSpPr>
        <p:sp>
          <p:nvSpPr>
            <p:cNvPr id="786" name=""/>
            <p:cNvSpPr/>
            <p:nvPr/>
          </p:nvSpPr>
          <p:spPr>
            <a:xfrm>
              <a:off x="1475280" y="4292640"/>
              <a:ext cx="0" cy="160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11280" y="4292640"/>
              <a:ext cx="1752480" cy="1600200"/>
              <a:chOff x="611280" y="4292640"/>
              <a:chExt cx="1752480" cy="1600200"/>
            </a:xfrm>
          </p:grpSpPr>
          <p:sp>
            <p:nvSpPr>
              <p:cNvPr id="788" name=""/>
              <p:cNvSpPr/>
              <p:nvPr/>
            </p:nvSpPr>
            <p:spPr>
              <a:xfrm>
                <a:off x="611280" y="4292640"/>
                <a:ext cx="1752480" cy="16002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1476000" y="4867200"/>
                <a:ext cx="844560" cy="191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76000" y="5060880"/>
                <a:ext cx="850320" cy="259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76000" y="5060880"/>
                <a:ext cx="519120" cy="676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956880" y="5060880"/>
                <a:ext cx="519120" cy="66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96960" y="5060880"/>
                <a:ext cx="779040" cy="34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 flipV="1">
                <a:off x="102168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1476000" y="4421520"/>
                <a:ext cx="454320" cy="63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48360" y="4868280"/>
                <a:ext cx="827640" cy="197640"/>
              </a:xfrm>
              <a:custGeom>
                <a:avLst/>
                <a:gdLst/>
                <a:ahLst/>
                <a:rect l="l" t="t" r="r" b="b"/>
                <a:pathLst>
                  <a:path w="1303" h="311">
                    <a:moveTo>
                      <a:pt x="1303" y="31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4788000" y="4292640"/>
            <a:ext cx="1800000" cy="1657440"/>
            <a:chOff x="4788000" y="4292640"/>
            <a:chExt cx="1800000" cy="1657440"/>
          </a:xfrm>
        </p:grpSpPr>
        <p:sp>
          <p:nvSpPr>
            <p:cNvPr id="798" name=""/>
            <p:cNvSpPr/>
            <p:nvPr/>
          </p:nvSpPr>
          <p:spPr>
            <a:xfrm>
              <a:off x="4788000" y="4292640"/>
              <a:ext cx="1800000" cy="1657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0800" y="4292640"/>
              <a:ext cx="6840" cy="840240"/>
            </a:xfrm>
            <a:custGeom>
              <a:avLst/>
              <a:gdLst/>
              <a:ahLst/>
              <a:rect l="l" t="t" r="r" b="b"/>
              <a:pathLst>
                <a:path w="14" h="1826">
                  <a:moveTo>
                    <a:pt x="14" y="0"/>
                  </a:moveTo>
                  <a:lnTo>
                    <a:pt x="0" y="18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688000" y="5121000"/>
              <a:ext cx="539640" cy="66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148000" y="5121000"/>
              <a:ext cx="540360" cy="663120"/>
            </a:xfrm>
            <a:custGeom>
              <a:avLst/>
              <a:gdLst/>
              <a:ahLst/>
              <a:rect l="l" t="t" r="r" b="b"/>
              <a:pathLst>
                <a:path w="1376" h="1181">
                  <a:moveTo>
                    <a:pt x="1376" y="0"/>
                  </a:moveTo>
                  <a:lnTo>
                    <a:pt x="0" y="118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688000" y="4789800"/>
              <a:ext cx="810000" cy="33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18240" y="4885560"/>
              <a:ext cx="869400" cy="235440"/>
            </a:xfrm>
            <a:custGeom>
              <a:avLst/>
              <a:gdLst/>
              <a:ahLst/>
              <a:rect l="l" t="t" r="r" b="b"/>
              <a:pathLst>
                <a:path w="1739" h="512">
                  <a:moveTo>
                    <a:pt x="1739" y="5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6948360" y="4292640"/>
            <a:ext cx="1727280" cy="1657440"/>
            <a:chOff x="6948360" y="4292640"/>
            <a:chExt cx="1727280" cy="1657440"/>
          </a:xfrm>
        </p:grpSpPr>
        <p:sp>
          <p:nvSpPr>
            <p:cNvPr id="805" name=""/>
            <p:cNvSpPr/>
            <p:nvPr/>
          </p:nvSpPr>
          <p:spPr>
            <a:xfrm>
              <a:off x="6948360" y="4292640"/>
              <a:ext cx="1727280" cy="1657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05160" y="4292640"/>
              <a:ext cx="6480" cy="840240"/>
            </a:xfrm>
            <a:custGeom>
              <a:avLst/>
              <a:gdLst/>
              <a:ahLst/>
              <a:rect l="l" t="t" r="r" b="b"/>
              <a:pathLst>
                <a:path w="14" h="1826">
                  <a:moveTo>
                    <a:pt x="14" y="0"/>
                  </a:moveTo>
                  <a:lnTo>
                    <a:pt x="0" y="18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2000" y="5121000"/>
              <a:ext cx="518040" cy="66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93600" y="5121000"/>
              <a:ext cx="518760" cy="663120"/>
            </a:xfrm>
            <a:custGeom>
              <a:avLst/>
              <a:gdLst/>
              <a:ahLst/>
              <a:rect l="l" t="t" r="r" b="b"/>
              <a:pathLst>
                <a:path w="1376" h="1181">
                  <a:moveTo>
                    <a:pt x="1376" y="0"/>
                  </a:moveTo>
                  <a:lnTo>
                    <a:pt x="0" y="118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812000" y="4789800"/>
              <a:ext cx="777240" cy="33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77520" y="4885560"/>
              <a:ext cx="834120" cy="235440"/>
            </a:xfrm>
            <a:custGeom>
              <a:avLst/>
              <a:gdLst/>
              <a:ahLst/>
              <a:rect l="l" t="t" r="r" b="b"/>
              <a:pathLst>
                <a:path w="1739" h="512">
                  <a:moveTo>
                    <a:pt x="1739" y="5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75564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8764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7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7672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164360" y="595008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6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557520" y="4400640"/>
            <a:ext cx="870120" cy="666720"/>
          </a:xfrm>
          <a:custGeom>
            <a:avLst/>
            <a:gdLst/>
            <a:ahLst/>
            <a:rect l="l" t="t" r="r" b="b"/>
            <a:pathLst>
              <a:path w="548" h="420">
                <a:moveTo>
                  <a:pt x="0" y="420"/>
                </a:moveTo>
                <a:lnTo>
                  <a:pt x="294" y="0"/>
                </a:lnTo>
                <a:lnTo>
                  <a:pt x="411" y="93"/>
                </a:lnTo>
                <a:lnTo>
                  <a:pt x="483" y="180"/>
                </a:lnTo>
                <a:lnTo>
                  <a:pt x="548" y="295"/>
                </a:lnTo>
                <a:lnTo>
                  <a:pt x="9" y="417"/>
                </a:lnTo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67240" y="4869000"/>
            <a:ext cx="885600" cy="446040"/>
          </a:xfrm>
          <a:custGeom>
            <a:avLst/>
            <a:gdLst/>
            <a:ahLst/>
            <a:rect l="l" t="t" r="r" b="b"/>
            <a:pathLst>
              <a:path w="558" h="281">
                <a:moveTo>
                  <a:pt x="0" y="128"/>
                </a:moveTo>
                <a:lnTo>
                  <a:pt x="542" y="0"/>
                </a:lnTo>
                <a:lnTo>
                  <a:pt x="558" y="143"/>
                </a:lnTo>
                <a:lnTo>
                  <a:pt x="546" y="218"/>
                </a:lnTo>
                <a:lnTo>
                  <a:pt x="540" y="260"/>
                </a:lnTo>
                <a:lnTo>
                  <a:pt x="534" y="281"/>
                </a:lnTo>
                <a:lnTo>
                  <a:pt x="525" y="281"/>
                </a:lnTo>
                <a:lnTo>
                  <a:pt x="0" y="128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62200" y="5067360"/>
            <a:ext cx="847800" cy="671400"/>
          </a:xfrm>
          <a:custGeom>
            <a:avLst/>
            <a:gdLst/>
            <a:ahLst/>
            <a:rect l="l" t="t" r="r" b="b"/>
            <a:pathLst>
              <a:path w="534" h="423">
                <a:moveTo>
                  <a:pt x="0" y="0"/>
                </a:moveTo>
                <a:lnTo>
                  <a:pt x="534" y="159"/>
                </a:lnTo>
                <a:lnTo>
                  <a:pt x="492" y="258"/>
                </a:lnTo>
                <a:lnTo>
                  <a:pt x="414" y="354"/>
                </a:lnTo>
                <a:lnTo>
                  <a:pt x="366" y="393"/>
                </a:lnTo>
                <a:lnTo>
                  <a:pt x="360" y="399"/>
                </a:lnTo>
                <a:lnTo>
                  <a:pt x="321" y="42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557520" y="5084640"/>
            <a:ext cx="514440" cy="801720"/>
          </a:xfrm>
          <a:custGeom>
            <a:avLst/>
            <a:gdLst/>
            <a:ahLst/>
            <a:rect l="l" t="t" r="r" b="b"/>
            <a:pathLst>
              <a:path w="324" h="505">
                <a:moveTo>
                  <a:pt x="4" y="0"/>
                </a:moveTo>
                <a:lnTo>
                  <a:pt x="324" y="418"/>
                </a:lnTo>
                <a:lnTo>
                  <a:pt x="264" y="451"/>
                </a:lnTo>
                <a:lnTo>
                  <a:pt x="195" y="475"/>
                </a:lnTo>
                <a:lnTo>
                  <a:pt x="111" y="496"/>
                </a:lnTo>
                <a:lnTo>
                  <a:pt x="18" y="505"/>
                </a:lnTo>
                <a:lnTo>
                  <a:pt x="0" y="505"/>
                </a:lnTo>
                <a:lnTo>
                  <a:pt x="4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048120" y="5072040"/>
            <a:ext cx="504720" cy="814320"/>
          </a:xfrm>
          <a:custGeom>
            <a:avLst/>
            <a:gdLst/>
            <a:ahLst/>
            <a:rect l="l" t="t" r="r" b="b"/>
            <a:pathLst>
              <a:path w="318" h="513">
                <a:moveTo>
                  <a:pt x="318" y="0"/>
                </a:moveTo>
                <a:lnTo>
                  <a:pt x="318" y="513"/>
                </a:lnTo>
                <a:lnTo>
                  <a:pt x="207" y="504"/>
                </a:lnTo>
                <a:lnTo>
                  <a:pt x="90" y="462"/>
                </a:lnTo>
                <a:lnTo>
                  <a:pt x="0" y="411"/>
                </a:lnTo>
                <a:lnTo>
                  <a:pt x="318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781360" y="5072040"/>
            <a:ext cx="766800" cy="652320"/>
          </a:xfrm>
          <a:custGeom>
            <a:avLst/>
            <a:gdLst/>
            <a:ahLst/>
            <a:rect l="l" t="t" r="r" b="b"/>
            <a:pathLst>
              <a:path w="483" h="411">
                <a:moveTo>
                  <a:pt x="0" y="216"/>
                </a:moveTo>
                <a:lnTo>
                  <a:pt x="483" y="0"/>
                </a:lnTo>
                <a:lnTo>
                  <a:pt x="159" y="411"/>
                </a:lnTo>
                <a:lnTo>
                  <a:pt x="84" y="342"/>
                </a:lnTo>
                <a:lnTo>
                  <a:pt x="33" y="273"/>
                </a:lnTo>
                <a:lnTo>
                  <a:pt x="0" y="216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564000" y="4292640"/>
            <a:ext cx="446040" cy="792000"/>
          </a:xfrm>
          <a:custGeom>
            <a:avLst/>
            <a:gdLst/>
            <a:ahLst/>
            <a:rect l="l" t="t" r="r" b="b"/>
            <a:pathLst>
              <a:path w="281" h="499">
                <a:moveTo>
                  <a:pt x="0" y="0"/>
                </a:moveTo>
                <a:lnTo>
                  <a:pt x="0" y="499"/>
                </a:lnTo>
                <a:lnTo>
                  <a:pt x="281" y="71"/>
                </a:lnTo>
                <a:lnTo>
                  <a:pt x="215" y="38"/>
                </a:lnTo>
                <a:lnTo>
                  <a:pt x="149" y="20"/>
                </a:lnTo>
                <a:lnTo>
                  <a:pt x="68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476360" y="5072040"/>
            <a:ext cx="523800" cy="814320"/>
          </a:xfrm>
          <a:custGeom>
            <a:avLst/>
            <a:gdLst/>
            <a:ahLst/>
            <a:rect l="l" t="t" r="r" b="b"/>
            <a:pathLst>
              <a:path w="330" h="513">
                <a:moveTo>
                  <a:pt x="0" y="0"/>
                </a:moveTo>
                <a:lnTo>
                  <a:pt x="330" y="420"/>
                </a:lnTo>
                <a:lnTo>
                  <a:pt x="288" y="444"/>
                </a:lnTo>
                <a:lnTo>
                  <a:pt x="228" y="471"/>
                </a:lnTo>
                <a:lnTo>
                  <a:pt x="147" y="495"/>
                </a:lnTo>
                <a:lnTo>
                  <a:pt x="99" y="504"/>
                </a:lnTo>
                <a:lnTo>
                  <a:pt x="42" y="513"/>
                </a:lnTo>
                <a:lnTo>
                  <a:pt x="0" y="5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686560" y="4781520"/>
            <a:ext cx="900000" cy="1004760"/>
          </a:xfrm>
          <a:custGeom>
            <a:avLst/>
            <a:gdLst/>
            <a:ahLst/>
            <a:rect l="l" t="t" r="r" b="b"/>
            <a:pathLst>
              <a:path w="567" h="633">
                <a:moveTo>
                  <a:pt x="0" y="213"/>
                </a:moveTo>
                <a:lnTo>
                  <a:pt x="519" y="0"/>
                </a:lnTo>
                <a:lnTo>
                  <a:pt x="552" y="96"/>
                </a:lnTo>
                <a:lnTo>
                  <a:pt x="561" y="153"/>
                </a:lnTo>
                <a:lnTo>
                  <a:pt x="567" y="204"/>
                </a:lnTo>
                <a:lnTo>
                  <a:pt x="561" y="267"/>
                </a:lnTo>
                <a:lnTo>
                  <a:pt x="552" y="321"/>
                </a:lnTo>
                <a:lnTo>
                  <a:pt x="531" y="393"/>
                </a:lnTo>
                <a:lnTo>
                  <a:pt x="501" y="450"/>
                </a:lnTo>
                <a:lnTo>
                  <a:pt x="477" y="489"/>
                </a:lnTo>
                <a:lnTo>
                  <a:pt x="438" y="540"/>
                </a:lnTo>
                <a:lnTo>
                  <a:pt x="396" y="582"/>
                </a:lnTo>
                <a:lnTo>
                  <a:pt x="342" y="633"/>
                </a:lnTo>
                <a:lnTo>
                  <a:pt x="0" y="213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819920" y="4786200"/>
            <a:ext cx="847800" cy="1005120"/>
          </a:xfrm>
          <a:custGeom>
            <a:avLst/>
            <a:gdLst/>
            <a:ahLst/>
            <a:rect l="l" t="t" r="r" b="b"/>
            <a:pathLst>
              <a:path w="534" h="633">
                <a:moveTo>
                  <a:pt x="0" y="210"/>
                </a:moveTo>
                <a:lnTo>
                  <a:pt x="495" y="0"/>
                </a:lnTo>
                <a:lnTo>
                  <a:pt x="522" y="93"/>
                </a:lnTo>
                <a:lnTo>
                  <a:pt x="531" y="147"/>
                </a:lnTo>
                <a:lnTo>
                  <a:pt x="534" y="246"/>
                </a:lnTo>
                <a:lnTo>
                  <a:pt x="522" y="330"/>
                </a:lnTo>
                <a:lnTo>
                  <a:pt x="498" y="399"/>
                </a:lnTo>
                <a:lnTo>
                  <a:pt x="456" y="480"/>
                </a:lnTo>
                <a:lnTo>
                  <a:pt x="414" y="540"/>
                </a:lnTo>
                <a:lnTo>
                  <a:pt x="363" y="594"/>
                </a:lnTo>
                <a:lnTo>
                  <a:pt x="312" y="633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12000" y="4292640"/>
            <a:ext cx="792360" cy="825480"/>
          </a:xfrm>
          <a:custGeom>
            <a:avLst/>
            <a:gdLst/>
            <a:ahLst/>
            <a:rect l="l" t="t" r="r" b="b"/>
            <a:pathLst>
              <a:path w="499" h="520">
                <a:moveTo>
                  <a:pt x="0" y="0"/>
                </a:moveTo>
                <a:lnTo>
                  <a:pt x="3" y="520"/>
                </a:lnTo>
                <a:lnTo>
                  <a:pt x="499" y="318"/>
                </a:lnTo>
                <a:lnTo>
                  <a:pt x="455" y="236"/>
                </a:lnTo>
                <a:lnTo>
                  <a:pt x="379" y="144"/>
                </a:lnTo>
                <a:lnTo>
                  <a:pt x="287" y="80"/>
                </a:lnTo>
                <a:lnTo>
                  <a:pt x="215" y="44"/>
                </a:lnTo>
                <a:lnTo>
                  <a:pt x="107" y="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978600" y="4292640"/>
            <a:ext cx="833400" cy="819000"/>
          </a:xfrm>
          <a:custGeom>
            <a:avLst/>
            <a:gdLst/>
            <a:ahLst/>
            <a:rect l="l" t="t" r="r" b="b"/>
            <a:pathLst>
              <a:path w="525" h="516">
                <a:moveTo>
                  <a:pt x="0" y="372"/>
                </a:moveTo>
                <a:lnTo>
                  <a:pt x="520" y="516"/>
                </a:lnTo>
                <a:lnTo>
                  <a:pt x="525" y="0"/>
                </a:lnTo>
                <a:lnTo>
                  <a:pt x="424" y="12"/>
                </a:lnTo>
                <a:lnTo>
                  <a:pt x="324" y="36"/>
                </a:lnTo>
                <a:lnTo>
                  <a:pt x="252" y="72"/>
                </a:lnTo>
                <a:lnTo>
                  <a:pt x="200" y="108"/>
                </a:lnTo>
                <a:lnTo>
                  <a:pt x="148" y="152"/>
                </a:lnTo>
                <a:lnTo>
                  <a:pt x="88" y="212"/>
                </a:lnTo>
                <a:lnTo>
                  <a:pt x="36" y="292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2f7517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Monotype Corsiva"/>
              </a:rPr>
              <a:t>В пятых классах была проведена контрольная работа по математике. Были получены следующие результаты: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4560" y="5373720"/>
            <a:ext cx="9001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Как  сравнить какой класс лучше справился с  контроль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ной работ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971640" y="1844640"/>
          <a:ext cx="6913440" cy="3456000"/>
        </p:xfrm>
        <a:graphic>
          <a:graphicData uri="http://schemas.openxmlformats.org/drawingml/2006/table">
            <a:tbl>
              <a:tblPr/>
              <a:tblGrid>
                <a:gridCol w="1382760"/>
                <a:gridCol w="1382400"/>
                <a:gridCol w="1382760"/>
                <a:gridCol w="1382760"/>
                <a:gridCol w="1382760"/>
              </a:tblGrid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цен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300" spc="-1" strike="noStrike">
                <a:solidFill>
                  <a:srgbClr val="ff0000"/>
                </a:solidFill>
                <a:latin typeface="Arial"/>
              </a:rPr>
              <a:t>Проценты</a:t>
            </a:r>
            <a:endParaRPr b="0" lang="en-US" sz="123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28573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ed0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6c00"/>
                </a:solidFill>
                <a:latin typeface="Courier New"/>
              </a:rPr>
              <a:t>Процент</a:t>
            </a:r>
            <a:r>
              <a:rPr b="0" lang="en-US" sz="3200" spc="-1" strike="noStrike">
                <a:solidFill>
                  <a:srgbClr val="006c00"/>
                </a:solidFill>
                <a:latin typeface="Courier New"/>
              </a:rPr>
              <a:t> — </a:t>
            </a:r>
            <a:r>
              <a:rPr b="1" lang="en-US" sz="3200" spc="-1" strike="noStrike">
                <a:solidFill>
                  <a:srgbClr val="006c00"/>
                </a:solidFill>
                <a:latin typeface="Courier New"/>
              </a:rPr>
              <a:t>одна сотая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доля</a:t>
            </a:r>
            <a:r>
              <a:rPr b="0" lang="en-US" sz="3200" spc="-1" strike="noStrike" u="sng">
                <a:solidFill>
                  <a:srgbClr val="006c00"/>
                </a:solidFill>
                <a:uFillTx/>
                <a:latin typeface="Courier New"/>
              </a:rPr>
              <a:t>. Обозначается знаком «%». Используется для обозначения доли чего-либо по отношению к целому. Например, 17 % от 500 кг означает 17 частей по 5 кг каждая, то есть 85 к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42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f60404"/>
                </a:solidFill>
                <a:latin typeface="Arial Black"/>
              </a:rPr>
              <a:t>Происхождение обозна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амо слово «процент» происходит от  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лат.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 </a:t>
            </a:r>
            <a:r>
              <a:rPr b="0" i="1" lang="ru-RU" sz="3200" spc="-1" strike="noStrike">
                <a:solidFill>
                  <a:srgbClr val="ff0066"/>
                </a:solidFill>
                <a:latin typeface="Verdana"/>
              </a:rPr>
              <a:t>«pro centum»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, что означает в переводе «сотая доля». В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1685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году в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Париже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 была издана книга «Руководство по коммерческой арифметике»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Матье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 де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ла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 Порта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. В одном месте речь шла о процентах, которые тогда обозначали «cto» (сокращенно от cento). Однако наборщик принял это «cto» за дробь и напечатал «%». Так из-за опечатки этот знак вошёл в обих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800080"/>
                </a:solidFill>
                <a:latin typeface="Verdana"/>
              </a:rPr>
              <a:t>Разговорное употребл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Работать за проценты» — работать за         вознаграждение, исчисляемое в зависимости от прибыли или оборо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На (все) сто процентов» — полностью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</a:rPr>
              <a:t>«Процентщик» — человек, ссужающий деньги под большие проценты, ростовщ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19908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3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6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79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88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91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1 0.058 -0.05861 C 0.095 -0.05861 0.125 -0.02265 0.125 0.02265 C 0.125 0.0373 0.122 0.05062 0.116 0.06261 C 0.117 0.06261 0 0.24244 0 0.24377 C 0 0.24244 -0.117 0.06261 -0.116 0.06261 C -0.122 0.05062 -0.125 0.0373 -0.125 0.02265 C -0.125 -0.02265 -0.095 -0.05861 -0.057 -0.05861 C -0.033 -0.05861 -0.012 -0.02398 0 0 Z">
                                      <p:cBhvr>
                                        <p:cTn id="94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lang="ru-RU" sz="2400" spc="-1" strike="noStrike">
                <a:solidFill>
                  <a:srgbClr val="00cc00"/>
                </a:solidFill>
                <a:latin typeface="Verdana"/>
              </a:rPr>
              <a:t>Правила набо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В тексте знак процента используется только при числах в цифровой форме, от которых при наборе отделяется неразрывным пробелом (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доход 67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), кроме случаев, когда знак процента используется для сокращённой записи сложных слов, образованных при помощи числительного и прилагательного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процентный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. Например: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20%-я сметана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(означает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двадцатипроцентная сметана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)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10%-й раствор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20%-му раствору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но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жирность сметаны составляет 20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, </a:t>
            </a:r>
            <a:r>
              <a:rPr b="0" i="1" lang="ru-RU" sz="2400" spc="-1" strike="noStrike">
                <a:solidFill>
                  <a:srgbClr val="00ffff"/>
                </a:solidFill>
                <a:latin typeface="Verdana"/>
              </a:rPr>
              <a:t>раствор концентрацией 10 %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и т. п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ffff"/>
                </a:solidFill>
                <a:latin typeface="Verdana"/>
              </a:rPr>
              <a:t>Это правило набора введено в действие в 2003 году, ранее нормой было не отделять знак процента пробелом от предшествующей цифр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6732720" y="4724280"/>
            <a:ext cx="1190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205 0.11055 C -0.73333 0.02776 -0.69462 -0.05504 -0.68403 -0.05111 C -0.67344 -0.04718 -0.72136 0.13113 -0.70799 0.13368 C -0.69462 0.13622 -0.6158 -0.03607 -0.60399 -0.03515 C -0.59219 -0.03422 -0.65191 0.13714 -0.63733 0.139 C -0.62274 0.14085 -0.53889 -0.02544 -0.51597 -0.02451 C -0.49306 -0.02359 -0.52587 0.15218 -0.5 0.14431 C -0.47448 0.13645 -0.39427 -0.07423 -0.36146 -0.07238 C -0.32865 -0.07053 -0.32604 0.15819 -0.30295 0.15495 C -0.27951 0.15171 -0.17882 -0.05897 -0.22136 -0.09204 C -0.26406 -0.12511 -0.57431 -0.06591 -0.55868 -0.04394 C -0.5434 -0.02197 -0.22847 0.0414 -0.1283 0.03955 C -0.02778 0.0377 0.03819 -0.06683 0.04392 -0.05481 C 0.04965 -0.04278 -0.09497 0.10477 -0.0934 0.11217 C -0.09219 0.11957 0.01875 0.00301 0.05191 -0.0104 C 0.08507 -0.02382 0.09514 0.00417 0.10503 0.03238 E">
                                      <p:cBhvr>
                                        <p:cTn id="11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920" y="1844280"/>
            <a:ext cx="122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0%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24000" y="259920"/>
            <a:ext cx="836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Monotype Corsiva"/>
              </a:rPr>
              <a:t>Выберите для каждого процента в левом столбце соответствующую ему дроб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"/>
          <p:cNvSpPr/>
          <p:nvPr/>
        </p:nvSpPr>
        <p:spPr>
          <a:xfrm>
            <a:off x="1332000" y="2637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32000" y="335772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32000" y="4076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7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32000" y="472428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32000" y="544500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2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940360" y="184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84720" y="2637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9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84720" y="3284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12000" y="407664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4720" y="472428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/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12000" y="5445000"/>
            <a:ext cx="12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3/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95640" y="2133720"/>
            <a:ext cx="4105080" cy="136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340000" y="2205000"/>
            <a:ext cx="3816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3645000"/>
            <a:ext cx="403236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68360" y="4437000"/>
            <a:ext cx="403236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340000" y="2997360"/>
            <a:ext cx="395928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68360" y="4436640"/>
            <a:ext cx="4032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Сколько процентов площади квадрата на рисунке заштриховано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5076720" y="2060640"/>
          <a:ext cx="3456000" cy="3242880"/>
        </p:xfrm>
        <a:graphic>
          <a:graphicData uri="http://schemas.openxmlformats.org/drawingml/2006/table">
            <a:tbl>
              <a:tblPr/>
              <a:tblGrid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  <a:gridCol w="34560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68360" y="2060640"/>
          <a:ext cx="3610080" cy="3242880"/>
        </p:xfrm>
        <a:graphic>
          <a:graphicData uri="http://schemas.openxmlformats.org/drawingml/2006/table">
            <a:tbl>
              <a:tblPr/>
              <a:tblGrid>
                <a:gridCol w="360360"/>
                <a:gridCol w="361800"/>
                <a:gridCol w="360720"/>
                <a:gridCol w="361440"/>
                <a:gridCol w="360720"/>
                <a:gridCol w="360360"/>
                <a:gridCol w="361800"/>
                <a:gridCol w="360720"/>
                <a:gridCol w="361440"/>
                <a:gridCol w="360720"/>
              </a:tblGrid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"/>
          <p:cNvSpPr/>
          <p:nvPr/>
        </p:nvSpPr>
        <p:spPr>
          <a:xfrm>
            <a:off x="971640" y="5516640"/>
            <a:ext cx="244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35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35640" y="5516640"/>
            <a:ext cx="244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56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3609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Найдите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3671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%  от  24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%  от  70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0%  от  24,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75%  от  320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,5%  от  40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"/>
          <p:cNvSpPr/>
          <p:nvPr/>
        </p:nvSpPr>
        <p:spPr>
          <a:xfrm>
            <a:off x="4067280" y="620640"/>
            <a:ext cx="4824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</a:rPr>
              <a:t>Найдите число, ес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00720" y="1916280"/>
            <a:ext cx="4464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50% его равны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5% его равны 3,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его равны 2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% его равны 4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3 1/3 его равны 1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0:07:57Z</dcterms:created>
  <dc:creator>Дмитрий</dc:creator>
  <dc:description/>
  <dc:language>en-US</dc:language>
  <cp:lastModifiedBy>Ольга Александровна</cp:lastModifiedBy>
  <dcterms:modified xsi:type="dcterms:W3CDTF">2008-08-20T13:16:11Z</dcterms:modified>
  <cp:revision>26</cp:revision>
  <dc:subject/>
  <dc:title>«Арифметика – гимнастика ума». </dc:title>
</cp:coreProperties>
</file>