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9FD-24E1-42E9-BB37-EC167573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9A5-9577-4683-968F-7ACF68F8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E07-BC50-4BAD-BD56-9D9698CF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1E6-91D2-47C1-A051-3C24A8D7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8871F-E91D-433C-875C-8EA37E4D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AE57B-27B7-4520-8186-6C41DA6D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B32E6-BCF0-40F7-B423-D7D95B35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3DDA7-0CAF-448F-8AD9-C658EE00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57ED2-4E11-4880-8812-8493FD19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320D2-6B3B-402D-BA2F-B08C978A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EC8FE-C9B2-4BCF-B1DA-470801A4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837-E471-415B-8E6F-C627B233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B4B42-4AF7-4D3E-B7E4-856655AA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7E24D-C15C-42D9-9335-33C90C2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7D715-4B94-4748-9203-1B5C4F7F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5F651-3425-47C3-9AF3-0A07D739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A7042-7861-49A5-8A87-AA3F0337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657-8E1B-41DF-8572-FB31E777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E02-4853-42E2-9D8D-61408C7D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F0E-E458-4981-A2D2-7E9E7B8C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87B-572E-4AE7-9227-678C7E09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381-1A1E-4FC0-96B2-AC10E1C6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6F7-F24B-475A-9806-D4A5801F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053-1F99-472B-B1F8-7D936C8F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B20F-8A67-4C7B-87F6-C5E3E7289F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7797-E8AF-4BCA-ACD7-D87FD30488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ое образовательное учреждение средняя( полная) образовательная школа № 12 г.Волжск  РМЭ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витие познавательн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тивности младших  школь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готовила  Никитина М.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лассификация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спредели  слова на групп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яжелый, дверной, позвонил, зазеленел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шибка, улыбка, заскрипишь, скворечн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гк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869000"/>
            <a:ext cx="216036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жно так, а можно и по-другом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яжелый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позвонил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ошиб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ерной        зазеленела           улыб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легки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заскрипиш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скворечн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йдите лишнее слово в групп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й педагогический принци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Если не творчески , то  зачем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.Горький: « Нужно  любить то, что делаешь, и тогда  труд  возвышается  до творчеств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Только творческие и мыслящие люди  быстрее  адаптируются 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знавательная потребность  де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916280"/>
          <a:ext cx="4464000" cy="411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16280"/>
                    <a:ext cx="44640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0" y="1916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установить интенсивность  познавательных  потреб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Обследовались 23 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79640" y="1989000"/>
            <a:ext cx="556272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 важнейших  развивающих, образовательных  и воспитательных задач  всегда было  и остается   развитие  мыслительной деятельности 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сновная  задача  учителя  - разбудить мысль каждого  уче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Э. Кант  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мыслями надобно учить, а учить  мысли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сихически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цес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Развив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ображение               творческое  мышление   любознательность            наблюдате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Ум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нализировать яв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одить срав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общать  фак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лать вы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ссифиц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41460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Девиз урока: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аблюдать, видеть, думат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ния  на развитие мыслительных операц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авнение и обобщ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 и синтез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ссифик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51640" y="4653000"/>
            <a:ext cx="223344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Работа с словом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Загадк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Кто в лесу  глухом жив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Неуклюжий,  косолап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Летом ест  малину, мед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А зимой сосет он лап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88000" y="3789360"/>
            <a:ext cx="380340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знаете  о медведе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чему его так назвали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Медведь-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крупное хищное  животное  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большим  грудным покрытым шерстью телом 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короткими  толстыми ног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5" descr="медведь.jpg"/>
          <p:cNvPicPr/>
          <p:nvPr/>
        </p:nvPicPr>
        <p:blipFill>
          <a:blip r:embed="rId2"/>
          <a:stretch/>
        </p:blipFill>
        <p:spPr>
          <a:xfrm>
            <a:off x="4648320" y="2421000"/>
            <a:ext cx="4038480" cy="34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знаете о  слове медведь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ери однокоренные с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ери синони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ери имена прилагатель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ери глаго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ьте предло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М.две.ь з.внул, пот.нулся  и заш.гал  в ч.щу ле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  интересного в  структуре  этого предложени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бор предложения по членам и частям ре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равнение  с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похожи сло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Угол – уг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ел – м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 отличаются сло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 ведерко  руку оку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е бойся –это окун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 заметил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хождение лишнего слов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ишка                               к старуш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арик                                по  водич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везда                                к полян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лка                                   за тропин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объединяет слова в столбиках?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348000" y="2276640"/>
            <a:ext cx="1355760" cy="17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4:29:02Z</dcterms:created>
  <dc:creator>www.PHILka.RU</dc:creator>
  <dc:description/>
  <dc:language>en-US</dc:language>
  <cp:lastModifiedBy>Марина</cp:lastModifiedBy>
  <dcterms:modified xsi:type="dcterms:W3CDTF">2008-11-01T14:48:09Z</dcterms:modified>
  <cp:revision>11</cp:revision>
  <dc:subject/>
  <dc:title>Муниципальное образовательное учреждение средняя( полная) образовательная школа № 12 г.Волжск  РМЭ</dc:title>
</cp:coreProperties>
</file>