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450-B9C5-432F-992F-4FCD0928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4EE-E7C8-41F7-A6B4-1B09CFB1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2AE-0639-497E-A9BE-8F4D02C3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04A-ADDF-4430-A323-CCBD1686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4E05B-2B65-4330-8E09-B1112B07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93AE1-EE1D-401D-8776-7873F26E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B9F29-171F-44B0-BFE2-B3802ACA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955FD-7284-4AD0-8F30-768A7F27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CB82D-CBC4-4B19-854F-899A274C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9FBBB-0FE9-4F5E-BBEF-E88AFE0B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527CE-3E58-4D22-BB74-BBAAF1E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C0E-3504-4C49-8DC2-F39E1634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37989-C51E-4372-933B-7E52770E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2A915-1BF1-4006-870D-155ABD21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8D8AF-B132-429F-94C4-7CC3FF19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BBAF8-4FE6-448A-BA22-D949BFC9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2EB6E-706C-45A5-8430-3C7FD53C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195-C383-4859-AC23-F03EF68F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F50-DF1C-454B-82A1-341F7A47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37B-83B4-40FA-B95E-2914652F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A0F-389D-4DDC-93AD-11D4399B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8F2-C431-4A33-9353-1FBC630D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D69-33A8-4B97-BB44-3FDED464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559-FA6C-41A8-A2C6-D086B7FE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AE96-E67B-4728-A2E6-E4F7BDDD74F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4A53-903A-473E-83E5-D970A8EEE4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ниципальное образовательное учреждение средняя( полная) образовательная школа № 12 г.Волжск  РМЭ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витие познавательн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тивности младших  школь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готовила  Никитина М.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лассификация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спредели  слова на групп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яжелый, дверной, позвонил, зазеленел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шибка, улыбка, заскрипишь, скворечн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егк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869000"/>
            <a:ext cx="216036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Можно так, а можно и по-другом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яжелый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позвонил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ошиб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верной        зазеленела           улыб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легкий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заскрипиш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скворечн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йдите лишнее слово в групп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й педагогический принцип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Если не творчески , то  зачем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.Горький: « Нужно  любить то, что делаешь, и тогда  труд  возвышается  до творчеств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Только творческие и мыслящие люди  быстрее  адаптируются 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знавательная потребность  дет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916280"/>
          <a:ext cx="4464000" cy="411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16280"/>
                    <a:ext cx="446400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0" y="1916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установить интенсивность  познавательных  потребност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Обследовались 23 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79640" y="1989000"/>
            <a:ext cx="556272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 важнейших  развивающих, образовательных  и воспитательных задач  всегда было  и остается   развитие  мыслительной деятельности  учащих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Основная  задача  учителя  - разбудить мысль каждого  учен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Э. Кант  «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мыслями надобно учить, а учить  мыслить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сихически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цес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Развив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ображение               творческое  мышление   любознательность            наблюдатель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Ум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нализировать яв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водить сравн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общать  фак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лать выв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лассифиц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414600" cy="238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Девиз урока: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аблюдать, видеть, думать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ния  на развитие мыслительных операци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авнение и обобщ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 и синтез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ссифик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рет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51640" y="4653000"/>
            <a:ext cx="223344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Работа с словом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Загадк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Кто в лесу  глухом жив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Неуклюжий,  косолап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Летом ест  малину, мед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А зимой сосет он лап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88000" y="3789360"/>
            <a:ext cx="380340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 знаете  о медведе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чему его так назвали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Медведь-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крупное хищное  животное  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большим  грудным покрытым шерстью телом 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короткими  толстыми ног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Рисунок 5" descr="медведь.jpg"/>
          <p:cNvPicPr/>
          <p:nvPr/>
        </p:nvPicPr>
        <p:blipFill>
          <a:blip r:embed="rId2"/>
          <a:stretch/>
        </p:blipFill>
        <p:spPr>
          <a:xfrm>
            <a:off x="4648320" y="2421000"/>
            <a:ext cx="4038480" cy="34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Что знаете о  слове медведь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ери однокоренные с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ери синони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ери имена прилагатель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бери глаго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ьте предлож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М.две.ь з.внул, пот.нулся  и заш.гал  в ч.щу ле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  интересного в  структуре  этого предложени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бор предложения по членам и частям реч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равнение  сл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похожи сло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Угол – уго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ел – мел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 отличаются сло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 ведерко  руку оку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е бойся –это окун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 заметил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Нахождение лишнего слов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ишка                               к старуш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шарик                                по  водич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везда                                к полян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лка                                   за тропин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объединяет слова в столбиках?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348000" y="2276640"/>
            <a:ext cx="1355760" cy="17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4:29:02Z</dcterms:created>
  <dc:creator>www.PHILka.RU</dc:creator>
  <dc:description/>
  <dc:language>en-US</dc:language>
  <cp:lastModifiedBy>Марина</cp:lastModifiedBy>
  <dcterms:modified xsi:type="dcterms:W3CDTF">2008-11-01T14:48:09Z</dcterms:modified>
  <cp:revision>11</cp:revision>
  <dc:subject/>
  <dc:title>Муниципальное образовательное учреждение средняя( полная) образовательная школа № 12 г.Волжск  РМЭ</dc:title>
</cp:coreProperties>
</file>