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F7C-B0F5-4597-B171-16274712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1E2-5BE2-4F87-B2B0-28AE32DD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390-C266-462E-B5D6-59FEF7E6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E15-8E47-4C88-A20A-37D7850A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0151-A5E3-469F-AC6E-6622BA24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B82F-746E-4583-B166-2BFB6A4C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4406-4E62-4053-BC42-756102AB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3A51-879B-453F-86FC-79AA7058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D604-F0AB-4008-86F1-56A38A99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AD30-3C5A-42F0-947D-CC75135A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A50C-9C42-4643-9755-7E4D6192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505-5BBA-4A9E-9D47-94AE614B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7F91-7C1D-41AE-8E55-AF75CE26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0D84-4477-4610-B52B-D7337E19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B6EC-AA66-41CD-A133-61F40C04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E522-E41F-483E-867A-837313AE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D626-CBD6-4B77-B2D1-E3E9355C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05F-A0C7-4563-BEA8-0EA79BED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BE8-9822-4C2B-8D2B-7771E012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517-A44B-40DB-BEF4-FD7E66CC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4FA-F524-47D9-9FC8-FC614505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0DEB-9919-4634-9263-26A1C347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33B-5F73-43DF-890D-2BE56EA7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A7D-D1E1-4A6E-938B-68DCC2B4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09CB-D6E2-4DD8-8FA1-D774DAA0FEF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7963-A956-4570-A187-75864DFC2D5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img-fotki.yandex.ru/get/3106/yuliaborsiak.0/0_275c4_d8ec06af_X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4format.ru/index_pic.php?data=photos/42864c5a.jpg&amp;percenta=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.rutube.ru/thumbs/53/41/5341ae588ad789b32e01bb018335d224-1-1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7740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462cb2"/>
                </a:solidFill>
                <a:latin typeface="Times New Roman"/>
              </a:rPr>
              <a:t>Роль бытовой детали в раскрытии характера литературного героя.</a:t>
            </a:r>
            <a:r>
              <a:rPr b="1" i="1" lang="en-US" sz="5400" spc="-1" strike="noStrike">
                <a:solidFill>
                  <a:srgbClr val="f7d47d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050920" y="4941360"/>
            <a:ext cx="564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(На примере повести А.С.Пушкин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Капитанская дочка»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40720" cy="26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f1311"/>
                </a:solidFill>
                <a:latin typeface="Arial"/>
              </a:rPr>
              <a:t>Погребец — «дорожный ларец с чайным или столовым прибором или с питиями» </a:t>
            </a:r>
            <a:br>
              <a:rPr sz="4000"/>
            </a:br>
            <a:r>
              <a:rPr b="0" i="1" lang="en-US" sz="4000" spc="-1" strike="noStrike">
                <a:solidFill>
                  <a:srgbClr val="2f1311"/>
                </a:solidFill>
                <a:latin typeface="Arial"/>
              </a:rPr>
              <a:t>                                      (В. Даль)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" descr="Картинка 1 из 23"/>
          <p:cNvPicPr/>
          <p:nvPr/>
        </p:nvPicPr>
        <p:blipFill>
          <a:blip r:embed="rId1"/>
          <a:stretch/>
        </p:blipFill>
        <p:spPr>
          <a:xfrm>
            <a:off x="5219640" y="2924280"/>
            <a:ext cx="3924360" cy="3933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Картинка 2 из 23"/>
          <p:cNvPicPr/>
          <p:nvPr/>
        </p:nvPicPr>
        <p:blipFill>
          <a:blip r:embed="rId2"/>
          <a:stretch/>
        </p:blipFill>
        <p:spPr>
          <a:xfrm>
            <a:off x="0" y="2940120"/>
            <a:ext cx="521964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744876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8e840"/>
                </a:solidFill>
                <a:latin typeface="Arial"/>
              </a:rPr>
              <a:t>Штоф – графинчик вина; русская мера объёма жидкости, равная 2 водочным бутылкам или 10 чаркам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547640" y="2674800"/>
            <a:ext cx="55454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4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«Два халата, один миткалевый и шелковый полосатый на шесть рублей…</a:t>
            </a:r>
            <a:br>
              <a:rPr sz="2600"/>
            </a:b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i="1" lang="en-US" sz="2600" spc="-1" strike="noStrike">
                <a:solidFill>
                  <a:srgbClr val="462cb2"/>
                </a:solidFill>
                <a:latin typeface="Arial"/>
              </a:rPr>
              <a:t>Мундир из тонкого зелёного сукна на семь рублей. </a:t>
            </a:r>
            <a:br>
              <a:rPr sz="2600"/>
            </a:b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        Штаны белые суконные на пять рублей. </a:t>
            </a:r>
            <a:br>
              <a:rPr sz="2600"/>
            </a:b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i="1" lang="en-US" sz="2600" spc="-1" strike="noStrike">
                <a:solidFill>
                  <a:srgbClr val="462cb2"/>
                </a:solidFill>
                <a:latin typeface="Arial"/>
              </a:rPr>
              <a:t>Двенадцать рубах полотняных голландских с манжетами на десять рублей.</a:t>
            </a: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</a:t>
            </a:r>
            <a:br>
              <a:rPr sz="2600"/>
            </a:b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       Погребец чайный с посудою на два рубля с полтиною…</a:t>
            </a:r>
            <a:br>
              <a:rPr sz="2600"/>
            </a:b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i="1" lang="en-US" sz="2600" spc="-1" strike="noStrike">
                <a:solidFill>
                  <a:srgbClr val="462cb2"/>
                </a:solidFill>
                <a:latin typeface="Arial"/>
              </a:rPr>
              <a:t>Одеяло ситцевое, другое тафтяное на хлопчатой бумаге – четыре рубля. </a:t>
            </a:r>
            <a:br>
              <a:rPr sz="2600"/>
            </a:b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       Шуба лисья, крытая алым ратином, 40 рублей. </a:t>
            </a:r>
            <a:br>
              <a:rPr sz="2600"/>
            </a:b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i="1" lang="en-US" sz="2600" spc="-1" strike="noStrike">
                <a:solidFill>
                  <a:srgbClr val="462cb2"/>
                </a:solidFill>
                <a:latin typeface="Arial"/>
              </a:rPr>
              <a:t>Ещё заячий тулупчик…15 рублей</a:t>
            </a: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».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450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462cb2"/>
                </a:solidFill>
                <a:latin typeface="Arial"/>
              </a:rPr>
              <a:t>Миткаль</a:t>
            </a:r>
            <a:r>
              <a:rPr b="0" i="1" lang="ru-RU" sz="2800" spc="-1" strike="noStrike">
                <a:solidFill>
                  <a:srgbClr val="d8e840"/>
                </a:solidFill>
                <a:latin typeface="Arial"/>
              </a:rPr>
              <a:t> – дешёвая хлопчатобумажная ткань сероватого цвета, из которой оычно шили бельё и блузк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62cb2"/>
                </a:solidFill>
                <a:latin typeface="Arial"/>
              </a:rPr>
              <a:t>Китайка </a:t>
            </a:r>
            <a:r>
              <a:rPr b="0" i="1" lang="ru-RU" sz="2800" spc="-1" strike="noStrike">
                <a:solidFill>
                  <a:srgbClr val="d8e840"/>
                </a:solidFill>
                <a:latin typeface="Arial"/>
              </a:rPr>
              <a:t>– плотная ткань, производимая сначала в Китае, а после и в России, обычно синего, реже красного цвет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Картинка 300 из 26364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6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8e840"/>
                </a:solidFill>
                <a:latin typeface="Arial"/>
              </a:rPr>
              <a:t>Мундир 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— военная или гражданская форменная одежда, однообразная для служащих ; собственно парадная, праздничная служебная одежда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Картинка 28 из 36"/>
          <p:cNvPicPr/>
          <p:nvPr/>
        </p:nvPicPr>
        <p:blipFill>
          <a:blip r:embed="rId1"/>
          <a:stretch/>
        </p:blipFill>
        <p:spPr>
          <a:xfrm>
            <a:off x="4140360" y="2421000"/>
            <a:ext cx="3162240" cy="4437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Картинка 29 из 36"/>
          <p:cNvPicPr/>
          <p:nvPr/>
        </p:nvPicPr>
        <p:blipFill>
          <a:blip r:embed="rId2"/>
          <a:stretch/>
        </p:blipFill>
        <p:spPr>
          <a:xfrm>
            <a:off x="611280" y="2421000"/>
            <a:ext cx="31446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63160" y="260280"/>
            <a:ext cx="36162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62cb2"/>
                </a:solidFill>
                <a:latin typeface="Arial"/>
              </a:rPr>
              <a:t>ТАФТА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 - гладкая, тонкая шелковая ткань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032000" y="259920"/>
            <a:ext cx="36176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62cb2"/>
                </a:solidFill>
                <a:latin typeface="Arial"/>
              </a:rPr>
              <a:t>Ратин 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- шерстяная ткань для верхней одежды с мохнатым, длинным завитым ворсом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" descr="Картинка 67 из 24377"/>
          <p:cNvPicPr/>
          <p:nvPr/>
        </p:nvPicPr>
        <p:blipFill>
          <a:blip r:embed="rId3"/>
          <a:stretch/>
        </p:blipFill>
        <p:spPr>
          <a:xfrm rot="589800">
            <a:off x="611280" y="2276640"/>
            <a:ext cx="3989160" cy="3211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Картинка 124 из 191"/>
          <p:cNvPicPr/>
          <p:nvPr/>
        </p:nvPicPr>
        <p:blipFill>
          <a:blip r:embed="rId4"/>
          <a:stretch/>
        </p:blipFill>
        <p:spPr>
          <a:xfrm>
            <a:off x="5037120" y="2276640"/>
            <a:ext cx="23702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4932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62cb2"/>
                </a:solidFill>
                <a:latin typeface="Times New Roman"/>
              </a:rPr>
              <a:t>Армяк</a:t>
            </a:r>
            <a:r>
              <a:rPr b="0" i="1" lang="en-US" sz="2800" spc="-1" strike="noStrike">
                <a:solidFill>
                  <a:srgbClr val="462cb2"/>
                </a:solidFill>
                <a:latin typeface="Times New Roman"/>
              </a:rPr>
              <a:t>(тюрк.)</a:t>
            </a:r>
            <a:r>
              <a:rPr b="0" i="1" lang="en-US" sz="2400" spc="-1" strike="noStrike">
                <a:solidFill>
                  <a:srgbClr val="2f1311"/>
                </a:solidFill>
                <a:latin typeface="Times New Roman"/>
              </a:rPr>
              <a:t> - верхняя долгополая распашная одежда в виде халата из толстой грубой шерстяной ткани или сукна, употреблявшаяся в прошлом (с 15—16 вв.) русскими крестьянами (особенно Урала и Поволжья)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03640" y="188640"/>
            <a:ext cx="26812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62cb2"/>
                </a:solidFill>
                <a:latin typeface="Times New Roman"/>
              </a:rPr>
              <a:t>Тулуп </a:t>
            </a:r>
            <a:r>
              <a:rPr b="0" i="1" lang="en-US" sz="2400" spc="-1" strike="noStrike">
                <a:solidFill>
                  <a:srgbClr val="2f1311"/>
                </a:solidFill>
                <a:latin typeface="Times New Roman"/>
              </a:rPr>
              <a:t>—длинная, обычно не крытая сукном меховая (мехом внутрь) шуба с воротником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Картинка 1 из 74"/>
          <p:cNvPicPr/>
          <p:nvPr/>
        </p:nvPicPr>
        <p:blipFill>
          <a:blip r:embed="rId1"/>
          <a:stretch/>
        </p:blipFill>
        <p:spPr>
          <a:xfrm>
            <a:off x="971640" y="2852640"/>
            <a:ext cx="2719440" cy="4005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Картинка 3 из 1710"/>
          <p:cNvPicPr/>
          <p:nvPr/>
        </p:nvPicPr>
        <p:blipFill>
          <a:blip r:embed="rId2"/>
          <a:stretch/>
        </p:blipFill>
        <p:spPr>
          <a:xfrm>
            <a:off x="4859280" y="2852640"/>
            <a:ext cx="29736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88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« - Помилуй, батюшка Петр Андреич! — сказал Савельич. — Зачем ему твой заячий тулуп? Он его пропьет, собака, в первом кабак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- Это, старинушка, уж не твоя печаль, — сказал мой бродяга, — пропью ли я или нет. Его благородие мне жалует шубу со своего плеча: его на то барская воля, а твое холопье дело не спорить и слушаться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- Бога ты не боишься, разбойник! — отвечал ему Савельич сер­дитым голосом. — Ты видишь, что дитя еще не смыслит, а ты и рад его обобрать, простоты его ради. Зачем тебе барский тулупчик? Ты и не напялишь его на свои окаянные плечищ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- Прошу не умничать, — сказал я своему дядьке, — сейчас неси сюда тулуп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- Господи владыко! — простонал мой Савельич. — Заячий тулуп почти новешенький! и добро бы кому, а то пьянице оголелому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Однако заячий тулуп явился. Мужичок тут же стал его примеривать. В самом деле тулуп, из которого успел и я вырасти, был немнож­ко для него узок. Однако он кое-как умудрился и надел его, распоров по швам. Савельич чуть не завыл, услышав, как нитки затрещали. Бродяга был чрезвычайно доволен моим подарком. Он проводил меня до кибитки и сказал с низким поклоном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«Спасибо, ваше благородие! Награди вас Господь за вашу добродетель. Век не забуду ваших милостей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0"/>
            <a:ext cx="802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29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f1311"/>
                </a:solidFill>
                <a:latin typeface="Times New Roman"/>
              </a:rPr>
              <a:t>Дальнейшие события повести определяются </a:t>
            </a:r>
            <a:r>
              <a:rPr b="0" i="1" lang="en-US" sz="3400" spc="-1" strike="noStrike">
                <a:solidFill>
                  <a:srgbClr val="d8e840"/>
                </a:solidFill>
                <a:latin typeface="Times New Roman"/>
              </a:rPr>
              <a:t>осознанным нравственным выбором</a:t>
            </a:r>
            <a:r>
              <a:rPr b="0" i="1" lang="en-US" sz="3400" spc="-1" strike="noStrike">
                <a:solidFill>
                  <a:srgbClr val="2f1311"/>
                </a:solidFill>
                <a:latin typeface="Times New Roman"/>
              </a:rPr>
              <a:t> героя. Именно поэтому на склоне лет Петр Андреевич Гринев оценивает события Пугачевщины прежде всего как давшие его душе «сильное и благое потрясение».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f1311"/>
                </a:solidFill>
                <a:latin typeface="Times New Roman"/>
              </a:rPr>
              <a:t>Итак, </a:t>
            </a:r>
            <a:r>
              <a:rPr b="0" i="1" lang="en-US" sz="3400" spc="-1" strike="noStrike">
                <a:solidFill>
                  <a:srgbClr val="d8e840"/>
                </a:solidFill>
                <a:latin typeface="Times New Roman"/>
              </a:rPr>
              <a:t>костюм и детали быта в романе не только рассказывают об эпохе, но и помогают глубже понять внутренний мир героя, идейный замысел автора</a:t>
            </a:r>
            <a:r>
              <a:rPr b="0" i="1" lang="en-US" sz="3400" spc="-1" strike="noStrike">
                <a:solidFill>
                  <a:srgbClr val="2f1311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88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62cb2"/>
                </a:solidFill>
                <a:latin typeface="Times New Roman"/>
              </a:rPr>
              <a:t>Выберите только одно из предложенных ниже заданий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62cb2"/>
                </a:solidFill>
                <a:latin typeface="Times New Roman"/>
              </a:rPr>
              <a:t>   </a:t>
            </a:r>
            <a:r>
              <a:rPr b="0" i="1" lang="ru-RU" sz="3600" spc="-1" strike="noStrike">
                <a:solidFill>
                  <a:srgbClr val="462cb2"/>
                </a:solidFill>
                <a:latin typeface="Times New Roman"/>
              </a:rPr>
              <a:t>(С 5.1, С 5.2, С 5.3). Дайте полный развернутый ответ на проблемный вопрос ( в объёме не менее 200 слов), привлекая необходимые теоретико - литературные знания, опираясь на литературные произведения, позицию автора и по возможности раскрывая собственное видение проблемы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88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62cb2"/>
                </a:solidFill>
                <a:latin typeface="Times New Roman"/>
              </a:rPr>
              <a:t>Деталь</a:t>
            </a:r>
            <a:r>
              <a:rPr b="0" i="1" lang="en-US" sz="3200" spc="-1" strike="noStrike">
                <a:solidFill>
                  <a:srgbClr val="f7d47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(фр. — подробность): </a:t>
            </a:r>
            <a:br>
              <a:rPr sz="3200"/>
            </a:b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элемент; 2) подробность, уточняющая характеристику образа; 3) менее значительная часть произведения; </a:t>
            </a:r>
            <a:br>
              <a:rPr sz="3200"/>
            </a:b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фрагмент (см.). </a:t>
            </a:r>
            <a:br>
              <a:rPr sz="3200"/>
            </a:br>
            <a:r>
              <a:rPr b="1" i="1" lang="en-US" sz="4000" spc="-1" strike="noStrike">
                <a:solidFill>
                  <a:srgbClr val="462cb2"/>
                </a:solidFill>
                <a:latin typeface="Times New Roman"/>
              </a:rPr>
              <a:t>Художественная деталь</a:t>
            </a:r>
            <a:r>
              <a:rPr b="0" i="1" lang="en-US" sz="4000" spc="-1" strike="noStrike">
                <a:solidFill>
                  <a:srgbClr val="462cb2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f7d47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изобразительная и выразительная подробность, несущая определенную эмоциональную и содержательную нагрузку, одно из средств создания автором картины природы, предмета, характера, интерьера, портрета и  т.д.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0"/>
            <a:ext cx="781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f1311"/>
                </a:solidFill>
                <a:latin typeface="Times New Roman"/>
              </a:rPr>
              <a:t>- «Почему возникают споры о жанре «Капитанской дочки»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f1311"/>
                </a:solidFill>
                <a:latin typeface="Times New Roman"/>
              </a:rPr>
              <a:t>- «Почему произведение А.С.Пушкина названо «Капитанская дочка»?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f1311"/>
                </a:solidFill>
                <a:latin typeface="Times New Roman"/>
              </a:rPr>
              <a:t>- «В чём значение сна Гринёва?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f1311"/>
                </a:solidFill>
                <a:latin typeface="Times New Roman"/>
              </a:rPr>
              <a:t>- «Не уронил ли Гринёв чести и достоинства в разговорах с Пугачёвым?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74768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d8e840"/>
                </a:solidFill>
                <a:latin typeface="Times New Roman"/>
              </a:rPr>
              <a:t>Успехов в учении!</a:t>
            </a:r>
            <a:br>
              <a:rPr sz="6000"/>
            </a:br>
            <a:r>
              <a:rPr b="0" i="1" lang="en-US" sz="6000" spc="-1" strike="noStrike">
                <a:solidFill>
                  <a:srgbClr val="d8e840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" descr="Картинка 17 из 120"/>
          <p:cNvPicPr/>
          <p:nvPr/>
        </p:nvPicPr>
        <p:blipFill>
          <a:blip r:embed="rId1"/>
          <a:stretch/>
        </p:blipFill>
        <p:spPr>
          <a:xfrm>
            <a:off x="250920" y="2057400"/>
            <a:ext cx="720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28120" cy="21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62cb2"/>
                </a:solidFill>
                <a:latin typeface="Times New Roman"/>
              </a:rPr>
              <a:t>Петр.</a:t>
            </a:r>
            <a:br>
              <a:rPr sz="3200"/>
            </a:br>
            <a:r>
              <a:rPr b="0" i="1" lang="ru-RU" sz="2400" spc="-1" strike="noStrike">
                <a:solidFill>
                  <a:srgbClr val="2f1311"/>
                </a:solidFill>
                <a:latin typeface="Times New Roman"/>
              </a:rPr>
              <a:t> Свое распространение имя получило в связи с деятельностью апостола Симона Зеведеева, которого Иисус нарек Кифой или в греческом варианте - Петром. Дословно это имя означает камень, скала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Картинка 7 из 74"/>
          <p:cNvPicPr/>
          <p:nvPr/>
        </p:nvPicPr>
        <p:blipFill>
          <a:blip r:embed="rId1"/>
          <a:stretch/>
        </p:blipFill>
        <p:spPr>
          <a:xfrm>
            <a:off x="0" y="2111400"/>
            <a:ext cx="788508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f1311"/>
                </a:solidFill>
                <a:latin typeface="Arial"/>
              </a:rPr>
              <a:t>«Прощай, Пётр. Служи верно, кому присягнёшь; слушайся начальников; за их лаской не гоняйся; на службу не напрашивайся; от службы не отговаривайся; и помни пословицу: </a:t>
            </a:r>
            <a:r>
              <a:rPr b="0" i="1" lang="ru-RU" sz="4000" spc="-1" strike="noStrike">
                <a:solidFill>
                  <a:srgbClr val="d8e840"/>
                </a:solidFill>
                <a:latin typeface="Arial"/>
              </a:rPr>
              <a:t>береги платье снову, а честь смолоду</a:t>
            </a:r>
            <a:r>
              <a:rPr b="0" i="1" lang="ru-RU" sz="4000" spc="-1" strike="noStrike">
                <a:solidFill>
                  <a:srgbClr val="2f1311"/>
                </a:solidFill>
                <a:latin typeface="Arial"/>
              </a:rPr>
              <a:t>».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916000" y="0"/>
            <a:ext cx="48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Платать,  или платить одежду — чинить, латать, класть, или нашивать, заплатки, лоскуть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2cb2"/>
                </a:solidFill>
                <a:latin typeface="Arial"/>
              </a:rPr>
              <a:t>Платанина, рубище, одежда в заплатах, ветха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Платье, платьице, портн., стар., одежа, одежда, носильное, все, что мы надеваем, кроме белья и обув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2cb2"/>
                </a:solidFill>
                <a:latin typeface="Arial"/>
              </a:rPr>
              <a:t>Верхнее платье, второе, все, что надевается сверх первого, для тепл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Нижнее,исподнее,портки, шаровары, брюки,штаны, панталон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Из словар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В.И.Дал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0" y="0"/>
            <a:ext cx="2916360" cy="6858000"/>
            <a:chOff x="0" y="0"/>
            <a:chExt cx="2916360" cy="6858000"/>
          </a:xfrm>
        </p:grpSpPr>
        <p:pic>
          <p:nvPicPr>
            <p:cNvPr id="200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 txBox="1"/>
            <p:nvPr/>
          </p:nvSpPr>
          <p:spPr>
            <a:xfrm>
              <a:off x="0" y="0"/>
              <a:ext cx="2916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4880" cy="4797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Картинка 17 из 116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10200" y="2060640"/>
            <a:ext cx="35985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140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Облачение в «ризу светлу» после Крещения знаменует возвращение человека к целостности и невинности. Вместе с белою одеждой возлагается на новокрещёного  крест – в знак того, что он должен исполнить волю Господа нашего Иисуса Христа, даже если верующему придётся терпеть и переносить множество бед и несчасти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2987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«Я стал читать про себя молитву, принося Богу искреннее раскаяние во всех моих прегрешениях и моля Его о спасении всех близких моему сердцу»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Картинка 152 из 19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2771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8e840"/>
                </a:solidFill>
                <a:latin typeface="Arial"/>
              </a:rPr>
              <a:t>«...я не терял ни бодрости, ни надежды. Я прибегнул к утешению всех скорбящих и, впервые вкусив сладость молитвы, излиянной из чистого, но растерзанного сердца, спокойно заснул, не заботясь о том, что со мною будет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Картинка 1 из 1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0"/>
            <a:ext cx="62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8:25:56Z</dcterms:created>
  <dc:creator>Zver</dc:creator>
  <dc:description/>
  <dc:language>en-US</dc:language>
  <cp:lastModifiedBy>Zver</cp:lastModifiedBy>
  <dcterms:modified xsi:type="dcterms:W3CDTF">2009-11-06T10:44:38Z</dcterms:modified>
  <cp:revision>20</cp:revision>
  <dc:subject/>
  <dc:title>Роль костюма и деталей быта в создании образа Петруши Гринёва.</dc:title>
</cp:coreProperties>
</file>