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3.jpeg" ContentType="image/jpeg"/>
  <Override PartName="/ppt/media/image22.wmf" ContentType="image/x-wmf"/>
  <Override PartName="/ppt/media/image20.jpeg" ContentType="image/jpeg"/>
  <Override PartName="/ppt/media/image21.jpeg" ContentType="image/jpeg"/>
  <Override PartName="/ppt/media/image32.wmf" ContentType="image/x-wmf"/>
  <Override PartName="/ppt/media/image17.png" ContentType="image/png"/>
  <Override PartName="/ppt/media/image11.wmf" ContentType="image/x-wmf"/>
  <Override PartName="/ppt/media/image26.png" ContentType="image/png"/>
  <Override PartName="/ppt/media/image18.png" ContentType="image/png"/>
  <Override PartName="/ppt/media/image27.png" ContentType="image/png"/>
  <Override PartName="/ppt/media/image12.wmf" ContentType="image/x-wmf"/>
  <Override PartName="/ppt/media/image3.jpeg" ContentType="image/jpeg"/>
  <Override PartName="/ppt/media/image15.png" ContentType="image/png"/>
  <Override PartName="/ppt/media/image16.jpeg" ContentType="image/jpeg"/>
  <Override PartName="/ppt/media/image5.wmf" ContentType="image/x-wmf"/>
  <Override PartName="/ppt/media/image35.wmf" ContentType="image/x-wmf"/>
  <Override PartName="/ppt/media/image13.wmf" ContentType="image/x-wmf"/>
  <Override PartName="/ppt/media/image7.jpeg" ContentType="image/jpeg"/>
  <Override PartName="/ppt/media/image28.png" ContentType="image/png"/>
  <Override PartName="/ppt/media/image30.jpeg" ContentType="image/jpeg"/>
  <Override PartName="/ppt/media/image37.wmf" ContentType="image/x-wmf"/>
  <Override PartName="/ppt/media/image31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4.png" ContentType="image/png"/>
  <Override PartName="/ppt/media/image36.wmf" ContentType="image/x-wmf"/>
  <Override PartName="/ppt/media/image39.wmf" ContentType="image/x-wmf"/>
  <Override PartName="/ppt/media/image38.wmf" ContentType="image/x-wmf"/>
  <Override PartName="/ppt/media/image8.wmf" ContentType="image/x-wmf"/>
  <Override PartName="/ppt/media/image6.png" ContentType="image/png"/>
  <Override PartName="/ppt/media/image14.wmf" ContentType="image/x-wmf"/>
  <Override PartName="/ppt/media/image10.png" ContentType="image/png"/>
  <Override PartName="/ppt/media/image4.wmf" ContentType="image/x-wmf"/>
  <Override PartName="/ppt/media/image9.jpeg" ContentType="image/jpeg"/>
  <Override PartName="/ppt/media/image19.gif" ContentType="image/gif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AFA7-22B0-4B9B-A358-A17E8580F1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D590-3DB6-429A-856E-1752798D5B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066F-D437-4B09-B619-E9009B1C16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E092-1C12-4543-9CED-547D78E471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0385-AC48-4716-890A-5AABA0EB36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349F-7BAB-4167-BD7A-E6B77FF6F0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02D5-9929-4832-B9CF-F72D87ABA9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D946-A180-4756-9A3C-AD59869DEC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CC7A-6D2C-4914-AE80-C9F439B4A9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A509-D90C-4F99-B6E1-7BD979723C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F9D2-2DD6-4F85-BF90-5726F600E0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3527-5DAA-421B-A301-CFDA04BCF7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4E06-EC4F-4834-8FB5-5991A5F63B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00CB-F4DE-4BE3-80FD-10CE9A342B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74F9-8743-47EB-8801-DCF3DCA5FB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0A38-8839-4096-926D-6BFDD2DBE5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D06A-19A1-4096-84F5-47EA4239D3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E6CD-73FE-408E-B3F4-B79F75D43D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F633-CA4A-4368-93AF-EB7CC82A77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531A-6A7A-44DE-8E8D-AE6AC193CA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B3F6-4AB3-4DB4-9977-96044CA2EE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810C-F8AA-488E-B584-640EC278DD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E152-14FD-4166-AA26-8E5900331B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8537-7C2F-4A57-918C-3F6865E47B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74DF-F082-4630-A525-24F4AC05CF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BC2B-BA7B-46D6-A6F5-8DBF88391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A834-3D9B-4279-8614-31A104AA03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44E2-337D-4D2F-A3BB-152C48A10E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467D-E841-4A8E-B402-23AA6A40D9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9461-32C5-46E0-903F-EE92FDEA9D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8088-49FA-4960-AED0-44C69E8B88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627B-ADC9-44DC-B0AE-A6438769E3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4803-1CF2-4D85-88C6-BE48DE3BE2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16C0-EA6D-4D0C-878B-B80F812D45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0495-EB63-4054-A566-432795B2D5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B45B-C342-4E9A-AC6C-2412A482DF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F74E-E953-4086-BC01-75770C69F4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E86A-AEA7-4E90-80EC-BE9BBCA1A9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0286-031F-4242-82DE-95522A7E48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59BF-F89E-4790-8CBC-08743F7228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9B5A-B781-4094-9E98-CB20E09CFB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E3C1-8793-4E66-BB7C-065C4E54C7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10EB-5BFE-4929-A2AE-325C6896C4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37AE-329D-4D16-9498-7E304853AC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56FD-344B-4421-B181-41317D6D49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F4B6-6227-48A6-B078-633053ABF7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18AE-244B-4C7F-A8F8-EECEDFB1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BCA0-F0E3-47FB-B904-238222D6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1E80-0721-44B2-AB3B-E8AF14F8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984B-120F-43F0-A015-4400CD68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95E1-2D80-44F7-9D74-E21C9A7B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1ABE-30AB-4D81-A342-4FD5A5A0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31D-3D2A-4172-8998-FED6429A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182-BCF7-4B87-ABF3-C29C2DC2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2EF7-048A-4B4A-A4C6-020C0B3B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7EE-E451-4569-B33C-512E496F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36F-8A96-4EBC-A02B-644B52E8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3B8D-840A-455C-983A-2467E5FA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E575-6220-423C-B824-F68A5A8B9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09480" y="225360"/>
            <a:ext cx="8034480" cy="306072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4572000" y="3151080"/>
            <a:ext cx="4145040" cy="3157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468360" y="2924280"/>
            <a:ext cx="39225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5120" y="344160"/>
            <a:ext cx="808344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3200" spc="-1" strike="noStrike">
                <a:solidFill>
                  <a:srgbClr val="990099"/>
                </a:solidFill>
                <a:latin typeface="Arial"/>
              </a:rPr>
              <a:t>Задачи адаптационных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8928000" cy="5399280"/>
          </a:xfrm>
          <a:prstGeom prst="rect">
            <a:avLst/>
          </a:prstGeom>
          <a:noFill/>
          <a:ln w="76320">
            <a:solidFill>
              <a:srgbClr val="cc99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условий для обеспечения эмоционального комфорта, чувства защищенности у первоклассников при вхождении в школьн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доброжелательной атмосферы в классе как необходимого условия для развития у детей уверенности в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щь первоклассникам в осознании и принятии правил школьной жизни и себя в роли уче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для знакомства детей друг с др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взаимодействия между детьми как предпосылки формирования навыков учебного сотрудни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предпосылок для групповой сплоченности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условий для освоения первоклассниками пространства своего класса как предпосылки для освоения пространства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ство педагога с особенностями детей кл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Адаптационные занятия охватывают следующие т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32764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37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Знакомство. Знакомство первоклассников с учителем и друг с др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37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2-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авила школьной жизни. Знакомство первоклассников с правилами школьной жизни и продолжение знакомства друг с др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37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Школьник и дошкольник. Осознание детьми своего нового статуса шк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37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Для чего ходят в школу. Осознание детьми своего нового статуса шк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37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Оценка. Формирование реалистичного восприятия перво- классниками школьной оце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37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7-8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Учимся работать дружно. Знакомство учащихся с навыками учебного сотрудни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37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cc"/>
                </a:solidFill>
                <a:latin typeface="Arial"/>
              </a:rPr>
              <a:t>9-10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рвоклассное путешествие. Закрепление позитивного эмоционального отношения к школе и обу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37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4" descr="j0432591"/>
          <p:cNvPicPr/>
          <p:nvPr/>
        </p:nvPicPr>
        <p:blipFill>
          <a:blip r:embed="rId1"/>
          <a:stretch/>
        </p:blipFill>
        <p:spPr>
          <a:xfrm>
            <a:off x="70200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j0432591"/>
          <p:cNvPicPr/>
          <p:nvPr/>
        </p:nvPicPr>
        <p:blipFill>
          <a:blip r:embed="rId2"/>
          <a:stretch/>
        </p:blipFill>
        <p:spPr>
          <a:xfrm>
            <a:off x="31320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j0430997"/>
          <p:cNvPicPr/>
          <p:nvPr/>
        </p:nvPicPr>
        <p:blipFill>
          <a:blip r:embed="rId3"/>
          <a:stretch/>
        </p:blipFill>
        <p:spPr>
          <a:xfrm>
            <a:off x="7032600" y="4581360"/>
            <a:ext cx="2111400" cy="2276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j0335748"/>
          <p:cNvPicPr/>
          <p:nvPr/>
        </p:nvPicPr>
        <p:blipFill>
          <a:blip r:embed="rId4"/>
          <a:stretch/>
        </p:blipFill>
        <p:spPr>
          <a:xfrm>
            <a:off x="8074080" y="3716280"/>
            <a:ext cx="1069920" cy="1505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j0430825"/>
          <p:cNvPicPr/>
          <p:nvPr/>
        </p:nvPicPr>
        <p:blipFill>
          <a:blip r:embed="rId5"/>
          <a:stretch/>
        </p:blipFill>
        <p:spPr>
          <a:xfrm>
            <a:off x="0" y="412128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35280" y="189000"/>
            <a:ext cx="550872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Arial"/>
              </a:rPr>
              <a:t>Ваш ребёнок идет в школ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3933720"/>
            <a:ext cx="81360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оветы и рекоменд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одителям будущих первоклассников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тветы на час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задаваемые вопро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j0432587"/>
          <p:cNvPicPr/>
          <p:nvPr/>
        </p:nvPicPr>
        <p:blipFill>
          <a:blip r:embed="rId6"/>
          <a:stretch/>
        </p:blipFill>
        <p:spPr>
          <a:xfrm>
            <a:off x="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j0195904"/>
          <p:cNvPicPr/>
          <p:nvPr/>
        </p:nvPicPr>
        <p:blipFill>
          <a:blip r:embed="rId7"/>
          <a:stretch/>
        </p:blipFill>
        <p:spPr>
          <a:xfrm>
            <a:off x="7308720" y="2349360"/>
            <a:ext cx="1648080" cy="1806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j0344515"/>
          <p:cNvPicPr/>
          <p:nvPr/>
        </p:nvPicPr>
        <p:blipFill>
          <a:blip r:embed="rId8"/>
          <a:stretch/>
        </p:blipFill>
        <p:spPr>
          <a:xfrm>
            <a:off x="250920" y="2997360"/>
            <a:ext cx="182556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j0331324"/>
          <p:cNvPicPr/>
          <p:nvPr/>
        </p:nvPicPr>
        <p:blipFill>
          <a:blip r:embed="rId9"/>
          <a:stretch/>
        </p:blipFill>
        <p:spPr>
          <a:xfrm>
            <a:off x="2411280" y="2421000"/>
            <a:ext cx="1812960" cy="1593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j0303523"/>
          <p:cNvPicPr/>
          <p:nvPr/>
        </p:nvPicPr>
        <p:blipFill>
          <a:blip r:embed="rId10"/>
          <a:stretch/>
        </p:blipFill>
        <p:spPr>
          <a:xfrm rot="5400000">
            <a:off x="5118840" y="2378880"/>
            <a:ext cx="14176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Карандаш"/>
          <p:cNvPicPr/>
          <p:nvPr/>
        </p:nvPicPr>
        <p:blipFill>
          <a:blip r:embed="rId1"/>
          <a:stretch/>
        </p:blipFill>
        <p:spPr>
          <a:xfrm>
            <a:off x="0" y="0"/>
            <a:ext cx="2460600" cy="2279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889308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ответствии с программой подготовительной группы д/с ребенок при записи в 1 класс должен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Знать свое имя и фамилию, адрес, имена членов семь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Знать времена года, названия месяцев, дней недели, уметь различать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Уметь пересчитывать группы предметов в пределах 2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Уметь увеличивать или уменьшать группу предметов на заданное количество (решение задач с группами предметов),уравнивать множество предме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Уметь сравнивать группы предметов -   больше, меньше или рав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Уметь объединять предметы в группы: мебель, транспорт, одежда, обувь, растения, животные и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т. 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0001_552"/>
          <p:cNvPicPr/>
          <p:nvPr/>
        </p:nvPicPr>
        <p:blipFill>
          <a:blip r:embed="rId1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179280" y="5589720"/>
            <a:ext cx="8713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 поступлении в школу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бёнок должен знать: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54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Уметь находить в группе предметов лишн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"/>
              </a:rPr>
              <a:t>(из группы «мебель» убрать ложку).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меть высказывать свое мнение, построив законченное предложение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33"/>
                </a:solidFill>
                <a:latin typeface="Arial"/>
              </a:rPr>
              <a:t>Иметь элементарные представления об окружающем мире: о профессиях, о предметах живой и неживой природы, о правилах поведения в общественных местах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 rot="1027200">
            <a:off x="6443280" y="4076280"/>
            <a:ext cx="2184480" cy="2376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Иметь пространственные представления: право-лево,</a:t>
            </a:r>
            <a:br>
              <a:rPr sz="4000"/>
            </a:b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вверх-вниз, под, над, из-за, из-под чего-либ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меть культурно общаться с другими деть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Слушать старших и выполнять их распоря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Это лишь изображение шаблона. Нажмите кнопку &quot;Загрузить&quot;, чтобы загрузить шаблон.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3708360" y="26028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язательно ли ребенок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олжен уметь читать и писать к 1 класс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50920" y="3195720"/>
            <a:ext cx="864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обяза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ние складывать из слогов слова еще не является умением читать. Многие дети с трудом осваивают эту сложную мыслительную операцию - не стоит их подгонять! Навык чтения и письма должен формироваться по специальным методикам (складываются представления о речи, звуках и буквах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ми умениями при чтении являются понимание прочитанного текста, анализ описанной ситуации, ответы на вопросы после чт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Обязательна ли школьная форма в 1 классе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Форма дисциплинирует детей, является атрибутом, отличающим дошкольника от ученика. А именно об этом, как правило, и мечтают в первую очередь при поступлении в школу все дети - они теперь первоклассн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876е"/>
          <p:cNvPicPr/>
          <p:nvPr/>
        </p:nvPicPr>
        <p:blipFill>
          <a:blip r:embed="rId1"/>
          <a:stretch/>
        </p:blipFill>
        <p:spPr>
          <a:xfrm>
            <a:off x="6516720" y="5102280"/>
            <a:ext cx="24429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Где и какие учебники нужно купить для первоклассника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2-ая обложка"/>
          <p:cNvPicPr/>
          <p:nvPr/>
        </p:nvPicPr>
        <p:blipFill>
          <a:blip r:embed="rId1"/>
          <a:stretch/>
        </p:blipFill>
        <p:spPr>
          <a:xfrm>
            <a:off x="468360" y="189000"/>
            <a:ext cx="817236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3300"/>
                </a:solidFill>
                <a:uFillTx/>
                <a:latin typeface="Arial"/>
              </a:rPr>
              <a:t>Цели</a:t>
            </a:r>
            <a:r>
              <a:rPr b="1" i="1" lang="ru-RU" sz="21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оздание атмосферы сотрудничества и сотворчества, необходимой для дальнейшей совместной деятельности учителя и родителей по воспитанию детей; выявление проблем и обозначение основных ориентиров в работе; формирование коллектива родител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3300"/>
                </a:solidFill>
                <a:uFillTx/>
                <a:latin typeface="Arial"/>
              </a:rPr>
              <a:t>Участники</a:t>
            </a:r>
            <a:r>
              <a:rPr b="1" i="1" lang="ru-RU" sz="21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лассный руководитель, родител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3300"/>
                </a:solidFill>
                <a:uFillTx/>
                <a:latin typeface="Arial"/>
              </a:rPr>
              <a:t>Подготовительный этап</a:t>
            </a:r>
            <a:r>
              <a:rPr b="1" i="1" lang="ru-RU" sz="2100" spc="-1" strike="noStrike">
                <a:solidFill>
                  <a:srgbClr val="ff3300"/>
                </a:solidFill>
                <a:latin typeface="Arial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зучение классным руководителем личных дел учащихс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 родительскому собранию готовятся анкеты для родител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3300"/>
                </a:solidFill>
                <a:uFillTx/>
                <a:latin typeface="Arial"/>
              </a:rPr>
              <a:t>Оборудование и оформление</a:t>
            </a:r>
            <a:r>
              <a:rPr b="1" i="1" lang="ru-RU" sz="21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лакаты с высказываниями великих люд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Существуют ли особенности в режиме дня первоклассник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Безусловно, у первоклассников должен быть особый режим дня. Уроки длятся 45 минут, в середине каждого урока проводятся 1-2 физкультурные минутки. Первое время в расписании первоклассников всего 3 урока, чтобы им легче было привыкать к новому виду деятельности - учебн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3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Как питаются первоклассники в школе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В нашей школе организовано платное питание. Ученики льготной категории получают бесплатное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или льготное пит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povar-0009"/>
          <p:cNvPicPr/>
          <p:nvPr/>
        </p:nvPicPr>
        <p:blipFill>
          <a:blip r:embed="rId1"/>
          <a:stretch/>
        </p:blipFill>
        <p:spPr>
          <a:xfrm>
            <a:off x="539640" y="907920"/>
            <a:ext cx="2517840" cy="2598840"/>
          </a:xfrm>
          <a:prstGeom prst="rect">
            <a:avLst/>
          </a:prstGeom>
          <a:ln w="28440">
            <a:solidFill>
              <a:srgbClr val="3366cc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</p:pic>
      <p:pic>
        <p:nvPicPr>
          <p:cNvPr id="113" name="Рисунок 5" descr="j0396612.wmf"/>
          <p:cNvPicPr/>
          <p:nvPr/>
        </p:nvPicPr>
        <p:blipFill>
          <a:blip r:embed="rId2"/>
          <a:stretch/>
        </p:blipFill>
        <p:spPr>
          <a:xfrm>
            <a:off x="6300720" y="1268280"/>
            <a:ext cx="1435320" cy="18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Можно ли носить в школу мобильный телефо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6e3392fc0cfb6761646d51058883250c"/>
          <p:cNvPicPr/>
          <p:nvPr/>
        </p:nvPicPr>
        <p:blipFill>
          <a:blip r:embed="rId1"/>
          <a:stretch/>
        </p:blipFill>
        <p:spPr>
          <a:xfrm>
            <a:off x="3132000" y="1989000"/>
            <a:ext cx="2772000" cy="4526280"/>
          </a:xfrm>
          <a:prstGeom prst="rect">
            <a:avLst/>
          </a:prstGeom>
          <a:ln w="2844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000" y="0"/>
            <a:ext cx="8496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В нашей школе запрещено пользование мобильным телефоном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</a:rPr>
              <a:t>Мы не рекомендуем носить в школу мобильный телефон первоклассникам — велико искушение звонить маме по малейшему поводу или поиграть на уроке в электронную иг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оме того, дорогой телефон может возбудить нездоровый интерес одноклассников, можно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потерять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Можно ли давать ребенку в школу деньг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ата денег детьми этого возраста должна находиться под контролем родител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Есть ли в 1 классе домашние зада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dfac4a30a7bc"/>
          <p:cNvPicPr/>
          <p:nvPr/>
        </p:nvPicPr>
        <p:blipFill>
          <a:blip r:embed="rId1"/>
          <a:stretch/>
        </p:blipFill>
        <p:spPr>
          <a:xfrm>
            <a:off x="1979640" y="1557360"/>
            <a:ext cx="50403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машних заданий в 1 классе нет. </a:t>
            </a: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Однако если вы хотите сформировать у своего ребенка качественные навыки письма, чтения, счета, то не отказывайтесь от тренировочных упражнений, которые может предложить учи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Почему учителя не ставят оценки в 1 класс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1191269140_c4121"/>
          <p:cNvPicPr/>
          <p:nvPr/>
        </p:nvPicPr>
        <p:blipFill>
          <a:blip r:embed="rId1"/>
          <a:stretch/>
        </p:blipFill>
        <p:spPr>
          <a:xfrm>
            <a:off x="2771640" y="1413000"/>
            <a:ext cx="31705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6633"/>
                </a:solidFill>
                <a:latin typeface="Arial"/>
              </a:rPr>
              <a:t>В 1 классе обучение действительно безоценочное. Это оправдано тем, что ребенок находится в самом начале учебного пути. К концу первого года обучения уже можно судить о той или иной степени успешности младшего школьник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933"/>
                </a:solidFill>
                <a:latin typeface="Arial"/>
              </a:rPr>
              <a:t>В 1 классе основной упор делается на приобретение навыков учебного труда. Словесная или условно-знаковая оценка тоже зачастую присутствует в работе учителя с учеником. Важно, чтобы она была позитивн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d572ef42d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4"/>
          <p:cNvSpPr txBox="1"/>
          <p:nvPr/>
        </p:nvSpPr>
        <p:spPr>
          <a:xfrm>
            <a:off x="1523880" y="533520"/>
            <a:ext cx="6248520" cy="27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2f1800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Arial"/>
              </a:rPr>
              <a:t>Нужно ли платить деньги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50000">
                    <a:srgbClr val="2f1800"/>
                  </a:gs>
                  <a:gs pos="100000">
                    <a:srgbClr val="6633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2f1800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2f1800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Arial"/>
              </a:rPr>
              <a:t>за успешную учёбу?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50000">
                    <a:srgbClr val="2f1800"/>
                  </a:gs>
                  <a:gs pos="100000">
                    <a:srgbClr val="6633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59151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99"/>
                </a:solidFill>
                <a:latin typeface="Arial"/>
              </a:rPr>
              <a:t>«Воспитание – это процесс жизни, а не подготовка к будущей жизни»     (Дж. Дью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«Чем с меньшим принуждением учатся дети, тем метод лучше, чем с большим, тем хуже» (Л.Н. Толст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6633"/>
                </a:solidFill>
                <a:latin typeface="Arial"/>
              </a:rPr>
              <a:t>«Два человеческих изобретения можно считать самыми трудными, а именно, искусство управлять и искусство воспитывать»      (И. К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0301252"/>
          <p:cNvPicPr/>
          <p:nvPr/>
        </p:nvPicPr>
        <p:blipFill>
          <a:blip r:embed="rId1"/>
          <a:stretch/>
        </p:blipFill>
        <p:spPr>
          <a:xfrm>
            <a:off x="6335640" y="2708280"/>
            <a:ext cx="2808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6633"/>
                </a:solidFill>
                <a:latin typeface="Arial"/>
              </a:rPr>
              <a:t>Всё зависит от того,  каких именно людей хотят воспитать в семье. Мы думаем, что человеческие отношения состоят из обязанностей людей друг перед другом. Объясните ребенку, что учёба – это его обязанность, которую он, как и остальные члены семьи, должен выполнять хорошо. В этом случае заданный вами вопрос не будет так актуале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Arial"/>
              </a:rPr>
              <a:t>Что делают дети на перемена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949560" cy="4526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6227640" y="1844640"/>
            <a:ext cx="22035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Отдыхают. Причем отдых должен быть активным, ведь после урока, который предполагает пребывание ученика в однообразной рабочей позе, ребенку необходима разряд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Arial"/>
              </a:rPr>
              <a:t>На переменах допускаются подвижные и настольные игры (дети играют стоя). Главное, чтобы во время игры соблюдались правила безопасности и школьники случайно не поранили друг друга, подражая агрессивным действиям героев современных фильм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Как быть, если ребенок леворуки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Ни в коем случае не следует идти против природы и переучивать ребенка. Это может повлечь за собой серьезные нарушения его здоровья. Кроме того, сейчас издаются специальные пособия для леворуких детей, в частности «Прописи для первоклассников с трудностями обучения письму и леворуких детей» автора М. М. Безруких, ручки и карандаши изогнутой формы.  Последствия переучивания леворуких детей чаще всего носят психоневрологический характер: нарушение сна, повышенная возбудим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Arial"/>
              </a:rPr>
              <a:t>Как правильно организовать дома рабочее место учен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Текст 4" descr="professor_pointing_sx.gif"/>
          <p:cNvPicPr/>
          <p:nvPr/>
        </p:nvPicPr>
        <p:blipFill>
          <a:blip r:embed="rId1"/>
          <a:stretch/>
        </p:blipFill>
        <p:spPr>
          <a:xfrm>
            <a:off x="1908000" y="1197000"/>
            <a:ext cx="54406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Arial"/>
              </a:rPr>
              <a:t>Купите первокласснику письменный стол. Тогда ребенок сможет сам систематизировать и разложить в ящики стола учебные принадлежности и научится поддерживать порядок на рабочем мест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Лучше, если освещение будет слева. Занавески нужно отодвинуть в сторону - основной свет должен попадать через верхнюю треть окн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96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c6600"/>
                </a:solidFill>
                <a:latin typeface="Arial"/>
              </a:rPr>
              <a:t>Можно купить первокласснику парту и стул с регулирующейся высотой, а для школьных принадлежностей книжные полки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Приобретая мебель, обязательно учитывайте рост ребенка. При росте 1м 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1 м 15 см высота крышки стола над полом должна быть 46 см, а высота сиденья стула - 26 см. При росте от 1 м 15 см д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1 м 30 см высота стола должна быть 52см, а стула - 30 см. Важно, чтобы ноги ученика стояли на полу, спина прикасалась к спинке стула, а между крышкой парты и грудью ребенка могла пройти его ладонь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Нужен ли первокласснику дневник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Дневник стандартного образца должен заполняться учеником по всей форме, а первокласснику сделать это трудно - он еще не ориентируется в графах и не умеет хорошо писать. Поэтому я рекомендую блокнот для записи домашних заданий. С помощью такого блокнота осуществляется обратная связь с родител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Юла (волчок)"/>
          <p:cNvPicPr/>
          <p:nvPr/>
        </p:nvPicPr>
        <p:blipFill>
          <a:blip r:embed="rId1"/>
          <a:stretch/>
        </p:blipFill>
        <p:spPr>
          <a:xfrm>
            <a:off x="0" y="0"/>
            <a:ext cx="1655640" cy="18162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Можно ли носить в школу игрушк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, мож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овая деятельность ещё значимая для ребёнка, любимая игрушка зачастую олицетворяет друга, с ней можно поиграть на перемене вместе с одноклассн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чше, если игрушка не громоздкая и без острых уг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10" descr="Рисунок2.jpg"/>
          <p:cNvPicPr/>
          <p:nvPr/>
        </p:nvPicPr>
        <p:blipFill>
          <a:blip r:embed="rId2"/>
          <a:stretch/>
        </p:blipFill>
        <p:spPr>
          <a:xfrm>
            <a:off x="3995640" y="1413000"/>
            <a:ext cx="1182960" cy="15843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" descr="J0236987.WMF"/>
          <p:cNvPicPr/>
          <p:nvPr/>
        </p:nvPicPr>
        <p:blipFill>
          <a:blip r:embed="rId3"/>
          <a:stretch/>
        </p:blipFill>
        <p:spPr>
          <a:xfrm>
            <a:off x="6877080" y="836640"/>
            <a:ext cx="19638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11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47200" y="2422080"/>
            <a:ext cx="7929720" cy="35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Дети учатся у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Если ребенка постоянно критикуют, он учится ненавид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Если ребенок живет во вражде, он учится быть агресси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Ребенка высмеивают, он становится замкнут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Ребенок растет в упреках, он учится жить с чувством в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Ребенок растет в терпимости, он учится понимать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Ребенка хвалят, он учится быть благород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Ребенок растет в честности, он учится быть справедл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Ребенок растет в безопасности, он учится верить в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Ребенка поддерживают, он учится ценить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Ребенок живет в понимании и дружелюбии, он учится находить любовь в это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Autumn Leaves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1872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телям первоклассников (правила, советы, рекомендаци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растные особенности детей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468360" y="333360"/>
            <a:ext cx="835164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лан собран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15 советов психологов</a:t>
            </a:r>
            <a:br>
              <a:rPr sz="1600"/>
            </a:b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ff0066"/>
                </a:solidFill>
                <a:latin typeface="Arial"/>
              </a:rPr>
              <a:t>Как прожить хотя бы один день без нервотрепки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131640" y="980640"/>
            <a:ext cx="5699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75000"/>
              </a:lnSpc>
              <a:spcBef>
                <a:spcPts val="300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Не торопитесь. Умение рассчитать время- Ваша задача. Если Вам это плохо удается, вины ребенка в этом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75000"/>
              </a:lnSpc>
              <a:spcBef>
                <a:spcPts val="300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Не отправляйте ребенка в школу без завтрака. До школьного завтрака ему придется много поработ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75000"/>
              </a:lnSpc>
              <a:spcBef>
                <a:spcPts val="300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Не прощайтесь, предупреждая и направляя: «Смотри, не балуйся!»,  « Чтобы сегодня не было плохих отметок!». Пожелайте удачи, найдите несколько ласковых с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75000"/>
              </a:lnSpc>
              <a:spcBef>
                <a:spcPts val="300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Будите ребенка спокойно. Проснувшись, он должен увидеть Вашу улыбку услышать Ваш гол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75000"/>
              </a:lnSpc>
              <a:spcBef>
                <a:spcPts val="300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Забудьте фразу: « Что ты сегодня получил.» Встречая ребенка после школы, не обрушивайте на него тысячу вопросов, дайте немного расслабиться, вспомните, как Вы сами чувствуете себя после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75000"/>
              </a:lnSpc>
              <a:spcBef>
                <a:spcPts val="300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Если Вы видите, что ребенок огорчен, молчит – не допытывайтесь; пусть успокоится и тогда расскажет все с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75000"/>
              </a:lnSpc>
              <a:spcBef>
                <a:spcPts val="300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Выслушав замечания учителя, не торопитесь устраивать взбучку. Постарайтесь, чтобы Ваш разговор с учителем проходил без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75000"/>
              </a:lnSpc>
              <a:spcBef>
                <a:spcPts val="300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После школы не торопите садиться за уроки. Ребенку необходимо 2 часа отдыха ( в первом классе не повредит час сна). Лучшее время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для приготовления уроков –с 16 до 18 часов, занятия вечерами бесполез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j0186348"/>
          <p:cNvPicPr/>
          <p:nvPr/>
        </p:nvPicPr>
        <p:blipFill>
          <a:blip r:embed="rId1"/>
          <a:stretch/>
        </p:blipFill>
        <p:spPr>
          <a:xfrm>
            <a:off x="179280" y="1341360"/>
            <a:ext cx="2664000" cy="525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99"/>
                </a:solidFill>
                <a:latin typeface="Arial"/>
              </a:rPr>
              <a:t>15 советов психологов</a:t>
            </a:r>
            <a:br>
              <a:rPr sz="2400"/>
            </a:b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</a:rPr>
              <a:t>Как прожить хотя бы один день без нервотреп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57610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37400" indent="-437400" algn="just">
              <a:lnSpc>
                <a:spcPct val="90000"/>
              </a:lnSpc>
              <a:spcBef>
                <a:spcPts val="201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Не заставляйте делать все упражнения сразу: 20 минут занятий -10 минут переры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 algn="just">
              <a:lnSpc>
                <a:spcPct val="90000"/>
              </a:lnSpc>
              <a:spcBef>
                <a:spcPts val="201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Во время приготовления уроков не сидите « над душой». Дайте ребенку работать самому. Если нужна Ваша помощь – наберитесь терпения: спокойный тон, поддержка необходи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 algn="just">
              <a:lnSpc>
                <a:spcPct val="90000"/>
              </a:lnSpc>
              <a:spcBef>
                <a:spcPts val="201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В общении с ребенком старайтесь избегать условий: «Если ты сделаешь то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 algn="just">
              <a:lnSpc>
                <a:spcPct val="90000"/>
              </a:lnSpc>
              <a:spcBef>
                <a:spcPts val="201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Найдите в течение дня хотя бы полчаса, когда Вы будете принадлежать только ребен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 algn="just">
              <a:lnSpc>
                <a:spcPct val="90000"/>
              </a:lnSpc>
              <a:spcBef>
                <a:spcPts val="201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Выбирайте единую тактику общения с ребенком всех взрослых в семье. Все разногласия по поводу педтактики решайте без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не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 algn="just">
              <a:lnSpc>
                <a:spcPct val="90000"/>
              </a:lnSpc>
              <a:spcBef>
                <a:spcPts val="201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Будьте внимательны к жалобам ребенка на головную боль, усталость, плохое самочувствие. Чаще всего это объективные показатели переутом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 algn="just">
              <a:lnSpc>
                <a:spcPct val="90000"/>
              </a:lnSpc>
              <a:spcBef>
                <a:spcPts val="201"/>
              </a:spcBef>
              <a:spcAft>
                <a:spcPts val="99"/>
              </a:spcAft>
              <a:buClr>
                <a:srgbClr val="a50021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Учтите, даже «большие дети» очень любят сказку перед сном, песенку, ласковое поглаживание. Все это успокоит ребенка и поможет снять напряжение, накопившееся за 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201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j0186348"/>
          <p:cNvPicPr/>
          <p:nvPr/>
        </p:nvPicPr>
        <p:blipFill>
          <a:blip r:embed="rId1"/>
          <a:stretch/>
        </p:blipFill>
        <p:spPr>
          <a:xfrm>
            <a:off x="179280" y="1628640"/>
            <a:ext cx="2808360" cy="4969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9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(памятка для родител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79280" y="1413000"/>
            <a:ext cx="878544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prstDash val="sysDot"/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аш ребенок первоклассник</a:t>
            </a:r>
            <a:endParaRPr b="1" lang="en-US" sz="4800" spc="1" strike="noStrike">
              <a:ln w="12600">
                <a:solidFill>
                  <a:srgbClr val="000000"/>
                </a:solidFill>
                <a:prstDash val="sysDot"/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68360" y="35733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j0298897"/>
          <p:cNvPicPr/>
          <p:nvPr/>
        </p:nvPicPr>
        <p:blipFill>
          <a:blip r:embed="rId1"/>
          <a:stretch/>
        </p:blipFill>
        <p:spPr>
          <a:xfrm>
            <a:off x="4859280" y="4581360"/>
            <a:ext cx="3960720" cy="204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9" name="Picture 7" descr="j0235319"/>
          <p:cNvPicPr/>
          <p:nvPr/>
        </p:nvPicPr>
        <p:blipFill>
          <a:blip r:embed="rId2"/>
          <a:stretch/>
        </p:blipFill>
        <p:spPr>
          <a:xfrm>
            <a:off x="468360" y="4581360"/>
            <a:ext cx="3598920" cy="20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-1529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51280" y="260280"/>
            <a:ext cx="4835520" cy="64087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Обсудите с ребенком те правила и нормы, с которыми он встретится в школе. Объясните их необходимость и целесообраз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Ваш ребенок пришел в школу, чтобы учиться. Когда человек учится, у него может что-то не сразу получаться, это естественно. Ребенок имеет право на ошиб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Составьте вместе с первоклассником распорядок дня, следите за его соблюд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Не пропускайте трудности, возможные у ребенка на начальном этапе овладения учебными навыками. Поддержите в ребенке его стремление стать школьником. Ваша искренняя заинтересованность в его школьных делах и заботах, серьезное отношение к его первым достижениям и возможным трудностям помогут первоклассникам подтвердить значимость его нового положения и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cc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Если у первоклассника, например, есть логопедические проблемы, постарайтесь справиться с ними на первом году об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j0205462"/>
          <p:cNvPicPr/>
          <p:nvPr/>
        </p:nvPicPr>
        <p:blipFill>
          <a:blip r:embed="rId1"/>
          <a:stretch/>
        </p:blipFill>
        <p:spPr>
          <a:xfrm>
            <a:off x="179280" y="333360"/>
            <a:ext cx="3384720" cy="6335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727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19280" y="189000"/>
            <a:ext cx="5545080" cy="6408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Поддержите первоклассника в его желании добиться успеха. В каждой работе обязательно найдите, за что можно было бы его похвалить. Помните, что похвала и эмоциональная поддержка («Молодец!», «Ты так хорошо справился!») способны заметно повысить интеллектуальные достижения чело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Если вас что-то беспокоит в поведении ребенка, в его учебных делах, не стесняйтесь обращаться за советом и консультацией к учителю или школьному психоло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С поступлением в школу в жизни вашего ребенка появился человек более авторитетный, чем вы. Это учитель. Уважайте мнение первоклассника о своем педаго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Учение – это нелегкий и ответственный труд. Поступление в школу существенно меняет жизнь ребенка, но не должно лишать его многообразия, радости, игры. У первоклассника должно оставаться достаточно времени для игровых занят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j0297749"/>
          <p:cNvPicPr/>
          <p:nvPr/>
        </p:nvPicPr>
        <p:blipFill>
          <a:blip r:embed="rId1"/>
          <a:stretch/>
        </p:blipFill>
        <p:spPr>
          <a:xfrm>
            <a:off x="250920" y="189000"/>
            <a:ext cx="2881080" cy="6408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Сегодняшнее  наше собрание  мне хочется закончить словами И. Беляевой о том, в чем состоит </a:t>
            </a:r>
            <a:r>
              <a:rPr b="0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рецепт счасть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95280" y="2133360"/>
            <a:ext cx="46911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Mang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6633"/>
                </a:solidFill>
                <a:uFillTx/>
                <a:latin typeface="Mangal"/>
              </a:rPr>
              <a:t>Возьмите</a:t>
            </a:r>
            <a:r>
              <a:rPr b="0" lang="ru-RU" sz="2400" spc="-1" strike="noStrike">
                <a:solidFill>
                  <a:srgbClr val="996633"/>
                </a:solidFill>
                <a:latin typeface="Mangal"/>
              </a:rPr>
              <a:t> чашу терпения, </a:t>
            </a:r>
            <a:r>
              <a:rPr b="0" i="1" lang="ru-RU" sz="2400" spc="-1" strike="noStrike" u="sng">
                <a:solidFill>
                  <a:srgbClr val="996633"/>
                </a:solidFill>
                <a:uFillTx/>
                <a:latin typeface="Mangal"/>
              </a:rPr>
              <a:t>влейте</a:t>
            </a:r>
            <a:r>
              <a:rPr b="0" lang="ru-RU" sz="2400" spc="-1" strike="noStrike">
                <a:solidFill>
                  <a:srgbClr val="996633"/>
                </a:solidFill>
                <a:latin typeface="Mangal"/>
              </a:rPr>
              <a:t> в нее полное сердце любви, </a:t>
            </a:r>
            <a:r>
              <a:rPr b="0" i="1" lang="ru-RU" sz="2400" spc="-1" strike="noStrike" u="sng">
                <a:solidFill>
                  <a:srgbClr val="996633"/>
                </a:solidFill>
                <a:uFillTx/>
                <a:latin typeface="Mangal"/>
              </a:rPr>
              <a:t>добавьте</a:t>
            </a:r>
            <a:r>
              <a:rPr b="0" lang="ru-RU" sz="2400" spc="-1" strike="noStrike">
                <a:solidFill>
                  <a:srgbClr val="996633"/>
                </a:solidFill>
                <a:latin typeface="Mangal"/>
              </a:rPr>
              <a:t> две горсти щедрости, </a:t>
            </a:r>
            <a:r>
              <a:rPr b="0" i="1" lang="ru-RU" sz="2400" spc="-1" strike="noStrike" u="sng">
                <a:solidFill>
                  <a:srgbClr val="996633"/>
                </a:solidFill>
                <a:uFillTx/>
                <a:latin typeface="Mangal"/>
              </a:rPr>
              <a:t>посыпьте</a:t>
            </a:r>
            <a:r>
              <a:rPr b="0" lang="ru-RU" sz="2400" spc="-1" strike="noStrike">
                <a:solidFill>
                  <a:srgbClr val="996633"/>
                </a:solidFill>
                <a:latin typeface="Mangal"/>
              </a:rPr>
              <a:t> добротой, </a:t>
            </a:r>
            <a:r>
              <a:rPr b="0" i="1" lang="ru-RU" sz="2400" spc="-1" strike="noStrike" u="sng">
                <a:solidFill>
                  <a:srgbClr val="996633"/>
                </a:solidFill>
                <a:uFillTx/>
                <a:latin typeface="Mangal"/>
              </a:rPr>
              <a:t>плесните</a:t>
            </a:r>
            <a:r>
              <a:rPr b="0" lang="ru-RU" sz="2400" spc="-1" strike="noStrike">
                <a:solidFill>
                  <a:srgbClr val="996633"/>
                </a:solidFill>
                <a:latin typeface="Mangal"/>
              </a:rPr>
              <a:t> немного юмора и </a:t>
            </a:r>
            <a:r>
              <a:rPr b="0" i="1" lang="ru-RU" sz="2400" spc="-1" strike="noStrike" u="sng">
                <a:solidFill>
                  <a:srgbClr val="996633"/>
                </a:solidFill>
                <a:uFillTx/>
                <a:latin typeface="Mangal"/>
              </a:rPr>
              <a:t>добавьте</a:t>
            </a:r>
            <a:r>
              <a:rPr b="0" lang="ru-RU" sz="2400" spc="-1" strike="noStrike">
                <a:solidFill>
                  <a:srgbClr val="996633"/>
                </a:solidFill>
                <a:latin typeface="Mangal"/>
              </a:rPr>
              <a:t> как можно больше веры. Все это хорошо </a:t>
            </a:r>
            <a:r>
              <a:rPr b="0" i="1" lang="ru-RU" sz="2400" spc="-1" strike="noStrike" u="sng">
                <a:solidFill>
                  <a:srgbClr val="996633"/>
                </a:solidFill>
                <a:uFillTx/>
                <a:latin typeface="Mangal"/>
              </a:rPr>
              <a:t>перемешайте</a:t>
            </a:r>
            <a:r>
              <a:rPr b="0" lang="ru-RU" sz="2400" spc="-1" strike="noStrike">
                <a:solidFill>
                  <a:srgbClr val="996633"/>
                </a:solidFill>
                <a:latin typeface="Mangal"/>
              </a:rPr>
              <a:t>. </a:t>
            </a:r>
            <a:r>
              <a:rPr b="0" i="1" lang="ru-RU" sz="2400" spc="-1" strike="noStrike" u="sng">
                <a:solidFill>
                  <a:srgbClr val="996633"/>
                </a:solidFill>
                <a:uFillTx/>
                <a:latin typeface="Mangal"/>
              </a:rPr>
              <a:t>Намажьте</a:t>
            </a:r>
            <a:r>
              <a:rPr b="0" lang="ru-RU" sz="2400" spc="-1" strike="noStrike">
                <a:solidFill>
                  <a:srgbClr val="996633"/>
                </a:solidFill>
                <a:latin typeface="Mangal"/>
              </a:rPr>
              <a:t> на кусок отпущенной вам жизни и </a:t>
            </a:r>
            <a:r>
              <a:rPr b="0" i="1" lang="ru-RU" sz="2400" spc="-1" strike="noStrike" u="sng">
                <a:solidFill>
                  <a:srgbClr val="996633"/>
                </a:solidFill>
                <a:uFillTx/>
                <a:latin typeface="Mangal"/>
              </a:rPr>
              <a:t>предложите</a:t>
            </a:r>
            <a:r>
              <a:rPr b="0" lang="ru-RU" sz="2400" spc="-1" strike="noStrike">
                <a:solidFill>
                  <a:srgbClr val="996633"/>
                </a:solidFill>
                <a:latin typeface="Mangal"/>
              </a:rPr>
              <a:t> каждому, кто </a:t>
            </a:r>
            <a:r>
              <a:rPr b="0" i="1" lang="ru-RU" sz="2400" spc="-1" strike="noStrike" u="sng">
                <a:solidFill>
                  <a:srgbClr val="996633"/>
                </a:solidFill>
                <a:uFillTx/>
                <a:latin typeface="Mangal"/>
              </a:rPr>
              <a:t>встретится</a:t>
            </a:r>
            <a:r>
              <a:rPr b="0" lang="ru-RU" sz="2400" spc="-1" strike="noStrike">
                <a:solidFill>
                  <a:srgbClr val="996633"/>
                </a:solidFill>
                <a:latin typeface="Mangal"/>
              </a:rPr>
              <a:t> на своем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j0230876"/>
          <p:cNvPicPr/>
          <p:nvPr/>
        </p:nvPicPr>
        <p:blipFill>
          <a:blip r:embed="rId1"/>
          <a:stretch/>
        </p:blipFill>
        <p:spPr>
          <a:xfrm>
            <a:off x="179280" y="2133720"/>
            <a:ext cx="4032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611280" y="981000"/>
            <a:ext cx="82818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WordArt 3"/>
          <p:cNvSpPr txBox="1"/>
          <p:nvPr/>
        </p:nvSpPr>
        <p:spPr>
          <a:xfrm>
            <a:off x="900000" y="3573360"/>
            <a:ext cx="7848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спехов в воспитании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D18253_"/>
          <p:cNvPicPr/>
          <p:nvPr/>
        </p:nvPicPr>
        <p:blipFill>
          <a:blip r:embed="rId1"/>
          <a:stretch/>
        </p:blipFill>
        <p:spPr>
          <a:xfrm>
            <a:off x="2124000" y="333360"/>
            <a:ext cx="5112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Анкета к родительскому собранию по теме  «Школа - дом  - одна семь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1. Ознакомьтесь, пожалуйста, с возможными темами родительских собраний и отметьте те из них, которые вызывают интерес. Если в данном списке нет темы, которая вам интересна, укажите ее, пожалуйс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Как помочь ребенку адаптироваться к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Режим дня школьника: важность, возможности и пробл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Как помогать ребенку при подготовке домашних зад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Как помочь ребёнку стать вниматель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- Память и мышление младшего школьн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В мире «нехочух»: что делать при проявлении детского упрям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– …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Что-то ещ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. Какую помощь психолога вы хотели бы получить во время тематических родительских собраний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3. Предполагаете ли вы принимать участие в тематических родительских собраниях по выбранным вами темам? (Отметьте один из вариантов ответов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Скорее 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Если будет возмож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Скорее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4. Напишите, какие дни недели, какое время наиболее удобно вам для участия в тематических родительских собран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5. Сообщите, пожалуйста, ваше имя и контактный телефон: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6. Поставьте цифру 1 около самой интересной для вас темы, 2 – рядом с чуть менее интересной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Благодарим вас за помощь и готовность к сотрудничеств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Фамилия, имя, отчество ро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озраст родителей, день рождения семьи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тересы, увлечения семьи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радиции и обыча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евиз семьи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468360" y="404640"/>
            <a:ext cx="8136000" cy="171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амопредставление семь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-96372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Organization Chart 3"/>
          <p:cNvGrpSpPr/>
          <p:nvPr/>
        </p:nvGrpSpPr>
        <p:grpSpPr>
          <a:xfrm>
            <a:off x="355320" y="692280"/>
            <a:ext cx="8033040" cy="5261400"/>
            <a:chOff x="355320" y="692280"/>
            <a:chExt cx="8033040" cy="5261400"/>
          </a:xfrm>
        </p:grpSpPr>
        <p:cxnSp>
          <p:nvCxnSpPr>
            <p:cNvPr id="62" name="_s1028"/>
            <p:cNvCxnSpPr>
              <a:stCxn id="63" idx="2"/>
              <a:endCxn id="64" idx="3"/>
            </p:cNvCxnSpPr>
            <p:nvPr/>
          </p:nvCxnSpPr>
          <p:spPr>
            <a:xfrm flipH="1" rot="10800000">
              <a:off x="3275640" y="1251720"/>
              <a:ext cx="1338480" cy="3829320"/>
            </a:xfrm>
            <a:prstGeom prst="bentConnector4">
              <a:avLst>
                <a:gd name="adj1" fmla="val -8528"/>
                <a:gd name="adj2" fmla="val 63971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5" name="_s1029"/>
            <p:cNvCxnSpPr>
              <a:stCxn id="66" idx="2"/>
              <a:endCxn id="64" idx="3"/>
            </p:cNvCxnSpPr>
            <p:nvPr/>
          </p:nvCxnSpPr>
          <p:spPr>
            <a:xfrm flipH="1" rot="10800000">
              <a:off x="469080" y="1251720"/>
              <a:ext cx="4145040" cy="1433520"/>
            </a:xfrm>
            <a:prstGeom prst="bentConnector4">
              <a:avLst>
                <a:gd name="adj1" fmla="val -2753"/>
                <a:gd name="adj2" fmla="val 8733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7" name="_s1030"/>
            <p:cNvCxnSpPr>
              <a:stCxn id="68" idx="0"/>
              <a:endCxn id="64" idx="3"/>
            </p:cNvCxnSpPr>
            <p:nvPr/>
          </p:nvCxnSpPr>
          <p:spPr>
            <a:xfrm flipV="1" rot="16200000">
              <a:off x="4565880" y="1299240"/>
              <a:ext cx="2750400" cy="2655720"/>
            </a:xfrm>
            <a:prstGeom prst="bentConnector3">
              <a:avLst>
                <a:gd name="adj1" fmla="val 4149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69" name="_s1031"/>
            <p:cNvCxnSpPr>
              <a:stCxn id="70" idx="0"/>
              <a:endCxn id="64" idx="3"/>
            </p:cNvCxnSpPr>
            <p:nvPr/>
          </p:nvCxnSpPr>
          <p:spPr>
            <a:xfrm flipV="1" rot="16200000">
              <a:off x="5805000" y="60120"/>
              <a:ext cx="306720" cy="2689920"/>
            </a:xfrm>
            <a:prstGeom prst="bentConnector3">
              <a:avLst>
                <a:gd name="adj1" fmla="val 3713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1" name="_s1032"/>
            <p:cNvCxnSpPr>
              <a:stCxn id="72" idx="0"/>
              <a:endCxn id="64" idx="3"/>
            </p:cNvCxnSpPr>
            <p:nvPr/>
          </p:nvCxnSpPr>
          <p:spPr>
            <a:xfrm flipH="1" flipV="1" rot="5400000">
              <a:off x="1753920" y="1148760"/>
              <a:ext cx="2756520" cy="2963880"/>
            </a:xfrm>
            <a:prstGeom prst="bentConnector3">
              <a:avLst>
                <a:gd name="adj1" fmla="val 414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64" name="_s1033"/>
            <p:cNvSpPr/>
            <p:nvPr/>
          </p:nvSpPr>
          <p:spPr>
            <a:xfrm>
              <a:off x="1477440" y="692280"/>
              <a:ext cx="6336000" cy="5601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33cc"/>
                  </a:solidFill>
                  <a:latin typeface="Tahoma"/>
                  <a:ea typeface="Arial"/>
                </a:rPr>
                <a:t>Родительские комисс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4"/>
            <p:cNvSpPr/>
            <p:nvPr/>
          </p:nvSpPr>
          <p:spPr>
            <a:xfrm>
              <a:off x="395280" y="4008600"/>
              <a:ext cx="2302200" cy="1931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культурно-массов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5"/>
            <p:cNvSpPr/>
            <p:nvPr/>
          </p:nvSpPr>
          <p:spPr>
            <a:xfrm>
              <a:off x="6011640" y="1558800"/>
              <a:ext cx="2376720" cy="1938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Производственно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хозяйствен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36"/>
            <p:cNvSpPr/>
            <p:nvPr/>
          </p:nvSpPr>
          <p:spPr>
            <a:xfrm>
              <a:off x="6011640" y="4002480"/>
              <a:ext cx="2305080" cy="19512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Педагогическог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всеобуч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7"/>
            <p:cNvSpPr/>
            <p:nvPr/>
          </p:nvSpPr>
          <p:spPr>
            <a:xfrm>
              <a:off x="469440" y="1612800"/>
              <a:ext cx="2293200" cy="1931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спортивно-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оздоровите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8"/>
            <p:cNvSpPr/>
            <p:nvPr/>
          </p:nvSpPr>
          <p:spPr>
            <a:xfrm>
              <a:off x="3276000" y="4008600"/>
              <a:ext cx="2302200" cy="1931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cc0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Учебно-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воспитатель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3"/>
          <p:cNvSpPr txBox="1"/>
          <p:nvPr/>
        </p:nvSpPr>
        <p:spPr>
          <a:xfrm>
            <a:off x="1116000" y="2492280"/>
            <a:ext cx="7129440" cy="25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6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996633"/>
                </a:solidFill>
                <a:latin typeface="Times New Roman"/>
              </a:rPr>
              <a:t>Мною разработаны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9966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996633"/>
                </a:solidFill>
                <a:latin typeface="Times New Roman"/>
              </a:rPr>
              <a:t>и апробированы на практике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996633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993366"/>
                  </a:solidFill>
                  <a:miter/>
                </a:ln>
                <a:solidFill>
                  <a:srgbClr val="996633"/>
                </a:solidFill>
                <a:latin typeface="Times New Roman"/>
              </a:rPr>
              <a:t>10 занятий с первоклассниками</a:t>
            </a:r>
            <a:endParaRPr b="0" lang="en-US" sz="1800" spc="1" strike="noStrike">
              <a:ln w="22320">
                <a:solidFill>
                  <a:srgbClr val="993366"/>
                </a:solidFill>
                <a:miter/>
              </a:ln>
              <a:solidFill>
                <a:srgbClr val="996633"/>
              </a:solidFill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03:40Z</dcterms:created>
  <dc:creator>Настя</dc:creator>
  <dc:description/>
  <dc:language>en-US</dc:language>
  <cp:lastModifiedBy>PK</cp:lastModifiedBy>
  <dcterms:modified xsi:type="dcterms:W3CDTF">2012-07-07T18:44:04Z</dcterms:modified>
  <cp:revision>37</cp:revision>
  <dc:subject/>
  <dc:title>Ваш ребёнок идет в школу</dc:title>
</cp:coreProperties>
</file>