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3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7.png" ContentType="image/png"/>
  <Override PartName="/ppt/media/image11.wmf" ContentType="image/x-wmf"/>
  <Override PartName="/ppt/media/image26.png" ContentType="image/png"/>
  <Override PartName="/ppt/media/image18.png" ContentType="image/png"/>
  <Override PartName="/ppt/media/image27.png" ContentType="image/png"/>
  <Override PartName="/ppt/media/image12.wmf" ContentType="image/x-wmf"/>
  <Override PartName="/ppt/media/image3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35.wmf" ContentType="image/x-wmf"/>
  <Override PartName="/ppt/media/image13.wmf" ContentType="image/x-wmf"/>
  <Override PartName="/ppt/media/image7.jpeg" ContentType="image/jpeg"/>
  <Override PartName="/ppt/media/image28.png" ContentType="image/png"/>
  <Override PartName="/ppt/media/image30.jpeg" ContentType="image/jpeg"/>
  <Override PartName="/ppt/media/image37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9.wmf" ContentType="image/x-wmf"/>
  <Override PartName="/ppt/media/image38.wmf" ContentType="image/x-wmf"/>
  <Override PartName="/ppt/media/image8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4.wmf" ContentType="image/x-wmf"/>
  <Override PartName="/ppt/media/image9.jpeg" ContentType="image/jpeg"/>
  <Override PartName="/ppt/media/image19.gif" ContentType="image/gif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2F42-8C9A-435C-8558-FEAF8FBA5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79EF-A406-4DFD-B6F6-B672FBE6A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08B8-1DF6-4F06-AA64-2625700B8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0D1E-BE90-4B6E-B6C6-35DBD6056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DF0C-87FD-40FB-B3D3-9D7EFA557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BD54-9777-4F49-972D-F11AA77AA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8623-5627-45F7-867C-D5E1180F9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4133-3AA0-4EC6-87EB-7E967ACAF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2BE8-73EB-4445-9076-D23928536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449C-3507-4271-8EB9-0D4921CAB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2D1D-7258-4C00-86F8-9048CA1A9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F2A0-5E39-4BD3-B555-1B84474EF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E88D-225E-4926-81DC-DFBB9BCBA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AB6B-1932-42A5-A55C-A0149CC65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9C18-803E-4DCE-AD3E-7615926C8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0799-03F8-4FFD-80CD-ABA078075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380B-3547-48BD-A275-A85ED56D1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B0E6-8020-443E-B581-37ED70B17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5C15-8AC9-40D9-BF4B-0E1D9A368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87D4-8655-48D4-A92A-859AAA6A7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0D9C-005D-42A5-8921-E2CD601AE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6CF0-8BAD-461E-BDAB-DCEC86184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8D51-F004-4614-B8EB-6722792F8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0AEC-BF00-4246-939F-0929A79CE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9AA3-116E-41B5-B1DC-A02E6B467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C1A2-A829-47DB-95CF-2A2AD1D50D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F6D7-CDE9-4F9A-B208-F7F3674BF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5754-6852-4373-BE7F-10D06C6AA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60E9-AEEE-4A02-B377-7315DB01E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F2E2-75B3-4193-B0A9-68E1B9D54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58D5-B7CC-411B-9203-463B11253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5ADC-6927-42D6-90C4-758C079FE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7E7A-0F61-4BC8-B1B4-81016C2D7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8F08-ADBB-4E37-ABE3-7D8EB8676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C82-2002-4DDD-AB64-CA2969519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B24D-C1CA-4F33-A47F-1CF9FDFA08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AC73-6B09-4CCD-9790-2E95B68E9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7D02-62D4-425F-AF03-4ECC6002C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C812-F182-4A9B-B6BE-647463584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EAB4-567D-4A19-9253-A38141DC3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DAB4-FB49-4442-BB17-17B4F2F30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955A-4CE6-4A4C-A8BB-8022C4DD2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AD1C-3777-4F95-B661-C05E1BAA4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44BA-98D6-4CE3-B8EA-221442DC9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57ED-3604-4D03-9896-C894BC1C2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CEC6-C72B-44DD-A6C0-6BAF3981B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42A-8333-41B7-8DF1-6D112D20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84F-60AF-4841-BE32-9BEE0A48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ACE-87D1-4060-98CB-DF556AF6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263-D7EB-4DA2-BEDA-DACC3A3F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F3D-8397-4803-9B57-36D8791F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D77-1EF5-4EAB-84D1-DB8EF121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90E-603C-46DE-9338-E476C2DD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1E0-0D26-4ACA-B366-22727FC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844-01BA-4F00-9D29-BB48C77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B83-A714-4FDC-9F7C-3452C6A6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1F3-8A41-4FF6-9C6B-002EC425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79E-058A-40D7-B604-B2026417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B432-66D9-4E45-B282-CAF24F11E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09480" y="225360"/>
            <a:ext cx="8034480" cy="30607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4572000" y="3151080"/>
            <a:ext cx="4145040" cy="315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922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5120" y="344160"/>
            <a:ext cx="808344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990099"/>
                </a:solidFill>
                <a:latin typeface="Arial"/>
              </a:rPr>
              <a:t>Задачи адаптационных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928000" cy="5399280"/>
          </a:xfrm>
          <a:prstGeom prst="rect">
            <a:avLst/>
          </a:prstGeom>
          <a:noFill/>
          <a:ln w="76320">
            <a:solidFill>
              <a:srgbClr val="cc99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обеспечения эмоционального комфорта, чувства защищенности у первоклассников при вхождении в школь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доброжелательной атмосферы в классе как необходимого условия для развития у детей уверенности в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первоклассникам в осознании и принятии правил школьной жизни и себя в роли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знакомства детей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взаимодействия между детьми как предпосылки формирования навыков учебного сотруд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предпосылок для групповой сплоченности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освоения первоклассниками пространства своего класса как предпосылки для освоения пространства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педагога с особенностями детей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Адаптационные занятия охватывают следующие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32764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Знакомство. Знакомство первоклассников с учителем и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-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авила школьной жизни. Знакомство первоклассников с правилами школьной жизни и продолжение знакомства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Школьник и дошкольник. Осознание детьми своего нового статуса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Для чего ходят в школу. Осознание детьми своего нового статуса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Оценка. Формирование реалистичного восприятия перво- классниками школьной 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7-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Учимся работать дружно. Знакомство учащихся с навыками учебного сотруд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9-10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воклассное путешествие. Закрепление позитивного эмоционального отношения к школе и об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j0432591"/>
          <p:cNvPicPr/>
          <p:nvPr/>
        </p:nvPicPr>
        <p:blipFill>
          <a:blip r:embed="rId1"/>
          <a:stretch/>
        </p:blipFill>
        <p:spPr>
          <a:xfrm>
            <a:off x="70200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j0432591"/>
          <p:cNvPicPr/>
          <p:nvPr/>
        </p:nvPicPr>
        <p:blipFill>
          <a:blip r:embed="rId2"/>
          <a:stretch/>
        </p:blipFill>
        <p:spPr>
          <a:xfrm>
            <a:off x="31320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j0430997"/>
          <p:cNvPicPr/>
          <p:nvPr/>
        </p:nvPicPr>
        <p:blipFill>
          <a:blip r:embed="rId3"/>
          <a:stretch/>
        </p:blipFill>
        <p:spPr>
          <a:xfrm>
            <a:off x="7032600" y="4581360"/>
            <a:ext cx="2111400" cy="227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j0335748"/>
          <p:cNvPicPr/>
          <p:nvPr/>
        </p:nvPicPr>
        <p:blipFill>
          <a:blip r:embed="rId4"/>
          <a:stretch/>
        </p:blipFill>
        <p:spPr>
          <a:xfrm>
            <a:off x="8074080" y="3716280"/>
            <a:ext cx="1069920" cy="150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430825"/>
          <p:cNvPicPr/>
          <p:nvPr/>
        </p:nvPicPr>
        <p:blipFill>
          <a:blip r:embed="rId5"/>
          <a:stretch/>
        </p:blipFill>
        <p:spPr>
          <a:xfrm>
            <a:off x="0" y="412128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35280" y="189000"/>
            <a:ext cx="5508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Ваш ребёнок идет в школ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3933720"/>
            <a:ext cx="8136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оветы и рекоменд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одителям будущих первоклассник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тветы на час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адаваемые вопро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432587"/>
          <p:cNvPicPr/>
          <p:nvPr/>
        </p:nvPicPr>
        <p:blipFill>
          <a:blip r:embed="rId6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j0195904"/>
          <p:cNvPicPr/>
          <p:nvPr/>
        </p:nvPicPr>
        <p:blipFill>
          <a:blip r:embed="rId7"/>
          <a:stretch/>
        </p:blipFill>
        <p:spPr>
          <a:xfrm>
            <a:off x="7308720" y="2349360"/>
            <a:ext cx="1648080" cy="180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j0344515"/>
          <p:cNvPicPr/>
          <p:nvPr/>
        </p:nvPicPr>
        <p:blipFill>
          <a:blip r:embed="rId8"/>
          <a:stretch/>
        </p:blipFill>
        <p:spPr>
          <a:xfrm>
            <a:off x="250920" y="2997360"/>
            <a:ext cx="182556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j0331324"/>
          <p:cNvPicPr/>
          <p:nvPr/>
        </p:nvPicPr>
        <p:blipFill>
          <a:blip r:embed="rId9"/>
          <a:stretch/>
        </p:blipFill>
        <p:spPr>
          <a:xfrm>
            <a:off x="2411280" y="2421000"/>
            <a:ext cx="1812960" cy="159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j0303523"/>
          <p:cNvPicPr/>
          <p:nvPr/>
        </p:nvPicPr>
        <p:blipFill>
          <a:blip r:embed="rId10"/>
          <a:stretch/>
        </p:blipFill>
        <p:spPr>
          <a:xfrm rot="5400000">
            <a:off x="5118840" y="2378880"/>
            <a:ext cx="1417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арандаш"/>
          <p:cNvPicPr/>
          <p:nvPr/>
        </p:nvPicPr>
        <p:blipFill>
          <a:blip r:embed="rId1"/>
          <a:stretch/>
        </p:blipFill>
        <p:spPr>
          <a:xfrm>
            <a:off x="0" y="0"/>
            <a:ext cx="2460600" cy="2279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8930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тветствии с программой подготовительной группы д/с ребенок при записи в 1 класс должен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Знать свое имя и фамилию, адрес, имена членов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Знать времена года, названия месяцев, дней недели, уметь различать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Уметь пересчитывать группы предметов в пределах 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Уметь сравнивать группы предметов -   больше, меньше или ра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Уметь объединять предметы в группы: мебель, транспорт, одежда, обувь, растения, животные и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001_552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179280" y="558972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поступлении в школу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ёнок должен знать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Уметь находить в группе предметов лиш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(из группы «мебель» убрать ложку).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меть высказывать свое мнение, построив законченное предлож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Иметь элементарные представления об окружающем мире: о профессиях, о предметах живой и неживой природы, о правилах поведения в общественных мест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 rot="1027200">
            <a:off x="6443280" y="4076280"/>
            <a:ext cx="2184480" cy="237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меть пространственные представления: право-лево,</a:t>
            </a:r>
            <a:br>
              <a:rPr sz="4000"/>
            </a:b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вверх-вниз, под, над, из-за, из-под чего-либ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меть культурно общаться с другими деть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лушать старших и выполнять их распо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708360" y="26028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язательно ли ребенок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ен уметь читать и писать к 1 клас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50920" y="319572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бяз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ие складывать из слогов слова еще не является умением читать. Многие дети с трудом осваивают эту сложную мыслительную операцию - не стоит их подгонять! Навык чтения и письма должен формироваться по специальным методикам (складываются представления о речи, звуках и буква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и умениями при чтении являются понимание прочитанного текста, анализ описанной ситуации, ответы на вопросы после чт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Обязательна ли школьная форма в 1 класс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Форма дисциплинирует детей, является атрибутом, отличающим дошкольника от ученика. А именно об этом, как правило, и мечтают в первую очередь при поступлении в школу все дети - они теперь первокласс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876е"/>
          <p:cNvPicPr/>
          <p:nvPr/>
        </p:nvPicPr>
        <p:blipFill>
          <a:blip r:embed="rId1"/>
          <a:stretch/>
        </p:blipFill>
        <p:spPr>
          <a:xfrm>
            <a:off x="6516720" y="5102280"/>
            <a:ext cx="24429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Где и какие учебники нужно купить для первоклассник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2-ая обложка"/>
          <p:cNvPicPr/>
          <p:nvPr/>
        </p:nvPicPr>
        <p:blipFill>
          <a:blip r:embed="rId1"/>
          <a:stretch/>
        </p:blipFill>
        <p:spPr>
          <a:xfrm>
            <a:off x="468360" y="189000"/>
            <a:ext cx="81723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3300"/>
                </a:solidFill>
                <a:uFillTx/>
                <a:latin typeface="Arial"/>
              </a:rPr>
              <a:t>Цели</a:t>
            </a:r>
            <a:r>
              <a:rPr b="1" i="1" lang="ru-RU" sz="21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оздание атмосферы сотрудничества и сотворчества, необходимой для дальнейшей совместной деятельности учителя и родителей по воспитанию детей; выявление проблем и обозначение основных ориентиров в работе; формирование коллектива родит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3300"/>
                </a:solidFill>
                <a:uFillTx/>
                <a:latin typeface="Arial"/>
              </a:rPr>
              <a:t>Участники</a:t>
            </a:r>
            <a:r>
              <a:rPr b="1" i="1" lang="ru-RU" sz="21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лассный руководитель, родите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3300"/>
                </a:solidFill>
                <a:uFillTx/>
                <a:latin typeface="Arial"/>
              </a:rPr>
              <a:t>Подготовительный этап</a:t>
            </a:r>
            <a:r>
              <a:rPr b="1" i="1" lang="ru-RU" sz="21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учение классным руководителем личных дел учащих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родительскому собранию готовятся анкеты для родит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3300"/>
                </a:solidFill>
                <a:uFillTx/>
                <a:latin typeface="Arial"/>
              </a:rPr>
              <a:t>Оборудование и оформление</a:t>
            </a:r>
            <a:r>
              <a:rPr b="1" i="1" lang="ru-RU" sz="21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лакаты с высказываниями великих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Безусловно, у первоклассников должен быть особый режим дня. Уроки длятся 45 минут, в середине каждого урока проводятся 1-2 физкультурные минутки. Первое время в расписании первоклассников всего 3 урока, чтобы им легче было привыкать к новому виду деятельности - учеб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Как питаются первоклассники в шко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В нашей школе организовано платное питание. Ученики льготной категории получают бесплатное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или льготное пи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povar-0009"/>
          <p:cNvPicPr/>
          <p:nvPr/>
        </p:nvPicPr>
        <p:blipFill>
          <a:blip r:embed="rId1"/>
          <a:stretch/>
        </p:blipFill>
        <p:spPr>
          <a:xfrm>
            <a:off x="539640" y="907920"/>
            <a:ext cx="2517840" cy="2598840"/>
          </a:xfrm>
          <a:prstGeom prst="rect">
            <a:avLst/>
          </a:prstGeom>
          <a:ln w="28440">
            <a:solidFill>
              <a:srgbClr val="3366cc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113" name="Рисунок 5" descr="j0396612.wmf"/>
          <p:cNvPicPr/>
          <p:nvPr/>
        </p:nvPicPr>
        <p:blipFill>
          <a:blip r:embed="rId2"/>
          <a:stretch/>
        </p:blipFill>
        <p:spPr>
          <a:xfrm>
            <a:off x="6300720" y="1268280"/>
            <a:ext cx="143532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Можно ли носить в школу мобильный телефо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6e3392fc0cfb6761646d51058883250c"/>
          <p:cNvPicPr/>
          <p:nvPr/>
        </p:nvPicPr>
        <p:blipFill>
          <a:blip r:embed="rId1"/>
          <a:stretch/>
        </p:blipFill>
        <p:spPr>
          <a:xfrm>
            <a:off x="3132000" y="1989000"/>
            <a:ext cx="2772000" cy="4526280"/>
          </a:xfrm>
          <a:prstGeom prst="rect">
            <a:avLst/>
          </a:prstGeom>
          <a:ln w="2844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49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В нашей школе запрещено пользование мобильным телефоном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Мы не рекомендуем носить в школу мобильный телефон первоклассникам — велико искушение звонить маме по малейшему поводу или поиграть на уроке в электронную иг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ме того, дорогой телефон может возбудить нездоровый интерес одноклассников, можн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потерят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Можно ли давать ребенку в школу деньг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та денег детьми этого возраста должна находиться под контролем родител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Есть ли в 1 классе домашние зад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dfac4a30a7bc"/>
          <p:cNvPicPr/>
          <p:nvPr/>
        </p:nvPicPr>
        <p:blipFill>
          <a:blip r:embed="rId1"/>
          <a:stretch/>
        </p:blipFill>
        <p:spPr>
          <a:xfrm>
            <a:off x="1979640" y="1557360"/>
            <a:ext cx="50403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машних заданий в 1 классе нет. 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Однако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редложить уч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Почему учителя не ставят оценки в 1 кла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191269140_c4121"/>
          <p:cNvPicPr/>
          <p:nvPr/>
        </p:nvPicPr>
        <p:blipFill>
          <a:blip r:embed="rId1"/>
          <a:stretch/>
        </p:blipFill>
        <p:spPr>
          <a:xfrm>
            <a:off x="2771640" y="1413000"/>
            <a:ext cx="31705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33"/>
                </a:solidFill>
                <a:latin typeface="Arial"/>
              </a:rPr>
              <a:t>В 1 классе обучение действительно безоценочное. Это оправдано тем, что ребенок находится в самом начале учебного пути. К концу первого года обучения уже можно судить о той или иной степени успешности младшего школьн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33"/>
                </a:solidFill>
                <a:latin typeface="Arial"/>
              </a:rPr>
              <a:t>В 1 классе основной упор делается на приобретение навыков учебного труда. Словесная или условно-знаковая оценка тоже зачастую присутствует в работе учителя с учеником. Важно, чтобы она была позитивн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d572ef42d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1523880" y="533520"/>
            <a:ext cx="6248520" cy="27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8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Нужно ли платить деньги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2f1800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8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8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за успешную учёбу?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2f1800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5915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«Воспитание – это процесс жизни, а не подготовка к будущей жизни»     (Дж. Дью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«Чем с меньшим принуждением учатся дети, тем метод лучше, чем с большим, тем хуже» (Л.Н. Толст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33"/>
                </a:solidFill>
                <a:latin typeface="Arial"/>
              </a:rPr>
              <a:t>«Два человеческих изобретения можно считать самыми трудными, а именно, искусство управлять и искусство воспитывать»      (И. К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301252"/>
          <p:cNvPicPr/>
          <p:nvPr/>
        </p:nvPicPr>
        <p:blipFill>
          <a:blip r:embed="rId1"/>
          <a:stretch/>
        </p:blipFill>
        <p:spPr>
          <a:xfrm>
            <a:off x="6335640" y="2708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Всё зависит от того,  каких именно людей хотят воспитать в семье. Мы думаем, что человеческие отношения состоят из обязанностей людей друг перед другом. Объясните ребенку, что учёба – это его обязанность, которую он, как и остальные члены семьи, должен выполнять хорошо. В этом случае заданный вами вопрос не будет так актуале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Arial"/>
              </a:rPr>
              <a:t>Что делают дети на перемен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949560" cy="452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22035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Отдыхают. Причем отдых должен быть активным, ведь после урока, который предполагает пребывание ученика в однообразной рабочей позе, ребенку необходима раз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На переменах допускаются подвижные и настольные игры (дети играют стоя). Главное, чтобы во время игры соблюдались правила безопасности и школьники случайно не поранили друг друга, подражая агрессивным действиям героев современных фильм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Как быть, если ребенок леворук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Ни в коем случае не следует идти против природы и переучивать ребенка. Это может повлечь за собой серьезные нарушения его здоровья. Кроме того, сейчас издаются специальные пособия для леворуких детей, в частности «Прописи для первоклассников с трудностями обучения письму и леворуких детей» автора М. М. Безруких, ручки и карандаши изогнутой формы.  Последствия переучивания леворуких детей чаще всего носят психоневрологический характер: нарушение сна, повышенная возбудим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Как правильно организовать дома рабочее место учен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Текст 4" descr="professor_pointing_sx.gif"/>
          <p:cNvPicPr/>
          <p:nvPr/>
        </p:nvPicPr>
        <p:blipFill>
          <a:blip r:embed="rId1"/>
          <a:stretch/>
        </p:blipFill>
        <p:spPr>
          <a:xfrm>
            <a:off x="1908000" y="1197000"/>
            <a:ext cx="54406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Купите первокласснику письменный стол. Тогда ребенок сможет сам систематизировать и разложить в ящики стола учебные принадлежности и научится поддерживать порядок на рабочем мест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Лучше, если освещение будет слева. Занавески нужно отодвинуть в сторону - основной свет должен попадать через верхнюю треть ок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c6600"/>
                </a:solidFill>
                <a:latin typeface="Arial"/>
              </a:rPr>
              <a:t>Можно купить первокласснику парту и стул с регулирующейся высотой, а для школьных принадлежностей книжные полк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Приобретая мебель, обязательно учитывайте рост ребенка. При росте 1м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1 м 15 см высота крышки стола над полом должна быть 46 см, а высота сиденья стула - 26 см. При росте от 1 м 15 см д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1 м 30 см высота стола должна быть 52см, а стула - 30 см. Важно, чтобы ноги ученика стояли на полу, спина прикасалась к спинке стула, а между крышкой парты и грудью ребенка могла пройти его ладон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Нужен ли первокласснику дневник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Дневник стандартного образца должен заполняться учеником по всей форме, а первокласснику сделать это трудно - он еще не ориентируется в графах и не умеет хорошо писать. Поэтому я рекомендую блокнот для записи домашних заданий. С помощью такого блокнота осуществляется обратная связь с родител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Юла (волчок)"/>
          <p:cNvPicPr/>
          <p:nvPr/>
        </p:nvPicPr>
        <p:blipFill>
          <a:blip r:embed="rId1"/>
          <a:stretch/>
        </p:blipFill>
        <p:spPr>
          <a:xfrm>
            <a:off x="0" y="0"/>
            <a:ext cx="1655640" cy="1816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Можно ли носить в школу игрушк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, мож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ая деятельность ещё значимая для ребёнка, любимая игрушка зачастую олицетворяет друга, с ней можно поиграть на перемене вместе с однокласс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, если игрушка не громоздкая и без острых уг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10" descr="Рисунок2.jpg"/>
          <p:cNvPicPr/>
          <p:nvPr/>
        </p:nvPicPr>
        <p:blipFill>
          <a:blip r:embed="rId2"/>
          <a:stretch/>
        </p:blipFill>
        <p:spPr>
          <a:xfrm>
            <a:off x="3995640" y="1413000"/>
            <a:ext cx="1182960" cy="1584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J0236987.WMF"/>
          <p:cNvPicPr/>
          <p:nvPr/>
        </p:nvPicPr>
        <p:blipFill>
          <a:blip r:embed="rId3"/>
          <a:stretch/>
        </p:blipFill>
        <p:spPr>
          <a:xfrm>
            <a:off x="6877080" y="836640"/>
            <a:ext cx="19638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7200" y="2422080"/>
            <a:ext cx="79297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Дети учатся 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Если ребенка постоянно критикуют, он учится ненавид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Если ребенок живет во вражде, он учится быть агре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ка высмеивают, он становится замкну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растет в упреках, он учится жить с чувством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растет в терпимости, он учится понимать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ка хвалят, он учится быть благород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растет в честности, он учится быть справед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растет в безопасности, он учится верить в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ка поддерживают, он учится ценить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живет в понимании и дружелюбии, он учится находить любовь в эт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Autumn Leaves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187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ям первоклассников (правила, советы, рекомендац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ные особенности детей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68360" y="333360"/>
            <a:ext cx="83516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ан собра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15 советов психологов</a:t>
            </a:r>
            <a:br>
              <a:rPr sz="1600"/>
            </a:b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Как прожить хотя бы один день без нервотрепк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699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торопитесь. Умение рассчитать время- Ваша задача. Если Вам это плохо удается, вины ребе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отправляйте ребенка в школу без завтрака. До школьного завтрака ему придется много поработ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прощайтесь, предупреждая и направляя: «Смотри, не балуйся!»,  « Чтобы сегодня не было плохих отметок!».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Будите ребенка спокойно. Проснувшись, он должен увидеть Вашу улыбку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Забудьте фразу: « Что ты сегодня получил.» Встречая ребе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Если Вы видите, что ребенок огорчен, молчит – не допытывайтесь; пусть успокоится и тогда расскажет все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ыслушав замечания учителя, не торопитесь устраивать взбучку. Постарайтесь, чтобы Ваш разговор с учителем проходил без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После школы не торопите садиться за уроки. Ребенку необходимо 2 часа отдыха ( в первом классе не повредит час сна). Лучшее время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для приготовления уроков –с 16 до 18 часов, занятия вечерами 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j0186348"/>
          <p:cNvPicPr/>
          <p:nvPr/>
        </p:nvPicPr>
        <p:blipFill>
          <a:blip r:embed="rId1"/>
          <a:stretch/>
        </p:blipFill>
        <p:spPr>
          <a:xfrm>
            <a:off x="179280" y="1341360"/>
            <a:ext cx="266400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15 советов психологов</a:t>
            </a:r>
            <a:br>
              <a:rPr sz="2400"/>
            </a:b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Как прожить хотя бы один день без нервотреп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5761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заставляйте делать все упражнения сразу: 20 минут занятий -10 минут переры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о время приготовления уроков не сидите « над душой». Дайте ребенку работать самому. Если нужна Ваша помощь – наберитесь терпения: спокойный тон, поддержка необходи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 общении с ребенком старайтесь избегать условий: «Если ты сделаешь то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айдите в течение дня хотя бы полчаса, когда Вы будете принадлежать только ребе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ыбирайте единую тактику общения с ребенком всех взрослых в семье. Все разногласия по поводу педтактики решайте без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Будьте внимательны к жалобам ребенка на головную боль, усталость, плохое самочувствие. Чаще всего это объективные показатели переутом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Учтите, даже «большие дети» очень любят сказку перед сном, песенку, ласковое поглаживание. Все это успокоит ребенка и поможет снять напряжение, накопившееся за 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186348"/>
          <p:cNvPicPr/>
          <p:nvPr/>
        </p:nvPicPr>
        <p:blipFill>
          <a:blip r:embed="rId1"/>
          <a:stretch/>
        </p:blipFill>
        <p:spPr>
          <a:xfrm>
            <a:off x="179280" y="1628640"/>
            <a:ext cx="2808360" cy="496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(памятка для роди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79280" y="1413000"/>
            <a:ext cx="878544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prstDash val="sysDot"/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ш ребенок первоклассник</a:t>
            </a:r>
            <a:endParaRPr b="1" lang="en-US" sz="4800" spc="1" strike="noStrike">
              <a:ln w="12600">
                <a:solidFill>
                  <a:srgbClr val="000000"/>
                </a:solidFill>
                <a:prstDash val="sysDot"/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68360" y="3573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j0298897"/>
          <p:cNvPicPr/>
          <p:nvPr/>
        </p:nvPicPr>
        <p:blipFill>
          <a:blip r:embed="rId1"/>
          <a:stretch/>
        </p:blipFill>
        <p:spPr>
          <a:xfrm>
            <a:off x="4859280" y="4581360"/>
            <a:ext cx="3960720" cy="204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9" name="Picture 7" descr="j0235319"/>
          <p:cNvPicPr/>
          <p:nvPr/>
        </p:nvPicPr>
        <p:blipFill>
          <a:blip r:embed="rId2"/>
          <a:stretch/>
        </p:blipFill>
        <p:spPr>
          <a:xfrm>
            <a:off x="468360" y="4581360"/>
            <a:ext cx="3598920" cy="20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-1529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51280" y="260280"/>
            <a:ext cx="4835520" cy="6408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Обсудите с ребенком те правила и нормы, с которыми он встретится в школе. Объясните их необходимость и целесообраз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аш ребенок пришел в школу, чтобы учиться. Когда человек учится, у него может что-то не сразу получаться, это естественно. Ребенок имеет право на ошиб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оставьте вместе с первоклассником распорядок дня, следите за его соблюд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Поддержи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ам подтвердить значимость его нового положения и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Если у первоклассника, например, есть логопедические проблемы, постарайтесь справиться с ними на первом году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j0205462"/>
          <p:cNvPicPr/>
          <p:nvPr/>
        </p:nvPicPr>
        <p:blipFill>
          <a:blip r:embed="rId1"/>
          <a:stretch/>
        </p:blipFill>
        <p:spPr>
          <a:xfrm>
            <a:off x="179280" y="333360"/>
            <a:ext cx="3384720" cy="633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72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19280" y="189000"/>
            <a:ext cx="5545080" cy="6408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Поддержите первоклассника в его желании добиться успеха. В каждой работе обязательно найдите, за что можно было бы его похвалить. Помните, что похвала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Если вас что-то беспокоит в поведении ребенка, в его учебных делах, не стесняйтесь обращаться за советом и консультацией к учителю или школьному психоло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 поступлением в школу в жизни вашего ребенка появился человек более авторитетный, чем вы. Это учитель. Уважайте мнение первоклассника о своем педаг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Учение – это нелегкий и ответственный труд. Поступление в школу существенно меняет жизнь ребенка, но не должно лишать его многообразия, радости, игры. У первоклассника должно оставаться достаточно времени для игровых занят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j0297749"/>
          <p:cNvPicPr/>
          <p:nvPr/>
        </p:nvPicPr>
        <p:blipFill>
          <a:blip r:embed="rId1"/>
          <a:stretch/>
        </p:blipFill>
        <p:spPr>
          <a:xfrm>
            <a:off x="250920" y="189000"/>
            <a:ext cx="2881080" cy="640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Сегодняшнее  наше собрание  мне хочется закончить словами И. Беляевой о том, в чем состоит 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рецепт счасть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6911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Mang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Возьми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чашу терпения,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влей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в нее полное сердце любви,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добавь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две горсти щедрости,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посыпь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добротой,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плесни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немного юмора и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добавь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как можно больше веры. Все это хорошо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перемешай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.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Намажь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на кусок отпущенной вам жизни и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предложи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каждому, кто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встретится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на своем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j0230876"/>
          <p:cNvPicPr/>
          <p:nvPr/>
        </p:nvPicPr>
        <p:blipFill>
          <a:blip r:embed="rId1"/>
          <a:stretch/>
        </p:blipFill>
        <p:spPr>
          <a:xfrm>
            <a:off x="179280" y="2133720"/>
            <a:ext cx="4032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11280" y="981000"/>
            <a:ext cx="82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900000" y="3573360"/>
            <a:ext cx="784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пехов в воспитании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D18253_"/>
          <p:cNvPicPr/>
          <p:nvPr/>
        </p:nvPicPr>
        <p:blipFill>
          <a:blip r:embed="rId1"/>
          <a:stretch/>
        </p:blipFill>
        <p:spPr>
          <a:xfrm>
            <a:off x="2124000" y="333360"/>
            <a:ext cx="5112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нкета к родительскому собранию по теме  «Школа - дом  - одна сем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. Ознакомьтесь, пожалуйста, с возможными темами родительских собраний и отметьте те из них, которые вызывают интерес. Если в данном списке нет темы, которая вам интересна, укажите ее, пожалуй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ак помочь ребенку адаптироваться к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Режим дня школьника: важность, возможности и пробл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ак помогать ребенку при подготовке домашни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ак помочь ребёнку стать внима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- Память и мышление младшего шк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 мире «нехочух»: что делать при проявлении детского упрям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…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Что-то е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. Какую помощь психолога вы хотели бы получить во время тематических родительских собраний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3. Предполагаете ли вы принимать участие в тематических родительских собраниях по выбранным вами темам? (Отметьте один из вариантов ответ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корее 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Если будет возмо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корее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4. Напишите, какие дни недели, какое время наиболее удобно вам для участия в тематических родительских собран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5. Сообщите, пожалуйста, ваше имя и контактный телефон: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6. Поставьте цифру 1 около самой интересной для вас темы, 2 – рядом с чуть менее интересной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Благодарим вас за помощь и готовность к сотрудничеств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Фамилия, имя, отчество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зраст родителей, день рождения семь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тересы, увлечения семь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радиции и обыча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виз семь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468360" y="404640"/>
            <a:ext cx="8136000" cy="17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представление семь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9637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rganization Chart 3"/>
          <p:cNvGrpSpPr/>
          <p:nvPr/>
        </p:nvGrpSpPr>
        <p:grpSpPr>
          <a:xfrm>
            <a:off x="355320" y="692280"/>
            <a:ext cx="8033040" cy="5261400"/>
            <a:chOff x="355320" y="692280"/>
            <a:chExt cx="8033040" cy="5261400"/>
          </a:xfrm>
        </p:grpSpPr>
        <p:cxnSp>
          <p:nvCxnSpPr>
            <p:cNvPr id="62" name="_s1028"/>
            <p:cNvCxnSpPr>
              <a:stCxn id="63" idx="2"/>
              <a:endCxn id="64" idx="3"/>
            </p:cNvCxnSpPr>
            <p:nvPr/>
          </p:nvCxnSpPr>
          <p:spPr>
            <a:xfrm flipH="1" rot="10800000">
              <a:off x="3275640" y="1251720"/>
              <a:ext cx="1338480" cy="3829320"/>
            </a:xfrm>
            <a:prstGeom prst="bentConnector4">
              <a:avLst>
                <a:gd name="adj1" fmla="val -8528"/>
                <a:gd name="adj2" fmla="val 6397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5" name="_s1029"/>
            <p:cNvCxnSpPr>
              <a:stCxn id="66" idx="2"/>
              <a:endCxn id="64" idx="3"/>
            </p:cNvCxnSpPr>
            <p:nvPr/>
          </p:nvCxnSpPr>
          <p:spPr>
            <a:xfrm flipH="1" rot="10800000">
              <a:off x="469080" y="1251720"/>
              <a:ext cx="4145040" cy="1433520"/>
            </a:xfrm>
            <a:prstGeom prst="bentConnector4">
              <a:avLst>
                <a:gd name="adj1" fmla="val -2753"/>
                <a:gd name="adj2" fmla="val 8733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7" name="_s1030"/>
            <p:cNvCxnSpPr>
              <a:stCxn id="68" idx="0"/>
              <a:endCxn id="64" idx="3"/>
            </p:cNvCxnSpPr>
            <p:nvPr/>
          </p:nvCxnSpPr>
          <p:spPr>
            <a:xfrm flipV="1" rot="16200000">
              <a:off x="4565880" y="1299240"/>
              <a:ext cx="2750400" cy="2655720"/>
            </a:xfrm>
            <a:prstGeom prst="bentConnector3">
              <a:avLst>
                <a:gd name="adj1" fmla="val 414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9" name="_s1031"/>
            <p:cNvCxnSpPr>
              <a:stCxn id="70" idx="0"/>
              <a:endCxn id="64" idx="3"/>
            </p:cNvCxnSpPr>
            <p:nvPr/>
          </p:nvCxnSpPr>
          <p:spPr>
            <a:xfrm flipV="1" rot="16200000">
              <a:off x="5805000" y="60120"/>
              <a:ext cx="306720" cy="2689920"/>
            </a:xfrm>
            <a:prstGeom prst="bentConnector3">
              <a:avLst>
                <a:gd name="adj1" fmla="val 3713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1" name="_s1032"/>
            <p:cNvCxnSpPr>
              <a:stCxn id="72" idx="0"/>
              <a:endCxn id="64" idx="3"/>
            </p:cNvCxnSpPr>
            <p:nvPr/>
          </p:nvCxnSpPr>
          <p:spPr>
            <a:xfrm flipH="1" flipV="1" rot="5400000">
              <a:off x="1753920" y="1148760"/>
              <a:ext cx="2756520" cy="2963880"/>
            </a:xfrm>
            <a:prstGeom prst="bentConnector3">
              <a:avLst>
                <a:gd name="adj1" fmla="val 414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4" name="_s1033"/>
            <p:cNvSpPr/>
            <p:nvPr/>
          </p:nvSpPr>
          <p:spPr>
            <a:xfrm>
              <a:off x="1477440" y="692280"/>
              <a:ext cx="6336000" cy="560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cc"/>
                  </a:solidFill>
                  <a:latin typeface="Tahoma"/>
                  <a:ea typeface="Arial"/>
                </a:rPr>
                <a:t>Родительские комисс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395280" y="4008600"/>
              <a:ext cx="2302200" cy="1931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ультурно-массо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6011640" y="1558800"/>
              <a:ext cx="2376720" cy="193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оизводственно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хозяйств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6"/>
            <p:cNvSpPr/>
            <p:nvPr/>
          </p:nvSpPr>
          <p:spPr>
            <a:xfrm>
              <a:off x="6011640" y="4002480"/>
              <a:ext cx="2305080" cy="1951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едагогическ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всеобуч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7"/>
            <p:cNvSpPr/>
            <p:nvPr/>
          </p:nvSpPr>
          <p:spPr>
            <a:xfrm>
              <a:off x="469440" y="1612800"/>
              <a:ext cx="2293200" cy="1931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спортивно-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оздорови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276000" y="4008600"/>
              <a:ext cx="2302200" cy="1931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Учебно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воспитатель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1116000" y="2492280"/>
            <a:ext cx="712944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Мною разработаны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и апробированы на практике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10 занятий с первоклассниками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03:40Z</dcterms:created>
  <dc:creator>Настя</dc:creator>
  <dc:description/>
  <dc:language>en-US</dc:language>
  <cp:lastModifiedBy>PK</cp:lastModifiedBy>
  <dcterms:modified xsi:type="dcterms:W3CDTF">2012-07-07T18:44:04Z</dcterms:modified>
  <cp:revision>37</cp:revision>
  <dc:subject/>
  <dc:title>Ваш ребёнок идет в школу</dc:title>
</cp:coreProperties>
</file>