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27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gif" ContentType="image/gif"/>
  <Override PartName="/ppt/media/image19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64E-0BB8-48CD-9374-6DEEA2170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940-D6F9-40F8-9BFC-B1FEBB84E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A1A-00CF-464E-8FC5-312A43CD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1E9-8A80-4A64-974D-C6E514F4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F45-D03F-4945-A294-FF208ACB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824-CE16-4815-9FA6-00D65625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0FE5-4A88-4A89-9015-04488D46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8B57-DB8C-431D-82C8-B7608C8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DCD-49C0-4348-82F0-C95BE020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B918-4479-433B-899C-FAE03D5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3C8-3382-4789-8FE8-66C1C93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567-0449-41D1-A9B5-82B910C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8D5-3663-4601-8027-24380CD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974-58B2-42EE-BAAE-D08A6A7A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9F7E-CFF3-405E-A21B-56CD0D05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816-09D9-4DE9-AE1C-641F5682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1C2C-028C-4C2C-A58A-8E3EE367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0A62-7217-4754-8FB2-F5A34A7F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9B98-40D3-4D4B-B0BF-754ECF71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12D6-EA9D-4828-92E6-02590382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46BC-F066-4496-8C9F-1D70FC8D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DD86-C687-47DB-8DF0-3673B9C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35FC-3133-4EBA-880A-ACD0F84A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8449-C2FC-4F36-AB2B-9C5FE649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414-F862-4744-BFF4-19FCB60C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5385-731B-413A-8924-5C47EFA8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0B34-A3C1-48F3-81D9-14A37CB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FD9A-4857-433F-AB5D-25C32A4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AE75-E00A-44A5-95C5-28C7F89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46A0-B364-4034-877C-51271EEA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C3B0-04B1-48B9-8AA7-CAF64ABD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44ED-CE2B-484C-B8E9-EB6950D5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B57-9B7A-4EB1-B58B-6AFC8F4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CAF-0576-44E2-8756-D3241E0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074-E20D-4D4F-955E-461C2FF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D6B-4FDC-403C-90EC-0C5D8C2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C5B-4209-4B21-AE08-50F9406A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428-C988-4944-B8ED-FA27986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8220-0730-42D1-ABFF-AA52E4686445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473-53C0-484E-84CB-3514B867571B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2A08-EA79-425B-AA52-C8AE0843709F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8"/>
          <p:cNvSpPr/>
          <p:nvPr/>
        </p:nvSpPr>
        <p:spPr>
          <a:xfrm>
            <a:off x="0" y="256536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5212d"/>
                </a:solidFill>
                <a:latin typeface="Arial"/>
              </a:rPr>
              <a:t>Die Berufswahl – nun einmal erns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6017"/>
                </a:solidFill>
                <a:latin typeface="Calibri"/>
              </a:rPr>
              <a:t>Künstlerische Persönlichkeit</a:t>
            </a:r>
            <a:r>
              <a:rPr b="1" lang="ru-RU" sz="3000" spc="-1" strike="noStrike">
                <a:solidFill>
                  <a:srgbClr val="e36017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e36017"/>
                </a:solidFill>
                <a:latin typeface="Calibri"/>
              </a:rPr>
              <a:t>(K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8937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n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nz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mdsprach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jekte/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10920" y="1341360"/>
            <a:ext cx="6264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evorzugt die Arbeit auf dem Gebiet der Kunst, wo es viele Möglichkeiten zum Selbstausdruck gib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e3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2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90de9"/>
                </a:solidFill>
                <a:latin typeface="Calibri"/>
              </a:rPr>
              <a:t>Soziale Persönlichkeit (S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0920" y="249228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ae8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n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zialam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ziolo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ra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ommunik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rschulerziehung und Entwicklung der Ki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10920" y="1341360"/>
            <a:ext cx="62643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Ist auf die Zusammenarbeit mit Menschen orientiert, ist hilfsbere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8c60"/>
                </a:solidFill>
                <a:latin typeface="Calibri"/>
              </a:rPr>
              <a:t>Unternehmerische Persönlichkeit</a:t>
            </a:r>
            <a:r>
              <a:rPr b="1" lang="ru-RU" sz="3000" spc="-1" strike="noStrike">
                <a:solidFill>
                  <a:srgbClr val="188c6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188c60"/>
                </a:solidFill>
                <a:latin typeface="Calibri"/>
              </a:rPr>
              <a:t>(U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ae77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schäftsmann,-fr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wal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h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410920" y="1341000"/>
            <a:ext cx="6264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Die Arbeit, bei der man auf die Mitmenschen einen Einfluss ausüben  und sie zum Problemlösen organisieren kan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188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1ae8"/>
                </a:solidFill>
                <a:latin typeface="Calibri"/>
              </a:rPr>
              <a:t>Traditionelle Persönlichkeit</a:t>
            </a:r>
            <a:r>
              <a:rPr b="1" lang="ru-RU" sz="3000" spc="-1" strike="noStrike">
                <a:solidFill>
                  <a:srgbClr val="f21ae8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21ae8"/>
                </a:solidFill>
                <a:latin typeface="Calibri"/>
              </a:rPr>
              <a:t>(T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b8a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chhal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ist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nz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utertechnologi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chbearbei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10920" y="1500120"/>
            <a:ext cx="6264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evorzugt mit Dateien zu arbeiten, die Dateien und Angaben zu bearbeiten und zu systematisier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21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3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500"/>
                            </p:stCondLst>
                            <p:childTnLst>
                              <p:par>
                                <p:cTn id="4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5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7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b1809795"/>
          <p:cNvPicPr/>
          <p:nvPr/>
        </p:nvPicPr>
        <p:blipFill>
          <a:blip r:embed="rId1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E02719_"/>
          <p:cNvPicPr/>
          <p:nvPr/>
        </p:nvPicPr>
        <p:blipFill>
          <a:blip r:embed="rId2"/>
          <a:stretch/>
        </p:blipFill>
        <p:spPr>
          <a:xfrm>
            <a:off x="539640" y="4035600"/>
            <a:ext cx="2916360" cy="282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BD06675_"/>
          <p:cNvPicPr/>
          <p:nvPr/>
        </p:nvPicPr>
        <p:blipFill>
          <a:blip r:embed="rId3"/>
          <a:stretch/>
        </p:blipFill>
        <p:spPr>
          <a:xfrm>
            <a:off x="3564000" y="328464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BD06517_"/>
          <p:cNvPicPr/>
          <p:nvPr/>
        </p:nvPicPr>
        <p:blipFill>
          <a:blip r:embed="rId4"/>
          <a:stretch/>
        </p:blipFill>
        <p:spPr>
          <a:xfrm>
            <a:off x="0" y="0"/>
            <a:ext cx="3564000" cy="23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S00508_"/>
          <p:cNvPicPr/>
          <p:nvPr/>
        </p:nvPicPr>
        <p:blipFill>
          <a:blip r:embed="rId5"/>
          <a:stretch/>
        </p:blipFill>
        <p:spPr>
          <a:xfrm>
            <a:off x="1476360" y="1916280"/>
            <a:ext cx="2257560" cy="2382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PE01846_"/>
          <p:cNvPicPr/>
          <p:nvPr/>
        </p:nvPicPr>
        <p:blipFill>
          <a:blip r:embed="rId6"/>
          <a:stretch/>
        </p:blipFill>
        <p:spPr>
          <a:xfrm>
            <a:off x="4788000" y="0"/>
            <a:ext cx="4356000" cy="227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BD07153_"/>
          <p:cNvPicPr/>
          <p:nvPr/>
        </p:nvPicPr>
        <p:blipFill>
          <a:blip r:embed="rId7"/>
          <a:stretch/>
        </p:blipFill>
        <p:spPr>
          <a:xfrm>
            <a:off x="5724360" y="1844640"/>
            <a:ext cx="2394000" cy="261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357360" y="1642680"/>
            <a:ext cx="5786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3f75"/>
                </a:solidFill>
                <a:latin typeface="Tahoma"/>
              </a:rPr>
              <a:t>  </a:t>
            </a:r>
            <a:r>
              <a:rPr b="1" i="1" lang="en-US" sz="3300" spc="-1" strike="noStrike">
                <a:solidFill>
                  <a:srgbClr val="003f75"/>
                </a:solidFill>
                <a:latin typeface="Tahoma"/>
              </a:rPr>
              <a:t>Die Berufswahl oder Selbstfindung auf einem beruflichen Gebiet ist entscheidend im Leben jedes Menschen, eine der wichtigsten Entscheidungen im Leben, bildet die Grundlage der Zukunf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016"/>
          <p:cNvPicPr/>
          <p:nvPr/>
        </p:nvPicPr>
        <p:blipFill>
          <a:blip r:embed="rId1"/>
          <a:stretch/>
        </p:blipFill>
        <p:spPr>
          <a:xfrm>
            <a:off x="285840" y="1714680"/>
            <a:ext cx="313200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3640" y="1071360"/>
            <a:ext cx="856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58d01"/>
                </a:solidFill>
                <a:latin typeface="Constantia"/>
              </a:rPr>
              <a:t>Warum ist die Berufswahl eine der wichtigsten Entscheidungen im Leben des Menschen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4000">
    <p:push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920" y="928800"/>
            <a:ext cx="5572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1" i="1" lang="en-US" sz="3300" spc="-1" strike="noStrike">
                <a:solidFill>
                  <a:srgbClr val="ff0000"/>
                </a:solidFill>
                <a:latin typeface="Constantia"/>
              </a:rPr>
              <a:t>Die Forscher haben festgestellt, dass etwa 40% der Jugendlichen wegen der mangelnden Informiertheit und wenig Erfahrung einen falschen Beruf ergreifen, der ihren Interessen, Neigungen, Fähigkeiten und inneren Űberzeugungen nicht entsprich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61" descr="C:\Documents and Settings\Администратор.COMP\Local Settings\Temporary Internet Files\Content.IE5\23VDVUFJ\MCj02954720000[1].wmf"/>
          <p:cNvPicPr/>
          <p:nvPr/>
        </p:nvPicPr>
        <p:blipFill>
          <a:blip r:embed="rId1"/>
          <a:stretch/>
        </p:blipFill>
        <p:spPr>
          <a:xfrm rot="21274200">
            <a:off x="571320" y="1143000"/>
            <a:ext cx="2606400" cy="18018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4" descr="C:\Documents and Settings\Администратор.COMP\Local Settings\Temporary Internet Files\Content.IE5\EQD6P6K3\MCj03341700000[1].wmf"/>
          <p:cNvPicPr/>
          <p:nvPr/>
        </p:nvPicPr>
        <p:blipFill>
          <a:blip r:embed="rId2"/>
          <a:stretch/>
        </p:blipFill>
        <p:spPr>
          <a:xfrm rot="604800">
            <a:off x="1646280" y="299556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7" descr="C:\Documents and Settings\Администратор.COMP\Local Settings\Temporary Internet Files\Content.IE5\KO4RZ8Q7\MCj04349010000[1].png"/>
          <p:cNvPicPr/>
          <p:nvPr/>
        </p:nvPicPr>
        <p:blipFill>
          <a:blip r:embed="rId3"/>
          <a:stretch/>
        </p:blipFill>
        <p:spPr>
          <a:xfrm rot="21075600">
            <a:off x="0" y="4286160"/>
            <a:ext cx="2292480" cy="2292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428640" y="999720"/>
            <a:ext cx="5429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Constantia"/>
              </a:rPr>
              <a:t>Unsere Gesellschaft bietet etwa 350 Berufe. Daher ist es schwierig, darunter einen richtigen zu finden. Und nur die rechtzeitige Informiertheit kann dabei behilflich werden.</a:t>
            </a:r>
            <a:r>
              <a:rPr b="1" i="1" lang="ru-RU" sz="4500" spc="-1" strike="noStrike">
                <a:solidFill>
                  <a:srgbClr val="c58d01"/>
                </a:solidFill>
                <a:latin typeface="Constantia"/>
              </a:rPr>
              <a:t> </a:t>
            </a:r>
            <a:r>
              <a:rPr b="1" i="1" lang="en-US" sz="4500" spc="-1" strike="noStrike">
                <a:solidFill>
                  <a:srgbClr val="c58d01"/>
                </a:solidFill>
                <a:latin typeface="Constantia"/>
              </a:rPr>
              <a:t>Weiterhin entstehen immer wieder neue Berufe, die auf ihre Interessenten warten.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Рисунок 57" descr="C:\Documents and Settings\Администратор.COMP\Local Settings\Temporary Internet Files\Content.IE5\23VDVUFJ\MCj04360150000[1].wmf"/>
          <p:cNvPicPr/>
          <p:nvPr/>
        </p:nvPicPr>
        <p:blipFill>
          <a:blip r:embed="rId1"/>
          <a:stretch/>
        </p:blipFill>
        <p:spPr>
          <a:xfrm rot="495600">
            <a:off x="357120" y="214200"/>
            <a:ext cx="1609920" cy="1882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0" descr="C:\Documents and Settings\Администратор.COMP\Local Settings\Temporary Internet Files\Content.IE5\ITJZR967\MCj02874370000[1].wmf"/>
          <p:cNvPicPr/>
          <p:nvPr/>
        </p:nvPicPr>
        <p:blipFill>
          <a:blip r:embed="rId2"/>
          <a:stretch/>
        </p:blipFill>
        <p:spPr>
          <a:xfrm rot="21057600">
            <a:off x="1214280" y="1539360"/>
            <a:ext cx="2478240" cy="2006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6" descr="C:\Documents and Settings\Администратор.COMP\Local Settings\Temporary Internet Files\Content.IE5\95WRTZWP\MCj02954550000[1].wmf"/>
          <p:cNvPicPr/>
          <p:nvPr/>
        </p:nvPicPr>
        <p:blipFill>
          <a:blip r:embed="rId3"/>
          <a:stretch/>
        </p:blipFill>
        <p:spPr>
          <a:xfrm rot="20854800">
            <a:off x="-194760" y="2379240"/>
            <a:ext cx="2469960" cy="24433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8" descr="C:\Documents and Settings\Администратор.COMP\Local Settings\Temporary Internet Files\Content.IE5\X6QQWGND\MCj02872660000[1].wmf"/>
          <p:cNvPicPr/>
          <p:nvPr/>
        </p:nvPicPr>
        <p:blipFill>
          <a:blip r:embed="rId4"/>
          <a:stretch/>
        </p:blipFill>
        <p:spPr>
          <a:xfrm rot="697200">
            <a:off x="1433160" y="3558960"/>
            <a:ext cx="2170080" cy="1692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3" descr="C:\Documents and Settings\Администратор.COMP\Local Settings\Temporary Internet Files\Content.IE5\X6QQWGND\MCj04297270000[1].wmf"/>
          <p:cNvPicPr/>
          <p:nvPr/>
        </p:nvPicPr>
        <p:blipFill>
          <a:blip r:embed="rId5"/>
          <a:stretch/>
        </p:blipFill>
        <p:spPr>
          <a:xfrm rot="20683800">
            <a:off x="444240" y="4946760"/>
            <a:ext cx="1841400" cy="1230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91440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58d01"/>
                </a:solidFill>
                <a:latin typeface="Constantia"/>
              </a:rPr>
              <a:t>Im Leben jedes Menschen beginnt der Abschnitt, wo man sich entscheiden muss, wie man sein weiteres Leben gestalten will, das heißt, einen Beruf ergreifen mus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7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16" descr=""/>
          <p:cNvPicPr/>
          <p:nvPr/>
        </p:nvPicPr>
        <p:blipFill>
          <a:blip r:embed="rId1"/>
          <a:stretch/>
        </p:blipFill>
        <p:spPr>
          <a:xfrm>
            <a:off x="2030400" y="615960"/>
            <a:ext cx="6789600" cy="1231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9"/>
          <p:cNvSpPr/>
          <p:nvPr/>
        </p:nvSpPr>
        <p:spPr>
          <a:xfrm>
            <a:off x="2484360" y="2205000"/>
            <a:ext cx="66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t eine Tätigkeit, die eine Ausbildung verlangt und zur Lebensquelle w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alibri"/>
              </a:rPr>
              <a:t>Typische Fehler bei der Berufswahl</a:t>
            </a:r>
            <a:endParaRPr b="0" lang="en-US" sz="29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195640" y="1257480"/>
            <a:ext cx="6427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Fremden Ratschlägen blind f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Weil die Bildungseinrichtung am nächsten liegt, weil es ein angesehener Beruf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Das Fehlen von Informationen </a:t>
            </a:r>
            <a:r>
              <a:rPr b="1" lang="de-DE" sz="2800" spc="-1" strike="noStrike">
                <a:solidFill>
                  <a:srgbClr val="00b000"/>
                </a:solidFill>
                <a:latin typeface="Arial"/>
              </a:rPr>
              <a:t>ü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ber den Beruf bzw. das F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Man kennt sich selbst n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58d01"/>
                </a:solidFill>
                <a:latin typeface="Calibri"/>
              </a:rPr>
              <a:t>Typische Fehler bei der Berufswahl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3100" spc="-1" strike="noStrike">
                <a:solidFill>
                  <a:srgbClr val="c58d01"/>
                </a:solidFill>
                <a:latin typeface="Constantia"/>
              </a:rPr>
              <a:t>А. </a:t>
            </a:r>
            <a:r>
              <a:rPr b="1" i="1" lang="en-US" sz="3100" spc="-1" strike="noStrike">
                <a:solidFill>
                  <a:srgbClr val="c58d01"/>
                </a:solidFill>
                <a:latin typeface="Constantia"/>
              </a:rPr>
              <a:t>Man kennt die Berufe nicht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alle Berufe wandeln sich im Laufe der Zeit, nicht selten kommt es so vor, dass hinter der alten Berufsbezeichnung ein absolut neues Berufsfeld steckt.</a:t>
            </a:r>
            <a:br>
              <a:rPr sz="2400"/>
            </a:b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Vorurteile gegenüber den angesehenen Berufen, Orientierung auf die Berufe, die die Höchstqualifikation fordern (Manager, Diplomat, Dolmetscher)</a:t>
            </a:r>
            <a:br>
              <a:rPr sz="2400"/>
            </a:b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Schwärmen nur für die äußere Seite eines Berufes (z.B. wenn einer Jurist werden will, weil er sich Krimis gerne ansieh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4e5b6f"/>
                </a:solidFill>
                <a:latin typeface="Calibri"/>
              </a:rPr>
              <a:t>Cognosce te ipsum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58d01"/>
                </a:solidFill>
                <a:latin typeface="Constantia"/>
              </a:rPr>
              <a:t>    </a:t>
            </a:r>
            <a:r>
              <a:rPr b="1" i="1" lang="ru-RU" sz="3200" spc="-1" strike="noStrike">
                <a:solidFill>
                  <a:srgbClr val="c58d01"/>
                </a:solidFill>
                <a:latin typeface="Constantia"/>
              </a:rPr>
              <a:t>В. </a:t>
            </a:r>
            <a:r>
              <a:rPr b="1" i="1" lang="en-US" sz="3200" spc="-1" strike="noStrike">
                <a:solidFill>
                  <a:srgbClr val="c58d01"/>
                </a:solidFill>
                <a:latin typeface="Constantia"/>
              </a:rPr>
              <a:t>Man kennt sich selbst nich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c58d01"/>
                </a:solidFill>
                <a:latin typeface="Constantia"/>
              </a:rPr>
              <a:t>•</a:t>
            </a:r>
            <a:r>
              <a:rPr b="0" i="1" lang="en-US" sz="2400" spc="-1" strike="noStrike">
                <a:solidFill>
                  <a:srgbClr val="c58d01"/>
                </a:solidFill>
                <a:latin typeface="Constantia"/>
              </a:rPr>
              <a:t>die Unfähigkeit in sich selbst zurechtzufinden, falsche Bewertung der persönlichen Eigenschaften und Neigungen</a:t>
            </a: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 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Falsche Einschätzung der körperlichen Möglichkeiten, des eigenen Gesundheitszustandes bei der Berufswahl</a:t>
            </a:r>
            <a:br>
              <a:rPr sz="2400"/>
            </a:b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die Unfähigkeit,  persönliche Eigenschaften mit den beruflichen Anforderungen in Einklang zu bri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4e5b6f"/>
                </a:solidFill>
                <a:latin typeface="Calibri"/>
              </a:rPr>
              <a:t>Alles hat seine Regeln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58d01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c58d01"/>
                </a:solidFill>
                <a:latin typeface="Constantia"/>
              </a:rPr>
              <a:t>С. </a:t>
            </a:r>
            <a:r>
              <a:rPr b="1" i="1" lang="en-US" sz="2800" spc="-1" strike="noStrike">
                <a:solidFill>
                  <a:srgbClr val="c58d01"/>
                </a:solidFill>
                <a:latin typeface="Constantia"/>
              </a:rPr>
              <a:t>Man kennt die Regeln bei der Berufswahl nich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c58d01"/>
                </a:solidFill>
                <a:latin typeface="Constantia"/>
              </a:rPr>
              <a:t>man stellt ein Lehrfach mit dem Beruf gleich (Ich interessiere mich für Erdkunde, deswegen werde ich Geolo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c58d01"/>
                </a:solidFill>
                <a:latin typeface="Constantia"/>
              </a:rPr>
              <a:t>Die Űbertragung eines Berufsverhältnisses auf den Beruf ( Ich werde Buchhalterin wie meine Mutter)</a:t>
            </a: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•</a:t>
            </a:r>
            <a:r>
              <a:rPr b="0" lang="en-US" sz="2600" spc="-1" strike="noStrike">
                <a:solidFill>
                  <a:srgbClr val="c58d01"/>
                </a:solidFill>
                <a:latin typeface="Constantia"/>
              </a:rPr>
              <a:t>Ich wähle diesen Beruf wie meine Freunde, ansonsten würde ich sie verlieren</a:t>
            </a: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85760" y="785880"/>
            <a:ext cx="4900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435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Vor Ihnen sind fünf geometrische Figuren 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a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ac"/>
                </a:solidFill>
                <a:latin typeface="Times New Roman"/>
              </a:rPr>
              <a:t>Quadrat, Dreieck, Viereck, Kreis, Zickzack).</a:t>
            </a:r>
            <a:r>
              <a:rPr b="0" lang="ru-RU" sz="2400" spc="-1" strike="noStrike">
                <a:solidFill>
                  <a:srgbClr val="0000ac"/>
                </a:solidFill>
                <a:latin typeface="Times New Roman"/>
              </a:rPr>
              <a:t> .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Wählen Sie eine Figur, von der Sie sagen können:”Diese Figur symbolisiert mich!”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Versuchen Sie, diese Figur zu empfinden, sich selbst damit gleichzustellen.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Wenn Sie Schwierigkeiten damit haben, wählen Sie dann die Figur, die Ihnen am meisten zusagt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Analysieren Sie bitte nicht die Eigenschaften dieser Figuren, vertrauen Sie Ihrer Intu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9" descr="КАРТИНКА1О"/>
          <p:cNvPicPr/>
          <p:nvPr/>
        </p:nvPicPr>
        <p:blipFill>
          <a:blip r:embed="rId1"/>
          <a:stretch/>
        </p:blipFill>
        <p:spPr>
          <a:xfrm>
            <a:off x="214200" y="1285920"/>
            <a:ext cx="3810240" cy="1703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КАРТИНКА1Н"/>
          <p:cNvPicPr/>
          <p:nvPr/>
        </p:nvPicPr>
        <p:blipFill>
          <a:blip r:embed="rId2"/>
          <a:stretch/>
        </p:blipFill>
        <p:spPr>
          <a:xfrm>
            <a:off x="214200" y="3714840"/>
            <a:ext cx="3760920" cy="1981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14240" y="14292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eea"/>
                </a:solidFill>
                <a:latin typeface="Tahoma"/>
              </a:rPr>
              <a:t>Minitest</a:t>
            </a:r>
            <a:r>
              <a:rPr b="1" lang="ru-RU" sz="3200" spc="-1" strike="noStrike">
                <a:solidFill>
                  <a:srgbClr val="007eea"/>
                </a:solidFill>
                <a:latin typeface="Tahoma"/>
              </a:rPr>
              <a:t> «</a:t>
            </a:r>
            <a:r>
              <a:rPr b="1" lang="en-US" sz="3200" spc="-1" strike="noStrike">
                <a:solidFill>
                  <a:srgbClr val="007eea"/>
                </a:solidFill>
                <a:latin typeface="Tahoma"/>
              </a:rPr>
              <a:t>Was sind Si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Tahoma"/>
              </a:rPr>
              <a:t>Ergebnisse des Tests</a:t>
            </a:r>
            <a:br>
              <a:rPr sz="2400"/>
            </a:br>
            <a:r>
              <a:rPr b="1" lang="en-US" sz="2400" spc="-1" strike="noStrike">
                <a:solidFill>
                  <a:srgbClr val="007eea"/>
                </a:solidFill>
                <a:latin typeface="Tahoma"/>
              </a:rPr>
              <a:t>Berufe, die etwa jeder Figur entsprechen</a:t>
            </a:r>
            <a:endParaRPr b="0" lang="en-US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Dreie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o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Börsenspiel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Börsenmakl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aufmann-, -fra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Markterforsch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ommerzlei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Psycholo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Lehr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Juri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Manager und ande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7" descr="9"/>
          <p:cNvPicPr/>
          <p:nvPr/>
        </p:nvPicPr>
        <p:blipFill>
          <a:blip r:embed="rId1"/>
          <a:stretch/>
        </p:blipFill>
        <p:spPr>
          <a:xfrm rot="359400">
            <a:off x="6357960" y="2286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КАРТИНКА1А"/>
          <p:cNvPicPr/>
          <p:nvPr/>
        </p:nvPicPr>
        <p:blipFill>
          <a:blip r:embed="rId2"/>
          <a:stretch/>
        </p:blipFill>
        <p:spPr>
          <a:xfrm rot="20703600">
            <a:off x="5428800" y="4214880"/>
            <a:ext cx="232092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57120" y="9284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Viere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Versicherungsag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Őkolo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Lokfüh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Fah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Alle Berufe, die mit der Natu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verbunden si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6" descr="D:\Programs\ClipArts\Индастриал\799048.JPG"/>
          <p:cNvPicPr/>
          <p:nvPr/>
        </p:nvPicPr>
        <p:blipFill>
          <a:blip r:embed="rId1"/>
          <a:stretch/>
        </p:blipFill>
        <p:spPr>
          <a:xfrm rot="615600">
            <a:off x="5535360" y="2173320"/>
            <a:ext cx="309384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8568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Quadr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teuerpolizi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Not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Buchhalter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chweiß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Näher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Fah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Programmie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u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onditeu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ekretär-Refe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ozialpädago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6" descr="D:\Documents\Buklets\1.jpg"/>
          <p:cNvPicPr/>
          <p:nvPr/>
        </p:nvPicPr>
        <p:blipFill>
          <a:blip r:embed="rId1"/>
          <a:stretch/>
        </p:blipFill>
        <p:spPr>
          <a:xfrm rot="1182000">
            <a:off x="5508720" y="1376280"/>
            <a:ext cx="3047760" cy="227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D:\Documents\Buklets\КАРТИНКА1И.jpg"/>
          <p:cNvPicPr/>
          <p:nvPr/>
        </p:nvPicPr>
        <p:blipFill>
          <a:blip r:embed="rId2"/>
          <a:stretch/>
        </p:blipFill>
        <p:spPr>
          <a:xfrm rot="20933400">
            <a:off x="5054760" y="3646440"/>
            <a:ext cx="234468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0040" y="78588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eea"/>
                </a:solidFill>
                <a:uFillTx/>
                <a:latin typeface="Constantia"/>
              </a:rPr>
              <a:t>Krei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ell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rankenschwes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Friseu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indergartenerzieh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Hoteli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Erzieh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Verkäuf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Lehr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Fotogra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Sekretä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Psycholo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Sozialpädago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Versicherungsag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6" descr="D:\Documents\Buklets\Без Имени-1.jpg"/>
          <p:cNvPicPr/>
          <p:nvPr/>
        </p:nvPicPr>
        <p:blipFill>
          <a:blip r:embed="rId1"/>
          <a:stretch/>
        </p:blipFill>
        <p:spPr>
          <a:xfrm>
            <a:off x="5786280" y="3714840"/>
            <a:ext cx="25927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28760" y="357120"/>
            <a:ext cx="822960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Zickza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o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onditeu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Tisch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ue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Programmie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rkterforsc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Frise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uenst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Desig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chauspie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usi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Architek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Psycholo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7" descr="D:\PROF\NEM18.JPG"/>
          <p:cNvPicPr/>
          <p:nvPr/>
        </p:nvPicPr>
        <p:blipFill>
          <a:blip r:embed="rId1"/>
          <a:stretch/>
        </p:blipFill>
        <p:spPr>
          <a:xfrm rot="1000800">
            <a:off x="5078520" y="1533600"/>
            <a:ext cx="3589200" cy="256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D:\PROF\NEM14.JPG"/>
          <p:cNvPicPr/>
          <p:nvPr/>
        </p:nvPicPr>
        <p:blipFill>
          <a:blip r:embed="rId2"/>
          <a:stretch/>
        </p:blipFill>
        <p:spPr>
          <a:xfrm rot="20092200">
            <a:off x="4003200" y="3797280"/>
            <a:ext cx="28958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e5b6f"/>
                </a:solidFill>
                <a:latin typeface="Calibri"/>
              </a:rPr>
              <a:t>Die Faktoren der Berufswahl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6659640" y="1700280"/>
            <a:ext cx="2057400" cy="1079280"/>
          </a:xfrm>
          <a:prstGeom prst="cube">
            <a:avLst>
              <a:gd name="adj" fmla="val 25000"/>
            </a:avLst>
          </a:prstGeom>
          <a:solidFill>
            <a:srgbClr val="7fd13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h m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500720" y="1700280"/>
            <a:ext cx="1981080" cy="1143000"/>
          </a:xfrm>
          <a:prstGeom prst="cube">
            <a:avLst>
              <a:gd name="adj" fmla="val 25000"/>
            </a:avLst>
          </a:prstGeom>
          <a:solidFill>
            <a:srgbClr val="7fd13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h k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95640" y="1773360"/>
            <a:ext cx="2054160" cy="1143000"/>
          </a:xfrm>
          <a:prstGeom prst="cube">
            <a:avLst>
              <a:gd name="adj" fmla="val 23194"/>
            </a:avLst>
          </a:prstGeom>
          <a:solidFill>
            <a:srgbClr val="7fd13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h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124000" y="2997360"/>
            <a:ext cx="1844640" cy="119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284720" y="2997360"/>
            <a:ext cx="2232000" cy="1465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undheits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ufliche Aus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ufliche Fähig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659640" y="2997360"/>
            <a:ext cx="190476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m Arbeitsmarkt gefra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stellungschan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BS02064_"/>
          <p:cNvPicPr/>
          <p:nvPr/>
        </p:nvPicPr>
        <p:blipFill>
          <a:blip r:embed="rId1"/>
          <a:stretch/>
        </p:blipFill>
        <p:spPr>
          <a:xfrm>
            <a:off x="2268360" y="4924440"/>
            <a:ext cx="1798920" cy="179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77724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8d01"/>
                </a:solidFill>
                <a:latin typeface="Constantia"/>
              </a:rPr>
              <a:t>Und nun zuletzt allen Jugendlichen, die vor der Berufswahl stehen, ein guter Ratschlag: “Suche dir etwas, was du besonders gut machen wirst, erst dann jemanden, der dich für deine Leistungen bezahlen wird!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8d01"/>
                </a:solidFill>
                <a:latin typeface="Constanti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8d01"/>
                </a:solidFill>
                <a:latin typeface="Constantia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sl5"/>
          <p:cNvPicPr/>
          <p:nvPr/>
        </p:nvPicPr>
        <p:blipFill>
          <a:blip r:embed="rId1"/>
          <a:stretch/>
        </p:blipFill>
        <p:spPr>
          <a:xfrm>
            <a:off x="4214880" y="4000680"/>
            <a:ext cx="1969920" cy="21603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2000160" y="857160"/>
            <a:ext cx="6000840" cy="27370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2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INEN GUTEN EINSTIEG!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sh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8c60"/>
                </a:solidFill>
                <a:latin typeface="Times New Roman"/>
              </a:rPr>
              <a:t>Die Berufsauswahlformel:</a:t>
            </a:r>
            <a:endParaRPr b="0" lang="en-US" sz="3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2771640" y="1773360"/>
            <a:ext cx="3124440" cy="289548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ch wi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073400" y="3597120"/>
            <a:ext cx="3048120" cy="281952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ch mu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5292720" y="1844640"/>
            <a:ext cx="2971800" cy="281952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ch kan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9e20"/>
                </a:solidFill>
                <a:latin typeface="Calibri"/>
              </a:rPr>
              <a:t>Die Berufsausbildungsstruktur des Tambower Gebietes: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69" name="Rectangle 3" descr=""/>
          <p:cNvPicPr/>
          <p:nvPr/>
        </p:nvPicPr>
        <p:blipFill>
          <a:blip r:embed="rId1"/>
          <a:stretch/>
        </p:blipFill>
        <p:spPr>
          <a:xfrm>
            <a:off x="2322360" y="1859040"/>
            <a:ext cx="645012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9b19d"/>
                </a:solidFill>
                <a:latin typeface="Calibri"/>
              </a:rPr>
              <a:t>Man kann sich darüber  informieren:</a:t>
            </a:r>
            <a:endParaRPr b="0" lang="en-US" sz="31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95280" y="1600200"/>
            <a:ext cx="694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Bildungseinrichtungskatalogen für Abiturient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urch Suchmaschinen im Intern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urch Werbeanzei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Bibliothek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iner Berufsberatungsstel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urch Besuche der Bildungseinrichtun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4534"/>
                </a:solidFill>
                <a:latin typeface="Calibri"/>
              </a:rPr>
              <a:t>Berufspersönlichkeitenbilder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onstantia"/>
              </a:rPr>
              <a:t>realistisch</a:t>
            </a: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R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forschungsorientiert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F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künstlerisch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K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sozial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S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unternehmerisch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U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traditionell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T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ae1e"/>
                </a:solidFill>
                <a:latin typeface="Calibri"/>
              </a:rPr>
              <a:t>Realistische Persönlichkeit</a:t>
            </a:r>
            <a:r>
              <a:rPr b="1" lang="ru-RU" sz="3000" spc="-1" strike="noStrike">
                <a:solidFill>
                  <a:srgbClr val="2fae1e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2fae1e"/>
                </a:solidFill>
                <a:latin typeface="Calibri"/>
              </a:rPr>
              <a:t>(R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84000" y="2997000"/>
            <a:ext cx="62643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c121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chnische Ausbild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ndwerklicheBeruf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ndwirtschaftliche Beruf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stwirtscha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mweltschut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itärberuf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0200" y="1643040"/>
            <a:ext cx="61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evorzugt die Arbeit mit konkreten Dingen mehr als mit Mensch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2fa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29ff"/>
                </a:solidFill>
                <a:latin typeface="Calibri"/>
              </a:rPr>
              <a:t>Forschungsorientierte Persönlichkeit</a:t>
            </a:r>
            <a:r>
              <a:rPr b="1" lang="ru-RU" sz="3000" spc="-1" strike="noStrike">
                <a:solidFill>
                  <a:srgbClr val="7029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29ff"/>
                </a:solidFill>
                <a:latin typeface="Calibri"/>
              </a:rPr>
              <a:t>(F)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84000" y="2997000"/>
            <a:ext cx="62643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97f6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hemat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olo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omedizinisches Ingenee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techn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84360" y="1557360"/>
            <a:ext cx="61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Ist der Wissenschaft und der Forschung zugewandt, bevorzugt mit Ideen zu arbeiten als mit Menschen oder Dingen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7956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0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5:54:15Z</dcterms:created>
  <dc:creator>Тарасова</dc:creator>
  <dc:description/>
  <dc:language>en-US</dc:language>
  <cp:lastModifiedBy>None</cp:lastModifiedBy>
  <dcterms:modified xsi:type="dcterms:W3CDTF">2010-04-07T04:16:11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