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wmf" ContentType="image/x-wmf"/>
  <Override PartName="/ppt/media/image21.wmf" ContentType="image/x-wmf"/>
  <Override PartName="/ppt/media/image27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gif" ContentType="image/gif"/>
  <Override PartName="/ppt/media/image19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8.wmf" ContentType="image/x-wmf"/>
  <Override PartName="/ppt/media/image2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E7DC-ED4F-4567-A932-BDFC3BDB0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5718-C5D3-4B06-8B35-7DB69758F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B4C-E039-4223-9AE4-0EA40F66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C7C-F7D4-4FFB-8838-D54994A8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BFC-BD8B-4A4E-B3E3-FD4C2F0C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DA7-960B-4523-AF59-0843E283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50A5-35EF-4915-B0BF-B4EAE8D8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7556-65AC-460B-AE42-3F8D6A52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9B4D-49E2-4005-B408-F5A5B71E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4D61-6AA6-4AC4-8014-3461DC49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0AED-1E6C-47D0-819A-22AEED0F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42D9-8D10-4E23-9673-5A283E17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335A-9CE2-45A4-894B-CCCB3F0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79E-D07C-4847-887D-54326DF6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14E9-1DA1-4691-B952-F1AB01D5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7D29-E0C5-4007-86FC-5F662EB9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5AD5-ED99-439B-85A8-83F8C0C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9C18-A21D-4223-B4B8-36FE0235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035A-05C1-47C1-A5A3-1B87AACB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EAFA5-3296-425A-816D-18B0B28E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FACC0-181D-45D5-86C9-05BFB278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C0D5-23C1-4A4F-9C7F-DCF1343A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5B5C-74C1-462D-945B-9A873F4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B25C4-7EA9-464E-974D-200F80F2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EE8-3AA8-4999-809C-8DBDA03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E9246-275A-4DC8-8A31-19DE283C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7915-30A0-470D-9D5D-2983D9B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AF911-8A87-4F6B-91EA-27D5C96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C98AE-5E1F-4754-B456-EF527EBF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99253-5229-42BC-A7A7-B1F6F9A5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C17C-EF6F-4B85-A320-C614E68E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06DF-F5CB-4ECD-B81B-A364341E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166-2363-4FDA-AE51-A97195D9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982-9755-4E44-859E-3C3390E2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584-4DD1-4F7A-A849-CF4B34AC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75D-A436-4F46-AE89-60F82C3B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D2E-F194-483D-8474-BB73F8AA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2FD-4808-43F2-9D42-A43CBA8E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8D5C-17D8-4F5E-8DDD-F237679233D3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464C-A988-4336-BC54-8A9B4ACACB2F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A360-749B-4B53-8B57-C0145B1C91F8}" type="slidenum">
              <a:rPr b="0" lang="ru-RU" sz="1200" spc="-1" strike="noStrike">
                <a:solidFill>
                  <a:srgbClr val="4a566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8"/>
          <p:cNvSpPr/>
          <p:nvPr/>
        </p:nvSpPr>
        <p:spPr>
          <a:xfrm>
            <a:off x="0" y="2565360"/>
            <a:ext cx="9144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5212d"/>
                </a:solidFill>
                <a:latin typeface="Arial"/>
              </a:rPr>
              <a:t>Die Berufswahl – nun einmal erns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6017"/>
                </a:solidFill>
                <a:latin typeface="Calibri"/>
              </a:rPr>
              <a:t>Künstlerische Persönlichkeit</a:t>
            </a:r>
            <a:r>
              <a:rPr b="1" lang="ru-RU" sz="3000" spc="-1" strike="noStrike">
                <a:solidFill>
                  <a:srgbClr val="e36017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e36017"/>
                </a:solidFill>
                <a:latin typeface="Calibri"/>
              </a:rPr>
              <a:t>(K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484000" y="321300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8937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un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s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nz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mdsprach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jekte/Desig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410920" y="1341360"/>
            <a:ext cx="6264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evorzugt die Arbeit auf dem Gebiet der Kunst, wo es viele Möglichkeiten zum Selbstausdruck gib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e36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9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7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" dur="20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90de9"/>
                </a:solidFill>
                <a:latin typeface="Calibri"/>
              </a:rPr>
              <a:t>Soziale Persönlichkeit (S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0920" y="249228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ae8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un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zialam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ziolo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rat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ommunik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orschulerziehung und Entwicklung der Kind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10920" y="1341360"/>
            <a:ext cx="626436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Ist auf die Zusammenarbeit mit Menschen orientiert, ist hilfsbere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8c60"/>
                </a:solidFill>
                <a:latin typeface="Calibri"/>
              </a:rPr>
              <a:t>Unternehmerische Persönlichkeit</a:t>
            </a:r>
            <a:r>
              <a:rPr b="1" lang="ru-RU" sz="3000" spc="-1" strike="noStrike">
                <a:solidFill>
                  <a:srgbClr val="188c6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188c60"/>
                </a:solidFill>
                <a:latin typeface="Calibri"/>
              </a:rPr>
              <a:t>(U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484000" y="321300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ae77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schäftsmann,-fra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rwalt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h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410920" y="1341000"/>
            <a:ext cx="6264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Die Arbeit, bei der man auf die Mitmenschen einen Einfluss ausüben  und sie zum Problemlösen organisieren kan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188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00"/>
                            </p:stCondLst>
                            <p:childTnLst>
                              <p:par>
                                <p:cTn id="3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1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500"/>
                            </p:stCondLst>
                            <p:childTnLst>
                              <p:par>
                                <p:cTn id="3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5" dur="2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9" dur="20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400800" cy="95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21ae8"/>
                </a:solidFill>
                <a:latin typeface="Calibri"/>
              </a:rPr>
              <a:t>Traditionelle Persönlichkeit</a:t>
            </a:r>
            <a:r>
              <a:rPr b="1" lang="ru-RU" sz="3000" spc="-1" strike="noStrike">
                <a:solidFill>
                  <a:srgbClr val="f21ae8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21ae8"/>
                </a:solidFill>
                <a:latin typeface="Calibri"/>
              </a:rPr>
              <a:t>(T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484000" y="3213000"/>
            <a:ext cx="626436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b8a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chhalt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tist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nanz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utertechnologi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achbearbeit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410920" y="1500120"/>
            <a:ext cx="62643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evorzugt mit Dateien zu arbeiten, die Dateien und Angaben zu bearbeiten und zu systematisier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21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3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500"/>
                            </p:stCondLst>
                            <p:childTnLst>
                              <p:par>
                                <p:cTn id="4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5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4500"/>
                            </p:stCondLst>
                            <p:childTnLst>
                              <p:par>
                                <p:cTn id="4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7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b1809795"/>
          <p:cNvPicPr/>
          <p:nvPr/>
        </p:nvPicPr>
        <p:blipFill>
          <a:blip r:embed="rId1"/>
          <a:stretch/>
        </p:blipFill>
        <p:spPr>
          <a:xfrm>
            <a:off x="6372360" y="408636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E02719_"/>
          <p:cNvPicPr/>
          <p:nvPr/>
        </p:nvPicPr>
        <p:blipFill>
          <a:blip r:embed="rId2"/>
          <a:stretch/>
        </p:blipFill>
        <p:spPr>
          <a:xfrm>
            <a:off x="539640" y="4035600"/>
            <a:ext cx="2916360" cy="282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BD06675_"/>
          <p:cNvPicPr/>
          <p:nvPr/>
        </p:nvPicPr>
        <p:blipFill>
          <a:blip r:embed="rId3"/>
          <a:stretch/>
        </p:blipFill>
        <p:spPr>
          <a:xfrm>
            <a:off x="3564000" y="3284640"/>
            <a:ext cx="2089080" cy="2305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BD06517_"/>
          <p:cNvPicPr/>
          <p:nvPr/>
        </p:nvPicPr>
        <p:blipFill>
          <a:blip r:embed="rId4"/>
          <a:stretch/>
        </p:blipFill>
        <p:spPr>
          <a:xfrm>
            <a:off x="0" y="0"/>
            <a:ext cx="3564000" cy="2349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BS00508_"/>
          <p:cNvPicPr/>
          <p:nvPr/>
        </p:nvPicPr>
        <p:blipFill>
          <a:blip r:embed="rId5"/>
          <a:stretch/>
        </p:blipFill>
        <p:spPr>
          <a:xfrm>
            <a:off x="1476360" y="1916280"/>
            <a:ext cx="2257560" cy="2382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PE01846_"/>
          <p:cNvPicPr/>
          <p:nvPr/>
        </p:nvPicPr>
        <p:blipFill>
          <a:blip r:embed="rId6"/>
          <a:stretch/>
        </p:blipFill>
        <p:spPr>
          <a:xfrm>
            <a:off x="4788000" y="0"/>
            <a:ext cx="4356000" cy="227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BD07153_"/>
          <p:cNvPicPr/>
          <p:nvPr/>
        </p:nvPicPr>
        <p:blipFill>
          <a:blip r:embed="rId7"/>
          <a:stretch/>
        </p:blipFill>
        <p:spPr>
          <a:xfrm>
            <a:off x="5724360" y="1844640"/>
            <a:ext cx="2394000" cy="2619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357360" y="1642680"/>
            <a:ext cx="5786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3f75"/>
                </a:solidFill>
                <a:latin typeface="Tahoma"/>
              </a:rPr>
              <a:t>  </a:t>
            </a:r>
            <a:r>
              <a:rPr b="1" i="1" lang="en-US" sz="3300" spc="-1" strike="noStrike">
                <a:solidFill>
                  <a:srgbClr val="003f75"/>
                </a:solidFill>
                <a:latin typeface="Tahoma"/>
              </a:rPr>
              <a:t>Die Berufswahl oder Selbstfindung auf einem beruflichen Gebiet ist entscheidend im Leben jedes Menschen, eine der wichtigsten Entscheidungen im Leben, bildet die Grundlage der Zukunf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016"/>
          <p:cNvPicPr/>
          <p:nvPr/>
        </p:nvPicPr>
        <p:blipFill>
          <a:blip r:embed="rId1"/>
          <a:stretch/>
        </p:blipFill>
        <p:spPr>
          <a:xfrm>
            <a:off x="285840" y="1714680"/>
            <a:ext cx="3132000" cy="3673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23640" y="1071360"/>
            <a:ext cx="856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58d01"/>
                </a:solidFill>
                <a:latin typeface="Constantia"/>
              </a:rPr>
              <a:t>Warum ist die Berufswahl eine der wichtigsten Entscheidungen im Leben des Menschen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4000">
    <p:push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920" y="928800"/>
            <a:ext cx="55720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ff00"/>
                </a:solidFill>
                <a:latin typeface="Constantia"/>
              </a:rPr>
              <a:t>   </a:t>
            </a:r>
            <a:r>
              <a:rPr b="1" i="1" lang="en-US" sz="3300" spc="-1" strike="noStrike">
                <a:solidFill>
                  <a:srgbClr val="ff0000"/>
                </a:solidFill>
                <a:latin typeface="Constantia"/>
              </a:rPr>
              <a:t>Die Forscher haben festgestellt, dass etwa 40% der Jugendlichen wegen der mangelnden Informiertheit und wenig Erfahrung einen falschen Beruf ergreifen, der ihren Interessen, Neigungen, Fähigkeiten und inneren Űberzeugungen nicht entsprich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Рисунок 61" descr="C:\Documents and Settings\Администратор.COMP\Local Settings\Temporary Internet Files\Content.IE5\23VDVUFJ\MCj02954720000[1].wmf"/>
          <p:cNvPicPr/>
          <p:nvPr/>
        </p:nvPicPr>
        <p:blipFill>
          <a:blip r:embed="rId1"/>
          <a:stretch/>
        </p:blipFill>
        <p:spPr>
          <a:xfrm rot="21274200">
            <a:off x="571320" y="1143000"/>
            <a:ext cx="2606400" cy="18018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4" descr="C:\Documents and Settings\Администратор.COMP\Local Settings\Temporary Internet Files\Content.IE5\EQD6P6K3\MCj03341700000[1].wmf"/>
          <p:cNvPicPr/>
          <p:nvPr/>
        </p:nvPicPr>
        <p:blipFill>
          <a:blip r:embed="rId2"/>
          <a:stretch/>
        </p:blipFill>
        <p:spPr>
          <a:xfrm rot="604800">
            <a:off x="1646280" y="299556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7" descr="C:\Documents and Settings\Администратор.COMP\Local Settings\Temporary Internet Files\Content.IE5\KO4RZ8Q7\MCj04349010000[1].png"/>
          <p:cNvPicPr/>
          <p:nvPr/>
        </p:nvPicPr>
        <p:blipFill>
          <a:blip r:embed="rId3"/>
          <a:stretch/>
        </p:blipFill>
        <p:spPr>
          <a:xfrm rot="21075600">
            <a:off x="0" y="4286160"/>
            <a:ext cx="2292480" cy="2292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428640" y="999720"/>
            <a:ext cx="5429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Constantia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Constantia"/>
              </a:rPr>
              <a:t>Unsere Gesellschaft bietet etwa 350 Berufe. Daher ist es schwierig, darunter einen richtigen zu finden. Und nur die rechtzeitige Informiertheit kann dabei behilflich werden.</a:t>
            </a:r>
            <a:r>
              <a:rPr b="1" i="1" lang="ru-RU" sz="4500" spc="-1" strike="noStrike">
                <a:solidFill>
                  <a:srgbClr val="c58d01"/>
                </a:solidFill>
                <a:latin typeface="Constantia"/>
              </a:rPr>
              <a:t> </a:t>
            </a:r>
            <a:r>
              <a:rPr b="1" i="1" lang="en-US" sz="4500" spc="-1" strike="noStrike">
                <a:solidFill>
                  <a:srgbClr val="c58d01"/>
                </a:solidFill>
                <a:latin typeface="Constantia"/>
              </a:rPr>
              <a:t>Weiterhin entstehen immer wieder neue Berufe, die auf ihre Interessenten warten.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Рисунок 57" descr="C:\Documents and Settings\Администратор.COMP\Local Settings\Temporary Internet Files\Content.IE5\23VDVUFJ\MCj04360150000[1].wmf"/>
          <p:cNvPicPr/>
          <p:nvPr/>
        </p:nvPicPr>
        <p:blipFill>
          <a:blip r:embed="rId1"/>
          <a:stretch/>
        </p:blipFill>
        <p:spPr>
          <a:xfrm rot="495600">
            <a:off x="357120" y="214200"/>
            <a:ext cx="1609920" cy="18828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50" descr="C:\Documents and Settings\Администратор.COMP\Local Settings\Temporary Internet Files\Content.IE5\ITJZR967\MCj02874370000[1].wmf"/>
          <p:cNvPicPr/>
          <p:nvPr/>
        </p:nvPicPr>
        <p:blipFill>
          <a:blip r:embed="rId2"/>
          <a:stretch/>
        </p:blipFill>
        <p:spPr>
          <a:xfrm rot="21057600">
            <a:off x="1214280" y="1539360"/>
            <a:ext cx="2478240" cy="20066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46" descr="C:\Documents and Settings\Администратор.COMP\Local Settings\Temporary Internet Files\Content.IE5\95WRTZWP\MCj02954550000[1].wmf"/>
          <p:cNvPicPr/>
          <p:nvPr/>
        </p:nvPicPr>
        <p:blipFill>
          <a:blip r:embed="rId3"/>
          <a:stretch/>
        </p:blipFill>
        <p:spPr>
          <a:xfrm rot="20854800">
            <a:off x="-194760" y="2379240"/>
            <a:ext cx="2469960" cy="24433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8" descr="C:\Documents and Settings\Администратор.COMP\Local Settings\Temporary Internet Files\Content.IE5\X6QQWGND\MCj02872660000[1].wmf"/>
          <p:cNvPicPr/>
          <p:nvPr/>
        </p:nvPicPr>
        <p:blipFill>
          <a:blip r:embed="rId4"/>
          <a:stretch/>
        </p:blipFill>
        <p:spPr>
          <a:xfrm rot="697200">
            <a:off x="1433160" y="3558960"/>
            <a:ext cx="2170080" cy="16920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3" descr="C:\Documents and Settings\Администратор.COMP\Local Settings\Temporary Internet Files\Content.IE5\X6QQWGND\MCj04297270000[1].wmf"/>
          <p:cNvPicPr/>
          <p:nvPr/>
        </p:nvPicPr>
        <p:blipFill>
          <a:blip r:embed="rId5"/>
          <a:stretch/>
        </p:blipFill>
        <p:spPr>
          <a:xfrm rot="20683800">
            <a:off x="444240" y="4946760"/>
            <a:ext cx="1841400" cy="1230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285920"/>
            <a:ext cx="91440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58d01"/>
                </a:solidFill>
                <a:latin typeface="Constantia"/>
              </a:rPr>
              <a:t>Im Leben jedes Menschen beginnt der Abschnitt, wo man sich entscheiden muss, wie man sein weiteres Leben gestalten will, das heißt, einen Beruf ergreifen muss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 advTm="7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Rectangle 16" descr=""/>
          <p:cNvPicPr/>
          <p:nvPr/>
        </p:nvPicPr>
        <p:blipFill>
          <a:blip r:embed="rId1"/>
          <a:stretch/>
        </p:blipFill>
        <p:spPr>
          <a:xfrm>
            <a:off x="2030400" y="615960"/>
            <a:ext cx="6789600" cy="1231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9"/>
          <p:cNvSpPr/>
          <p:nvPr/>
        </p:nvSpPr>
        <p:spPr>
          <a:xfrm>
            <a:off x="2484360" y="2205000"/>
            <a:ext cx="66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t eine Tätigkeit, die eine Ausbildung verlangt und zur Lebensquelle w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40000" y="404280"/>
            <a:ext cx="64008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00"/>
                </a:solidFill>
                <a:latin typeface="Calibri"/>
              </a:rPr>
              <a:t>Typische Fehler bei der Berufswahl</a:t>
            </a:r>
            <a:endParaRPr b="0" lang="en-US" sz="29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2195640" y="1257480"/>
            <a:ext cx="6427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Fremden Ratschlägen blind fol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Weil die Bildungseinrichtung am nächsten liegt, weil es ein angesehener Beruf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Das Fehlen von Informationen </a:t>
            </a:r>
            <a:r>
              <a:rPr b="1" lang="de-DE" sz="2800" spc="-1" strike="noStrike">
                <a:solidFill>
                  <a:srgbClr val="00b000"/>
                </a:solidFill>
                <a:latin typeface="Arial"/>
              </a:rPr>
              <a:t>ü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ber den Beruf bzw. das F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Man kennt sich selbst n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5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58d01"/>
                </a:solidFill>
                <a:latin typeface="Calibri"/>
              </a:rPr>
              <a:t>Typische Fehler bei der Berufswahl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3100" spc="-1" strike="noStrike">
                <a:solidFill>
                  <a:srgbClr val="c58d01"/>
                </a:solidFill>
                <a:latin typeface="Constantia"/>
              </a:rPr>
              <a:t>А. </a:t>
            </a:r>
            <a:r>
              <a:rPr b="1" i="1" lang="en-US" sz="3100" spc="-1" strike="noStrike">
                <a:solidFill>
                  <a:srgbClr val="c58d01"/>
                </a:solidFill>
                <a:latin typeface="Constantia"/>
              </a:rPr>
              <a:t>Man kennt die Berufe nicht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alle Berufe wandeln sich im Laufe der Zeit, nicht selten kommt es so vor, dass hinter der alten Berufsbezeichnung ein absolut neues Berufsfeld steckt.</a:t>
            </a:r>
            <a:br>
              <a:rPr sz="2400"/>
            </a:b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Vorurteile gegenüber den angesehenen Berufen, Orientierung auf die Berufe, die die Höchstqualifikation fordern (Manager, Diplomat, Dolmetscher)</a:t>
            </a:r>
            <a:br>
              <a:rPr sz="2400"/>
            </a:b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Schwärmen nur für die äußere Seite eines Berufes (z.B. wenn einer Jurist werden will, weil er sich Krimis gerne ansieh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4e5b6f"/>
                </a:solidFill>
                <a:latin typeface="Calibri"/>
              </a:rPr>
              <a:t>Cognosce te ipsum!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58d01"/>
                </a:solidFill>
                <a:latin typeface="Constantia"/>
              </a:rPr>
              <a:t>    </a:t>
            </a:r>
            <a:r>
              <a:rPr b="1" i="1" lang="ru-RU" sz="3200" spc="-1" strike="noStrike">
                <a:solidFill>
                  <a:srgbClr val="c58d01"/>
                </a:solidFill>
                <a:latin typeface="Constantia"/>
              </a:rPr>
              <a:t>В. </a:t>
            </a:r>
            <a:r>
              <a:rPr b="1" i="1" lang="en-US" sz="3200" spc="-1" strike="noStrike">
                <a:solidFill>
                  <a:srgbClr val="c58d01"/>
                </a:solidFill>
                <a:latin typeface="Constantia"/>
              </a:rPr>
              <a:t>Man kennt sich selbst nich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c58d01"/>
                </a:solidFill>
                <a:latin typeface="Constantia"/>
              </a:rPr>
              <a:t>•</a:t>
            </a:r>
            <a:r>
              <a:rPr b="0" i="1" lang="en-US" sz="2400" spc="-1" strike="noStrike">
                <a:solidFill>
                  <a:srgbClr val="c58d01"/>
                </a:solidFill>
                <a:latin typeface="Constantia"/>
              </a:rPr>
              <a:t>die Unfähigkeit in sich selbst zurechtzufinden, falsche Bewertung der persönlichen Eigenschaften und Neigungen</a:t>
            </a: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 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Falsche Einschätzung der körperlichen Möglichkeiten, des eigenen Gesundheitszustandes bei der Berufswahl</a:t>
            </a:r>
            <a:br>
              <a:rPr sz="2400"/>
            </a:br>
            <a:r>
              <a:rPr b="0" lang="ru-RU" sz="24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400" spc="-1" strike="noStrike">
                <a:solidFill>
                  <a:srgbClr val="c58d01"/>
                </a:solidFill>
                <a:latin typeface="Constantia"/>
              </a:rPr>
              <a:t>die Unfähigkeit,  persönliche Eigenschaften mit den beruflichen Anforderungen in Einklang zu bri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0" spc="-1" strike="noStrike">
                <a:solidFill>
                  <a:srgbClr val="4e5b6f"/>
                </a:solidFill>
                <a:latin typeface="Calibri"/>
              </a:rPr>
              <a:t>Alles hat seine Regeln!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58d01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c58d01"/>
                </a:solidFill>
                <a:latin typeface="Constantia"/>
              </a:rPr>
              <a:t>С. </a:t>
            </a:r>
            <a:r>
              <a:rPr b="1" i="1" lang="en-US" sz="2800" spc="-1" strike="noStrike">
                <a:solidFill>
                  <a:srgbClr val="c58d01"/>
                </a:solidFill>
                <a:latin typeface="Constantia"/>
              </a:rPr>
              <a:t>Man kennt die Regeln bei der Berufswahl nich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c58d01"/>
                </a:solidFill>
                <a:latin typeface="Constantia"/>
              </a:rPr>
              <a:t>man stellt ein Lehrfach mit dem Beruf gleich (Ich interessiere mich für Erdkunde, deswegen werde ich Geolog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c58d01"/>
                </a:solidFill>
                <a:latin typeface="Constantia"/>
              </a:rPr>
              <a:t>Die Űbertragung eines Berufsverhältnisses auf den Beruf ( Ich werde Buchhalterin wie meine Mutter)</a:t>
            </a: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•</a:t>
            </a:r>
            <a:r>
              <a:rPr b="0" lang="en-US" sz="2600" spc="-1" strike="noStrike">
                <a:solidFill>
                  <a:srgbClr val="c58d01"/>
                </a:solidFill>
                <a:latin typeface="Constantia"/>
              </a:rPr>
              <a:t>Ich wähle diesen Beruf wie meine Freunde, ansonsten würde ich sie verlieren</a:t>
            </a: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85760" y="785880"/>
            <a:ext cx="4900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435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Vor Ihnen sind fünf geometrische Figuren 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ac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ac"/>
                </a:solidFill>
                <a:latin typeface="Times New Roman"/>
              </a:rPr>
              <a:t>Quadrat, Dreieck, Viereck, Kreis, Zickzack).</a:t>
            </a:r>
            <a:r>
              <a:rPr b="0" lang="ru-RU" sz="2400" spc="-1" strike="noStrike">
                <a:solidFill>
                  <a:srgbClr val="0000ac"/>
                </a:solidFill>
                <a:latin typeface="Times New Roman"/>
              </a:rPr>
              <a:t> .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Wählen Sie eine Figur, von der Sie sagen können:”Diese Figur symbolisiert mich!”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Versuchen Sie, diese Figur zu empfinden, sich selbst damit gleichzustellen.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Wenn Sie Schwierigkeiten damit haben, wählen Sie dann die Figur, die Ihnen am meisten zusagt</a:t>
            </a:r>
            <a:r>
              <a:rPr b="0" lang="ru-RU" sz="2400" spc="-1" strike="noStrike">
                <a:solidFill>
                  <a:srgbClr val="e34356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e34356"/>
                </a:solidFill>
                <a:latin typeface="Times New Roman"/>
              </a:rPr>
              <a:t>Analysieren Sie bitte nicht die Eigenschaften dieser Figuren, vertrauen Sie Ihrer Intui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9" descr="КАРТИНКА1О"/>
          <p:cNvPicPr/>
          <p:nvPr/>
        </p:nvPicPr>
        <p:blipFill>
          <a:blip r:embed="rId1"/>
          <a:stretch/>
        </p:blipFill>
        <p:spPr>
          <a:xfrm>
            <a:off x="214200" y="1285920"/>
            <a:ext cx="3810240" cy="1703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КАРТИНКА1Н"/>
          <p:cNvPicPr/>
          <p:nvPr/>
        </p:nvPicPr>
        <p:blipFill>
          <a:blip r:embed="rId2"/>
          <a:stretch/>
        </p:blipFill>
        <p:spPr>
          <a:xfrm>
            <a:off x="214200" y="3714840"/>
            <a:ext cx="3760920" cy="1981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14240" y="142920"/>
            <a:ext cx="485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eea"/>
                </a:solidFill>
                <a:latin typeface="Tahoma"/>
              </a:rPr>
              <a:t>Minitest</a:t>
            </a:r>
            <a:r>
              <a:rPr b="1" lang="ru-RU" sz="3200" spc="-1" strike="noStrike">
                <a:solidFill>
                  <a:srgbClr val="007eea"/>
                </a:solidFill>
                <a:latin typeface="Tahoma"/>
              </a:rPr>
              <a:t> «</a:t>
            </a:r>
            <a:r>
              <a:rPr b="1" lang="en-US" sz="3200" spc="-1" strike="noStrike">
                <a:solidFill>
                  <a:srgbClr val="007eea"/>
                </a:solidFill>
                <a:latin typeface="Tahoma"/>
              </a:rPr>
              <a:t>Was sind Si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eea"/>
                </a:solidFill>
                <a:latin typeface="Tahoma"/>
              </a:rPr>
              <a:t>Ergebnisse des Tests</a:t>
            </a:r>
            <a:br>
              <a:rPr sz="2400"/>
            </a:br>
            <a:r>
              <a:rPr b="1" lang="en-US" sz="2400" spc="-1" strike="noStrike">
                <a:solidFill>
                  <a:srgbClr val="007eea"/>
                </a:solidFill>
                <a:latin typeface="Tahoma"/>
              </a:rPr>
              <a:t>Berufe, die etwa jeder Figur entsprechen</a:t>
            </a:r>
            <a:endParaRPr b="0" lang="en-US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eea"/>
                </a:solidFill>
                <a:uFillTx/>
                <a:latin typeface="Constantia"/>
              </a:rPr>
              <a:t>Dreie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o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Börsenspiel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Börsenmakl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aufmann-, -frau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Markterforsch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ommerzlei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Psycholo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Lehr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Juri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Manager und ande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7" descr="9"/>
          <p:cNvPicPr/>
          <p:nvPr/>
        </p:nvPicPr>
        <p:blipFill>
          <a:blip r:embed="rId1"/>
          <a:stretch/>
        </p:blipFill>
        <p:spPr>
          <a:xfrm rot="359400">
            <a:off x="6357960" y="228600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КАРТИНКА1А"/>
          <p:cNvPicPr/>
          <p:nvPr/>
        </p:nvPicPr>
        <p:blipFill>
          <a:blip r:embed="rId2"/>
          <a:stretch/>
        </p:blipFill>
        <p:spPr>
          <a:xfrm rot="20703600">
            <a:off x="5428800" y="4214880"/>
            <a:ext cx="232092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57120" y="92844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eea"/>
                </a:solidFill>
                <a:uFillTx/>
                <a:latin typeface="Constantia"/>
              </a:rPr>
              <a:t>Viere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Versicherungsag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Őkolo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Lokfüh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Fah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Alle Berufe, die mit der Natu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2507"/>
                </a:solidFill>
                <a:latin typeface="Constantia"/>
              </a:rPr>
              <a:t>verbunden si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6" descr="D:\Programs\ClipArts\Индастриал\799048.JPG"/>
          <p:cNvPicPr/>
          <p:nvPr/>
        </p:nvPicPr>
        <p:blipFill>
          <a:blip r:embed="rId1"/>
          <a:stretch/>
        </p:blipFill>
        <p:spPr>
          <a:xfrm rot="615600">
            <a:off x="5535360" y="2173320"/>
            <a:ext cx="309384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28760" y="85680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eea"/>
                </a:solidFill>
                <a:uFillTx/>
                <a:latin typeface="Constantia"/>
              </a:rPr>
              <a:t>Quadra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teuerpolizi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Not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Buchhalter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chweiß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Näher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Fah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Programmie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u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Konditeu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ekretär-Refer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ozialpädago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Picture 6" descr="D:\Documents\Buklets\1.jpg"/>
          <p:cNvPicPr/>
          <p:nvPr/>
        </p:nvPicPr>
        <p:blipFill>
          <a:blip r:embed="rId1"/>
          <a:stretch/>
        </p:blipFill>
        <p:spPr>
          <a:xfrm rot="1182000">
            <a:off x="5508720" y="1376280"/>
            <a:ext cx="3047760" cy="2274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D:\Documents\Buklets\КАРТИНКА1И.jpg"/>
          <p:cNvPicPr/>
          <p:nvPr/>
        </p:nvPicPr>
        <p:blipFill>
          <a:blip r:embed="rId2"/>
          <a:stretch/>
        </p:blipFill>
        <p:spPr>
          <a:xfrm rot="20933400">
            <a:off x="5054760" y="3646440"/>
            <a:ext cx="2344680" cy="301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00040" y="78588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eea"/>
                </a:solidFill>
                <a:uFillTx/>
                <a:latin typeface="Constantia"/>
              </a:rPr>
              <a:t>Krei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ell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rankenschwes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Friseu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Kindergartenerziehe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Hoteli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Erziehe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Verkäufe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Lehre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Fotogra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Sekretär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Psycholo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Sozialpädagog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2507"/>
                </a:solidFill>
                <a:latin typeface="Constantia"/>
              </a:rPr>
              <a:t>Versicherungsage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6" descr="D:\Documents\Buklets\Без Имени-1.jpg"/>
          <p:cNvPicPr/>
          <p:nvPr/>
        </p:nvPicPr>
        <p:blipFill>
          <a:blip r:embed="rId1"/>
          <a:stretch/>
        </p:blipFill>
        <p:spPr>
          <a:xfrm>
            <a:off x="5786280" y="3714840"/>
            <a:ext cx="25927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28760" y="357120"/>
            <a:ext cx="8229600" cy="58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eea"/>
                </a:solidFill>
                <a:uFillTx/>
                <a:latin typeface="Constantia"/>
              </a:rPr>
              <a:t>Zickzac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Koc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Konditeu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Tisch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ue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Programmier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rkterforsc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Friseu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Kuenst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Desig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Schauspiel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Musi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Architek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2507"/>
                </a:solidFill>
                <a:latin typeface="Constantia"/>
              </a:rPr>
              <a:t>Psycholo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Picture 7" descr="D:\PROF\NEM18.JPG"/>
          <p:cNvPicPr/>
          <p:nvPr/>
        </p:nvPicPr>
        <p:blipFill>
          <a:blip r:embed="rId1"/>
          <a:stretch/>
        </p:blipFill>
        <p:spPr>
          <a:xfrm rot="1000800">
            <a:off x="5078520" y="1533600"/>
            <a:ext cx="3589200" cy="2563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D:\PROF\NEM14.JPG"/>
          <p:cNvPicPr/>
          <p:nvPr/>
        </p:nvPicPr>
        <p:blipFill>
          <a:blip r:embed="rId2"/>
          <a:stretch/>
        </p:blipFill>
        <p:spPr>
          <a:xfrm rot="20092200">
            <a:off x="4003200" y="3797280"/>
            <a:ext cx="28958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4e5b6f"/>
                </a:solidFill>
                <a:latin typeface="Calibri"/>
              </a:rPr>
              <a:t>Die Faktoren der Berufswahl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6659640" y="1700280"/>
            <a:ext cx="2057400" cy="1079280"/>
          </a:xfrm>
          <a:prstGeom prst="cube">
            <a:avLst>
              <a:gd name="adj" fmla="val 25000"/>
            </a:avLst>
          </a:prstGeom>
          <a:solidFill>
            <a:srgbClr val="7fd13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h m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4500720" y="1700280"/>
            <a:ext cx="1981080" cy="1143000"/>
          </a:xfrm>
          <a:prstGeom prst="cube">
            <a:avLst>
              <a:gd name="adj" fmla="val 25000"/>
            </a:avLst>
          </a:prstGeom>
          <a:solidFill>
            <a:srgbClr val="7fd13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h k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2195640" y="1773360"/>
            <a:ext cx="2054160" cy="1143000"/>
          </a:xfrm>
          <a:prstGeom prst="cube">
            <a:avLst>
              <a:gd name="adj" fmla="val 23194"/>
            </a:avLst>
          </a:prstGeom>
          <a:solidFill>
            <a:srgbClr val="7fd13b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h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127160" y="33940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124000" y="2997360"/>
            <a:ext cx="1844640" cy="11912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ig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4284720" y="2997360"/>
            <a:ext cx="2232000" cy="1465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sundheitszu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ufliche Aus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ufliche Fähig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659640" y="2997360"/>
            <a:ext cx="190476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m Arbeitsmarkt gefra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instellungschan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BS02064_"/>
          <p:cNvPicPr/>
          <p:nvPr/>
        </p:nvPicPr>
        <p:blipFill>
          <a:blip r:embed="rId1"/>
          <a:stretch/>
        </p:blipFill>
        <p:spPr>
          <a:xfrm>
            <a:off x="2268360" y="4924440"/>
            <a:ext cx="1798920" cy="1790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714240" y="928440"/>
            <a:ext cx="77724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58d01"/>
                </a:solidFill>
                <a:latin typeface="Constantia"/>
              </a:rPr>
              <a:t>Und nun zuletzt allen Jugendlichen, die vor der Berufswahl stehen, ein guter Ratschlag: “Suche dir etwas, was du besonders gut machen wirst, erst dann jemanden, der dich für deine Leistungen bezahlen wird!”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8d01"/>
                </a:solidFill>
                <a:latin typeface="Constantia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188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58d01"/>
                </a:solidFill>
                <a:latin typeface="Constantia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sl5"/>
          <p:cNvPicPr/>
          <p:nvPr/>
        </p:nvPicPr>
        <p:blipFill>
          <a:blip r:embed="rId1"/>
          <a:stretch/>
        </p:blipFill>
        <p:spPr>
          <a:xfrm>
            <a:off x="4214880" y="4000680"/>
            <a:ext cx="1969920" cy="2160360"/>
          </a:xfrm>
          <a:prstGeom prst="rect">
            <a:avLst/>
          </a:prstGeom>
          <a:ln w="0">
            <a:noFill/>
          </a:ln>
        </p:spPr>
      </p:pic>
      <p:sp>
        <p:nvSpPr>
          <p:cNvPr id="247" name="WordArt 6"/>
          <p:cNvSpPr txBox="1"/>
          <p:nvPr/>
        </p:nvSpPr>
        <p:spPr>
          <a:xfrm>
            <a:off x="2000160" y="857160"/>
            <a:ext cx="6000840" cy="27370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2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INEN GUTEN EINSTIEG!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ush dir="r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88c60"/>
                </a:solidFill>
                <a:latin typeface="Times New Roman"/>
              </a:rPr>
              <a:t>Die Berufsauswahlformel:</a:t>
            </a:r>
            <a:endParaRPr b="0" lang="en-US" sz="3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2771640" y="1773360"/>
            <a:ext cx="3124440" cy="289548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ch wil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073400" y="3597120"/>
            <a:ext cx="3048120" cy="281952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ch mu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5292720" y="1844640"/>
            <a:ext cx="2971800" cy="281952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Ich kan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9e20"/>
                </a:solidFill>
                <a:latin typeface="Calibri"/>
              </a:rPr>
              <a:t>Die Berufsausbildungsstruktur des Tambower Gebietes: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169" name="Rectangle 3" descr=""/>
          <p:cNvPicPr/>
          <p:nvPr/>
        </p:nvPicPr>
        <p:blipFill>
          <a:blip r:embed="rId1"/>
          <a:stretch/>
        </p:blipFill>
        <p:spPr>
          <a:xfrm>
            <a:off x="2322360" y="1859040"/>
            <a:ext cx="645012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9b19d"/>
                </a:solidFill>
                <a:latin typeface="Calibri"/>
              </a:rPr>
              <a:t>Man kann sich darüber  informieren:</a:t>
            </a:r>
            <a:endParaRPr b="0" lang="en-US" sz="31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95280" y="1600200"/>
            <a:ext cx="69483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Bildungseinrichtungskatalogen für Abiturient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urch Suchmaschinen im Interne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urch Werbeanzeig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Bibliothek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einer Berufsberatungsstell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urch Besuche der Bildungseinrichtung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4534"/>
                </a:solidFill>
                <a:latin typeface="Calibri"/>
              </a:rPr>
              <a:t>Berufspersönlichkeitenbilder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Constantia"/>
              </a:rPr>
              <a:t>realistisch</a:t>
            </a:r>
            <a:r>
              <a:rPr b="0" lang="ru-RU" sz="2600" spc="-1" strike="noStrike">
                <a:solidFill>
                  <a:srgbClr val="c58d01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R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forschungsorientiert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F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künstlerisch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K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sozial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S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unternehmerisch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U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4b81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traditionell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7eea"/>
                </a:solidFill>
                <a:latin typeface="Constantia"/>
              </a:rPr>
              <a:t>(T)</a:t>
            </a:r>
            <a:r>
              <a:rPr b="0" lang="ru-RU" sz="2600" spc="-1" strike="noStrike">
                <a:solidFill>
                  <a:srgbClr val="007eea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ae1e"/>
                </a:solidFill>
                <a:latin typeface="Calibri"/>
              </a:rPr>
              <a:t>Realistische Persönlichkeit</a:t>
            </a:r>
            <a:r>
              <a:rPr b="1" lang="ru-RU" sz="3000" spc="-1" strike="noStrike">
                <a:solidFill>
                  <a:srgbClr val="2fae1e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2fae1e"/>
                </a:solidFill>
                <a:latin typeface="Calibri"/>
              </a:rPr>
              <a:t>(R)</a:t>
            </a: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484000" y="2997000"/>
            <a:ext cx="62643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c121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echnische Ausbild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ndwerklicheBerufe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ndwirtschaftliche Beruf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orstwirtschaf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mweltschutz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litärberuf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0200" y="1643040"/>
            <a:ext cx="61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Bevorzugt die Arbeit mit konkreten Dingen mehr als mit Mensch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956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2fae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29ff"/>
                </a:solidFill>
                <a:latin typeface="Calibri"/>
              </a:rPr>
              <a:t>Forschungsorientierte Persönlichkeit</a:t>
            </a:r>
            <a:r>
              <a:rPr b="1" lang="ru-RU" sz="3000" spc="-1" strike="noStrike">
                <a:solidFill>
                  <a:srgbClr val="7029ff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7029ff"/>
                </a:solidFill>
                <a:latin typeface="Calibri"/>
              </a:rPr>
              <a:t>(F)</a:t>
            </a:r>
            <a:br>
              <a:rPr sz="3000"/>
            </a:br>
            <a:endParaRPr b="0" lang="en-US" sz="3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84000" y="2997000"/>
            <a:ext cx="626436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c97f6"/>
                </a:solidFill>
                <a:latin typeface="Constantia"/>
              </a:rPr>
              <a:t>Typische Ausbildungsrichtung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themat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olog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iomedizinisches Ingeneer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56c69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entechn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84360" y="1557360"/>
            <a:ext cx="61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Ist der Wissenschaft und der Forschung zugewandt, bevorzugt mit Ideen zu arbeiten als mit Menschen oder Dingen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79567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70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9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500"/>
                            </p:stCondLst>
                            <p:childTnLst>
                              <p:par>
                                <p:cTn id="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5:54:15Z</dcterms:created>
  <dc:creator>Тарасова</dc:creator>
  <dc:description/>
  <dc:language>en-US</dc:language>
  <cp:lastModifiedBy>None</cp:lastModifiedBy>
  <dcterms:modified xsi:type="dcterms:W3CDTF">2010-04-07T04:16:11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